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E102-1539-483D-A836-CAE05A9F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B882-6C90-431D-AD4C-DEAD9F9D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4A3F0-E53F-4588-B535-FE8779A8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C0076-26EC-46EB-93DA-C237A146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91610-6C02-488A-B110-764B7E8A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93498-41C1-4A0B-A072-E83B00CF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69CCD-A70B-4212-BEC7-81E24248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D8BED-D7F3-4141-BA10-D59CEEB2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DCBDC-6446-49CB-81C6-443C8337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8A120-8882-4E80-B116-C4D24C718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67A65-E672-4D99-A23F-B3B4A92F8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66EE96-640B-4FB0-AF96-CBEB3B78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17DD-316F-4610-81CF-DEE094960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FA27A-176E-43EA-A32E-7E3025AD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67581-3612-400F-B713-BE84060E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67BA5-3DB7-41A0-9AAE-9221B170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DF1C6-B974-497A-ABF7-6A0FDC37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118BE-51DB-4F19-BE98-41DE1F63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70C58-7480-4D0C-86E5-199D115E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D5BA2E-B725-4CA1-AD57-DF53E22D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DDE53-6F09-44CA-8B7C-B9F8467F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4FF76-67E2-49B5-B595-F128A057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B9D7C-B0A5-4F3E-8173-BFCF8413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69C5-E96B-4485-AD5D-5B5A4B784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CA950-9522-4FF6-8C96-9011B8221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74BC2-FF2B-4E69-9D2C-FA162FA2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B3B1B-4C35-4AB6-AC2A-2E6A7B30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623D2-F3C5-4F02-A64E-24AB90D4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8978C-2C6B-4E7A-839A-5E9B7827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F7B49-5599-4923-A822-391EA799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BDB6B-AEB1-4E48-8C5E-28ED76D8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87E85-3777-44C2-80A8-77CAC43A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C9CBE-F83A-498B-8C19-5E245DE8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71648-55AD-4518-9D49-37BA0B33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C5A6-811D-41B6-9E81-9CBD7476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3BDEC-B6B3-4652-8D4E-44976723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C5854-FEC1-4B92-B04C-242881755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74F6E-2884-4DA8-95CC-679FD414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1C6C34-0598-44C4-BC72-F1BD57E5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718E2A-6C16-4791-9ED9-6CD900AB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ED0EEC-773B-4075-B938-AFCF2D32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40170-4DC4-4031-B716-A12028FB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6548E-121D-4BF4-81B6-9E269EA5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60FC4D-7400-40EB-8554-5C1327A6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C4EDA-2329-4A99-B984-14E4A69E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D826-EC5B-4F5D-8C34-2C795384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563FF0-639A-45A6-8017-2585B87F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B5E452-43E7-402C-A30A-7E5F4808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10FBC-CD85-40A4-BEB0-6ED2F79E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7E6C55-7CA2-4356-9A47-CBDAAE989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3DAEF-4568-45E7-807C-5ED5D1AD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278120-60BD-4440-8F95-6B66CA21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470BB2-DBDE-4E31-9A5D-90763A08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DECDA5-4AF5-428A-A0F7-50864E04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6CC051-7246-4031-8C5A-774A188D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596EB8-6B5A-477B-99FD-C83C8E94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997D-F47A-48E6-9D7A-0E043012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D32D68-219C-4728-BCA8-C06F10C2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088A58-D032-4F4C-A4DC-160A6208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53AAB8-D6E2-471C-BD45-7968B453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282ED1-61CA-4683-A0DD-69F77A75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ED09A3-A5D6-4183-836E-0C643FDB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3A242E-A1A6-4E05-AB27-CEBB2ADC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83126F-7137-4F91-B470-3E2D1695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8305-7254-4252-9C06-D22F52CA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42C8-ECF8-4CAA-8584-18070077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0CED-72FE-4C97-BBB9-E28F6094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90A4-BB31-4AEF-B183-AE5D1795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03FB-80DB-4557-86FA-898E6910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9988-FF79-4540-93A2-51FBEDDD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9092-07FE-4794-B366-F9E68B1A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0A24-7253-4888-B372-B68F8311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0842-2F7B-4FD3-9372-007D436D4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4EEA-90B5-4E0B-819C-D5882C45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72355-D550-4ABA-A8E6-2FEA29B1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B6A93-4900-40E7-8FAD-E2E0F03D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64385-7A7C-480F-B287-02814093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FB171-9E2C-4FBA-9425-1C5EC525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414AE-A1DC-4B05-B184-FADAE42B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B7E5-DCE6-48F2-B5C9-E60D5BC3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21212-AA4E-49DC-A518-EA07CD6C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0AAA2-71E0-44FE-97EA-7F7E5D1F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9CCC5-4CFC-42DB-A03E-DD96527E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AE874-0805-4DCE-996A-067302B3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8E368-70DB-4F96-AC97-4F54D3A8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E2229-0E58-4BFB-A781-07FBC9388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BB3EE-2540-4943-838A-4602A2864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42DDC-782B-41EF-BE02-E42636409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04B17-2E2E-4C69-8751-02B4B8C9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EEC51-32DB-400B-9E5D-BAF3D3E3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86BF-C82F-43E3-8B73-A31C5237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20A7E-4B10-4C68-AA52-D686B523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987B6-DEF8-48F7-9BF8-34D7EC60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CDE45-F4D3-4BE9-A094-B184C273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B2E10-CD89-4BE4-AEE6-3E6B00F7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6C4E5-C8E1-4011-AC12-144EBE6D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F3EEA-FD6E-48A7-8146-1948499A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0FEC1-F4C0-421B-9DB6-4F1D801C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49F4D-A779-4E96-A085-B123E69EC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64C5F-274A-4511-AC46-5E681B65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A233F-1FD1-4921-A97B-69965287B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A517-64BD-457D-8982-4191B14E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53E5A-5D79-4C95-89F7-52EA0F0D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57AF0-4C38-45F1-91DA-7E26D240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F9435-E345-42C7-B980-BD771F01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575E7-D9D5-4AF4-99AC-3D57E681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1E0A3-8812-47F3-A499-B4CB4B73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0D118-F8BB-4F19-971D-C9768181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22764-9B10-4C61-B92C-2BC1F0F6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56B4F-6A1D-445F-B384-C39A4065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A3CA4-0B27-474F-9FB6-DBA54CB9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BFF6D-1239-441E-B843-A1EEADE2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A27A-AE05-4436-9CC5-EBC97FD6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F1974-A271-4633-BDD6-C971E1D2C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F34B3-131D-4ADF-A30A-A7A72151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3733D-DFEE-4248-ACF9-21B1689E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F6E88-DE4F-474E-96DA-9FFC2DE9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18C31-1D46-440C-9AA0-72C47233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5E870-B60D-4147-BF61-C5CB34D4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B924A-C8F2-4F2F-B7A4-21C1F70A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AAAAC-4428-4B1C-8F25-5CB972E4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38175-301A-4009-B1D0-10B15B8A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224FB-B5C0-4D2B-BA23-8ACD82CE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83B9-26AB-4C79-BC93-8E1C8704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000AA-4A2C-4281-9D96-965FC816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CE0C1-F45D-4A3B-B47D-C63A3E2C6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4B5B3-2C3E-418E-AA3E-55AC6C323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3C43F-CB60-47AD-9AB1-4A3B1033B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A8727-3054-4DC4-847C-9A7C231B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FDFF9-0768-44B2-B775-7E3773DE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387DA-B100-4380-8834-6A8A8EDA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49987-F497-442B-BC1D-3FF75A5D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91255-229D-4885-8E72-EA09A91E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1EC22-CAC1-4A95-8893-B6E64787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16F0-F0BF-48C4-8934-38B9B8AC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A1462-1113-48C6-ADC8-D2A08AF4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B068E-72B0-4585-A4B9-DB1FDDEC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935A3-F095-41C1-BD1D-0079C144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E8031-E486-4202-917D-055AF1F68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9BF77-E420-4662-B592-7E40A19E0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DA09E-1670-4E79-AD65-0D05292E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D72DD-78CB-4023-9D79-815D6913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A9BE1-5535-46B8-AEC7-CDFD4138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1AE1A-58BC-47D4-A6BF-539F7688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79F91-A128-4868-9203-4C7E2BF1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DD6C-6F5F-4770-B7FB-B0C212A0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4A5DA-E9E0-4384-A6E9-DC74AA7F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AF2EC-08E5-4F4C-9DD9-E70748F9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5842A-535F-4048-BD68-FA9628C8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BCD11-23CF-442D-A103-0578BA4E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85D02-B387-44C1-91C1-B46E7529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B3938-BAA1-46EF-A2A9-3D4A9BEDC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B6DDE-460B-4606-BC2A-C565FF15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A4D2D-12BB-44E4-964D-A6D3BB3B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329C3-6C91-4C9A-BA88-103FD0C0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404B2-972F-4FDD-8048-4AA604D9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2f2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6B18-979C-4775-8E39-6FB956C60B7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C5E7-AB19-4857-8240-83692C2249E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45A6-FAFD-4FCF-A4A4-D02E86AC4B9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0E7F-CB72-47A4-8AE4-A8A1A5DB646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A42F-559C-4EA8-8C8D-C40E82D7093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B595-00EA-4088-AF69-872028A353A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7F16-1564-4E87-96E3-032346201C5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963F-38B8-402E-965C-E06E1FC68AC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241C-EB9E-4725-B11B-3FD63869D65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EA17-EE76-491F-A248-3A0296FD031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E44C-9879-4B96-BFCD-D8A722DA0A4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1B0B-6BA8-4F76-A046-CD7628CFC0E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8BE1-60D9-4E82-93CA-AC2BC07947E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A60F-87EC-45FE-94CD-0996E09D406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886F-1275-4CFA-813D-5FF91142C64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3F37-3D94-4194-9FA6-E7A20489577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EFD2-1A66-49CC-B2F4-8487028ACF2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64FB-246C-44EB-AAC1-FF0C22C3A27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E8FA-29E9-4FE5-AD6A-23A7DAA3735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F0CF-E381-4169-ACBF-456D87AC79A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AB5E-FA11-40E8-9081-0F879954071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BBB8-7E28-4088-B0A0-B5EBBF47F4E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7E5F-B54A-45C8-862A-23B4A2C0376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4C2C-ED51-4F1F-B0D3-7D2749C9B0C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09EA-2871-4A9F-BE80-5255977A38C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1563-0D70-44CF-A259-60EDD4E9097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我的成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3211560" y="3284640"/>
            <a:ext cx="64008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与她的新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图片 4" descr=""/>
          <p:cNvPicPr/>
          <p:nvPr/>
        </p:nvPicPr>
        <p:blipFill>
          <a:blip r:embed="rId1"/>
          <a:stretch/>
        </p:blipFill>
        <p:spPr>
          <a:xfrm>
            <a:off x="-1440" y="2944800"/>
            <a:ext cx="4784400" cy="3860640"/>
          </a:xfrm>
          <a:prstGeom prst="rect">
            <a:avLst/>
          </a:prstGeom>
          <a:ln w="0">
            <a:noFill/>
          </a:ln>
        </p:spPr>
      </p:pic>
      <p:sp>
        <p:nvSpPr>
          <p:cNvPr id="536" name="矩形 1"/>
          <p:cNvSpPr/>
          <p:nvPr/>
        </p:nvSpPr>
        <p:spPr>
          <a:xfrm>
            <a:off x="2646720" y="106524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团队培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6"/>
          <p:cNvSpPr/>
          <p:nvPr/>
        </p:nvSpPr>
        <p:spPr>
          <a:xfrm>
            <a:off x="4990320" y="64515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6" descr="齿轮大图 点击还原"/>
          <p:cNvPicPr/>
          <p:nvPr/>
        </p:nvPicPr>
        <p:blipFill>
          <a:blip r:embed="rId1"/>
          <a:stretch/>
        </p:blipFill>
        <p:spPr>
          <a:xfrm>
            <a:off x="-162000" y="0"/>
            <a:ext cx="94932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TextBox 5"/>
          <p:cNvSpPr/>
          <p:nvPr/>
        </p:nvSpPr>
        <p:spPr>
          <a:xfrm>
            <a:off x="2924640" y="1380960"/>
            <a:ext cx="3472560" cy="6426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建立市场开发部的工作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3"/>
          <p:cNvSpPr/>
          <p:nvPr/>
        </p:nvSpPr>
        <p:spPr>
          <a:xfrm>
            <a:off x="6790680" y="6165720"/>
            <a:ext cx="333000" cy="398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4"/>
          <p:cNvSpPr/>
          <p:nvPr/>
        </p:nvSpPr>
        <p:spPr>
          <a:xfrm>
            <a:off x="7443720" y="6165720"/>
            <a:ext cx="942840" cy="3988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http://farm3.static.flickr.com/2234/2456279865_605f5924c0_o.jpg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TextBox 5"/>
          <p:cNvSpPr/>
          <p:nvPr/>
        </p:nvSpPr>
        <p:spPr>
          <a:xfrm>
            <a:off x="6790680" y="6165720"/>
            <a:ext cx="333000" cy="398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6"/>
          <p:cNvSpPr/>
          <p:nvPr/>
        </p:nvSpPr>
        <p:spPr>
          <a:xfrm>
            <a:off x="7443720" y="6165720"/>
            <a:ext cx="942840" cy="3988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6129360" y="3645000"/>
            <a:ext cx="45864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0"/>
          <p:cNvSpPr/>
          <p:nvPr/>
        </p:nvSpPr>
        <p:spPr>
          <a:xfrm>
            <a:off x="915840" y="2421000"/>
            <a:ext cx="22161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个人都是管理者事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全程跟踪负责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调思考力、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力、预判力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Box 3"/>
          <p:cNvSpPr/>
          <p:nvPr/>
        </p:nvSpPr>
        <p:spPr>
          <a:xfrm>
            <a:off x="4394160" y="4424400"/>
            <a:ext cx="28857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我</a:t>
            </a:r>
            <a:r>
              <a:rPr b="1" lang="zh-CN" sz="8000" spc="-1" strike="noStrike">
                <a:solidFill>
                  <a:srgbClr val="a5a5a5"/>
                </a:solidFill>
                <a:latin typeface="微软雅黑"/>
                <a:ea typeface="微软雅黑"/>
              </a:rPr>
              <a:t>的新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4"/>
          <p:cNvSpPr/>
          <p:nvPr/>
        </p:nvSpPr>
        <p:spPr>
          <a:xfrm>
            <a:off x="6334200" y="4070520"/>
            <a:ext cx="48564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26262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8d8d8"/>
                </a:solidFill>
                <a:latin typeface="微软雅黑"/>
                <a:ea typeface="微软雅黑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5"/>
          <p:cNvSpPr/>
          <p:nvPr/>
        </p:nvSpPr>
        <p:spPr>
          <a:xfrm>
            <a:off x="7414200" y="4070520"/>
            <a:ext cx="485640" cy="703440"/>
          </a:xfrm>
          <a:prstGeom prst="rect">
            <a:avLst/>
          </a:prstGeom>
          <a:noFill/>
          <a:ln w="9360">
            <a:solidFill>
              <a:srgbClr val="26262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Box 13"/>
          <p:cNvSpPr/>
          <p:nvPr/>
        </p:nvSpPr>
        <p:spPr>
          <a:xfrm>
            <a:off x="1273320" y="1781280"/>
            <a:ext cx="1755720" cy="3988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了的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14"/>
          <p:cNvSpPr/>
          <p:nvPr/>
        </p:nvSpPr>
        <p:spPr>
          <a:xfrm>
            <a:off x="828720" y="2603520"/>
            <a:ext cx="388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、内容已经被删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、内容已经被删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、内容已经被删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12"/>
          <p:cNvSpPr/>
          <p:nvPr/>
        </p:nvSpPr>
        <p:spPr>
          <a:xfrm>
            <a:off x="6172200" y="3745080"/>
            <a:ext cx="1755720" cy="3988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没做的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11"/>
          <p:cNvSpPr/>
          <p:nvPr/>
        </p:nvSpPr>
        <p:spPr>
          <a:xfrm>
            <a:off x="868320" y="1781280"/>
            <a:ext cx="333000" cy="398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14"/>
          <p:cNvSpPr/>
          <p:nvPr/>
        </p:nvSpPr>
        <p:spPr>
          <a:xfrm>
            <a:off x="5749920" y="3745080"/>
            <a:ext cx="333000" cy="398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1"/>
          <p:cNvSpPr/>
          <p:nvPr/>
        </p:nvSpPr>
        <p:spPr>
          <a:xfrm>
            <a:off x="568440" y="476280"/>
            <a:ext cx="276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Bauhaus 93"/>
                <a:ea typeface="宋体"/>
              </a:rPr>
              <a:t>DON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13"/>
          <p:cNvSpPr/>
          <p:nvPr/>
        </p:nvSpPr>
        <p:spPr>
          <a:xfrm>
            <a:off x="5477040" y="2440080"/>
            <a:ext cx="15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62626"/>
                </a:solidFill>
                <a:latin typeface="Bauhaus 93"/>
              </a:rPr>
              <a:t>D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14"/>
          <p:cNvSpPr/>
          <p:nvPr/>
        </p:nvSpPr>
        <p:spPr>
          <a:xfrm>
            <a:off x="5437080" y="4510080"/>
            <a:ext cx="273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、内容已经被删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、内容已经被删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、内容已经被删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Box 3"/>
          <p:cNvSpPr/>
          <p:nvPr/>
        </p:nvSpPr>
        <p:spPr>
          <a:xfrm>
            <a:off x="4047480" y="4005360"/>
            <a:ext cx="30686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c00000"/>
                </a:solidFill>
                <a:latin typeface="微软雅黑"/>
                <a:ea typeface="微软雅黑"/>
              </a:rPr>
              <a:t>她</a:t>
            </a:r>
            <a:r>
              <a:rPr b="1" lang="zh-CN" sz="8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的新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学走路的可爱宝宝婴儿"/>
          <p:cNvPicPr/>
          <p:nvPr/>
        </p:nvPicPr>
        <p:blipFill>
          <a:blip r:embed="rId1"/>
          <a:stretch/>
        </p:blipFill>
        <p:spPr>
          <a:xfrm>
            <a:off x="4489560" y="903240"/>
            <a:ext cx="5200560" cy="5734080"/>
          </a:xfrm>
          <a:prstGeom prst="rect">
            <a:avLst/>
          </a:prstGeom>
          <a:ln w="0">
            <a:noFill/>
          </a:ln>
        </p:spPr>
      </p:pic>
      <p:sp>
        <p:nvSpPr>
          <p:cNvPr id="595" name="TextBox 4"/>
          <p:cNvSpPr/>
          <p:nvPr/>
        </p:nvSpPr>
        <p:spPr>
          <a:xfrm>
            <a:off x="1362600" y="1773360"/>
            <a:ext cx="23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她的</a:t>
            </a:r>
            <a:r>
              <a:rPr b="1" lang="zh-CN" sz="5400" spc="-1" strike="noStrike">
                <a:solidFill>
                  <a:srgbClr val="ffc000"/>
                </a:solidFill>
                <a:latin typeface="Arial"/>
                <a:ea typeface="微软雅黑"/>
              </a:rPr>
              <a:t>蹒跚学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14"/>
          <p:cNvSpPr/>
          <p:nvPr/>
        </p:nvSpPr>
        <p:spPr>
          <a:xfrm>
            <a:off x="852480" y="3100320"/>
            <a:ext cx="3887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内容已经被删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内容已经被删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内容已经被删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3492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2" descr="http://blog.shakespeare-school.ro/wp-content/uploads/2011/03/Child-with-Microphone-and-Headphones.jpg"/>
          <p:cNvPicPr/>
          <p:nvPr/>
        </p:nvPicPr>
        <p:blipFill>
          <a:blip r:embed="rId1"/>
          <a:stretch/>
        </p:blipFill>
        <p:spPr>
          <a:xfrm>
            <a:off x="2700360" y="3562200"/>
            <a:ext cx="3305160" cy="3295800"/>
          </a:xfrm>
          <a:prstGeom prst="rect">
            <a:avLst/>
          </a:prstGeom>
          <a:ln w="0">
            <a:noFill/>
          </a:ln>
        </p:spPr>
      </p:pic>
      <p:sp>
        <p:nvSpPr>
          <p:cNvPr id="599" name="矩形 4"/>
          <p:cNvSpPr/>
          <p:nvPr/>
        </p:nvSpPr>
        <p:spPr>
          <a:xfrm>
            <a:off x="3411360" y="612720"/>
            <a:ext cx="268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她的</a:t>
            </a:r>
            <a:r>
              <a:rPr b="1" lang="zh-CN" sz="6000" spc="-1" strike="noStrike">
                <a:solidFill>
                  <a:srgbClr val="00b0f0"/>
                </a:solidFill>
                <a:latin typeface="Arial"/>
                <a:ea typeface="微软雅黑"/>
              </a:rPr>
              <a:t>咿呀学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1"/>
          <p:cNvSpPr/>
          <p:nvPr/>
        </p:nvSpPr>
        <p:spPr>
          <a:xfrm>
            <a:off x="3283560" y="1916280"/>
            <a:ext cx="264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已经被删除，这里可以录入相关解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4E79-B582-4658-AAE7-0FE10E7D4A0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7" descr="http://farm1.static.flickr.com/115/273543098_4505815c09_b.jpg"/>
          <p:cNvPicPr/>
          <p:nvPr/>
        </p:nvPicPr>
        <p:blipFill>
          <a:blip r:embed="rId1"/>
          <a:stretch/>
        </p:blipFill>
        <p:spPr>
          <a:xfrm>
            <a:off x="3121200" y="404640"/>
            <a:ext cx="2665080" cy="4027680"/>
          </a:xfrm>
          <a:prstGeom prst="rect">
            <a:avLst/>
          </a:prstGeom>
          <a:ln w="0">
            <a:noFill/>
          </a:ln>
        </p:spPr>
      </p:pic>
      <p:sp>
        <p:nvSpPr>
          <p:cNvPr id="603" name="矩形 7"/>
          <p:cNvSpPr/>
          <p:nvPr/>
        </p:nvSpPr>
        <p:spPr>
          <a:xfrm>
            <a:off x="3111840" y="4438800"/>
            <a:ext cx="243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她的</a:t>
            </a:r>
            <a:r>
              <a:rPr b="1" lang="zh-CN" sz="5400" spc="-1" strike="noStrike">
                <a:solidFill>
                  <a:srgbClr val="00cc00"/>
                </a:solidFill>
                <a:latin typeface="Arial"/>
                <a:ea typeface="微软雅黑"/>
              </a:rPr>
              <a:t>爱的呼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3"/>
          <p:cNvSpPr/>
          <p:nvPr/>
        </p:nvSpPr>
        <p:spPr>
          <a:xfrm>
            <a:off x="2800080" y="562140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强凝聚力的团队，将给每个成员带来无限的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2f2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少女的瞳孔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6" name="矩形 4"/>
          <p:cNvSpPr/>
          <p:nvPr/>
        </p:nvSpPr>
        <p:spPr>
          <a:xfrm>
            <a:off x="4871520" y="3639960"/>
            <a:ext cx="286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她的</a:t>
            </a:r>
            <a:r>
              <a:rPr b="1" lang="zh-CN" sz="6600" spc="-1" strike="noStrike">
                <a:solidFill>
                  <a:srgbClr val="daeef3"/>
                </a:solidFill>
                <a:latin typeface="Arial"/>
                <a:ea typeface="微软雅黑"/>
              </a:rPr>
              <a:t>渴望眼神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1"/>
          <p:cNvSpPr/>
          <p:nvPr/>
        </p:nvSpPr>
        <p:spPr>
          <a:xfrm>
            <a:off x="4903200" y="5084640"/>
            <a:ext cx="1426680" cy="132840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已经被删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已经被删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已经被删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6" descr="城市夜景高清大图 点击还原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539" name="TextBox 3"/>
          <p:cNvSpPr/>
          <p:nvPr/>
        </p:nvSpPr>
        <p:spPr>
          <a:xfrm>
            <a:off x="287280" y="4160880"/>
            <a:ext cx="8748720" cy="186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岁月如梭，光阴似箭，在忙碌与如何不忙碌中纠结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180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天。在职业生涯，我还是第一次做职能部门的管理者，这需要诸多的改变，适应、心理的阵痛。但经历时间的洗礼 ，事情本质的学习，摸索、总结，我期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——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我能蜕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2"/>
          <p:cNvSpPr/>
          <p:nvPr/>
        </p:nvSpPr>
        <p:spPr>
          <a:xfrm>
            <a:off x="3446280" y="3357720"/>
            <a:ext cx="512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aeaea"/>
                </a:solidFill>
                <a:latin typeface="Verdana"/>
              </a:rPr>
              <a:t>CHANG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Box 3"/>
          <p:cNvSpPr/>
          <p:nvPr/>
        </p:nvSpPr>
        <p:spPr>
          <a:xfrm>
            <a:off x="2734560" y="4005360"/>
            <a:ext cx="4554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我</a:t>
            </a:r>
            <a:r>
              <a:rPr b="1" lang="zh-CN" sz="80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与</a:t>
            </a:r>
            <a:r>
              <a:rPr b="1" lang="zh-CN" sz="11500" spc="-1" strike="noStrike">
                <a:solidFill>
                  <a:srgbClr val="c00000"/>
                </a:solidFill>
                <a:latin typeface="微软雅黑"/>
                <a:ea typeface="微软雅黑"/>
              </a:rPr>
              <a:t>她</a:t>
            </a:r>
            <a:r>
              <a:rPr b="1" lang="zh-CN" sz="8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的未来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2" descr="http://farm5.static.flickr.com/4095/4851849758_f0e17f542d_b.jpg"/>
          <p:cNvPicPr/>
          <p:nvPr/>
        </p:nvPicPr>
        <p:blipFill>
          <a:blip r:embed="rId1"/>
          <a:srcRect l="-398" t="0" r="0" b="0"/>
          <a:stretch/>
        </p:blipFill>
        <p:spPr>
          <a:xfrm>
            <a:off x="-54000" y="765000"/>
            <a:ext cx="9178920" cy="6096240"/>
          </a:xfrm>
          <a:prstGeom prst="rect">
            <a:avLst/>
          </a:prstGeom>
          <a:ln w="0">
            <a:noFill/>
          </a:ln>
        </p:spPr>
      </p:pic>
      <p:sp>
        <p:nvSpPr>
          <p:cNvPr id="611" name="TextBox 6"/>
          <p:cNvSpPr/>
          <p:nvPr/>
        </p:nvSpPr>
        <p:spPr>
          <a:xfrm>
            <a:off x="3543120" y="472428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我与她是有缘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7"/>
          <p:cNvSpPr/>
          <p:nvPr/>
        </p:nvSpPr>
        <p:spPr>
          <a:xfrm>
            <a:off x="3461040" y="551664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从业务到职能，从普通员工到管理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6"/>
          <p:cNvSpPr/>
          <p:nvPr/>
        </p:nvSpPr>
        <p:spPr>
          <a:xfrm>
            <a:off x="3492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图片 2" descr="http://www.winddesktop.com/Wallpaper/02735/Original/02735_005_HugqTAI5.jpg"/>
          <p:cNvPicPr/>
          <p:nvPr/>
        </p:nvPicPr>
        <p:blipFill>
          <a:blip r:embed="rId1"/>
          <a:srcRect l="-4233" t="0" r="0" b="-241"/>
          <a:stretch/>
        </p:blipFill>
        <p:spPr>
          <a:xfrm>
            <a:off x="2755800" y="1628640"/>
            <a:ext cx="6353280" cy="4660920"/>
          </a:xfrm>
          <a:prstGeom prst="rect">
            <a:avLst/>
          </a:prstGeom>
          <a:ln w="0">
            <a:noFill/>
          </a:ln>
        </p:spPr>
      </p:pic>
      <p:sp>
        <p:nvSpPr>
          <p:cNvPr id="615" name="矩形 4"/>
          <p:cNvSpPr/>
          <p:nvPr/>
        </p:nvSpPr>
        <p:spPr>
          <a:xfrm>
            <a:off x="1131480" y="1422360"/>
            <a:ext cx="237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微软雅黑"/>
              </a:rPr>
              <a:t>她的未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微软雅黑"/>
              </a:rPr>
              <a:t>我是要负责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1085040" y="3314880"/>
            <a:ext cx="2238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作为一名管理者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我有责任为她建立好发展的机制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做事的原则、方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http://farm6.static.flickr.com/5139/5448771837_9901616b1e_b.jpg"/>
          <p:cNvPicPr/>
          <p:nvPr/>
        </p:nvPicPr>
        <p:blipFill>
          <a:blip r:embed="rId1"/>
          <a:stretch/>
        </p:blipFill>
        <p:spPr>
          <a:xfrm>
            <a:off x="2050920" y="836640"/>
            <a:ext cx="6845400" cy="4562280"/>
          </a:xfrm>
          <a:prstGeom prst="rect">
            <a:avLst/>
          </a:prstGeom>
          <a:ln w="0">
            <a:noFill/>
          </a:ln>
        </p:spPr>
      </p:pic>
      <p:sp>
        <p:nvSpPr>
          <p:cNvPr id="618" name="矩形 4"/>
          <p:cNvSpPr/>
          <p:nvPr/>
        </p:nvSpPr>
        <p:spPr>
          <a:xfrm>
            <a:off x="1261800" y="446256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与她的结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5"/>
          <p:cNvSpPr/>
          <p:nvPr/>
        </p:nvSpPr>
        <p:spPr>
          <a:xfrm>
            <a:off x="1162080" y="5435640"/>
            <a:ext cx="1826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内容已经被删除，在此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2" descr="雄鹰大图 点击还原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446440"/>
          </a:xfrm>
          <a:prstGeom prst="rect">
            <a:avLst/>
          </a:prstGeom>
          <a:ln w="0">
            <a:noFill/>
          </a:ln>
        </p:spPr>
      </p:pic>
      <p:sp>
        <p:nvSpPr>
          <p:cNvPr id="621" name="TextBox 3"/>
          <p:cNvSpPr/>
          <p:nvPr/>
        </p:nvSpPr>
        <p:spPr>
          <a:xfrm>
            <a:off x="276120" y="2349360"/>
            <a:ext cx="70326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Arial"/>
                <a:ea typeface="微软雅黑"/>
              </a:rPr>
              <a:t>人生总有许多第一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Arial"/>
                <a:ea typeface="微软雅黑"/>
              </a:rPr>
              <a:t>但我们不能因为第一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Arial"/>
                <a:ea typeface="微软雅黑"/>
              </a:rPr>
              <a:t>而给自己找到借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Arial"/>
                <a:ea typeface="微软雅黑"/>
              </a:rPr>
              <a:t>新生意味着机会，新生意味着挑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Arial"/>
                <a:ea typeface="微软雅黑"/>
              </a:rPr>
              <a:t>只要不断的磨砺与学习，我们必能永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Arial"/>
                <a:ea typeface="微软雅黑"/>
              </a:rPr>
              <a:t>愿市场开发部的同仁们，一起经历风雨之后，</a:t>
            </a:r>
            <a:r>
              <a:rPr b="1" lang="en-US" sz="1800" spc="-1" strike="noStrike">
                <a:solidFill>
                  <a:srgbClr val="3f3f3f"/>
                </a:solidFill>
                <a:latin typeface="Arial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3f3f3f"/>
                </a:solidFill>
                <a:latin typeface="Arial"/>
                <a:ea typeface="微软雅黑"/>
              </a:rPr>
              <a:t>能美好的未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Arial"/>
                <a:ea typeface="微软雅黑"/>
              </a:rPr>
              <a:t>让我们一起鹰击长空，为梦想而翱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4"/>
          <p:cNvSpPr/>
          <p:nvPr/>
        </p:nvSpPr>
        <p:spPr>
          <a:xfrm>
            <a:off x="612720" y="630864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孵化的小鸡大图 点击还原"/>
          <p:cNvPicPr/>
          <p:nvPr/>
        </p:nvPicPr>
        <p:blipFill>
          <a:blip r:embed="rId1"/>
          <a:stretch/>
        </p:blipFill>
        <p:spPr>
          <a:xfrm>
            <a:off x="648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542" name="TextBox 3"/>
          <p:cNvSpPr/>
          <p:nvPr/>
        </p:nvSpPr>
        <p:spPr>
          <a:xfrm>
            <a:off x="5122800" y="3452760"/>
            <a:ext cx="384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刚刚诞生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机制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不够健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合力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不够强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动能力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很弱。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4"/>
          <p:cNvSpPr/>
          <p:nvPr/>
        </p:nvSpPr>
        <p:spPr>
          <a:xfrm>
            <a:off x="5374800" y="1052640"/>
            <a:ext cx="912240" cy="1557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Arial"/>
                <a:ea typeface="微软雅黑"/>
              </a:rPr>
              <a:t>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生命力大图 点击还原"/>
          <p:cNvPicPr/>
          <p:nvPr/>
        </p:nvPicPr>
        <p:blipFill>
          <a:blip r:embed="rId1"/>
          <a:srcRect l="0" t="-17192" r="0" b="0"/>
          <a:stretch/>
        </p:blipFill>
        <p:spPr>
          <a:xfrm>
            <a:off x="0" y="-1177920"/>
            <a:ext cx="9144000" cy="8035920"/>
          </a:xfrm>
          <a:prstGeom prst="rect">
            <a:avLst/>
          </a:prstGeom>
          <a:ln w="0">
            <a:noFill/>
          </a:ln>
        </p:spPr>
      </p:pic>
      <p:sp>
        <p:nvSpPr>
          <p:cNvPr id="545" name="TextBox 3"/>
          <p:cNvSpPr/>
          <p:nvPr/>
        </p:nvSpPr>
        <p:spPr>
          <a:xfrm>
            <a:off x="2916360" y="2146320"/>
            <a:ext cx="6119640" cy="73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但她极强的生命力昭示着她美好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未来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Box 3"/>
          <p:cNvSpPr/>
          <p:nvPr/>
        </p:nvSpPr>
        <p:spPr>
          <a:xfrm>
            <a:off x="4394160" y="4424400"/>
            <a:ext cx="28857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我</a:t>
            </a:r>
            <a:r>
              <a:rPr b="1" lang="zh-CN" sz="8000" spc="-1" strike="noStrike">
                <a:solidFill>
                  <a:srgbClr val="a5a5a5"/>
                </a:solidFill>
                <a:latin typeface="微软雅黑"/>
                <a:ea typeface="微软雅黑"/>
              </a:rPr>
              <a:t>的新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4"/>
          <p:cNvSpPr/>
          <p:nvPr/>
        </p:nvSpPr>
        <p:spPr>
          <a:xfrm>
            <a:off x="6334200" y="4070520"/>
            <a:ext cx="48564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26262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5"/>
          <p:cNvSpPr/>
          <p:nvPr/>
        </p:nvSpPr>
        <p:spPr>
          <a:xfrm>
            <a:off x="7414200" y="4086360"/>
            <a:ext cx="485640" cy="703440"/>
          </a:xfrm>
          <a:prstGeom prst="rect">
            <a:avLst/>
          </a:prstGeom>
          <a:noFill/>
          <a:ln w="9360">
            <a:solidFill>
              <a:srgbClr val="26262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8d8d8"/>
                </a:solidFill>
                <a:latin typeface="微软雅黑"/>
                <a:ea typeface="微软雅黑"/>
              </a:rPr>
              <a:t>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2" descr="看向未来大图 点击还原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52" name="TextBox 4"/>
          <p:cNvSpPr/>
          <p:nvPr/>
        </p:nvSpPr>
        <p:spPr>
          <a:xfrm>
            <a:off x="1476360" y="4508640"/>
            <a:ext cx="71992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打造一个专博的开发部，他们年青、上进、专业，但他们更需要一个让他们能学习能成长的环境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5"/>
          <p:cNvSpPr/>
          <p:nvPr/>
        </p:nvSpPr>
        <p:spPr>
          <a:xfrm>
            <a:off x="7074000" y="189000"/>
            <a:ext cx="333000" cy="398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3"/>
          <p:cNvSpPr/>
          <p:nvPr/>
        </p:nvSpPr>
        <p:spPr>
          <a:xfrm>
            <a:off x="7674840" y="189000"/>
            <a:ext cx="790200" cy="3988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打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团结 给力加油大图 点击还原"/>
          <p:cNvPicPr/>
          <p:nvPr/>
        </p:nvPicPr>
        <p:blipFill>
          <a:blip r:embed="rId1"/>
          <a:stretch/>
        </p:blipFill>
        <p:spPr>
          <a:xfrm>
            <a:off x="11160" y="2978280"/>
            <a:ext cx="9132840" cy="3879720"/>
          </a:xfrm>
          <a:prstGeom prst="rect">
            <a:avLst/>
          </a:prstGeom>
          <a:ln w="0">
            <a:noFill/>
          </a:ln>
        </p:spPr>
      </p:pic>
      <p:sp>
        <p:nvSpPr>
          <p:cNvPr id="556" name="TextBox 4"/>
          <p:cNvSpPr/>
          <p:nvPr/>
        </p:nvSpPr>
        <p:spPr>
          <a:xfrm>
            <a:off x="826920" y="333360"/>
            <a:ext cx="770436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微软雅黑"/>
              </a:rPr>
              <a:t>他们需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轻松、快乐的空气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微软雅黑"/>
              </a:rPr>
              <a:t>他们需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有凝聚力、有超强执行力、有思考能力、有应   变能力、有向心力的合作伙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微软雅黑"/>
              </a:rPr>
              <a:t>他们需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有成效的历练、有挑战极限的机会、有前途的助推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74806"/>
                </a:solidFill>
                <a:latin typeface="Arial"/>
                <a:ea typeface="微软雅黑"/>
              </a:rPr>
              <a:t>我们要创造高效的团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5"/>
          <p:cNvSpPr/>
          <p:nvPr/>
        </p:nvSpPr>
        <p:spPr>
          <a:xfrm>
            <a:off x="3222720" y="2470320"/>
            <a:ext cx="1857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4"/>
          <p:cNvSpPr/>
          <p:nvPr/>
        </p:nvSpPr>
        <p:spPr>
          <a:xfrm>
            <a:off x="7074000" y="189000"/>
            <a:ext cx="333000" cy="398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5"/>
          <p:cNvSpPr/>
          <p:nvPr/>
        </p:nvSpPr>
        <p:spPr>
          <a:xfrm>
            <a:off x="7674840" y="189000"/>
            <a:ext cx="790200" cy="3988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打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http://farm3.static.flickr.com/2794/4073797556_91148d2400_b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61" name="TextBox 1"/>
          <p:cNvSpPr/>
          <p:nvPr/>
        </p:nvSpPr>
        <p:spPr>
          <a:xfrm>
            <a:off x="6084720" y="1413000"/>
            <a:ext cx="2590920" cy="76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专项培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3"/>
          <p:cNvSpPr/>
          <p:nvPr/>
        </p:nvSpPr>
        <p:spPr>
          <a:xfrm>
            <a:off x="6790680" y="6165720"/>
            <a:ext cx="333000" cy="398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4"/>
          <p:cNvSpPr/>
          <p:nvPr/>
        </p:nvSpPr>
        <p:spPr>
          <a:xfrm>
            <a:off x="7443720" y="6165720"/>
            <a:ext cx="942840" cy="3988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3492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铅笔大图 点击还原"/>
          <p:cNvPicPr/>
          <p:nvPr/>
        </p:nvPicPr>
        <p:blipFill>
          <a:blip r:embed="rId1"/>
          <a:stretch/>
        </p:blipFill>
        <p:spPr>
          <a:xfrm>
            <a:off x="2697120" y="3814920"/>
            <a:ext cx="3727440" cy="3043080"/>
          </a:xfrm>
          <a:prstGeom prst="rect">
            <a:avLst/>
          </a:prstGeom>
          <a:ln w="0">
            <a:noFill/>
          </a:ln>
        </p:spPr>
      </p:pic>
      <p:sp>
        <p:nvSpPr>
          <p:cNvPr id="566" name="TextBox 4"/>
          <p:cNvSpPr/>
          <p:nvPr/>
        </p:nvSpPr>
        <p:spPr>
          <a:xfrm>
            <a:off x="3648600" y="260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提高学习和应变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5"/>
          <p:cNvSpPr/>
          <p:nvPr/>
        </p:nvSpPr>
        <p:spPr>
          <a:xfrm>
            <a:off x="6790680" y="6165720"/>
            <a:ext cx="333000" cy="398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6"/>
          <p:cNvSpPr/>
          <p:nvPr/>
        </p:nvSpPr>
        <p:spPr>
          <a:xfrm>
            <a:off x="7443720" y="6165720"/>
            <a:ext cx="942840" cy="3988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7"/>
          <p:cNvSpPr/>
          <p:nvPr/>
        </p:nvSpPr>
        <p:spPr>
          <a:xfrm rot="18915600">
            <a:off x="1620720" y="398160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74806"/>
                </a:solidFill>
                <a:latin typeface="微软雅黑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974806"/>
                </a:solidFill>
                <a:latin typeface="微软雅黑"/>
                <a:ea typeface="微软雅黑"/>
              </a:rPr>
              <a:t>不要固守过去，要定位于未来；创新与成熟一定是相辅相成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6:10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3:17:31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