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D8C-A59D-482E-BFA6-EA35FE0F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B26-8175-4576-BA33-9C9ACBF5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AFA-4FC9-429F-8FE8-C3153641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5A7-4A00-4299-93A6-851781B2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6F03-E0F0-457F-A005-CF86D850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3866-81D7-4B52-9C75-E4274351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581-FECC-4C88-91AA-5D0230B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154-B290-42C8-88EF-4CF929A2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2A58-DF87-41CA-A823-2293086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8E5A-35C6-4182-89DA-BCF2139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8A7F-48B3-426E-9E23-B8D2467B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163-FA72-4EF9-B514-A080371F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8249-BFC9-4635-9191-A99DAD1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E2ED-1AC0-4522-BE3D-06AB8BD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A09-5FBC-4F28-966F-DBC6FBA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6E49-251E-47DB-8F17-B6C85100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B105-5901-4290-BC92-245DC5BF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CA3-8E3A-4494-9E60-7FF5949D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F9B-FE77-47D0-A302-6880D94A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281-D2A4-4485-9305-DB57350A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F7C-F2C2-4DE7-A01D-6DFF52C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00D-7F1F-434C-AC32-360FCDD0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5A9-6790-4C96-8C23-79E2677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0679-F43D-412B-B1D1-1A8CFEB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1E01-E3CC-4678-8275-BF8ACD305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9C1C-9FE5-40EF-B19F-6B66BCF1E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9,-1,NEXT" TargetMode="External"/><Relationship Id="rId2" Type="http://schemas.openxmlformats.org/officeDocument/2006/relationships/hyperlink" Target="259,-1,NEX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500_20070418220948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"/>
          <p:cNvSpPr/>
          <p:nvPr/>
        </p:nvSpPr>
        <p:spPr>
          <a:xfrm>
            <a:off x="1260360" y="15588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Times New Roman"/>
              </a:rPr>
              <a:t>题西林壁</a:t>
            </a:r>
            <a:r>
              <a:rPr b="1" lang="zh-CN" sz="4000" spc="-1" strike="noStrike">
                <a:solidFill>
                  <a:srgbClr val="e4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e40000"/>
                </a:solidFill>
                <a:latin typeface="Times New Roman"/>
              </a:rPr>
              <a:t>课件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928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自学指导（一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读古诗，读准字音，说说你读懂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Arial"/>
              </a:rPr>
              <a:t>题西林壁</a:t>
            </a:r>
            <a:br>
              <a:rPr sz="4800"/>
            </a:br>
            <a:r>
              <a:rPr b="1" lang="zh-CN" sz="3600" spc="-1" strike="noStrike">
                <a:solidFill>
                  <a:srgbClr val="ffe2c5"/>
                </a:solidFill>
                <a:latin typeface="Arial"/>
              </a:rPr>
              <a:t>宋</a:t>
            </a:r>
            <a:r>
              <a:rPr b="1" lang="en-US" sz="3600" spc="-1" strike="noStrike">
                <a:solidFill>
                  <a:srgbClr val="ffe2c5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e2c5"/>
                </a:solidFill>
                <a:latin typeface="Arial"/>
              </a:rPr>
              <a:t>苏轼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看成岭侧成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远近高低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识庐山真面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缘身在此山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838080" y="512604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学指导（二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前两句诗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042920" y="242100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不懂的词语吗？试试用自己的话说说这两句话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026"/>
          <p:cNvSpPr/>
          <p:nvPr/>
        </p:nvSpPr>
        <p:spPr>
          <a:xfrm>
            <a:off x="2752560" y="249228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横看成岭侧成峰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远近高低各不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27"/>
          <p:cNvSpPr/>
          <p:nvPr/>
        </p:nvSpPr>
        <p:spPr>
          <a:xfrm>
            <a:off x="1900080" y="13413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连绵起伏的山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28"/>
          <p:cNvSpPr/>
          <p:nvPr/>
        </p:nvSpPr>
        <p:spPr>
          <a:xfrm>
            <a:off x="5140080" y="7650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巍然耸立的险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029"/>
          <p:cNvGrpSpPr/>
          <p:nvPr/>
        </p:nvGrpSpPr>
        <p:grpSpPr>
          <a:xfrm>
            <a:off x="4067280" y="2133720"/>
            <a:ext cx="838080" cy="1358640"/>
            <a:chOff x="4067280" y="2133720"/>
            <a:chExt cx="838080" cy="1358640"/>
          </a:xfrm>
        </p:grpSpPr>
        <p:sp>
          <p:nvSpPr>
            <p:cNvPr id="539" name="AutoShape 1030"/>
            <p:cNvSpPr/>
            <p:nvPr/>
          </p:nvSpPr>
          <p:spPr>
            <a:xfrm>
              <a:off x="4448160" y="2133720"/>
              <a:ext cx="228600" cy="533160"/>
            </a:xfrm>
            <a:prstGeom prst="upArrow">
              <a:avLst>
                <a:gd name="adj1" fmla="val 50000"/>
                <a:gd name="adj2" fmla="val 58307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031"/>
            <p:cNvSpPr/>
            <p:nvPr/>
          </p:nvSpPr>
          <p:spPr>
            <a:xfrm>
              <a:off x="4067280" y="349236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032"/>
          <p:cNvGrpSpPr/>
          <p:nvPr/>
        </p:nvGrpSpPr>
        <p:grpSpPr>
          <a:xfrm>
            <a:off x="6659640" y="1484280"/>
            <a:ext cx="838080" cy="2057400"/>
            <a:chOff x="6659640" y="1484280"/>
            <a:chExt cx="838080" cy="2057400"/>
          </a:xfrm>
        </p:grpSpPr>
        <p:sp>
          <p:nvSpPr>
            <p:cNvPr id="542" name="AutoShape 1033"/>
            <p:cNvSpPr/>
            <p:nvPr/>
          </p:nvSpPr>
          <p:spPr>
            <a:xfrm>
              <a:off x="6983640" y="1484280"/>
              <a:ext cx="209520" cy="1219320"/>
            </a:xfrm>
            <a:prstGeom prst="upArrow">
              <a:avLst>
                <a:gd name="adj1" fmla="val 50000"/>
                <a:gd name="adj2" fmla="val 14549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034"/>
            <p:cNvSpPr/>
            <p:nvPr/>
          </p:nvSpPr>
          <p:spPr>
            <a:xfrm>
              <a:off x="6659640" y="354168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题西林壁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近高低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各不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识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在此山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85"/>
          <p:cNvPicPr/>
          <p:nvPr/>
        </p:nvPicPr>
        <p:blipFill>
          <a:blip r:embed="rId1"/>
          <a:stretch/>
        </p:blipFill>
        <p:spPr>
          <a:xfrm>
            <a:off x="5867280" y="33336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/>
          <p:cNvSpPr/>
          <p:nvPr/>
        </p:nvSpPr>
        <p:spPr>
          <a:xfrm flipV="1" rot="2763600">
            <a:off x="4139280" y="3427560"/>
            <a:ext cx="1295280" cy="287640"/>
          </a:xfrm>
          <a:prstGeom prst="leftArrow">
            <a:avLst>
              <a:gd name="adj1" fmla="val 50000"/>
              <a:gd name="adj2" fmla="val 112578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5148360" y="4005360"/>
            <a:ext cx="3529080" cy="1511280"/>
          </a:xfrm>
          <a:prstGeom prst="roundRect">
            <a:avLst>
              <a:gd name="adj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观察的角度不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结果也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学指导（二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前两句诗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042920" y="242100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不懂的词语吗？试试用自己的话说说这两句话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1116000" y="3429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从哪些角度来欣赏庐山？从中看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042920" y="4437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横、侧、高、低、远、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042920" y="50846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随着诗人观察角度不同，看到的景象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026"/>
          <p:cNvSpPr/>
          <p:nvPr/>
        </p:nvSpPr>
        <p:spPr>
          <a:xfrm>
            <a:off x="2469960" y="1841400"/>
            <a:ext cx="420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0000"/>
                </a:solidFill>
                <a:latin typeface="Times New Roman"/>
                <a:ea typeface="华文新魏"/>
              </a:rPr>
              <a:t>只缘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27"/>
          <p:cNvSpPr/>
          <p:nvPr/>
        </p:nvSpPr>
        <p:spPr>
          <a:xfrm>
            <a:off x="4903920" y="838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真实的全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028"/>
          <p:cNvGrpSpPr/>
          <p:nvPr/>
        </p:nvGrpSpPr>
        <p:grpSpPr>
          <a:xfrm>
            <a:off x="4572000" y="1523880"/>
            <a:ext cx="2362320" cy="1295280"/>
            <a:chOff x="4572000" y="1523880"/>
            <a:chExt cx="2362320" cy="1295280"/>
          </a:xfrm>
        </p:grpSpPr>
        <p:sp>
          <p:nvSpPr>
            <p:cNvPr id="558" name="AutoShape 1029"/>
            <p:cNvSpPr/>
            <p:nvPr/>
          </p:nvSpPr>
          <p:spPr>
            <a:xfrm>
              <a:off x="5715000" y="1523880"/>
              <a:ext cx="228600" cy="533520"/>
            </a:xfrm>
            <a:prstGeom prst="upArrow">
              <a:avLst>
                <a:gd name="adj1" fmla="val 50000"/>
                <a:gd name="adj2" fmla="val 58346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030"/>
            <p:cNvSpPr/>
            <p:nvPr/>
          </p:nvSpPr>
          <p:spPr>
            <a:xfrm>
              <a:off x="4572000" y="2819160"/>
              <a:ext cx="2362320" cy="0"/>
            </a:xfrm>
            <a:prstGeom prst="line">
              <a:avLst/>
            </a:prstGeom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题西林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近高低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在</a:t>
            </a:r>
            <a:r>
              <a:rPr b="0" lang="zh-CN" sz="32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此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5688000" y="1700280"/>
            <a:ext cx="2844720" cy="1081080"/>
          </a:xfrm>
          <a:prstGeom prst="wedgeRoundRectCallout">
            <a:avLst>
              <a:gd name="adj1" fmla="val -188393"/>
              <a:gd name="adj2" fmla="val 109763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"/>
          <p:cNvSpPr/>
          <p:nvPr/>
        </p:nvSpPr>
        <p:spPr>
          <a:xfrm>
            <a:off x="5076720" y="2924280"/>
            <a:ext cx="2519640" cy="1295280"/>
          </a:xfrm>
          <a:prstGeom prst="wedgeRoundRectCallout">
            <a:avLst>
              <a:gd name="adj1" fmla="val -182324"/>
              <a:gd name="adj2" fmla="val 52939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5651640" y="3213000"/>
            <a:ext cx="1944720" cy="1150920"/>
          </a:xfrm>
          <a:prstGeom prst="wedgeRoundRectCallout">
            <a:avLst>
              <a:gd name="adj1" fmla="val -156041"/>
              <a:gd name="adj2" fmla="val 71240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庐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5470560" y="1125360"/>
            <a:ext cx="3673440" cy="1656000"/>
          </a:xfrm>
          <a:prstGeom prst="wedgeRoundRectCallout">
            <a:avLst>
              <a:gd name="adj1" fmla="val -48226"/>
              <a:gd name="adj2" fmla="val 131879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）看不清庐山的真面目，只因为我身在庐山之中。（视野太狭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5364000" y="342900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学指导（三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后两句诗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971640" y="2421000"/>
            <a:ext cx="7543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不懂的词语吗？试试用自己的话说说这两句话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1116000" y="357336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这两句诗句中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547640" y="429264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事物要从不同角度去看，这样才会全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734f12f37449f2ef0a46e08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228600" y="3049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庐山位于江西北部，北临长江，东临潘阳湖，是一所历史悠久的名山，相传在周朝时有匡氏七兄弟上山修道，结庐为舍，因此而得名。自古享有“匡庐奇秀甲天下”的声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庐山南北长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里，东西宽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里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雄、奇、险、秀闻名于世，巍峨挺拔的青峰秀峦、喷雪鸣雷的银泉飞瀑、瞬息万变的云海奇观、俊奇巧秀的园林建筑，一展庐山的无穷魅力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历代诗人墨客相继慕名而来，留下了许多珍贵的名篇佳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026"/>
          <p:cNvSpPr/>
          <p:nvPr/>
        </p:nvSpPr>
        <p:spPr>
          <a:xfrm>
            <a:off x="304920" y="60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27"/>
          <p:cNvSpPr/>
          <p:nvPr/>
        </p:nvSpPr>
        <p:spPr>
          <a:xfrm>
            <a:off x="1447920" y="762120"/>
            <a:ext cx="70866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一首古诗往往就是一幅古朴典雅的画卷，只要你用心的去读，去感受，你就能看到这幅画。下面就请同学们结合注释反复读古诗，看谁能把它读成一幅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28"/>
          <p:cNvSpPr/>
          <p:nvPr/>
        </p:nvSpPr>
        <p:spPr>
          <a:xfrm>
            <a:off x="1447920" y="3733920"/>
            <a:ext cx="72388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识：看不清、认不清       只缘：只因为                        面目：面貌 ，这里指庐山的风景。                          身：自己                               此：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C27-8A0D-453A-94AE-7ACB81B07D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219320" y="380880"/>
            <a:ext cx="777240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放飞想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横着看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侧着看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远处望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近处看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高处俯视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低处仰望，庐山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336400" y="5029200"/>
            <a:ext cx="374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千姿百态    变化万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正面看，庐山是连绵起伏的山岭；从侧面看，庐山是峭拔挺立山峰。从远处、近处、高处、低处看，庐山呈现出各种不同的姿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认不清庐山的真面目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因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在庐山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题西林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横看成岭侧成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近高低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识庐山真面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在此山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4932360" y="177336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076720" y="1844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赞美庐山景色雄奇壮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角度不同  结果各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5003640" y="3429000"/>
            <a:ext cx="289080" cy="1224000"/>
          </a:xfrm>
          <a:custGeom>
            <a:avLst/>
            <a:gdLst>
              <a:gd name="textAreaLeft" fmla="*/ 0 w 289080"/>
              <a:gd name="textAreaRight" fmla="*/ 10440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8"/>
                </a:lnTo>
                <a:cubicBezTo>
                  <a:pt x="10800" y="10138"/>
                  <a:pt x="16200" y="11038"/>
                  <a:pt x="21600" y="11038"/>
                </a:cubicBezTo>
                <a:cubicBezTo>
                  <a:pt x="16200" y="11038"/>
                  <a:pt x="10800" y="11938"/>
                  <a:pt x="10800" y="1283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5364000" y="3573360"/>
            <a:ext cx="33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观察事物、处理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要客观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2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840320" y="457200"/>
            <a:ext cx="923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背一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362320" y="1085760"/>
            <a:ext cx="48006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轼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横看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侧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各不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不识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真面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身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408400" y="609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测一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1295280" y="167652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“不识庐山真面目，只缘身在此山中”这两句诗启示人们：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学了这首诗，我懂得了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"/>
          <p:cNvSpPr/>
          <p:nvPr/>
        </p:nvSpPr>
        <p:spPr>
          <a:xfrm>
            <a:off x="4876920" y="320040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4230360" y="2133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当局者迷，旁观者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127160" y="45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828800" y="2716200"/>
            <a:ext cx="861048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看事物的角度不同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得到的结论也不同 ，我们要从不同角度思考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题，客观全面的看待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8"/>
          <p:cNvSpPr/>
          <p:nvPr/>
        </p:nvSpPr>
        <p:spPr>
          <a:xfrm>
            <a:off x="1523880" y="37339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Object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474920" y="7621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拓展阅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学习古诗的方法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1258920" y="2997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00cc"/>
                </a:solidFill>
                <a:uFillTx/>
                <a:latin typeface="Times New Roman"/>
              </a:rPr>
              <a:t>2</a:t>
            </a:r>
            <a:r>
              <a:rPr b="1" lang="zh-CN" sz="4400" spc="-1" strike="noStrike" u="sng">
                <a:solidFill>
                  <a:srgbClr val="9900cc"/>
                </a:solidFill>
                <a:uFillTx/>
                <a:latin typeface="Times New Roman"/>
              </a:rPr>
              <a:t>、释诗句，明诗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258920" y="429264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f9fbf"/>
                </a:solidFill>
                <a:uFillTx/>
                <a:latin typeface="Times New Roman"/>
              </a:rPr>
              <a:t>3</a:t>
            </a:r>
            <a:r>
              <a:rPr b="1" lang="zh-CN" sz="4000" spc="-1" strike="noStrike" u="sng">
                <a:solidFill>
                  <a:srgbClr val="9f9fbf"/>
                </a:solidFill>
                <a:uFillTx/>
                <a:latin typeface="Times New Roman"/>
              </a:rPr>
              <a:t>、想意境，悟诗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187280" y="1700280"/>
            <a:ext cx="6012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1</a:t>
            </a:r>
            <a:r>
              <a:rPr b="0" lang="zh-CN" sz="4400" spc="-1" strike="noStrike" u="sng">
                <a:solidFill>
                  <a:srgbClr val="0066cc"/>
                </a:solidFill>
                <a:uFillTx/>
                <a:latin typeface="Times New Roman"/>
                <a:hlinkClick r:id="rId2"/>
              </a:rPr>
              <a:t>、知诗人，解题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3"/>
          <p:cNvSpPr/>
          <p:nvPr/>
        </p:nvSpPr>
        <p:spPr>
          <a:xfrm>
            <a:off x="1332000" y="1700280"/>
            <a:ext cx="47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首诗的作者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2700360" y="263700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苏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2"/>
          <p:cNvGraphicFramePr/>
          <p:nvPr/>
        </p:nvGraphicFramePr>
        <p:xfrm>
          <a:off x="0" y="1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908000" y="263700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题西林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627280" y="1989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书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4643280" y="19890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林寺墙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2050920" y="4149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写在西林寺墙壁的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西林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867280" y="1988640"/>
            <a:ext cx="3059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坐落于庐山北麓 ，为庐山北山第一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xilinsi6-24-1"/>
          <p:cNvPicPr/>
          <p:nvPr/>
        </p:nvPicPr>
        <p:blipFill>
          <a:blip r:embed="rId1"/>
          <a:stretch/>
        </p:blipFill>
        <p:spPr>
          <a:xfrm>
            <a:off x="1042920" y="1844640"/>
            <a:ext cx="4753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19040755llmt14ks5rxmsj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609480" y="685800"/>
            <a:ext cx="83059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正确、流利、有感情地朗读、背诵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独立识字学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想象诗句所描绘的景象，体会诗文中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蕴含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4:03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9:11:24Z</dcterms:modified>
  <cp:revision>2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