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09400-CC99-473E-889C-1FD1CA0F3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BEAE-5D69-4198-B414-2BEEFEE76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F3CBD-2EEB-4EA7-A8F9-EEF0F380C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B633D-1A8B-4B5B-8B22-D287825F4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B3886-EDF0-4DED-9B44-C99AA044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CF044-DE5F-4F9E-BD08-5822478A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00468-2B93-4C47-8878-2F45EE82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109A5-0196-4D8C-B109-27550F7C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55678-8D76-4382-8BF5-698FA84F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AC158-8B83-49E2-B78D-75CC48B1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B5148-5D45-4BEE-9AAE-13034947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49BF-723B-4B62-9D37-00D92BCA8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46175-FB6C-4694-A317-0862C3E8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B200C-F179-4313-9F2F-44EABEFE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EB622-388E-40E0-ACBB-483F7E94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4288B-8902-4B1B-8BBF-394FF9DE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F9ED8-1525-44C9-9C4B-2F87A43D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3B8B-2BF4-4B1C-BC9D-F7411A06D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0BA9-3D2E-417F-8BE7-2CADDD824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13C9-FDC5-483E-9477-D08C514BD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7936-8CD4-4D0E-8DC8-C1AA8A7E4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D0E2-5500-4F4A-B5FA-DDA081419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02D3C-456F-41D5-AE8E-5DA6EEDF6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20F04-5566-4713-AD46-830A0E722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11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5e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d5e4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d5e4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7BF8-613C-4FED-BA67-2BADA93F4917}" type="slidenum">
              <a:rPr b="0" lang="ko-KR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304"/>
          <p:cNvSpPr/>
          <p:nvPr/>
        </p:nvSpPr>
        <p:spPr>
          <a:xfrm>
            <a:off x="0" y="685800"/>
            <a:ext cx="9144000" cy="231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" name="Rectangle 305"/>
          <p:cNvSpPr/>
          <p:nvPr/>
        </p:nvSpPr>
        <p:spPr>
          <a:xfrm>
            <a:off x="0" y="917640"/>
            <a:ext cx="9144000" cy="122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" name="AutoShape 309"/>
          <p:cNvSpPr/>
          <p:nvPr/>
        </p:nvSpPr>
        <p:spPr>
          <a:xfrm>
            <a:off x="7750080" y="976320"/>
            <a:ext cx="609840" cy="485640"/>
          </a:xfrm>
          <a:custGeom>
            <a:avLst/>
            <a:gdLst>
              <a:gd name="textAreaLeft" fmla="*/ 0 w 609840"/>
              <a:gd name="textAreaRight" fmla="*/ 610200 w 60984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7" name="AutoShape 310"/>
          <p:cNvSpPr/>
          <p:nvPr/>
        </p:nvSpPr>
        <p:spPr>
          <a:xfrm>
            <a:off x="8424720" y="976320"/>
            <a:ext cx="609840" cy="485640"/>
          </a:xfrm>
          <a:custGeom>
            <a:avLst/>
            <a:gdLst>
              <a:gd name="textAreaLeft" fmla="*/ 0 w 609840"/>
              <a:gd name="textAreaRight" fmla="*/ 610200 w 60984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38"/>
          <p:cNvSpPr/>
          <p:nvPr/>
        </p:nvSpPr>
        <p:spPr>
          <a:xfrm>
            <a:off x="2971800" y="6248520"/>
            <a:ext cx="57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Lucida Sans Unicode"/>
              </a:rPr>
              <a:t>Logo</a:t>
            </a: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6" name="Text Box 2560"/>
          <p:cNvSpPr/>
          <p:nvPr/>
        </p:nvSpPr>
        <p:spPr>
          <a:xfrm>
            <a:off x="514440" y="2286000"/>
            <a:ext cx="638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dd Your Company Slogan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7" name="Rectangle 2784"/>
          <p:cNvSpPr/>
          <p:nvPr/>
        </p:nvSpPr>
        <p:spPr>
          <a:xfrm>
            <a:off x="0" y="3298680"/>
            <a:ext cx="9144000" cy="392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8" name="Rectangle 2787"/>
          <p:cNvSpPr/>
          <p:nvPr/>
        </p:nvSpPr>
        <p:spPr>
          <a:xfrm>
            <a:off x="0" y="3691080"/>
            <a:ext cx="9144000" cy="20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9" name="AutoShape 2788"/>
          <p:cNvSpPr/>
          <p:nvPr/>
        </p:nvSpPr>
        <p:spPr>
          <a:xfrm>
            <a:off x="4952880" y="3857760"/>
            <a:ext cx="954360" cy="741240"/>
          </a:xfrm>
          <a:custGeom>
            <a:avLst/>
            <a:gdLst>
              <a:gd name="textAreaLeft" fmla="*/ 0 w 954360"/>
              <a:gd name="textAreaRight" fmla="*/ 954720 w 95436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0" name="AutoShape 2792"/>
          <p:cNvSpPr/>
          <p:nvPr/>
        </p:nvSpPr>
        <p:spPr>
          <a:xfrm>
            <a:off x="5857920" y="3857760"/>
            <a:ext cx="954000" cy="741240"/>
          </a:xfrm>
          <a:custGeom>
            <a:avLst/>
            <a:gdLst>
              <a:gd name="textAreaLeft" fmla="*/ 0 w 954000"/>
              <a:gd name="textAreaRight" fmla="*/ 954360 w 9540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1" name="AutoShape 2793"/>
          <p:cNvSpPr/>
          <p:nvPr/>
        </p:nvSpPr>
        <p:spPr>
          <a:xfrm>
            <a:off x="6742080" y="3857760"/>
            <a:ext cx="954000" cy="741240"/>
          </a:xfrm>
          <a:custGeom>
            <a:avLst/>
            <a:gdLst>
              <a:gd name="textAreaLeft" fmla="*/ 0 w 954000"/>
              <a:gd name="textAreaRight" fmla="*/ 954360 w 9540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2" name="AutoShape 2794"/>
          <p:cNvSpPr/>
          <p:nvPr/>
        </p:nvSpPr>
        <p:spPr>
          <a:xfrm>
            <a:off x="7656480" y="3857760"/>
            <a:ext cx="954000" cy="741240"/>
          </a:xfrm>
          <a:custGeom>
            <a:avLst/>
            <a:gdLst>
              <a:gd name="textAreaLeft" fmla="*/ 0 w 954000"/>
              <a:gd name="textAreaRight" fmla="*/ 954360 w 9540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3" name="Rectangle 2795"/>
          <p:cNvSpPr/>
          <p:nvPr/>
        </p:nvSpPr>
        <p:spPr>
          <a:xfrm>
            <a:off x="522360" y="108108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4" name="Rectangle 2796"/>
          <p:cNvSpPr/>
          <p:nvPr/>
        </p:nvSpPr>
        <p:spPr>
          <a:xfrm>
            <a:off x="903240" y="1380960"/>
            <a:ext cx="16344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5" name="Rectangle 2797"/>
          <p:cNvSpPr/>
          <p:nvPr/>
        </p:nvSpPr>
        <p:spPr>
          <a:xfrm>
            <a:off x="1447920" y="121752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6" name="Rectangle 2798"/>
          <p:cNvSpPr/>
          <p:nvPr/>
        </p:nvSpPr>
        <p:spPr>
          <a:xfrm>
            <a:off x="1284120" y="1741320"/>
            <a:ext cx="16380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7" name="Rectangle 2799"/>
          <p:cNvSpPr/>
          <p:nvPr/>
        </p:nvSpPr>
        <p:spPr>
          <a:xfrm>
            <a:off x="1665360" y="212256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8" name="Rectangle 2800"/>
          <p:cNvSpPr/>
          <p:nvPr/>
        </p:nvSpPr>
        <p:spPr>
          <a:xfrm>
            <a:off x="2046240" y="1741320"/>
            <a:ext cx="16344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9" name="Rectangle 2801"/>
          <p:cNvSpPr/>
          <p:nvPr/>
        </p:nvSpPr>
        <p:spPr>
          <a:xfrm>
            <a:off x="820800" y="203832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5e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d5e4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d5e4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BDC3-7454-4C32-BDF5-CEADCC78242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Verdana"/>
                <a:ea typeface="宋体"/>
              </a:rPr>
              <a:t>外国商业</a:t>
            </a:r>
            <a:r>
              <a:rPr b="1" lang="zh-CN" sz="4000" spc="-1" strike="noStrike">
                <a:solidFill>
                  <a:srgbClr val="ffffcc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cc"/>
                </a:solidFill>
                <a:latin typeface="Verdana"/>
                <a:ea typeface="宋体"/>
              </a:rPr>
              <a:t>模板在线下载</a:t>
            </a: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Verdana"/>
              </a:rPr>
              <a:t>Content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06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Contents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" name="AutoShape 29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Verdana"/>
              </a:rPr>
              <a:t>Content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7" name="AutoShape 34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3048120" y="333864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Verdana"/>
              </a:rPr>
              <a:t>Content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9" name="AutoShape 36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Verdana"/>
              </a:rPr>
              <a:t>Content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1" name="AutoShape 38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Verdana"/>
              </a:rPr>
              <a:t>Content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3" name="AutoShape 40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17"/>
          <p:cNvSpPr/>
          <p:nvPr/>
        </p:nvSpPr>
        <p:spPr>
          <a:xfrm>
            <a:off x="3309840" y="2666880"/>
            <a:ext cx="2362320" cy="2362320"/>
          </a:xfrm>
          <a:prstGeom prst="ellipse">
            <a:avLst/>
          </a:prstGeom>
          <a:noFill/>
          <a:ln w="381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480384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d5e494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Diagram 1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" name="Oval 18"/>
          <p:cNvSpPr/>
          <p:nvPr/>
        </p:nvSpPr>
        <p:spPr>
          <a:xfrm>
            <a:off x="3767040" y="1905120"/>
            <a:ext cx="1447920" cy="1447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39142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7709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5291280" y="196524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304920" y="480060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6281640" y="472428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284724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5004720" y="4148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7" name="Oval 35"/>
          <p:cNvSpPr/>
          <p:nvPr/>
        </p:nvSpPr>
        <p:spPr>
          <a:xfrm>
            <a:off x="2700360" y="36576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d5e494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8" name="Text Box 36"/>
          <p:cNvSpPr/>
          <p:nvPr/>
        </p:nvSpPr>
        <p:spPr>
          <a:xfrm>
            <a:off x="284724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2"/>
          <p:cNvSpPr/>
          <p:nvPr/>
        </p:nvSpPr>
        <p:spPr>
          <a:xfrm>
            <a:off x="2567160" y="1981080"/>
            <a:ext cx="4400280" cy="2122560"/>
          </a:xfrm>
          <a:prstGeom prst="ellipse">
            <a:avLst/>
          </a:prstGeom>
          <a:noFill/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Diagram 1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618640" y="465444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429000" y="272736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429000" y="486900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477120" y="417528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609480" y="395460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7" name="AutoShape 17"/>
          <p:cNvSpPr/>
          <p:nvPr/>
        </p:nvSpPr>
        <p:spPr>
          <a:xfrm rot="2827800">
            <a:off x="2090520" y="3627360"/>
            <a:ext cx="6094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4267080" y="4381560"/>
            <a:ext cx="60984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9" name="AutoShape 19"/>
          <p:cNvSpPr/>
          <p:nvPr/>
        </p:nvSpPr>
        <p:spPr>
          <a:xfrm rot="18767400">
            <a:off x="6553080" y="3657240"/>
            <a:ext cx="6094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cc"/>
                </a:solidFill>
                <a:latin typeface="Verdana"/>
              </a:rPr>
              <a:t>使用规范说明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Lucida Sans Unicode"/>
              </a:rPr>
              <a:t>www.eeppt.com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EDFD-7E73-4798-957E-0ED1A5896C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  <a:ea typeface="Gulim"/>
              </a:rPr>
              <a:t>Thank you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cc"/>
                </a:solidFill>
                <a:latin typeface="Verdana"/>
              </a:rPr>
              <a:t>使用规范说明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Lucida Sans Unicode"/>
              </a:rPr>
              <a:t>www.eeppt.com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FF4FA-F3B7-4743-B96F-B650A37332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6:55:4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06:30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