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pu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CFF-17FA-4270-B289-4D499AC4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F60-0930-4D03-A1FE-64340250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5F4F-5EC8-44BA-96D0-52468193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5E0-8DE3-4B8F-A1A9-8B8941F1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E2A-60AD-4F25-8D47-60CE5491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81A-4D48-4CFE-8298-3B570CB6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0AE-B393-433D-9CAB-CD6AE44E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BEE-C5D0-4BAA-BE2D-DC2E20B4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4B9-7C72-407E-A3D5-96C6BA00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0BE-DBE1-4191-8CC5-8003B419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788-A09A-4500-B2BE-4D24D62E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D86-99E2-46F0-B47A-9E74A3E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90D9-7DF2-431F-89F9-2EA83E54790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48CC-AC38-4BD1-9950-27948A45A5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audio" Target="../media/push.wav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www.eeppt.com/beijing/" TargetMode="External"/><Relationship Id="rId8" Type="http://schemas.openxmlformats.org/officeDocument/2006/relationships/audio" Target="../media/push.wav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push.wav"/><Relationship Id="rId2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矩形 10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/tubiao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uppieren 33"/>
          <p:cNvGrpSpPr/>
          <p:nvPr/>
        </p:nvGrpSpPr>
        <p:grpSpPr>
          <a:xfrm>
            <a:off x="861840" y="4605480"/>
            <a:ext cx="7452000" cy="1135080"/>
            <a:chOff x="861840" y="4605480"/>
            <a:chExt cx="7452000" cy="1135080"/>
          </a:xfrm>
        </p:grpSpPr>
        <p:pic>
          <p:nvPicPr>
            <p:cNvPr id="44" name="_effect" descr="C:\Users\marc.h\Desktop\Schatten-TEST.png"/>
            <p:cNvPicPr/>
            <p:nvPr/>
          </p:nvPicPr>
          <p:blipFill>
            <a:blip r:embed="rId2"/>
            <a:stretch/>
          </p:blipFill>
          <p:spPr>
            <a:xfrm>
              <a:off x="2984760" y="5229360"/>
              <a:ext cx="339336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_effect" descr="C:\Users\marc.h\Desktop\Schatten-TEST.png"/>
            <p:cNvPicPr/>
            <p:nvPr/>
          </p:nvPicPr>
          <p:blipFill>
            <a:blip r:embed="rId3"/>
            <a:stretch/>
          </p:blipFill>
          <p:spPr>
            <a:xfrm>
              <a:off x="5297040" y="5001840"/>
              <a:ext cx="301680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_effect" descr="C:\Users\marc.h\Desktop\Schatten-TEST.png"/>
            <p:cNvPicPr/>
            <p:nvPr/>
          </p:nvPicPr>
          <p:blipFill>
            <a:blip r:embed="rId4"/>
            <a:stretch/>
          </p:blipFill>
          <p:spPr>
            <a:xfrm>
              <a:off x="861840" y="5001840"/>
              <a:ext cx="301680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_effect" descr="C:\Users\marc.h\Desktop\Schatten-TEST.png"/>
            <p:cNvPicPr/>
            <p:nvPr/>
          </p:nvPicPr>
          <p:blipFill>
            <a:blip r:embed="rId5"/>
            <a:stretch/>
          </p:blipFill>
          <p:spPr>
            <a:xfrm>
              <a:off x="4414680" y="4605480"/>
              <a:ext cx="2672280" cy="40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_effect" descr="C:\Users\marc.h\Desktop\Schatten-TEST.png"/>
            <p:cNvPicPr/>
            <p:nvPr/>
          </p:nvPicPr>
          <p:blipFill>
            <a:blip r:embed="rId6"/>
            <a:stretch/>
          </p:blipFill>
          <p:spPr>
            <a:xfrm>
              <a:off x="2436480" y="4605480"/>
              <a:ext cx="2672280" cy="40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uppieren 26"/>
          <p:cNvGrpSpPr/>
          <p:nvPr/>
        </p:nvGrpSpPr>
        <p:grpSpPr>
          <a:xfrm>
            <a:off x="971640" y="2349360"/>
            <a:ext cx="7111800" cy="2521080"/>
            <a:chOff x="971640" y="2349360"/>
            <a:chExt cx="7111800" cy="2521080"/>
          </a:xfrm>
        </p:grpSpPr>
        <p:sp>
          <p:nvSpPr>
            <p:cNvPr id="50" name="Stern mit 5 Zacken 10"/>
            <p:cNvSpPr/>
            <p:nvPr/>
          </p:nvSpPr>
          <p:spPr>
            <a:xfrm>
              <a:off x="4985280" y="2410560"/>
              <a:ext cx="1765800" cy="1766880"/>
            </a:xfrm>
            <a:prstGeom prst="star5">
              <a:avLst/>
            </a:prstGeom>
            <a:blipFill rotWithShape="0">
              <a:blip r:embed="rId7"/>
              <a:srcRect/>
              <a:stretch/>
            </a:blip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tern mit 5 Zacken 12"/>
            <p:cNvSpPr/>
            <p:nvPr/>
          </p:nvSpPr>
          <p:spPr>
            <a:xfrm>
              <a:off x="5928840" y="2474280"/>
              <a:ext cx="2154600" cy="2156040"/>
            </a:xfrm>
            <a:prstGeom prst="star5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tern mit 5 Zacken 13"/>
            <p:cNvSpPr/>
            <p:nvPr/>
          </p:nvSpPr>
          <p:spPr>
            <a:xfrm>
              <a:off x="2619360" y="2430720"/>
              <a:ext cx="1765800" cy="1766880"/>
            </a:xfrm>
            <a:prstGeom prst="star5">
              <a:avLst/>
            </a:prstGeom>
            <a:blipFill rotWithShape="0">
              <a:blip r:embed="rId8"/>
              <a:srcRect/>
              <a:stretch/>
            </a:blip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tern mit 5 Zacken 15"/>
            <p:cNvSpPr/>
            <p:nvPr/>
          </p:nvSpPr>
          <p:spPr>
            <a:xfrm>
              <a:off x="971640" y="2392920"/>
              <a:ext cx="2341800" cy="2343600"/>
            </a:xfrm>
            <a:prstGeom prst="star5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ern mit 5 Zacken 16"/>
            <p:cNvSpPr/>
            <p:nvPr/>
          </p:nvSpPr>
          <p:spPr>
            <a:xfrm>
              <a:off x="3441960" y="2349360"/>
              <a:ext cx="2519640" cy="2521080"/>
            </a:xfrm>
            <a:prstGeom prst="star5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5"/>
          <p:cNvSpPr/>
          <p:nvPr/>
        </p:nvSpPr>
        <p:spPr>
          <a:xfrm>
            <a:off x="311040" y="3480480"/>
            <a:ext cx="13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ption 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873520" y="1773720"/>
            <a:ext cx="13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ption 5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035600" y="3362760"/>
            <a:ext cx="13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escription 2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108400" y="1773720"/>
            <a:ext cx="1368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ption 4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7451640" y="3480480"/>
            <a:ext cx="13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ption 3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7480" y="907920"/>
            <a:ext cx="281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背景五角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9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6360" y="765000"/>
            <a:ext cx="9191880" cy="5372280"/>
          </a:xfrm>
          <a:prstGeom prst="rect">
            <a:avLst/>
          </a:prstGeom>
          <a:ln w="0">
            <a:noFill/>
          </a:ln>
        </p:spPr>
      </p:pic>
      <p:sp>
        <p:nvSpPr>
          <p:cNvPr id="63" name="矩形 10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/tubiao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uppieren 33"/>
          <p:cNvGrpSpPr/>
          <p:nvPr/>
        </p:nvGrpSpPr>
        <p:grpSpPr>
          <a:xfrm>
            <a:off x="861840" y="4533840"/>
            <a:ext cx="7452000" cy="1135080"/>
            <a:chOff x="861840" y="4533840"/>
            <a:chExt cx="7452000" cy="1135080"/>
          </a:xfrm>
        </p:grpSpPr>
        <p:pic>
          <p:nvPicPr>
            <p:cNvPr id="65" name="_effect" descr="C:\Users\marc.h\Desktop\Schatten-TEST.png"/>
            <p:cNvPicPr/>
            <p:nvPr/>
          </p:nvPicPr>
          <p:blipFill>
            <a:blip r:embed="rId2"/>
            <a:stretch/>
          </p:blipFill>
          <p:spPr>
            <a:xfrm>
              <a:off x="2984760" y="5157720"/>
              <a:ext cx="339336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_effect" descr="C:\Users\marc.h\Desktop\Schatten-TEST.png"/>
            <p:cNvPicPr/>
            <p:nvPr/>
          </p:nvPicPr>
          <p:blipFill>
            <a:blip r:embed="rId3"/>
            <a:stretch/>
          </p:blipFill>
          <p:spPr>
            <a:xfrm>
              <a:off x="5297040" y="4930200"/>
              <a:ext cx="301680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_effect" descr="C:\Users\marc.h\Desktop\Schatten-TEST.png"/>
            <p:cNvPicPr/>
            <p:nvPr/>
          </p:nvPicPr>
          <p:blipFill>
            <a:blip r:embed="rId4"/>
            <a:stretch/>
          </p:blipFill>
          <p:spPr>
            <a:xfrm>
              <a:off x="861840" y="4930200"/>
              <a:ext cx="301680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_effect" descr="C:\Users\marc.h\Desktop\Schatten-TEST.png"/>
            <p:cNvPicPr/>
            <p:nvPr/>
          </p:nvPicPr>
          <p:blipFill>
            <a:blip r:embed="rId5"/>
            <a:stretch/>
          </p:blipFill>
          <p:spPr>
            <a:xfrm>
              <a:off x="4414680" y="4533840"/>
              <a:ext cx="2672280" cy="40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_effect" descr="C:\Users\marc.h\Desktop\Schatten-TEST.png"/>
            <p:cNvPicPr/>
            <p:nvPr/>
          </p:nvPicPr>
          <p:blipFill>
            <a:blip r:embed="rId6"/>
            <a:stretch/>
          </p:blipFill>
          <p:spPr>
            <a:xfrm>
              <a:off x="2436480" y="4533840"/>
              <a:ext cx="2672280" cy="40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uppieren 26"/>
          <p:cNvGrpSpPr/>
          <p:nvPr/>
        </p:nvGrpSpPr>
        <p:grpSpPr>
          <a:xfrm>
            <a:off x="1015920" y="2227320"/>
            <a:ext cx="7112160" cy="2519280"/>
            <a:chOff x="1015920" y="2227320"/>
            <a:chExt cx="7112160" cy="2519280"/>
          </a:xfrm>
        </p:grpSpPr>
        <p:sp>
          <p:nvSpPr>
            <p:cNvPr id="71" name="Stern mit 5 Zacken 10"/>
            <p:cNvSpPr/>
            <p:nvPr/>
          </p:nvSpPr>
          <p:spPr>
            <a:xfrm>
              <a:off x="5029920" y="2288520"/>
              <a:ext cx="1765800" cy="1765800"/>
            </a:xfrm>
            <a:prstGeom prst="star5">
              <a:avLst/>
            </a:prstGeom>
            <a:solidFill>
              <a:srgbClr val="ffc000"/>
            </a:soli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tern mit 5 Zacken 12"/>
            <p:cNvSpPr/>
            <p:nvPr/>
          </p:nvSpPr>
          <p:spPr>
            <a:xfrm>
              <a:off x="5973480" y="2352240"/>
              <a:ext cx="2154600" cy="2154240"/>
            </a:xfrm>
            <a:prstGeom prst="star5">
              <a:avLst/>
            </a:prstGeom>
            <a:solidFill>
              <a:srgbClr val="ffc000"/>
            </a:soli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ern mit 5 Zacken 13"/>
            <p:cNvSpPr/>
            <p:nvPr/>
          </p:nvSpPr>
          <p:spPr>
            <a:xfrm>
              <a:off x="2664000" y="2308320"/>
              <a:ext cx="1765800" cy="1765800"/>
            </a:xfrm>
            <a:prstGeom prst="star5">
              <a:avLst/>
            </a:prstGeom>
            <a:solidFill>
              <a:srgbClr val="ffc000"/>
            </a:soli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tern mit 5 Zacken 15"/>
            <p:cNvSpPr/>
            <p:nvPr/>
          </p:nvSpPr>
          <p:spPr>
            <a:xfrm>
              <a:off x="1015920" y="2270880"/>
              <a:ext cx="2342160" cy="2341800"/>
            </a:xfrm>
            <a:prstGeom prst="star5">
              <a:avLst/>
            </a:prstGeom>
            <a:solidFill>
              <a:srgbClr val="ffc000"/>
            </a:soli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ern mit 5 Zacken 16"/>
            <p:cNvSpPr/>
            <p:nvPr/>
          </p:nvSpPr>
          <p:spPr>
            <a:xfrm>
              <a:off x="3486240" y="2227320"/>
              <a:ext cx="2519640" cy="2519280"/>
            </a:xfrm>
            <a:prstGeom prst="star5">
              <a:avLst/>
            </a:prstGeom>
            <a:solidFill>
              <a:srgbClr val="ffc000"/>
            </a:soli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5"/>
          <p:cNvSpPr/>
          <p:nvPr/>
        </p:nvSpPr>
        <p:spPr>
          <a:xfrm>
            <a:off x="311040" y="3408120"/>
            <a:ext cx="13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ption 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873520" y="1701720"/>
            <a:ext cx="13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ption 5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035600" y="3290760"/>
            <a:ext cx="13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escription 2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5108400" y="1701720"/>
            <a:ext cx="1368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ption 4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7451640" y="3408120"/>
            <a:ext cx="13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ption 3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537372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Arial"/>
                <a:hlinkClick r:id="rId7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8" name="pu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A3F-6976-43E9-9414-EE1B87E4DFFD}" type="slidenum">
              <a:t>3</a:t>
            </a:fld>
          </a:p>
        </p:txBody>
      </p:sp>
    </p:spTree>
  </p:cSld>
  <p:transition spd="med" advTm="2000">
    <p:split dir="out" orient="horz"/>
    <p:sndAc>
      <p:stSnd>
        <p:snd r:embed="rId27" name="pu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87" name="矩形 10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/tubiao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uppieren 33"/>
          <p:cNvGrpSpPr/>
          <p:nvPr/>
        </p:nvGrpSpPr>
        <p:grpSpPr>
          <a:xfrm>
            <a:off x="861840" y="4600440"/>
            <a:ext cx="7452000" cy="1135080"/>
            <a:chOff x="861840" y="4600440"/>
            <a:chExt cx="7452000" cy="1135080"/>
          </a:xfrm>
        </p:grpSpPr>
        <p:pic>
          <p:nvPicPr>
            <p:cNvPr id="89" name="_effect" descr="C:\Users\marc.h\Desktop\Schatten-TEST.png"/>
            <p:cNvPicPr/>
            <p:nvPr/>
          </p:nvPicPr>
          <p:blipFill>
            <a:blip r:embed="rId2"/>
            <a:stretch/>
          </p:blipFill>
          <p:spPr>
            <a:xfrm>
              <a:off x="2984760" y="5224320"/>
              <a:ext cx="3393360" cy="5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_effect" descr="C:\Users\marc.h\Desktop\Schatten-TEST.png"/>
            <p:cNvPicPr/>
            <p:nvPr/>
          </p:nvPicPr>
          <p:blipFill>
            <a:blip r:embed="rId3"/>
            <a:stretch/>
          </p:blipFill>
          <p:spPr>
            <a:xfrm>
              <a:off x="5297040" y="4996800"/>
              <a:ext cx="301680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_effect" descr="C:\Users\marc.h\Desktop\Schatten-TEST.png"/>
            <p:cNvPicPr/>
            <p:nvPr/>
          </p:nvPicPr>
          <p:blipFill>
            <a:blip r:embed="rId4"/>
            <a:stretch/>
          </p:blipFill>
          <p:spPr>
            <a:xfrm>
              <a:off x="861840" y="4996800"/>
              <a:ext cx="301680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_effect" descr="C:\Users\marc.h\Desktop\Schatten-TEST.png"/>
            <p:cNvPicPr/>
            <p:nvPr/>
          </p:nvPicPr>
          <p:blipFill>
            <a:blip r:embed="rId5"/>
            <a:stretch/>
          </p:blipFill>
          <p:spPr>
            <a:xfrm>
              <a:off x="4414680" y="4600440"/>
              <a:ext cx="2672280" cy="40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_effect" descr="C:\Users\marc.h\Desktop\Schatten-TEST.png"/>
            <p:cNvPicPr/>
            <p:nvPr/>
          </p:nvPicPr>
          <p:blipFill>
            <a:blip r:embed="rId6"/>
            <a:stretch/>
          </p:blipFill>
          <p:spPr>
            <a:xfrm>
              <a:off x="2436480" y="4600440"/>
              <a:ext cx="2672280" cy="40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uppieren 26"/>
          <p:cNvGrpSpPr/>
          <p:nvPr/>
        </p:nvGrpSpPr>
        <p:grpSpPr>
          <a:xfrm>
            <a:off x="1015920" y="2295360"/>
            <a:ext cx="7112160" cy="2519640"/>
            <a:chOff x="1015920" y="2295360"/>
            <a:chExt cx="7112160" cy="2519640"/>
          </a:xfrm>
        </p:grpSpPr>
        <p:sp>
          <p:nvSpPr>
            <p:cNvPr id="95" name="Stern mit 5 Zacken 10"/>
            <p:cNvSpPr/>
            <p:nvPr/>
          </p:nvSpPr>
          <p:spPr>
            <a:xfrm>
              <a:off x="5029920" y="2356560"/>
              <a:ext cx="1765800" cy="1765800"/>
            </a:xfrm>
            <a:prstGeom prst="star5">
              <a:avLst/>
            </a:prstGeom>
            <a:solidFill>
              <a:srgbClr val="c00000"/>
            </a:soli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ern mit 5 Zacken 12"/>
            <p:cNvSpPr/>
            <p:nvPr/>
          </p:nvSpPr>
          <p:spPr>
            <a:xfrm>
              <a:off x="5973480" y="2420280"/>
              <a:ext cx="2154600" cy="2154600"/>
            </a:xfrm>
            <a:prstGeom prst="star5">
              <a:avLst/>
            </a:prstGeom>
            <a:solidFill>
              <a:srgbClr val="c00000"/>
            </a:soli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ern mit 5 Zacken 13"/>
            <p:cNvSpPr/>
            <p:nvPr/>
          </p:nvSpPr>
          <p:spPr>
            <a:xfrm>
              <a:off x="2664000" y="2376360"/>
              <a:ext cx="1765800" cy="1765800"/>
            </a:xfrm>
            <a:prstGeom prst="star5">
              <a:avLst/>
            </a:prstGeom>
            <a:solidFill>
              <a:srgbClr val="c00000"/>
            </a:soli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ern mit 5 Zacken 15"/>
            <p:cNvSpPr/>
            <p:nvPr/>
          </p:nvSpPr>
          <p:spPr>
            <a:xfrm>
              <a:off x="1015920" y="2338920"/>
              <a:ext cx="2342160" cy="2342160"/>
            </a:xfrm>
            <a:prstGeom prst="star5">
              <a:avLst/>
            </a:prstGeom>
            <a:solidFill>
              <a:srgbClr val="c00000"/>
            </a:soli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ern mit 5 Zacken 16"/>
            <p:cNvSpPr/>
            <p:nvPr/>
          </p:nvSpPr>
          <p:spPr>
            <a:xfrm>
              <a:off x="3486240" y="2295360"/>
              <a:ext cx="2519640" cy="2519640"/>
            </a:xfrm>
            <a:prstGeom prst="star5">
              <a:avLst/>
            </a:prstGeom>
            <a:solidFill>
              <a:srgbClr val="c00000"/>
            </a:solidFill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5"/>
          <p:cNvSpPr/>
          <p:nvPr/>
        </p:nvSpPr>
        <p:spPr>
          <a:xfrm>
            <a:off x="311040" y="3475440"/>
            <a:ext cx="13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ption 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873520" y="1769760"/>
            <a:ext cx="13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ption 5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035600" y="3358080"/>
            <a:ext cx="13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escription 2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108400" y="1769760"/>
            <a:ext cx="1368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ption 4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451640" y="3475440"/>
            <a:ext cx="13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ption 3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6:48:10Z</dcterms:modified>
  <cp:revision>2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