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d0d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~1\AppData\Local\Temp\Rar$DR01.193\Lighting (1).jpg"/>
          <p:cNvPicPr/>
          <p:nvPr/>
        </p:nvPicPr>
        <p:blipFill>
          <a:blip r:embed="rId2"/>
          <a:srcRect l="0" t="12038" r="0" b="3862"/>
          <a:stretch/>
        </p:blipFill>
        <p:spPr>
          <a:xfrm>
            <a:off x="324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0440" indent="-4604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55720" indent="-39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 lvl="2" marL="1258920" indent="-403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1604880" indent="-345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1941480" indent="-336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1941480" indent="-336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1941480" indent="-336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0"/>
          <p:cNvSpPr/>
          <p:nvPr/>
        </p:nvSpPr>
        <p:spPr>
          <a:xfrm>
            <a:off x="8359920" y="66279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673000" y="549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舞台灯光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2:40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54:34Z</dcterms:modified>
  <cp:revision>17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