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48A3-2BEF-451A-A769-A9FCDD175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CBEA-4F7A-4F98-989A-94BDE9845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D71B-980E-419A-990A-1FF973106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EA9C-767A-4744-A0C7-EDC10B85A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B187-9AD5-45EB-8425-AD188F8B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B7AC-69BE-4B3B-8C9A-B66C8A4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F71D-A4AE-4243-8BF0-80A9080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C96F4-FA1A-4373-BDFA-2B54D610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380CD-D002-4404-9958-1CED9A1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0BA23-41B2-4054-A608-A822415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126D-95FF-4685-BB12-5E022C5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B326-889A-4641-BECC-36B43A851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D63E-F6A2-43EA-A845-99E1E16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8346E-9B29-45BD-8C6E-A8B6E37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76A3-3EC0-4FC6-893E-01CE3C04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2FA7-2EDE-48A9-9E8C-B1117086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22827-5B02-46BF-84BC-98824F64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22EA-EB28-4C76-8543-0CA43B7D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1F38-4823-42CE-9D91-4246C44B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6BEC-5953-4C6F-8E59-E46352C70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D449-EBD1-4E02-BDD8-AD07250A5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40D4-6B38-4FF3-8FFD-443AD6B8A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A6A2-78DF-454B-9E30-FA929B673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8AFD-4461-4943-9F8C-B678D620C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11E-644E-4D9F-B891-F4B53B57C2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03B8-6634-4DA6-AEEC-C29609A366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background1.jpg"/>
          <p:cNvPicPr/>
          <p:nvPr/>
        </p:nvPicPr>
        <p:blipFill>
          <a:blip r:embed="rId1"/>
          <a:srcRect l="0" t="12987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1369025_233359298000_2.jpg"/>
          <p:cNvPicPr/>
          <p:nvPr/>
        </p:nvPicPr>
        <p:blipFill>
          <a:blip r:embed="rId2"/>
          <a:srcRect l="0" t="0" r="12872" b="12666"/>
          <a:stretch/>
        </p:blipFill>
        <p:spPr>
          <a:xfrm>
            <a:off x="1692360" y="914400"/>
            <a:ext cx="5422680" cy="485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0" y="530532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0200" y="507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7702-D236-43E4-A280-53DEDA3F7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6:0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6:13Z</dcterms:modified>
  <cp:revision>30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