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D88-4404-476F-9575-1F92EDCE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23C-FA41-41A0-A2FE-052BA427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4C4-BF9E-4D20-A3A6-B4389E1C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FD1-8363-4CD0-907C-896522AE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B62-5E61-4CBE-B723-2950A4BC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24A-E60F-4C52-9B20-2B6730C1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9BB-325C-468A-89D5-127D90F6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4AC-CA55-4AE3-995A-E0923E68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2FD-317D-4DB9-B98D-55A27406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9AD-FFB0-461B-8F4F-8CB24455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A40-8A07-4773-88D2-4277FB68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1DD-B2C7-419D-8B68-0726AC3B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4C3C-1AC0-490D-9534-A1BD289E5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worldfjs12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新舒体简体"/>
              </a:rPr>
              <a:t>有关青春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新舒体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新舒体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快乐很简单"/>
          <p:cNvPicPr/>
          <p:nvPr/>
        </p:nvPicPr>
        <p:blipFill>
          <a:blip r:embed="rId2"/>
          <a:stretch/>
        </p:blipFill>
        <p:spPr>
          <a:xfrm>
            <a:off x="152280" y="1295280"/>
            <a:ext cx="8839440" cy="5562720"/>
          </a:xfrm>
          <a:prstGeom prst="rect">
            <a:avLst/>
          </a:prstGeom>
          <a:ln w="0">
            <a:noFill/>
          </a:ln>
        </p:spPr>
      </p:pic>
      <p:pic>
        <p:nvPicPr>
          <p:cNvPr id="44" name="20081413315068909.mp3" descr=""/>
          <p:cNvPicPr/>
          <p:nvPr/>
        </p:nvPicPr>
        <p:blipFill>
          <a:blip r:embed="rId3"/>
          <a:stretch/>
        </p:blipFill>
        <p:spPr>
          <a:xfrm>
            <a:off x="1219320" y="533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worldfjs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kj"/>
          <p:cNvPicPr/>
          <p:nvPr/>
        </p:nvPicPr>
        <p:blipFill>
          <a:blip r:embed="rId2"/>
          <a:stretch/>
        </p:blipFill>
        <p:spPr>
          <a:xfrm>
            <a:off x="0" y="0"/>
            <a:ext cx="5029200" cy="7162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952880" y="609480"/>
            <a:ext cx="4191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离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让事情变得简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人们变得善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像个孩子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重新开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…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worldfjs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4191120" y="304920"/>
            <a:ext cx="4572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TION OF THE TIME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ffliction"/>
              </a:rPr>
              <a:t>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ffliction"/>
              </a:rPr>
              <a:t>               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ffliction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209680" y="6400800"/>
            <a:ext cx="669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92f5353d768040d2a71e12c3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57200" y="0"/>
            <a:ext cx="8236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大学 ，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有人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我们是站在青春尾巴上的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寻寻觅觅     不知所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20081210104865976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当年填涂过这么多，就是没这么干过副本"/>
          <p:cNvPicPr/>
          <p:nvPr/>
        </p:nvPicPr>
        <p:blipFill>
          <a:blip r:embed="rId2"/>
          <a:stretch/>
        </p:blipFill>
        <p:spPr>
          <a:xfrm>
            <a:off x="-304920" y="0"/>
            <a:ext cx="548640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929920" y="914400"/>
            <a:ext cx="219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当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涂过那么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你可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这样做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worldfjs24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_imgloadCA8JEXHK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941280" y="838080"/>
            <a:ext cx="2512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是谁说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我们是一个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少了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都是残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_imgloadCAAHRX8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http_imgloadCA1JON52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76560" y="0"/>
            <a:ext cx="6703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如果回忆象钢铁般坚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那么我是该微笑   还是哭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如果钢铁象记忆般腐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那这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是欢城         还是废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ttp_gfhoad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-732600" y="0"/>
            <a:ext cx="10037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那些以前说着永不分离的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早已经散落在天涯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有人说，    地球是圆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我们总会再相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方正康体简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可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你说是何年何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_imgloadCAS9YU07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0" y="527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2743200"/>
            <a:ext cx="9144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曾有一个人对我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牵着我的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闭着眼睛走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你也不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迷路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……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我也天真地相信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   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假如有一天我们不在一起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也会像在一起一样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。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可是现在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_imgloadCAKHZ9Z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127880" y="60480"/>
            <a:ext cx="35334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那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说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稚艺简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永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稚艺简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的朋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你们是不是把我遗忘在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某个角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稚艺简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4:17:4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5:02:40Z</dcterms:modified>
  <cp:revision>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