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1364-FED7-4020-825C-10F929DDD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667F-D99E-4548-A0F5-9396FE93A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73BF-F1DB-4ABF-867C-9A106F128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FB4D-2027-4278-804B-1A1717DEA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8042-9758-402F-B161-C310ACA5A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E61E-2FAE-4F5E-BEB9-0BB5508A2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DC2C-4F77-4C3A-8DBF-81C540CA6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3C13-6A1E-4B4A-A60F-F8A4A04EB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E512-1B82-479E-BA88-57B2D98E5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9B3A-4C3F-4C65-A203-F4A7D07BB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B917-F45A-465E-B724-0ED74CEF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7DF0-321A-4AF5-B430-E8848AB6F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41111-42D6-4A37-9A68-A63B44EDF20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A741A-B21E-4C95-8C50-321973C4FB5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06680" y="566640"/>
          <a:ext cx="1600200" cy="244440"/>
        </p:xfrm>
        <a:graphic>
          <a:graphicData uri="http://schemas.openxmlformats.org/drawingml/2006/table">
            <a:tbl>
              <a:tblPr/>
              <a:tblGrid>
                <a:gridCol w="1600200"/>
              </a:tblGrid>
              <a:tr h="244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114480" y="63770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796840" y="10944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演讲学术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DFA6-3A60-4224-B068-3F23AB6F2EA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5T01:30:42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