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2011\建党90年\未标题-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2"/>
          <p:cNvSpPr/>
          <p:nvPr/>
        </p:nvSpPr>
        <p:spPr>
          <a:xfrm>
            <a:off x="7733880" y="54687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E:\2011\建党90年\未标题-2.png"/>
          <p:cNvPicPr/>
          <p:nvPr/>
        </p:nvPicPr>
        <p:blipFill>
          <a:blip r:embed="rId1"/>
          <a:srcRect l="0" t="0" r="60610" b="53669"/>
          <a:stretch/>
        </p:blipFill>
        <p:spPr>
          <a:xfrm>
            <a:off x="-7920" y="0"/>
            <a:ext cx="3598920" cy="264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2011\建党90年\未标题-1.png"/>
          <p:cNvPicPr/>
          <p:nvPr/>
        </p:nvPicPr>
        <p:blipFill>
          <a:blip r:embed="rId2"/>
          <a:srcRect l="3350" t="23169" r="63945" b="25002"/>
          <a:stretch/>
        </p:blipFill>
        <p:spPr>
          <a:xfrm>
            <a:off x="295200" y="1324080"/>
            <a:ext cx="2990880" cy="296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E:\2011\建党90年\未标题-4.png"/>
          <p:cNvPicPr/>
          <p:nvPr/>
        </p:nvPicPr>
        <p:blipFill>
          <a:blip r:embed="rId3"/>
          <a:srcRect l="0" t="63502" r="0" b="0"/>
          <a:stretch/>
        </p:blipFill>
        <p:spPr>
          <a:xfrm>
            <a:off x="-7920" y="3629160"/>
            <a:ext cx="9151920" cy="208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:\2011\建党90年\未标题-5.png"/>
          <p:cNvPicPr/>
          <p:nvPr/>
        </p:nvPicPr>
        <p:blipFill>
          <a:blip r:embed="rId4"/>
          <a:srcRect l="0" t="30003" r="60713" b="40000"/>
          <a:stretch/>
        </p:blipFill>
        <p:spPr>
          <a:xfrm>
            <a:off x="-7920" y="1714680"/>
            <a:ext cx="3589200" cy="1714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5"/>
          <p:cNvSpPr/>
          <p:nvPr/>
        </p:nvSpPr>
        <p:spPr>
          <a:xfrm>
            <a:off x="3467160" y="297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6880" y="3380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政党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12"/>
          <p:cNvSpPr/>
          <p:nvPr/>
        </p:nvSpPr>
        <p:spPr>
          <a:xfrm>
            <a:off x="231480" y="526896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E:\2011\建党90年\未标题-2.png"/>
          <p:cNvPicPr/>
          <p:nvPr/>
        </p:nvPicPr>
        <p:blipFill>
          <a:blip r:embed="rId1"/>
          <a:srcRect l="0" t="0" r="60610" b="53669"/>
          <a:stretch/>
        </p:blipFill>
        <p:spPr>
          <a:xfrm>
            <a:off x="-7920" y="0"/>
            <a:ext cx="3598920" cy="2647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E:\2011\建党90年\未标题-3.png"/>
          <p:cNvPicPr/>
          <p:nvPr/>
        </p:nvPicPr>
        <p:blipFill>
          <a:blip r:embed="rId2"/>
          <a:stretch/>
        </p:blipFill>
        <p:spPr>
          <a:xfrm>
            <a:off x="-7920" y="0"/>
            <a:ext cx="9140760" cy="5715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E:\2011\建党90年\未标题-1.png"/>
          <p:cNvPicPr/>
          <p:nvPr/>
        </p:nvPicPr>
        <p:blipFill>
          <a:blip r:embed="rId3"/>
          <a:srcRect l="3350" t="23169" r="63945" b="25002"/>
          <a:stretch/>
        </p:blipFill>
        <p:spPr>
          <a:xfrm>
            <a:off x="295200" y="1324080"/>
            <a:ext cx="2990880" cy="2962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E:\2011\建党90年\未标题-4.png"/>
          <p:cNvPicPr/>
          <p:nvPr/>
        </p:nvPicPr>
        <p:blipFill>
          <a:blip r:embed="rId4"/>
          <a:srcRect l="0" t="63502" r="0" b="0"/>
          <a:stretch/>
        </p:blipFill>
        <p:spPr>
          <a:xfrm>
            <a:off x="-7920" y="3629160"/>
            <a:ext cx="9140760" cy="2085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E:\2011\建党90年\未标题-5.png"/>
          <p:cNvPicPr/>
          <p:nvPr/>
        </p:nvPicPr>
        <p:blipFill>
          <a:blip r:embed="rId5"/>
          <a:srcRect l="0" t="30003" r="60713" b="40000"/>
          <a:stretch/>
        </p:blipFill>
        <p:spPr>
          <a:xfrm>
            <a:off x="-7920" y="1714680"/>
            <a:ext cx="3589200" cy="171432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14" descr=""/>
          <p:cNvPicPr/>
          <p:nvPr/>
        </p:nvPicPr>
        <p:blipFill>
          <a:blip r:embed="rId6"/>
          <a:stretch/>
        </p:blipFill>
        <p:spPr>
          <a:xfrm>
            <a:off x="3157560" y="719280"/>
            <a:ext cx="2998800" cy="9334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6"/>
          <p:cNvSpPr/>
          <p:nvPr/>
        </p:nvSpPr>
        <p:spPr>
          <a:xfrm>
            <a:off x="3465000" y="39996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3"/>
          <p:cNvSpPr/>
          <p:nvPr/>
        </p:nvSpPr>
        <p:spPr>
          <a:xfrm>
            <a:off x="7523280" y="8244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809640" y="157176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914400" y="1428840"/>
            <a:ext cx="7315200" cy="2378160"/>
          </a:xfrm>
          <a:prstGeom prst="rect">
            <a:avLst/>
          </a:prstGeom>
          <a:solidFill>
            <a:srgbClr val="ff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081080" y="1787400"/>
            <a:ext cx="69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3"/>
          <p:cNvSpPr/>
          <p:nvPr/>
        </p:nvSpPr>
        <p:spPr>
          <a:xfrm>
            <a:off x="7523280" y="8244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290600" y="1214280"/>
            <a:ext cx="6562800" cy="546120"/>
            <a:chOff x="1290600" y="1214280"/>
            <a:chExt cx="6562800" cy="546120"/>
          </a:xfrm>
        </p:grpSpPr>
        <p:sp>
          <p:nvSpPr>
            <p:cNvPr id="92" name="AutoShape 3"/>
            <p:cNvSpPr/>
            <p:nvPr/>
          </p:nvSpPr>
          <p:spPr>
            <a:xfrm>
              <a:off x="1290600" y="140616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1354680" y="121428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151440" y="129960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7"/>
          <p:cNvGrpSpPr/>
          <p:nvPr/>
        </p:nvGrpSpPr>
        <p:grpSpPr>
          <a:xfrm>
            <a:off x="1290600" y="2085840"/>
            <a:ext cx="6562800" cy="546120"/>
            <a:chOff x="1290600" y="2085840"/>
            <a:chExt cx="6562800" cy="546120"/>
          </a:xfrm>
        </p:grpSpPr>
        <p:grpSp>
          <p:nvGrpSpPr>
            <p:cNvPr id="96" name="Group 8"/>
            <p:cNvGrpSpPr/>
            <p:nvPr/>
          </p:nvGrpSpPr>
          <p:grpSpPr>
            <a:xfrm>
              <a:off x="1290600" y="2085840"/>
              <a:ext cx="6562800" cy="546120"/>
              <a:chOff x="1290600" y="2085840"/>
              <a:chExt cx="6562800" cy="546120"/>
            </a:xfrm>
          </p:grpSpPr>
          <p:sp>
            <p:nvSpPr>
              <p:cNvPr id="97" name="AutoShape 3"/>
              <p:cNvSpPr/>
              <p:nvPr/>
            </p:nvSpPr>
            <p:spPr>
              <a:xfrm>
                <a:off x="1290600" y="227772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"/>
              <p:cNvSpPr/>
              <p:nvPr/>
            </p:nvSpPr>
            <p:spPr>
              <a:xfrm>
                <a:off x="1355400" y="2085840"/>
                <a:ext cx="6432840" cy="482760"/>
              </a:xfrm>
              <a:prstGeom prst="rect">
                <a:avLst/>
              </a:prstGeom>
              <a:solidFill>
                <a:srgbClr val="ffc000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3"/>
            <p:cNvSpPr/>
            <p:nvPr/>
          </p:nvSpPr>
          <p:spPr>
            <a:xfrm>
              <a:off x="3151440" y="217116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1290600" y="2959200"/>
            <a:ext cx="6562800" cy="546120"/>
            <a:chOff x="1290600" y="2959200"/>
            <a:chExt cx="6562800" cy="546120"/>
          </a:xfrm>
        </p:grpSpPr>
        <p:sp>
          <p:nvSpPr>
            <p:cNvPr id="101" name="AutoShape 3"/>
            <p:cNvSpPr/>
            <p:nvPr/>
          </p:nvSpPr>
          <p:spPr>
            <a:xfrm>
              <a:off x="1290600" y="315108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"/>
            <p:cNvSpPr/>
            <p:nvPr/>
          </p:nvSpPr>
          <p:spPr>
            <a:xfrm>
              <a:off x="1354680" y="295920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151440" y="30445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1290600" y="3830760"/>
            <a:ext cx="6562800" cy="546120"/>
            <a:chOff x="1290600" y="3830760"/>
            <a:chExt cx="6562800" cy="546120"/>
          </a:xfrm>
        </p:grpSpPr>
        <p:grpSp>
          <p:nvGrpSpPr>
            <p:cNvPr id="105" name="Group 17"/>
            <p:cNvGrpSpPr/>
            <p:nvPr/>
          </p:nvGrpSpPr>
          <p:grpSpPr>
            <a:xfrm>
              <a:off x="1290600" y="3830760"/>
              <a:ext cx="6562800" cy="546120"/>
              <a:chOff x="1290600" y="3830760"/>
              <a:chExt cx="6562800" cy="546120"/>
            </a:xfrm>
          </p:grpSpPr>
          <p:sp>
            <p:nvSpPr>
              <p:cNvPr id="106" name="AutoShape 3"/>
              <p:cNvSpPr/>
              <p:nvPr/>
            </p:nvSpPr>
            <p:spPr>
              <a:xfrm>
                <a:off x="1290600" y="402264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3"/>
              <p:cNvSpPr/>
              <p:nvPr/>
            </p:nvSpPr>
            <p:spPr>
              <a:xfrm>
                <a:off x="1355400" y="3830760"/>
                <a:ext cx="6432840" cy="482760"/>
              </a:xfrm>
              <a:prstGeom prst="rect">
                <a:avLst/>
              </a:prstGeom>
              <a:solidFill>
                <a:srgbClr val="ffc000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13"/>
            <p:cNvSpPr/>
            <p:nvPr/>
          </p:nvSpPr>
          <p:spPr>
            <a:xfrm>
              <a:off x="3151440" y="39160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34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3"/>
          <p:cNvSpPr/>
          <p:nvPr/>
        </p:nvSpPr>
        <p:spPr>
          <a:xfrm>
            <a:off x="7523280" y="82440"/>
            <a:ext cx="151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290600" y="2473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1355760" y="2281320"/>
            <a:ext cx="6432480" cy="48240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3151080" y="2367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3"/>
          <p:cNvSpPr/>
          <p:nvPr/>
        </p:nvSpPr>
        <p:spPr>
          <a:xfrm>
            <a:off x="5157720" y="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357200" y="1071720"/>
            <a:ext cx="1036800" cy="1036440"/>
            <a:chOff x="1357200" y="1071720"/>
            <a:chExt cx="1036800" cy="1036440"/>
          </a:xfrm>
        </p:grpSpPr>
        <p:sp>
          <p:nvSpPr>
            <p:cNvPr id="117" name="空心弧 43"/>
            <p:cNvSpPr/>
            <p:nvPr/>
          </p:nvSpPr>
          <p:spPr>
            <a:xfrm>
              <a:off x="135720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036799" y="519147"/>
                  </a:moveTo>
                  <a:lnTo>
                    <a:pt x="1036799" y="519147"/>
                  </a:lnTo>
                  <a:cubicBezTo>
                    <a:pt x="1036387" y="805159"/>
                    <a:pt x="804412" y="1036800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0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6" y="660521"/>
                    <a:pt x="376278" y="775734"/>
                    <a:pt x="518400" y="775734"/>
                  </a:cubicBezTo>
                  <a:cubicBezTo>
                    <a:pt x="660376" y="775734"/>
                    <a:pt x="775529" y="660747"/>
                    <a:pt x="775733" y="518770"/>
                  </a:cubicBezTo>
                  <a:lnTo>
                    <a:pt x="1036799" y="51914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空心弧 44"/>
            <p:cNvSpPr/>
            <p:nvPr/>
          </p:nvSpPr>
          <p:spPr>
            <a:xfrm>
              <a:off x="1357200" y="107172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518400"/>
                    <a:pt x="1036799" y="518400"/>
                    <a:pt x="1036799" y="518401"/>
                  </a:cubicBezTo>
                  <a:lnTo>
                    <a:pt x="777600" y="518400"/>
                  </a:lnTo>
                  <a:cubicBezTo>
                    <a:pt x="777600" y="375488"/>
                    <a:pt x="661927" y="259540"/>
                    <a:pt x="519017" y="259200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1589040" y="14223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3154320" y="1071720"/>
            <a:ext cx="1036800" cy="1036440"/>
            <a:chOff x="3154320" y="1071720"/>
            <a:chExt cx="1036800" cy="1036440"/>
          </a:xfrm>
        </p:grpSpPr>
        <p:sp>
          <p:nvSpPr>
            <p:cNvPr id="121" name="空心弧 47"/>
            <p:cNvSpPr/>
            <p:nvPr/>
          </p:nvSpPr>
          <p:spPr>
            <a:xfrm>
              <a:off x="315432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7906" y="1036800"/>
                  </a:moveTo>
                  <a:lnTo>
                    <a:pt x="517906" y="1036799"/>
                  </a:lnTo>
                  <a:cubicBezTo>
                    <a:pt x="231794" y="1036527"/>
                    <a:pt x="0" y="804511"/>
                    <a:pt x="0" y="518400"/>
                  </a:cubicBezTo>
                  <a:cubicBezTo>
                    <a:pt x="0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6" y="660425"/>
                    <a:pt x="376129" y="775598"/>
                    <a:pt x="518155" y="775733"/>
                  </a:cubicBezTo>
                  <a:lnTo>
                    <a:pt x="517906" y="10368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48"/>
            <p:cNvSpPr/>
            <p:nvPr/>
          </p:nvSpPr>
          <p:spPr>
            <a:xfrm>
              <a:off x="3154320" y="107172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007"/>
                    <a:pt x="805790" y="1035813"/>
                    <a:pt x="520185" y="1036796"/>
                  </a:cubicBezTo>
                  <a:lnTo>
                    <a:pt x="519282" y="774436"/>
                  </a:lnTo>
                  <a:cubicBezTo>
                    <a:pt x="660342" y="773950"/>
                    <a:pt x="774438" y="659461"/>
                    <a:pt x="774438" y="518400"/>
                  </a:cubicBezTo>
                  <a:cubicBezTo>
                    <a:pt x="774438" y="377232"/>
                    <a:pt x="660177" y="262699"/>
                    <a:pt x="519009" y="262362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3386160" y="14223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4952880" y="1071720"/>
            <a:ext cx="1036800" cy="1036440"/>
            <a:chOff x="4952880" y="1071720"/>
            <a:chExt cx="1036800" cy="1036440"/>
          </a:xfrm>
        </p:grpSpPr>
        <p:sp>
          <p:nvSpPr>
            <p:cNvPr id="125" name="空心弧 51"/>
            <p:cNvSpPr/>
            <p:nvPr/>
          </p:nvSpPr>
          <p:spPr>
            <a:xfrm>
              <a:off x="495288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1" y="519500"/>
                  </a:moveTo>
                  <a:lnTo>
                    <a:pt x="1" y="519499"/>
                  </a:lnTo>
                  <a:cubicBezTo>
                    <a:pt x="0" y="519133"/>
                    <a:pt x="0" y="518766"/>
                    <a:pt x="0" y="518400"/>
                  </a:cubicBezTo>
                  <a:cubicBezTo>
                    <a:pt x="0" y="232171"/>
                    <a:pt x="231977" y="107"/>
                    <a:pt x="518206" y="0"/>
                  </a:cubicBezTo>
                  <a:lnTo>
                    <a:pt x="518304" y="261066"/>
                  </a:lnTo>
                  <a:cubicBezTo>
                    <a:pt x="376219" y="261119"/>
                    <a:pt x="261066" y="376315"/>
                    <a:pt x="261066" y="518399"/>
                  </a:cubicBezTo>
                  <a:cubicBezTo>
                    <a:pt x="261066" y="518582"/>
                    <a:pt x="261066" y="518764"/>
                    <a:pt x="261066" y="518946"/>
                  </a:cubicBezTo>
                  <a:lnTo>
                    <a:pt x="1" y="51950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空心弧 52"/>
            <p:cNvSpPr/>
            <p:nvPr/>
          </p:nvSpPr>
          <p:spPr>
            <a:xfrm>
              <a:off x="495288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519636" y="1"/>
                  </a:moveTo>
                  <a:lnTo>
                    <a:pt x="519635" y="1"/>
                  </a:lnTo>
                  <a:cubicBezTo>
                    <a:pt x="805457" y="682"/>
                    <a:pt x="1036800" y="232578"/>
                    <a:pt x="1036800" y="518400"/>
                  </a:cubicBezTo>
                  <a:cubicBezTo>
                    <a:pt x="1036800" y="804704"/>
                    <a:pt x="804704" y="1036800"/>
                    <a:pt x="518400" y="1036800"/>
                  </a:cubicBezTo>
                  <a:cubicBezTo>
                    <a:pt x="232095" y="1036800"/>
                    <a:pt x="0" y="804704"/>
                    <a:pt x="0" y="518400"/>
                  </a:cubicBezTo>
                  <a:cubicBezTo>
                    <a:pt x="0" y="518399"/>
                    <a:pt x="0" y="518398"/>
                    <a:pt x="0" y="518398"/>
                  </a:cubicBezTo>
                  <a:lnTo>
                    <a:pt x="260963" y="518400"/>
                  </a:lnTo>
                  <a:cubicBezTo>
                    <a:pt x="260963" y="660578"/>
                    <a:pt x="376221" y="775837"/>
                    <a:pt x="518400" y="775837"/>
                  </a:cubicBezTo>
                  <a:cubicBezTo>
                    <a:pt x="660578" y="775837"/>
                    <a:pt x="775837" y="660578"/>
                    <a:pt x="775837" y="518400"/>
                  </a:cubicBezTo>
                  <a:cubicBezTo>
                    <a:pt x="775837" y="376460"/>
                    <a:pt x="660951" y="261301"/>
                    <a:pt x="519013" y="260963"/>
                  </a:cubicBezTo>
                  <a:lnTo>
                    <a:pt x="519636" y="1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184720" y="14223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6750000" y="1071720"/>
            <a:ext cx="1036800" cy="1036440"/>
            <a:chOff x="6750000" y="1071720"/>
            <a:chExt cx="1036800" cy="1036440"/>
          </a:xfrm>
        </p:grpSpPr>
        <p:sp>
          <p:nvSpPr>
            <p:cNvPr id="129" name="同心圆 55"/>
            <p:cNvSpPr/>
            <p:nvPr/>
          </p:nvSpPr>
          <p:spPr>
            <a:xfrm>
              <a:off x="6750000" y="107172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800" h="1036800">
                  <a:moveTo>
                    <a:pt x="0" y="518400"/>
                  </a:moveTo>
                  <a:lnTo>
                    <a:pt x="0" y="518400"/>
                  </a:lnTo>
                  <a:cubicBezTo>
                    <a:pt x="0" y="232095"/>
                    <a:pt x="232095" y="1"/>
                    <a:pt x="518400" y="1"/>
                  </a:cubicBezTo>
                  <a:cubicBezTo>
                    <a:pt x="518400" y="1"/>
                    <a:pt x="518400" y="1"/>
                    <a:pt x="518400" y="1"/>
                  </a:cubicBezTo>
                  <a:cubicBezTo>
                    <a:pt x="804705" y="1"/>
                    <a:pt x="1036800" y="232096"/>
                    <a:pt x="1036800" y="518401"/>
                  </a:cubicBezTo>
                  <a:cubicBezTo>
                    <a:pt x="1036800" y="518401"/>
                    <a:pt x="1036799" y="518401"/>
                    <a:pt x="1036799" y="518402"/>
                  </a:cubicBezTo>
                  <a:lnTo>
                    <a:pt x="1036800" y="518402"/>
                  </a:lnTo>
                  <a:cubicBezTo>
                    <a:pt x="1036800" y="804706"/>
                    <a:pt x="804704" y="1036802"/>
                    <a:pt x="518400" y="1036802"/>
                  </a:cubicBezTo>
                  <a:cubicBezTo>
                    <a:pt x="232095" y="1036802"/>
                    <a:pt x="0" y="804706"/>
                    <a:pt x="0" y="518402"/>
                  </a:cubicBezTo>
                  <a:cubicBezTo>
                    <a:pt x="0" y="518401"/>
                    <a:pt x="0" y="518401"/>
                    <a:pt x="0" y="518401"/>
                  </a:cubicBezTo>
                  <a:lnTo>
                    <a:pt x="0" y="518400"/>
                  </a:lnTo>
                  <a:close/>
                  <a:moveTo>
                    <a:pt x="259200" y="518400"/>
                  </a:moveTo>
                  <a:lnTo>
                    <a:pt x="259200" y="518400"/>
                  </a:lnTo>
                  <a:cubicBezTo>
                    <a:pt x="259200" y="661552"/>
                    <a:pt x="375247" y="777600"/>
                    <a:pt x="518400" y="777600"/>
                  </a:cubicBezTo>
                  <a:cubicBezTo>
                    <a:pt x="661552" y="777600"/>
                    <a:pt x="777600" y="661552"/>
                    <a:pt x="777600" y="518400"/>
                  </a:cubicBezTo>
                  <a:cubicBezTo>
                    <a:pt x="777600" y="375247"/>
                    <a:pt x="661552" y="259200"/>
                    <a:pt x="518400" y="259200"/>
                  </a:cubicBezTo>
                  <a:lnTo>
                    <a:pt x="518399" y="259200"/>
                  </a:lnTo>
                  <a:cubicBezTo>
                    <a:pt x="375247" y="259200"/>
                    <a:pt x="259200" y="375247"/>
                    <a:pt x="259200" y="518399"/>
                  </a:cubicBezTo>
                  <a:lnTo>
                    <a:pt x="259200" y="51840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81840" y="14223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8"/>
          <p:cNvGrpSpPr/>
          <p:nvPr/>
        </p:nvGrpSpPr>
        <p:grpSpPr>
          <a:xfrm>
            <a:off x="1616040" y="2154240"/>
            <a:ext cx="519120" cy="347760"/>
            <a:chOff x="1616040" y="2154240"/>
            <a:chExt cx="519120" cy="347760"/>
          </a:xfrm>
        </p:grpSpPr>
        <p:sp>
          <p:nvSpPr>
            <p:cNvPr id="132" name="燕尾形 58"/>
            <p:cNvSpPr/>
            <p:nvPr/>
          </p:nvSpPr>
          <p:spPr>
            <a:xfrm rot="5400000">
              <a:off x="17776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59"/>
            <p:cNvSpPr/>
            <p:nvPr/>
          </p:nvSpPr>
          <p:spPr>
            <a:xfrm rot="5400000">
              <a:off x="17776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1"/>
          <p:cNvGrpSpPr/>
          <p:nvPr/>
        </p:nvGrpSpPr>
        <p:grpSpPr>
          <a:xfrm>
            <a:off x="3414600" y="2154240"/>
            <a:ext cx="517680" cy="347760"/>
            <a:chOff x="3414600" y="2154240"/>
            <a:chExt cx="517680" cy="347760"/>
          </a:xfrm>
        </p:grpSpPr>
        <p:sp>
          <p:nvSpPr>
            <p:cNvPr id="135" name="燕尾形 61"/>
            <p:cNvSpPr/>
            <p:nvPr/>
          </p:nvSpPr>
          <p:spPr>
            <a:xfrm rot="5400000">
              <a:off x="357552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62"/>
            <p:cNvSpPr/>
            <p:nvPr/>
          </p:nvSpPr>
          <p:spPr>
            <a:xfrm rot="5400000">
              <a:off x="357552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4"/>
          <p:cNvGrpSpPr/>
          <p:nvPr/>
        </p:nvGrpSpPr>
        <p:grpSpPr>
          <a:xfrm>
            <a:off x="5211720" y="2154240"/>
            <a:ext cx="517680" cy="347760"/>
            <a:chOff x="5211720" y="2154240"/>
            <a:chExt cx="517680" cy="347760"/>
          </a:xfrm>
        </p:grpSpPr>
        <p:sp>
          <p:nvSpPr>
            <p:cNvPr id="138" name="燕尾形 64"/>
            <p:cNvSpPr/>
            <p:nvPr/>
          </p:nvSpPr>
          <p:spPr>
            <a:xfrm rot="5400000">
              <a:off x="537264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65"/>
            <p:cNvSpPr/>
            <p:nvPr/>
          </p:nvSpPr>
          <p:spPr>
            <a:xfrm rot="5400000">
              <a:off x="537264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7008840" y="2154240"/>
            <a:ext cx="519120" cy="347760"/>
            <a:chOff x="7008840" y="2154240"/>
            <a:chExt cx="519120" cy="347760"/>
          </a:xfrm>
        </p:grpSpPr>
        <p:sp>
          <p:nvSpPr>
            <p:cNvPr id="141" name="燕尾形 67"/>
            <p:cNvSpPr/>
            <p:nvPr/>
          </p:nvSpPr>
          <p:spPr>
            <a:xfrm rot="5400000">
              <a:off x="71704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燕尾形 68"/>
            <p:cNvSpPr/>
            <p:nvPr/>
          </p:nvSpPr>
          <p:spPr>
            <a:xfrm rot="5400000">
              <a:off x="71704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0"/>
          <p:cNvGrpSpPr/>
          <p:nvPr/>
        </p:nvGrpSpPr>
        <p:grpSpPr>
          <a:xfrm>
            <a:off x="1033560" y="2595600"/>
            <a:ext cx="1684080" cy="2428920"/>
            <a:chOff x="1033560" y="2595600"/>
            <a:chExt cx="1684080" cy="2428920"/>
          </a:xfrm>
        </p:grpSpPr>
        <p:sp>
          <p:nvSpPr>
            <p:cNvPr id="144" name="矩形 70"/>
            <p:cNvSpPr/>
            <p:nvPr/>
          </p:nvSpPr>
          <p:spPr>
            <a:xfrm>
              <a:off x="10335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10555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72"/>
            <p:cNvSpPr/>
            <p:nvPr/>
          </p:nvSpPr>
          <p:spPr>
            <a:xfrm>
              <a:off x="10983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106524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5"/>
          <p:cNvGrpSpPr/>
          <p:nvPr/>
        </p:nvGrpSpPr>
        <p:grpSpPr>
          <a:xfrm>
            <a:off x="2830680" y="2595600"/>
            <a:ext cx="1684080" cy="2428920"/>
            <a:chOff x="2830680" y="2595600"/>
            <a:chExt cx="1684080" cy="2428920"/>
          </a:xfrm>
        </p:grpSpPr>
        <p:sp>
          <p:nvSpPr>
            <p:cNvPr id="149" name="矩形 75"/>
            <p:cNvSpPr/>
            <p:nvPr/>
          </p:nvSpPr>
          <p:spPr>
            <a:xfrm>
              <a:off x="283068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85264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77"/>
            <p:cNvSpPr/>
            <p:nvPr/>
          </p:nvSpPr>
          <p:spPr>
            <a:xfrm>
              <a:off x="289548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86236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40"/>
          <p:cNvGrpSpPr/>
          <p:nvPr/>
        </p:nvGrpSpPr>
        <p:grpSpPr>
          <a:xfrm>
            <a:off x="4629240" y="2595600"/>
            <a:ext cx="1684080" cy="2428920"/>
            <a:chOff x="4629240" y="2595600"/>
            <a:chExt cx="1684080" cy="2428920"/>
          </a:xfrm>
        </p:grpSpPr>
        <p:sp>
          <p:nvSpPr>
            <p:cNvPr id="154" name="矩形 80"/>
            <p:cNvSpPr/>
            <p:nvPr/>
          </p:nvSpPr>
          <p:spPr>
            <a:xfrm>
              <a:off x="462924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65120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82"/>
            <p:cNvSpPr/>
            <p:nvPr/>
          </p:nvSpPr>
          <p:spPr>
            <a:xfrm>
              <a:off x="469404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66092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45"/>
          <p:cNvGrpSpPr/>
          <p:nvPr/>
        </p:nvGrpSpPr>
        <p:grpSpPr>
          <a:xfrm>
            <a:off x="6426360" y="2595600"/>
            <a:ext cx="1684080" cy="2428920"/>
            <a:chOff x="6426360" y="2595600"/>
            <a:chExt cx="1684080" cy="2428920"/>
          </a:xfrm>
        </p:grpSpPr>
        <p:sp>
          <p:nvSpPr>
            <p:cNvPr id="159" name="矩形 85"/>
            <p:cNvSpPr/>
            <p:nvPr/>
          </p:nvSpPr>
          <p:spPr>
            <a:xfrm>
              <a:off x="64263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4483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87"/>
            <p:cNvSpPr/>
            <p:nvPr/>
          </p:nvSpPr>
          <p:spPr>
            <a:xfrm>
              <a:off x="64911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458040" y="27223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89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3"/>
          <p:cNvSpPr/>
          <p:nvPr/>
        </p:nvSpPr>
        <p:spPr>
          <a:xfrm>
            <a:off x="5157720" y="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grpSp>
          <p:nvGrpSpPr>
            <p:cNvPr id="166" name="Group 4"/>
            <p:cNvGrpSpPr/>
            <p:nvPr/>
          </p:nvGrpSpPr>
          <p:grpSpPr>
            <a:xfrm>
              <a:off x="1222200" y="1373040"/>
              <a:ext cx="2754360" cy="2754360"/>
              <a:chOff x="1222200" y="1373040"/>
              <a:chExt cx="2754360" cy="2754360"/>
            </a:xfrm>
          </p:grpSpPr>
          <p:sp>
            <p:nvSpPr>
              <p:cNvPr id="167" name="椭圆 31"/>
              <p:cNvSpPr/>
              <p:nvPr/>
            </p:nvSpPr>
            <p:spPr>
              <a:xfrm>
                <a:off x="1222200" y="13730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32"/>
              <p:cNvSpPr/>
              <p:nvPr/>
            </p:nvSpPr>
            <p:spPr>
              <a:xfrm>
                <a:off x="1433160" y="15840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13"/>
            <p:cNvSpPr/>
            <p:nvPr/>
          </p:nvSpPr>
          <p:spPr>
            <a:xfrm>
              <a:off x="1912680" y="23968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3549600" y="1393920"/>
            <a:ext cx="4372200" cy="388800"/>
            <a:chOff x="3549600" y="1393920"/>
            <a:chExt cx="4372200" cy="388800"/>
          </a:xfrm>
        </p:grpSpPr>
        <p:sp>
          <p:nvSpPr>
            <p:cNvPr id="171" name="矩形 6"/>
            <p:cNvSpPr/>
            <p:nvPr/>
          </p:nvSpPr>
          <p:spPr>
            <a:xfrm>
              <a:off x="3549600" y="1393920"/>
              <a:ext cx="4372200" cy="3888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6"/>
            <p:cNvSpPr/>
            <p:nvPr/>
          </p:nvSpPr>
          <p:spPr>
            <a:xfrm>
              <a:off x="3742200" y="141876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146"/>
          <p:cNvSpPr/>
          <p:nvPr/>
        </p:nvSpPr>
        <p:spPr>
          <a:xfrm>
            <a:off x="3889440" y="183528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2"/>
          <p:cNvGrpSpPr/>
          <p:nvPr/>
        </p:nvGrpSpPr>
        <p:grpSpPr>
          <a:xfrm>
            <a:off x="4192560" y="2558880"/>
            <a:ext cx="3729240" cy="389160"/>
            <a:chOff x="4192560" y="2558880"/>
            <a:chExt cx="3729240" cy="389160"/>
          </a:xfrm>
        </p:grpSpPr>
        <p:sp>
          <p:nvSpPr>
            <p:cNvPr id="175" name="矩形 38"/>
            <p:cNvSpPr/>
            <p:nvPr/>
          </p:nvSpPr>
          <p:spPr>
            <a:xfrm>
              <a:off x="4192560" y="255888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46"/>
            <p:cNvSpPr/>
            <p:nvPr/>
          </p:nvSpPr>
          <p:spPr>
            <a:xfrm>
              <a:off x="4448160" y="25837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46"/>
          <p:cNvSpPr/>
          <p:nvPr/>
        </p:nvSpPr>
        <p:spPr>
          <a:xfrm>
            <a:off x="4257720" y="2997360"/>
            <a:ext cx="36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6"/>
          <p:cNvGrpSpPr/>
          <p:nvPr/>
        </p:nvGrpSpPr>
        <p:grpSpPr>
          <a:xfrm>
            <a:off x="3549600" y="3730680"/>
            <a:ext cx="4372200" cy="388800"/>
            <a:chOff x="3549600" y="3730680"/>
            <a:chExt cx="4372200" cy="388800"/>
          </a:xfrm>
        </p:grpSpPr>
        <p:sp>
          <p:nvSpPr>
            <p:cNvPr id="179" name="矩形 42"/>
            <p:cNvSpPr/>
            <p:nvPr/>
          </p:nvSpPr>
          <p:spPr>
            <a:xfrm>
              <a:off x="3549600" y="373068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6"/>
            <p:cNvSpPr/>
            <p:nvPr/>
          </p:nvSpPr>
          <p:spPr>
            <a:xfrm>
              <a:off x="3742200" y="37555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46"/>
          <p:cNvSpPr/>
          <p:nvPr/>
        </p:nvSpPr>
        <p:spPr>
          <a:xfrm>
            <a:off x="3743280" y="4176720"/>
            <a:ext cx="40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2873520" y="1214280"/>
            <a:ext cx="747720" cy="741600"/>
            <a:chOff x="2873520" y="1214280"/>
            <a:chExt cx="747720" cy="741600"/>
          </a:xfrm>
        </p:grpSpPr>
        <p:grpSp>
          <p:nvGrpSpPr>
            <p:cNvPr id="183" name="Group 21"/>
            <p:cNvGrpSpPr/>
            <p:nvPr/>
          </p:nvGrpSpPr>
          <p:grpSpPr>
            <a:xfrm>
              <a:off x="2876400" y="1214280"/>
              <a:ext cx="741600" cy="741600"/>
              <a:chOff x="2876400" y="1214280"/>
              <a:chExt cx="741600" cy="741600"/>
            </a:xfrm>
          </p:grpSpPr>
          <p:sp>
            <p:nvSpPr>
              <p:cNvPr id="184" name="椭圆 11"/>
              <p:cNvSpPr/>
              <p:nvPr/>
            </p:nvSpPr>
            <p:spPr>
              <a:xfrm>
                <a:off x="2876400" y="121428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2"/>
              <p:cNvSpPr/>
              <p:nvPr/>
            </p:nvSpPr>
            <p:spPr>
              <a:xfrm>
                <a:off x="2922840" y="1260720"/>
                <a:ext cx="648720" cy="648720"/>
              </a:xfrm>
              <a:prstGeom prst="ellipse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3"/>
            <p:cNvSpPr/>
            <p:nvPr/>
          </p:nvSpPr>
          <p:spPr>
            <a:xfrm>
              <a:off x="2873520" y="1384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3581280" y="2381400"/>
            <a:ext cx="747720" cy="739800"/>
            <a:chOff x="3581280" y="2381400"/>
            <a:chExt cx="747720" cy="739800"/>
          </a:xfrm>
        </p:grpSpPr>
        <p:grpSp>
          <p:nvGrpSpPr>
            <p:cNvPr id="188" name="Group 26"/>
            <p:cNvGrpSpPr/>
            <p:nvPr/>
          </p:nvGrpSpPr>
          <p:grpSpPr>
            <a:xfrm>
              <a:off x="3584880" y="2381400"/>
              <a:ext cx="740520" cy="739800"/>
              <a:chOff x="3584880" y="2381400"/>
              <a:chExt cx="740520" cy="739800"/>
            </a:xfrm>
          </p:grpSpPr>
          <p:sp>
            <p:nvSpPr>
              <p:cNvPr id="189" name="椭圆 8"/>
              <p:cNvSpPr/>
              <p:nvPr/>
            </p:nvSpPr>
            <p:spPr>
              <a:xfrm>
                <a:off x="3584880" y="2381400"/>
                <a:ext cx="74052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54"/>
              <p:cNvSpPr/>
              <p:nvPr/>
            </p:nvSpPr>
            <p:spPr>
              <a:xfrm>
                <a:off x="3630240" y="2427120"/>
                <a:ext cx="64944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581280" y="2551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0"/>
          <p:cNvGrpSpPr/>
          <p:nvPr/>
        </p:nvGrpSpPr>
        <p:grpSpPr>
          <a:xfrm>
            <a:off x="2873520" y="3556080"/>
            <a:ext cx="747720" cy="739800"/>
            <a:chOff x="2873520" y="3556080"/>
            <a:chExt cx="747720" cy="739800"/>
          </a:xfrm>
        </p:grpSpPr>
        <p:grpSp>
          <p:nvGrpSpPr>
            <p:cNvPr id="193" name="Group 31"/>
            <p:cNvGrpSpPr/>
            <p:nvPr/>
          </p:nvGrpSpPr>
          <p:grpSpPr>
            <a:xfrm>
              <a:off x="2876760" y="3556080"/>
              <a:ext cx="740880" cy="739800"/>
              <a:chOff x="2876760" y="3556080"/>
              <a:chExt cx="740880" cy="739800"/>
            </a:xfrm>
          </p:grpSpPr>
          <p:sp>
            <p:nvSpPr>
              <p:cNvPr id="194" name="椭圆 14"/>
              <p:cNvSpPr/>
              <p:nvPr/>
            </p:nvSpPr>
            <p:spPr>
              <a:xfrm>
                <a:off x="2876760" y="3556080"/>
                <a:ext cx="74088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59"/>
              <p:cNvSpPr/>
              <p:nvPr/>
            </p:nvSpPr>
            <p:spPr>
              <a:xfrm>
                <a:off x="2922120" y="3601800"/>
                <a:ext cx="6498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13"/>
            <p:cNvSpPr/>
            <p:nvPr/>
          </p:nvSpPr>
          <p:spPr>
            <a:xfrm>
              <a:off x="2873520" y="3726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60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900"/>
                            </p:stCondLst>
                            <p:childTnLst>
                              <p:par>
                                <p:cTn id="2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4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3"/>
          <p:cNvSpPr/>
          <p:nvPr/>
        </p:nvSpPr>
        <p:spPr>
          <a:xfrm>
            <a:off x="5157720" y="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9"/>
          <p:cNvSpPr/>
          <p:nvPr/>
        </p:nvSpPr>
        <p:spPr>
          <a:xfrm>
            <a:off x="701640" y="1360440"/>
            <a:ext cx="7740720" cy="360036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835200" y="1589040"/>
            <a:ext cx="630000" cy="3353760"/>
            <a:chOff x="835200" y="1589040"/>
            <a:chExt cx="630000" cy="3353760"/>
          </a:xfrm>
        </p:grpSpPr>
        <p:grpSp>
          <p:nvGrpSpPr>
            <p:cNvPr id="201" name="Group 5"/>
            <p:cNvGrpSpPr/>
            <p:nvPr/>
          </p:nvGrpSpPr>
          <p:grpSpPr>
            <a:xfrm>
              <a:off x="835200" y="1589040"/>
              <a:ext cx="539640" cy="3353760"/>
              <a:chOff x="835200" y="1589040"/>
              <a:chExt cx="539640" cy="3353760"/>
            </a:xfrm>
          </p:grpSpPr>
          <p:sp>
            <p:nvSpPr>
              <p:cNvPr id="202" name="Rectangle 12"/>
              <p:cNvSpPr/>
              <p:nvPr/>
            </p:nvSpPr>
            <p:spPr>
              <a:xfrm>
                <a:off x="83520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83520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83520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83520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3520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3520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3520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3520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520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520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520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520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3520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直接连接符 73"/>
            <p:cNvSpPr/>
            <p:nvPr/>
          </p:nvSpPr>
          <p:spPr>
            <a:xfrm flipV="1">
              <a:off x="1357560" y="172836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74"/>
            <p:cNvSpPr/>
            <p:nvPr/>
          </p:nvSpPr>
          <p:spPr>
            <a:xfrm>
              <a:off x="1357560" y="1984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75"/>
            <p:cNvSpPr/>
            <p:nvPr/>
          </p:nvSpPr>
          <p:spPr>
            <a:xfrm>
              <a:off x="1357560" y="3259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76"/>
            <p:cNvSpPr/>
            <p:nvPr/>
          </p:nvSpPr>
          <p:spPr>
            <a:xfrm>
              <a:off x="1357560" y="4783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77"/>
            <p:cNvSpPr/>
            <p:nvPr/>
          </p:nvSpPr>
          <p:spPr>
            <a:xfrm>
              <a:off x="1357560" y="17348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78"/>
            <p:cNvSpPr/>
            <p:nvPr/>
          </p:nvSpPr>
          <p:spPr>
            <a:xfrm>
              <a:off x="1357560" y="30034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79"/>
            <p:cNvSpPr/>
            <p:nvPr/>
          </p:nvSpPr>
          <p:spPr>
            <a:xfrm>
              <a:off x="1357560" y="22381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80"/>
            <p:cNvSpPr/>
            <p:nvPr/>
          </p:nvSpPr>
          <p:spPr>
            <a:xfrm>
              <a:off x="1357560" y="2493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81"/>
            <p:cNvSpPr/>
            <p:nvPr/>
          </p:nvSpPr>
          <p:spPr>
            <a:xfrm>
              <a:off x="1357560" y="37702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82"/>
            <p:cNvSpPr/>
            <p:nvPr/>
          </p:nvSpPr>
          <p:spPr>
            <a:xfrm>
              <a:off x="1357560" y="35146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83"/>
            <p:cNvSpPr/>
            <p:nvPr/>
          </p:nvSpPr>
          <p:spPr>
            <a:xfrm>
              <a:off x="1357560" y="45356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84"/>
            <p:cNvSpPr/>
            <p:nvPr/>
          </p:nvSpPr>
          <p:spPr>
            <a:xfrm>
              <a:off x="1357560" y="40244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85"/>
            <p:cNvSpPr/>
            <p:nvPr/>
          </p:nvSpPr>
          <p:spPr>
            <a:xfrm>
              <a:off x="1357560" y="428004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2"/>
          <p:cNvGrpSpPr/>
          <p:nvPr/>
        </p:nvGrpSpPr>
        <p:grpSpPr>
          <a:xfrm>
            <a:off x="1357200" y="2749680"/>
            <a:ext cx="6661440" cy="321120"/>
            <a:chOff x="1357200" y="2749680"/>
            <a:chExt cx="6661440" cy="321120"/>
          </a:xfrm>
        </p:grpSpPr>
        <p:grpSp>
          <p:nvGrpSpPr>
            <p:cNvPr id="229" name="Group 33"/>
            <p:cNvGrpSpPr/>
            <p:nvPr/>
          </p:nvGrpSpPr>
          <p:grpSpPr>
            <a:xfrm>
              <a:off x="1375200" y="2763720"/>
              <a:ext cx="6612120" cy="307080"/>
              <a:chOff x="1375200" y="2763720"/>
              <a:chExt cx="6612120" cy="307080"/>
            </a:xfrm>
          </p:grpSpPr>
          <p:sp>
            <p:nvSpPr>
              <p:cNvPr id="230" name="Rectangle 12"/>
              <p:cNvSpPr/>
              <p:nvPr/>
            </p:nvSpPr>
            <p:spPr>
              <a:xfrm>
                <a:off x="30376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386964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47001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553248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719496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1375200" y="27637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220716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直接连接符 101"/>
            <p:cNvSpPr/>
            <p:nvPr/>
          </p:nvSpPr>
          <p:spPr>
            <a:xfrm>
              <a:off x="63532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102"/>
            <p:cNvSpPr/>
            <p:nvPr/>
          </p:nvSpPr>
          <p:spPr>
            <a:xfrm flipV="1">
              <a:off x="302256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3"/>
            <p:cNvSpPr/>
            <p:nvPr/>
          </p:nvSpPr>
          <p:spPr>
            <a:xfrm>
              <a:off x="3854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104"/>
            <p:cNvSpPr/>
            <p:nvPr/>
          </p:nvSpPr>
          <p:spPr>
            <a:xfrm>
              <a:off x="46879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105"/>
            <p:cNvSpPr/>
            <p:nvPr/>
          </p:nvSpPr>
          <p:spPr>
            <a:xfrm flipV="1">
              <a:off x="218880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06"/>
            <p:cNvSpPr/>
            <p:nvPr/>
          </p:nvSpPr>
          <p:spPr>
            <a:xfrm>
              <a:off x="1357200" y="274968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107"/>
            <p:cNvSpPr/>
            <p:nvPr/>
          </p:nvSpPr>
          <p:spPr>
            <a:xfrm>
              <a:off x="801252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108"/>
            <p:cNvSpPr/>
            <p:nvPr/>
          </p:nvSpPr>
          <p:spPr>
            <a:xfrm>
              <a:off x="551988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9"/>
            <p:cNvSpPr/>
            <p:nvPr/>
          </p:nvSpPr>
          <p:spPr>
            <a:xfrm>
              <a:off x="7185240" y="274968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2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249" name="任意多边形 121"/>
            <p:cNvSpPr/>
            <p:nvPr/>
          </p:nvSpPr>
          <p:spPr>
            <a:xfrm>
              <a:off x="1778040" y="1755720"/>
              <a:ext cx="2717640" cy="992160"/>
            </a:xfrm>
            <a:custGeom>
              <a:avLst/>
              <a:gdLst>
                <a:gd name="textAreaLeft" fmla="*/ 0 w 2717640"/>
                <a:gd name="textAreaRight" fmla="*/ 2718000 w 271764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122"/>
            <p:cNvSpPr/>
            <p:nvPr/>
          </p:nvSpPr>
          <p:spPr>
            <a:xfrm>
              <a:off x="4495680" y="2747880"/>
              <a:ext cx="3114720" cy="164448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1644480"/>
                <a:gd name="textAreaBottom" fmla="*/ 1644840 h 164448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0"/>
            <p:cNvSpPr/>
            <p:nvPr/>
          </p:nvSpPr>
          <p:spPr>
            <a:xfrm>
              <a:off x="1701360" y="16808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24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2"/>
            <p:cNvSpPr/>
            <p:nvPr/>
          </p:nvSpPr>
          <p:spPr>
            <a:xfrm>
              <a:off x="2534040" y="18720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3"/>
            <p:cNvSpPr/>
            <p:nvPr/>
          </p:nvSpPr>
          <p:spPr>
            <a:xfrm>
              <a:off x="3366720" y="225324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27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28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29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396576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314028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5"/>
            <p:cNvSpPr/>
            <p:nvPr/>
          </p:nvSpPr>
          <p:spPr>
            <a:xfrm>
              <a:off x="4199400" y="23598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矩形 119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6720" y="4873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7"/>
          <p:cNvSpPr/>
          <p:nvPr/>
        </p:nvSpPr>
        <p:spPr>
          <a:xfrm>
            <a:off x="169560" y="507204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rcRect l="0" t="5885" r="0" b="4205"/>
          <a:stretch/>
        </p:blipFill>
        <p:spPr>
          <a:xfrm>
            <a:off x="738360" y="985680"/>
            <a:ext cx="2947680" cy="39625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</p:pic>
      <p:sp>
        <p:nvSpPr>
          <p:cNvPr id="271" name="TextBox 13"/>
          <p:cNvSpPr/>
          <p:nvPr/>
        </p:nvSpPr>
        <p:spPr>
          <a:xfrm>
            <a:off x="5003640" y="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3906720" y="2895480"/>
            <a:ext cx="4643640" cy="2122560"/>
            <a:chOff x="3906720" y="2895480"/>
            <a:chExt cx="4643640" cy="2122560"/>
          </a:xfrm>
        </p:grpSpPr>
        <p:sp>
          <p:nvSpPr>
            <p:cNvPr id="273" name="矩形 11"/>
            <p:cNvSpPr/>
            <p:nvPr/>
          </p:nvSpPr>
          <p:spPr>
            <a:xfrm>
              <a:off x="3906720" y="289548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4049280" y="2966760"/>
              <a:ext cx="4358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请输入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46"/>
          <p:cNvSpPr/>
          <p:nvPr/>
        </p:nvSpPr>
        <p:spPr>
          <a:xfrm>
            <a:off x="3835440" y="246708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3"/>
          <p:cNvSpPr/>
          <p:nvPr/>
        </p:nvSpPr>
        <p:spPr>
          <a:xfrm>
            <a:off x="5157720" y="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78" name="任意多边形 27"/>
            <p:cNvSpPr/>
            <p:nvPr/>
          </p:nvSpPr>
          <p:spPr>
            <a:xfrm flipH="1">
              <a:off x="5162400" y="196704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28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9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30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6334200" y="204912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357120" y="2082960"/>
            <a:ext cx="3562200" cy="2206080"/>
            <a:chOff x="357120" y="2082960"/>
            <a:chExt cx="3562200" cy="2206080"/>
          </a:xfrm>
        </p:grpSpPr>
        <p:sp>
          <p:nvSpPr>
            <p:cNvPr id="287" name="任意多边形 36"/>
            <p:cNvSpPr/>
            <p:nvPr/>
          </p:nvSpPr>
          <p:spPr>
            <a:xfrm>
              <a:off x="2732040" y="208296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37"/>
            <p:cNvSpPr/>
            <p:nvPr/>
          </p:nvSpPr>
          <p:spPr>
            <a:xfrm flipV="1">
              <a:off x="2732040" y="403632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8"/>
            <p:cNvSpPr/>
            <p:nvPr/>
          </p:nvSpPr>
          <p:spPr>
            <a:xfrm>
              <a:off x="273204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9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94" name="饼形 43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527784" y="691564"/>
                  </a:moveTo>
                  <a:lnTo>
                    <a:pt x="2527783" y="691564"/>
                  </a:lnTo>
                  <a:cubicBezTo>
                    <a:pt x="2639645" y="891885"/>
                    <a:pt x="2698588" y="1117418"/>
                    <a:pt x="2699041" y="1346855"/>
                  </a:cubicBezTo>
                  <a:lnTo>
                    <a:pt x="1349522" y="1349522"/>
                  </a:lnTo>
                  <a:lnTo>
                    <a:pt x="2527784" y="691564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饼形 4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99042" y="1347120"/>
                  </a:moveTo>
                  <a:lnTo>
                    <a:pt x="2699041" y="1347120"/>
                  </a:lnTo>
                  <a:cubicBezTo>
                    <a:pt x="2699043" y="1347920"/>
                    <a:pt x="2699044" y="1348721"/>
                    <a:pt x="2699044" y="1349522"/>
                  </a:cubicBezTo>
                  <a:cubicBezTo>
                    <a:pt x="2699044" y="1668689"/>
                    <a:pt x="2585922" y="1977527"/>
                    <a:pt x="2379771" y="2221185"/>
                  </a:cubicBezTo>
                  <a:lnTo>
                    <a:pt x="1349522" y="1349522"/>
                  </a:lnTo>
                  <a:lnTo>
                    <a:pt x="2699042" y="134712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饼形 4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379824" y="2221123"/>
                  </a:moveTo>
                  <a:lnTo>
                    <a:pt x="2379823" y="2221122"/>
                  </a:lnTo>
                  <a:cubicBezTo>
                    <a:pt x="2123408" y="2524225"/>
                    <a:pt x="1746536" y="2699044"/>
                    <a:pt x="1349522" y="2699044"/>
                  </a:cubicBezTo>
                  <a:cubicBezTo>
                    <a:pt x="1346404" y="2699044"/>
                    <a:pt x="1343287" y="2699033"/>
                    <a:pt x="1340171" y="2699011"/>
                  </a:cubicBezTo>
                  <a:lnTo>
                    <a:pt x="1349522" y="1349522"/>
                  </a:lnTo>
                  <a:lnTo>
                    <a:pt x="2379824" y="2221123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饼形 46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3308" y="2699030"/>
                  </a:moveTo>
                  <a:lnTo>
                    <a:pt x="1343308" y="2699029"/>
                  </a:lnTo>
                  <a:cubicBezTo>
                    <a:pt x="917997" y="2697071"/>
                    <a:pt x="518497" y="2494729"/>
                    <a:pt x="265268" y="2153017"/>
                  </a:cubicBezTo>
                  <a:lnTo>
                    <a:pt x="1349522" y="1349522"/>
                  </a:lnTo>
                  <a:lnTo>
                    <a:pt x="1343308" y="2699030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饼形 47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268984" y="2158007"/>
                  </a:moveTo>
                  <a:lnTo>
                    <a:pt x="268984" y="2158006"/>
                  </a:lnTo>
                  <a:cubicBezTo>
                    <a:pt x="94366" y="1924631"/>
                    <a:pt x="0" y="1640993"/>
                    <a:pt x="0" y="1349522"/>
                  </a:cubicBezTo>
                  <a:cubicBezTo>
                    <a:pt x="0" y="1216463"/>
                    <a:pt x="19678" y="1084136"/>
                    <a:pt x="58395" y="956836"/>
                  </a:cubicBezTo>
                  <a:lnTo>
                    <a:pt x="1349522" y="1349522"/>
                  </a:lnTo>
                  <a:lnTo>
                    <a:pt x="268984" y="215800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饼形 4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60010" y="951566"/>
                  </a:moveTo>
                  <a:lnTo>
                    <a:pt x="60010" y="951566"/>
                  </a:lnTo>
                  <a:cubicBezTo>
                    <a:pt x="234591" y="385863"/>
                    <a:pt x="757493" y="0"/>
                    <a:pt x="1349522" y="0"/>
                  </a:cubicBezTo>
                  <a:cubicBezTo>
                    <a:pt x="1349522" y="0"/>
                    <a:pt x="1349522" y="0"/>
                    <a:pt x="1349523" y="0"/>
                  </a:cubicBezTo>
                  <a:lnTo>
                    <a:pt x="1349522" y="1349522"/>
                  </a:lnTo>
                  <a:lnTo>
                    <a:pt x="60010" y="95156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饼形 4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1348283" y="1"/>
                  </a:moveTo>
                  <a:lnTo>
                    <a:pt x="1348282" y="0"/>
                  </a:lnTo>
                  <a:cubicBezTo>
                    <a:pt x="1348695" y="0"/>
                    <a:pt x="1349108" y="0"/>
                    <a:pt x="1349522" y="0"/>
                  </a:cubicBezTo>
                  <a:cubicBezTo>
                    <a:pt x="1839980" y="0"/>
                    <a:pt x="2291827" y="266092"/>
                    <a:pt x="2529699" y="695005"/>
                  </a:cubicBezTo>
                  <a:lnTo>
                    <a:pt x="1349522" y="1349522"/>
                  </a:lnTo>
                  <a:lnTo>
                    <a:pt x="1348283" y="1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50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2"/>
          <p:cNvSpPr/>
          <p:nvPr/>
        </p:nvSpPr>
        <p:spPr>
          <a:xfrm>
            <a:off x="26640" y="492912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56:49Z</dcterms:modified>
  <cp:revision>4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