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B33-982F-4787-8D93-D73E7C82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42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C34-C915-4C3A-B834-8AA177E0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E6F-BB0D-485A-9E83-FB9B5670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2EC-43BA-4B00-AFC0-2C69791D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27CE-5916-4437-B766-B1ADCCED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0ADB-8168-4F08-88BC-13545251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5722-3ED9-40C8-95D0-73B49A61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1AE3-7155-435C-8C91-6E129BC3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D301-B2DA-4DE1-B5BE-EE3AF753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FDA2-EB4E-458B-8E69-901C0ECA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2766-2BF7-41F7-AE8F-6E688711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8A4-DF60-47B2-AA7F-B272B3CB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A759-DF9A-4FF7-A683-9378871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3726-37BE-4848-AB24-2AC865BC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42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7CE5-6821-442F-86B5-44BC7C28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418A-A2B4-41E9-9631-1E36A0F8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D899-1F04-408D-AD79-E0383678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7D2-7EDC-425C-9969-C22DD903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087-2E49-4571-B505-2E499FC3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809-F17C-4540-920C-DDCDAFAB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DC5-9E19-4849-9488-53B71496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1B7-0BBF-44A1-96C2-3DC34814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CD7-2838-4291-B84C-95AE1C98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8BE-F3A1-4590-8F4F-A0711CF6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8B70-7BE2-4D46-993D-BC18BAD8ED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D437-C913-4D03-9EF2-F69D049ECB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376280" y="155736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3203640" y="443700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4520" y="404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自然风景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7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2" name="Freeform 36"/>
            <p:cNvSpPr/>
            <p:nvPr/>
          </p:nvSpPr>
          <p:spPr>
            <a:xfrm>
              <a:off x="5653080" y="3098880"/>
              <a:ext cx="1352520" cy="1119240"/>
            </a:xfrm>
            <a:custGeom>
              <a:avLst/>
              <a:gdLst>
                <a:gd name="textAreaLeft" fmla="*/ 0 w 1352520"/>
                <a:gd name="textAreaRight" fmla="*/ 1352880 w 135252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5599dd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7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c1ff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8"/>
            <p:cNvSpPr/>
            <p:nvPr/>
          </p:nvSpPr>
          <p:spPr>
            <a:xfrm>
              <a:off x="5495760" y="4089240"/>
              <a:ext cx="1190520" cy="13352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8ebb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9"/>
            <p:cNvSpPr/>
            <p:nvPr/>
          </p:nvSpPr>
          <p:spPr>
            <a:xfrm>
              <a:off x="6886080" y="3274920"/>
              <a:ext cx="1208160" cy="13240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矩形 33"/>
          <p:cNvSpPr/>
          <p:nvPr/>
        </p:nvSpPr>
        <p:spPr>
          <a:xfrm>
            <a:off x="1825560" y="66279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553-E312-41BC-A2C5-6B8CE09F2A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564000" y="27813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4041720" y="3495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7:48:0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54:11Z</dcterms:modified>
  <cp:revision>35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