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ZR522.WAV" ContentType="audio/x-wav"/>
  <Override PartName="/ppt/media/image15.jpeg" ContentType="image/jpeg"/>
  <Override PartName="/ppt/media/image14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41.gif" ContentType="image/gif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BE9-C9A4-48C1-B335-22A42F0A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D31-F36B-4AF1-B42F-C2531188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70689-502D-4A90-B32D-31E5AF61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0152B-AD62-4812-BF39-B629A0C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02E14-7C26-48C7-A5F6-C9C903AD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B1D0C-17E5-4E93-AB27-808E6DA9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A0AB1-FC55-45AF-A238-6A58E52F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FD22C-A7BB-48BA-8483-50FB4858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D4783-5633-4B7E-906C-6E67B1D4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1149C-DFDE-40DD-91E0-2B90806F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CE0B4-B45B-49AA-BDE3-71443D21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7BF74-7AFF-4CA2-9270-F9B1C809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C8C-D8C8-4E55-8690-04B02194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E76CC-06EF-4E2F-88FF-13DC7595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5172D-069F-4832-97A8-ED59FFAB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61ABD-6F2B-4F8E-B2B9-2F8EA8A2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1E8A8-5FBE-4A1C-A332-2FBC2730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22BE4-8837-4C69-9022-5A33858E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D8A4A-37D6-4F75-AC6A-331CF63A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E90CA-D4B9-4918-8FF0-767F193A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5CC1A-730C-4D87-9C4D-20CC31E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C39BE-B0FB-43A0-9D68-39A830E0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27E96-366F-4927-9D22-97227EF1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203-FCFC-4F88-A0B6-663614E0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B421C-E7A1-4732-A7BD-EAE157C3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496C6-3EB3-4F8A-BBE6-5F232E3E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BED95-42A0-4AEF-BB7E-3B0BFD15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CD265-3645-41A1-BAC9-EE80D3E2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62FFA-BD04-4B47-9746-4E9706F7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CC919-4278-48A9-999C-93146FFA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11016-FDD9-4AB4-A515-E732F136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3EA67-4607-4FED-9610-C3DF8373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1C631-4D7D-47E1-ABFC-5031FE47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C2772-B455-4854-9C45-1F05A660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0A3A-26B1-4580-B6F8-A4F6F1A9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A179A-A902-4EA5-B349-93BF5915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689E6-0B81-4F99-8397-086D1400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4FEAC-0DD4-4EE7-8C4B-7DAA2618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92D85-87BF-4D66-9771-F3155E94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17F42-6C26-42C5-93D0-FE52BB95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2E4B1-26F3-4E6C-A695-48A9090D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62105-A8BF-4BD7-B472-394157D6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0C69C-B323-44AE-870B-57BE6270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49DFE-49C3-407E-B2F9-740ADF51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F6A5C-FF3A-4221-8587-D9442DB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C160-96A6-4AAB-831D-AFC9E62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EF781-2BAB-454F-B04A-743C938D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9216F-58FF-40A5-ABA2-8169E4EA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683DD-AF1D-4467-B395-07F3F8CA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3D097-D2A2-4CFA-9CCD-6E412CD4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3FC9D-2CB3-4C61-8689-3618BA1A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417B8-697E-49A7-A716-7A7BAE9B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7EF65-1C9B-4A3F-9E28-BCF6518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68177-6C82-4307-AED8-E1F2BC9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044F9-F000-40B3-943C-656E7E59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BB32C-0482-43DA-A947-9FEFA0D5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B979-BF27-4048-8202-B0098F27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2F1FE-BB14-4415-BFA1-3031CBC4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F82BF-86B3-463F-8EED-BC4D6BF2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E6AC0-B009-4B0E-B451-BD5AD36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D667F-120D-4060-B17C-92FC72CD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5F2B4-9BF0-4BED-B124-B8A48F54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D71AB-E9E2-4EEF-B352-D4D94148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0C6DE-E763-44FC-8C26-BFD376CE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88F5-F79F-4337-9754-59878EFF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E3F1-7318-45A4-80C8-FDA6B537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3493-981B-4381-B31E-2522D4FB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BFF3-9BDB-44A9-B78E-348BA587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789-8424-44AD-AB1F-0632FBA9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CA91-C896-4C9D-B435-0C5BE504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1C52-E6AE-4191-A62C-3557A86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4C52-5B89-4CEF-B4A5-7181365C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5530-0A6E-4640-9440-3EC9C2D5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4163-C51C-4EAC-AC56-199ED5DD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E8CE-6AE8-43F4-8175-9AF5FA18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8399-8EDF-4867-9979-A42A0A33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5120-7B95-4E38-BE6A-06118F00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7F5A-5BB2-468C-90A9-B91577E5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A26E-21C5-4935-A3E3-22F6F462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146-8783-40F6-94EF-2E22F68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DA4A-FAEB-4D54-A731-B79DD93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FBE1-63C8-4FF6-9204-4CC15CD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6DAB-7EE8-4F9C-AA65-46CAE798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0BB9A-21E8-4E82-9FDD-261C997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8F65-2308-44B9-987E-416D1462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85769-7990-4A54-AED7-5DC141B6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1B6F-2BC4-444D-B15D-94717401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1EC2-623E-4792-BB95-BB885BB2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97F3A-991D-43E2-9A15-D482E5B0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4FD5-A10E-418C-B4BA-B85FC318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652-21CC-4177-B4A4-B4239C2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0CD8-55D8-4930-B29F-C8920123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3BA38-577D-4891-B816-ACFB9194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F1C37-026F-4EA2-A0F8-D0EC81F3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EA0A-1461-4F38-9276-0EFE622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A3B1-5748-4E13-8A0C-C377793E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1EC92-6152-4D73-BB8B-B2B5691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1116-A1C6-4768-AD4C-DE0441B8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89F7-21E7-480A-8CD4-8F9BC459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680A-4CBE-49B9-BA1F-78B1FD78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C318E-75B0-4982-BC8D-0435BD7D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184-D59B-4924-A8A9-AD37F9BC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3F21-F1C7-454F-A9E6-F65C45C4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EC4D-E653-4762-AD1C-67C95619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614D3-AFE2-453C-A1EE-5E7FE21B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94AF1-2DA0-4099-85F8-CF23271D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CFB9-5A2A-4282-9C0F-AA7F2C05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851BF-84EB-4862-BB30-70D3592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33EF7-F14E-47F6-AAE9-792DB43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E033B-B462-4F8F-8B31-4E79A19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8F6B7-7C0F-4099-979D-57FD7E4C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2E57-C792-48A2-A311-6526446E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80D-29D1-4513-8D86-56796A05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9B53-A865-4404-A7C6-CC245626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EB1C1-6964-4DBF-83E1-2ABB9B35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9BB3D-C892-435D-BDCA-E45E0F67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53B09-D52F-4CFE-ABC1-A3E1FAF0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057AB-9B51-4AC9-AFAD-66121BDE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8700-8482-44A1-80CB-33F43CBA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536E5-C0BB-405B-8921-86DAC1CB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37C9-A43A-4B8E-A123-51E7801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145ED-E64C-468D-B625-5F977872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4B02A-CAB6-4C04-8978-AF51D94D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13C-B284-4236-AD2E-F588097A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24721-B1AE-4ED6-8FE7-FAD3F7D3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AB705-EBA2-4AA7-A843-06CE30AC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B6DCE-D1D7-4A98-9710-882CFA23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3F9C8-4A5F-4129-944E-5BFC3566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7C08-F654-4F8C-86A8-A8C596B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47A34-B67A-47B8-ABF0-FD835692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5486C-69AA-47A7-B55F-6E5B16C4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8EDD5-B70F-4501-BFAD-29E9633C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2013B-D833-4651-A10F-36497D7C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DFA66-B329-4544-9AA4-A110872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5E1-738E-4B92-BE1A-326E18A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5E2A2-982E-49C9-B036-D01A4E3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83A2E-852D-4273-9778-7CA38F61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708E2-1782-4C58-9393-BC5296AE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93E30-A388-44E7-B8CB-A3B39172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97BAC-52C9-40BF-BC27-9666BEAA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9A53F-BF4E-471D-959F-A44852AC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851DC-FBED-458A-BE7E-25B0E6C5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EA212-83BD-4DA7-ADB8-FF8644DB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73CDB-BCEC-477D-8BF2-BA90EB21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A55D-E82D-44BB-A1C4-A5339BB1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C71-A37A-4DF7-8504-510937F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0CEAB-F1FC-4748-BB2F-91A6EFA8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8000E-65E0-4497-8A45-5AAAE78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2B8B4-E65D-4629-804E-B252AE6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F0FBB-B53E-43CF-BA77-F3A17E3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3013B-D49B-465D-AC6C-B1173654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352E1-0273-46C7-92D8-D68E1A61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92DCE-217F-45F7-BE8A-D43C642E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BC419-C634-4CA8-B129-75944C59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E557E-2CC8-4129-BDDE-FBD39C7D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C7E0F-38E8-44A2-AAF8-3B4B042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171E-ECA1-47B6-BB4B-7D06C7EA0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7BA-CF4F-449A-8DAF-C4DF6BE66F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0162-B387-46CA-ACBB-4181B75679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6CF0-FA31-40FA-9D45-A94BDE05F8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EA4C-FE00-4D18-BC03-23AECA2B58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34F4-F9FD-4090-BC3A-98ED3CCEE7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83AC-DD82-47C5-9E12-4E6FF9A40B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D251-F350-4C0F-B584-423933AC50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9D31-B365-4C6A-8AF6-033E9FBBB7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5AA9-F3CD-4D61-8F2D-CBAC597404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E425-14C4-40AA-B826-519E328048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45F0-C3C8-4EAC-A2D7-39F0BAB3C6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8EE8-3D1F-49E4-81D0-2F0C5DCFBA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" Target="slide24.xml"/><Relationship Id="rId5" Type="http://schemas.openxmlformats.org/officeDocument/2006/relationships/slide" Target="slide30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5.png"/><Relationship Id="rId11" Type="http://schemas.openxmlformats.org/officeDocument/2006/relationships/audio" Target="../media/ZR522.WAV"/><Relationship Id="rId12" Type="http://schemas.openxmlformats.org/officeDocument/2006/relationships/audio" Target="../media/ZR522.WAV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vpengyou.com/html/pic/0_5F_B2_D4_B6_FA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绿005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224000" y="83664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植物妈妈有办法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PPT</a:t>
            </a: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260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5"/>
          <p:cNvSpPr/>
          <p:nvPr/>
        </p:nvSpPr>
        <p:spPr>
          <a:xfrm>
            <a:off x="297000" y="650412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秋季15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88390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多音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4"/>
          <p:cNvGrpSpPr/>
          <p:nvPr/>
        </p:nvGrpSpPr>
        <p:grpSpPr>
          <a:xfrm>
            <a:off x="672480" y="1360440"/>
            <a:ext cx="3805200" cy="2067480"/>
            <a:chOff x="672480" y="1360440"/>
            <a:chExt cx="3805200" cy="2067480"/>
          </a:xfrm>
        </p:grpSpPr>
        <p:sp>
          <p:nvSpPr>
            <p:cNvPr id="557" name="AutoShape 5"/>
            <p:cNvSpPr/>
            <p:nvPr/>
          </p:nvSpPr>
          <p:spPr>
            <a:xfrm>
              <a:off x="1219320" y="175248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6"/>
            <p:cNvSpPr/>
            <p:nvPr/>
          </p:nvSpPr>
          <p:spPr>
            <a:xfrm>
              <a:off x="1674720" y="1360440"/>
              <a:ext cx="23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dé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得到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672480" y="185904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得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8"/>
            <p:cNvSpPr/>
            <p:nvPr/>
          </p:nvSpPr>
          <p:spPr>
            <a:xfrm>
              <a:off x="1812960" y="2028600"/>
              <a:ext cx="260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děi</a:t>
              </a: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（我得去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9"/>
            <p:cNvSpPr/>
            <p:nvPr/>
          </p:nvSpPr>
          <p:spPr>
            <a:xfrm>
              <a:off x="1802160" y="2663640"/>
              <a:ext cx="267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de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跑得快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10"/>
          <p:cNvGrpSpPr/>
          <p:nvPr/>
        </p:nvGrpSpPr>
        <p:grpSpPr>
          <a:xfrm>
            <a:off x="4781520" y="1413000"/>
            <a:ext cx="3666600" cy="2020320"/>
            <a:chOff x="4781520" y="1413000"/>
            <a:chExt cx="3666600" cy="2020320"/>
          </a:xfrm>
        </p:grpSpPr>
        <p:sp>
          <p:nvSpPr>
            <p:cNvPr id="563" name="AutoShape 11"/>
            <p:cNvSpPr/>
            <p:nvPr/>
          </p:nvSpPr>
          <p:spPr>
            <a:xfrm>
              <a:off x="5329800" y="1755000"/>
              <a:ext cx="152280" cy="1375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5560"/>
                <a:gd name="textAreaBottom" fmla="*/ 1339920 h 13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2"/>
            <p:cNvSpPr/>
            <p:nvPr/>
          </p:nvSpPr>
          <p:spPr>
            <a:xfrm>
              <a:off x="5466240" y="1413000"/>
              <a:ext cx="298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wéi</a:t>
              </a: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（行为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4781520" y="18619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为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"/>
            <p:cNvSpPr/>
            <p:nvPr/>
          </p:nvSpPr>
          <p:spPr>
            <a:xfrm>
              <a:off x="5482080" y="2137320"/>
              <a:ext cx="184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5"/>
            <p:cNvSpPr/>
            <p:nvPr/>
          </p:nvSpPr>
          <p:spPr>
            <a:xfrm>
              <a:off x="5793480" y="2669040"/>
              <a:ext cx="263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wèi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因为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6"/>
          <p:cNvGrpSpPr/>
          <p:nvPr/>
        </p:nvGrpSpPr>
        <p:grpSpPr>
          <a:xfrm>
            <a:off x="596160" y="3578400"/>
            <a:ext cx="4211640" cy="2067480"/>
            <a:chOff x="596160" y="3578400"/>
            <a:chExt cx="4211640" cy="2067480"/>
          </a:xfrm>
        </p:grpSpPr>
        <p:sp>
          <p:nvSpPr>
            <p:cNvPr id="569" name="AutoShape 17"/>
            <p:cNvSpPr/>
            <p:nvPr/>
          </p:nvSpPr>
          <p:spPr>
            <a:xfrm>
              <a:off x="1143000" y="397044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1659600" y="3578400"/>
              <a:ext cx="3056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jiànɡ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降落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9"/>
            <p:cNvSpPr/>
            <p:nvPr/>
          </p:nvSpPr>
          <p:spPr>
            <a:xfrm>
              <a:off x="596160" y="40770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降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0"/>
            <p:cNvSpPr/>
            <p:nvPr/>
          </p:nvSpPr>
          <p:spPr>
            <a:xfrm>
              <a:off x="1295280" y="435168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1"/>
            <p:cNvSpPr/>
            <p:nvPr/>
          </p:nvSpPr>
          <p:spPr>
            <a:xfrm>
              <a:off x="1599120" y="4881600"/>
              <a:ext cx="320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xiánɡ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投降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22"/>
          <p:cNvGrpSpPr/>
          <p:nvPr/>
        </p:nvGrpSpPr>
        <p:grpSpPr>
          <a:xfrm>
            <a:off x="4710960" y="3586320"/>
            <a:ext cx="3681360" cy="2067480"/>
            <a:chOff x="4710960" y="3586320"/>
            <a:chExt cx="3681360" cy="2067480"/>
          </a:xfrm>
        </p:grpSpPr>
        <p:sp>
          <p:nvSpPr>
            <p:cNvPr id="575" name="AutoShape 23"/>
            <p:cNvSpPr/>
            <p:nvPr/>
          </p:nvSpPr>
          <p:spPr>
            <a:xfrm>
              <a:off x="5257800" y="397836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24"/>
            <p:cNvSpPr/>
            <p:nvPr/>
          </p:nvSpPr>
          <p:spPr>
            <a:xfrm>
              <a:off x="5682960" y="3586320"/>
              <a:ext cx="2679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h</a:t>
              </a:r>
              <a:r>
                <a:rPr b="1" lang="en-US" sz="4400" spc="-1" strike="noStrike">
                  <a:solidFill>
                    <a:srgbClr val="0000ff"/>
                  </a:solidFill>
                  <a:latin typeface="Arial"/>
                </a:rPr>
                <a:t>ǎ</a:t>
              </a: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o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好人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25"/>
            <p:cNvSpPr/>
            <p:nvPr/>
          </p:nvSpPr>
          <p:spPr>
            <a:xfrm>
              <a:off x="4710960" y="40849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6"/>
            <p:cNvSpPr/>
            <p:nvPr/>
          </p:nvSpPr>
          <p:spPr>
            <a:xfrm>
              <a:off x="5410080" y="435960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7"/>
            <p:cNvSpPr/>
            <p:nvPr/>
          </p:nvSpPr>
          <p:spPr>
            <a:xfrm>
              <a:off x="5685120" y="4889520"/>
              <a:ext cx="270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hào</a:t>
              </a:r>
              <a:r>
                <a:rPr b="1" lang="zh-CN" sz="4400" spc="-1" strike="noStrike">
                  <a:solidFill>
                    <a:srgbClr val="0000ff"/>
                  </a:solidFill>
                  <a:latin typeface="宋体"/>
                </a:rPr>
                <a:t>（好奇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秋季9"/>
          <p:cNvPicPr/>
          <p:nvPr/>
        </p:nvPicPr>
        <p:blipFill>
          <a:blip r:embed="rId1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划一划，课文中介绍了几种植物妈妈传播种子的方法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4" descr="art_0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5"/>
          <p:cNvSpPr/>
          <p:nvPr/>
        </p:nvSpPr>
        <p:spPr>
          <a:xfrm>
            <a:off x="684360" y="765000"/>
            <a:ext cx="78483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如果已经长大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ěi                                                  wé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别妈妈，四海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600120" y="3068640"/>
            <a:ext cx="85438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马有脚，鸟有翅膀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要旅行靠的什么办法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0" y="1484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苍耳妈妈为孩子准备了（                 ）， 孩子（                   ）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5364000" y="1413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带刺的铠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1835280" y="2060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挂住动物皮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0" y="3357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豌豆妈妈为孩子准备了（         ），让孩子（                    ），豆荚炸开，孩子（               ）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5651640" y="33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豆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1332000" y="3933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晒在太阳底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1042920" y="450864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蹦着跳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0" y="115920"/>
            <a:ext cx="93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蒲公英妈妈为孩子准备了（         ）， 孩子（          ）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6012000" y="189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降落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1754640" y="76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乘着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蒲公仪"/>
          <p:cNvPicPr/>
          <p:nvPr/>
        </p:nvPicPr>
        <p:blipFill>
          <a:blip r:embed="rId1"/>
          <a:stretch/>
        </p:blipFill>
        <p:spPr>
          <a:xfrm>
            <a:off x="457200" y="380880"/>
            <a:ext cx="2730600" cy="21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602" name="Picture 3" descr="山羊"/>
          <p:cNvPicPr/>
          <p:nvPr/>
        </p:nvPicPr>
        <p:blipFill>
          <a:blip r:embed="rId2"/>
          <a:stretch/>
        </p:blipFill>
        <p:spPr>
          <a:xfrm>
            <a:off x="3048120" y="1981080"/>
            <a:ext cx="2685960" cy="2135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603" name="Picture 4" descr="wandou"/>
          <p:cNvPicPr/>
          <p:nvPr/>
        </p:nvPicPr>
        <p:blipFill>
          <a:blip r:embed="rId3"/>
          <a:stretch/>
        </p:blipFill>
        <p:spPr>
          <a:xfrm>
            <a:off x="5638680" y="3581280"/>
            <a:ext cx="2667240" cy="2200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04" name="AutoShape 5">
            <a:hlinkClick r:id="" action="ppaction://hlinkshowjump?jump=nextslide"/>
          </p:cNvPr>
          <p:cNvSpPr/>
          <p:nvPr/>
        </p:nvSpPr>
        <p:spPr>
          <a:xfrm>
            <a:off x="1600200" y="3124080"/>
            <a:ext cx="380880" cy="15264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53822" h="21600">
                <a:moveTo>
                  <a:pt x="0" y="0"/>
                </a:moveTo>
                <a:lnTo>
                  <a:pt x="53822" y="0"/>
                </a:lnTo>
                <a:lnTo>
                  <a:pt x="53822" y="21600"/>
                </a:lnTo>
                <a:lnTo>
                  <a:pt x="0" y="21600"/>
                </a:lnTo>
                <a:close/>
              </a:path>
              <a:path fill="lightenLess" w="53822" h="21600">
                <a:moveTo>
                  <a:pt x="0" y="0"/>
                </a:moveTo>
                <a:lnTo>
                  <a:pt x="53822" y="0"/>
                </a:lnTo>
                <a:lnTo>
                  <a:pt x="52422" y="1400"/>
                </a:lnTo>
                <a:lnTo>
                  <a:pt x="1400" y="1400"/>
                </a:lnTo>
                <a:close/>
              </a:path>
              <a:path fill="darken" w="53822" h="21600">
                <a:moveTo>
                  <a:pt x="53822" y="0"/>
                </a:moveTo>
                <a:lnTo>
                  <a:pt x="53822" y="21600"/>
                </a:lnTo>
                <a:lnTo>
                  <a:pt x="52422" y="20200"/>
                </a:lnTo>
                <a:lnTo>
                  <a:pt x="52422" y="1400"/>
                </a:lnTo>
                <a:close/>
              </a:path>
              <a:path fill="darkenLess" w="53822" h="21600">
                <a:moveTo>
                  <a:pt x="53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22" y="20200"/>
                </a:lnTo>
                <a:close/>
              </a:path>
              <a:path fill="lighten" w="53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22" h="21600">
                <a:moveTo>
                  <a:pt x="19905" y="3794"/>
                </a:moveTo>
                <a:lnTo>
                  <a:pt x="33918" y="10800"/>
                </a:lnTo>
                <a:lnTo>
                  <a:pt x="1990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6">
            <a:hlinkClick r:id="rId4" action="ppaction://hlinksldjump"/>
          </p:cNvPr>
          <p:cNvSpPr/>
          <p:nvPr/>
        </p:nvSpPr>
        <p:spPr>
          <a:xfrm>
            <a:off x="4267080" y="48006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7">
            <a:hlinkClick r:id="rId5" action="ppaction://hlinksldjump"/>
          </p:cNvPr>
          <p:cNvSpPr/>
          <p:nvPr/>
        </p:nvSpPr>
        <p:spPr>
          <a:xfrm>
            <a:off x="6858000" y="6400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8">
            <a:hlinkClick r:id="rId6" action="ppaction://hlinksldjump"/>
          </p:cNvPr>
          <p:cNvSpPr/>
          <p:nvPr/>
        </p:nvSpPr>
        <p:spPr>
          <a:xfrm>
            <a:off x="1357920" y="266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3962520" y="4267080"/>
            <a:ext cx="13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6629400" y="5943600"/>
            <a:ext cx="15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1">
            <a:hlinkClick r:id="rId7" action="ppaction://hlinksldjump"/>
          </p:cNvPr>
          <p:cNvSpPr/>
          <p:nvPr/>
        </p:nvSpPr>
        <p:spPr>
          <a:xfrm>
            <a:off x="1295280" y="6477120"/>
            <a:ext cx="457200" cy="204840"/>
          </a:xfrm>
          <a:custGeom>
            <a:avLst/>
            <a:gdLst>
              <a:gd name="textAreaLeft" fmla="*/ 12960 w 457200"/>
              <a:gd name="textAreaRight" fmla="*/ 444240 w 4572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48164" h="21600">
                <a:moveTo>
                  <a:pt x="0" y="0"/>
                </a:moveTo>
                <a:lnTo>
                  <a:pt x="48164" y="0"/>
                </a:lnTo>
                <a:lnTo>
                  <a:pt x="48164" y="21600"/>
                </a:lnTo>
                <a:lnTo>
                  <a:pt x="0" y="21600"/>
                </a:lnTo>
                <a:close/>
              </a:path>
              <a:path fill="lightenLess" w="48164" h="21600">
                <a:moveTo>
                  <a:pt x="0" y="0"/>
                </a:moveTo>
                <a:lnTo>
                  <a:pt x="48164" y="0"/>
                </a:lnTo>
                <a:lnTo>
                  <a:pt x="46764" y="1400"/>
                </a:lnTo>
                <a:lnTo>
                  <a:pt x="1400" y="1400"/>
                </a:lnTo>
                <a:close/>
              </a:path>
              <a:path fill="darken" w="48164" h="21600">
                <a:moveTo>
                  <a:pt x="48164" y="0"/>
                </a:moveTo>
                <a:lnTo>
                  <a:pt x="48164" y="21600"/>
                </a:lnTo>
                <a:lnTo>
                  <a:pt x="46764" y="20200"/>
                </a:lnTo>
                <a:lnTo>
                  <a:pt x="46764" y="1400"/>
                </a:lnTo>
                <a:close/>
              </a:path>
              <a:path fill="darkenLess" w="48164" h="21600">
                <a:moveTo>
                  <a:pt x="48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4" y="20200"/>
                </a:lnTo>
                <a:close/>
              </a:path>
              <a:path fill="lighten" w="48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64" h="21600">
                <a:moveTo>
                  <a:pt x="17076" y="3794"/>
                </a:moveTo>
                <a:lnTo>
                  <a:pt x="31089" y="10800"/>
                </a:lnTo>
                <a:lnTo>
                  <a:pt x="170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24课-3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838080" y="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蒲公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准备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降落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娃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乘着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纷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4">
            <a:hlinkClick r:id="rId2" action="ppaction://hlinksldjump"/>
          </p:cNvPr>
          <p:cNvSpPr/>
          <p:nvPr/>
        </p:nvSpPr>
        <p:spPr>
          <a:xfrm flipH="1">
            <a:off x="8610480" y="64008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7238880" y="2970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7391520" y="297000"/>
            <a:ext cx="533160" cy="70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24课-3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>
            <a:off x="838080" y="0"/>
            <a:ext cx="7772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蒲公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准备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降落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娃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乘着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纷纷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4"/>
          <p:cNvSpPr/>
          <p:nvPr/>
        </p:nvSpPr>
        <p:spPr>
          <a:xfrm flipH="1">
            <a:off x="8610480" y="64008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7238880" y="2970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7391520" y="297000"/>
            <a:ext cx="533160" cy="70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4" descr="20071128161141369_2"/>
          <p:cNvPicPr/>
          <p:nvPr/>
        </p:nvPicPr>
        <p:blipFill>
          <a:blip r:embed="rId1"/>
          <a:stretch/>
        </p:blipFill>
        <p:spPr>
          <a:xfrm>
            <a:off x="4035600" y="0"/>
            <a:ext cx="5108400" cy="5108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降落伞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xll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feng"/>
          <p:cNvPicPr/>
          <p:nvPr/>
        </p:nvPicPr>
        <p:blipFill>
          <a:blip r:embed="rId2"/>
          <a:stretch/>
        </p:blipFill>
        <p:spPr>
          <a:xfrm>
            <a:off x="0" y="1270080"/>
            <a:ext cx="4317840" cy="4317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未标题-2"/>
          <p:cNvPicPr/>
          <p:nvPr/>
        </p:nvPicPr>
        <p:blipFill>
          <a:blip r:embed="rId3"/>
          <a:stretch/>
        </p:blipFill>
        <p:spPr>
          <a:xfrm>
            <a:off x="3532320" y="38098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未标题-2"/>
          <p:cNvPicPr/>
          <p:nvPr/>
        </p:nvPicPr>
        <p:blipFill>
          <a:blip r:embed="rId4"/>
          <a:stretch/>
        </p:blipFill>
        <p:spPr>
          <a:xfrm>
            <a:off x="4051440" y="34290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未标题-2"/>
          <p:cNvPicPr/>
          <p:nvPr/>
        </p:nvPicPr>
        <p:blipFill>
          <a:blip r:embed="rId5"/>
          <a:stretch/>
        </p:blipFill>
        <p:spPr>
          <a:xfrm>
            <a:off x="4572000" y="301464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未标题-2"/>
          <p:cNvPicPr/>
          <p:nvPr/>
        </p:nvPicPr>
        <p:blipFill>
          <a:blip r:embed="rId6"/>
          <a:stretch/>
        </p:blipFill>
        <p:spPr>
          <a:xfrm>
            <a:off x="5029200" y="260208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未标题-2"/>
          <p:cNvPicPr/>
          <p:nvPr/>
        </p:nvPicPr>
        <p:blipFill>
          <a:blip r:embed="rId7"/>
          <a:stretch/>
        </p:blipFill>
        <p:spPr>
          <a:xfrm>
            <a:off x="5638680" y="20574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9" descr="未标题-2"/>
          <p:cNvPicPr/>
          <p:nvPr/>
        </p:nvPicPr>
        <p:blipFill>
          <a:blip r:embed="rId8"/>
          <a:stretch/>
        </p:blipFill>
        <p:spPr>
          <a:xfrm>
            <a:off x="6172200" y="16002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0" descr="未标题-2"/>
          <p:cNvPicPr/>
          <p:nvPr/>
        </p:nvPicPr>
        <p:blipFill>
          <a:blip r:embed="rId9"/>
          <a:stretch/>
        </p:blipFill>
        <p:spPr>
          <a:xfrm>
            <a:off x="6705720" y="10666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1" descr="未标题-2"/>
          <p:cNvPicPr/>
          <p:nvPr/>
        </p:nvPicPr>
        <p:blipFill>
          <a:blip r:embed="rId10"/>
          <a:stretch/>
        </p:blipFill>
        <p:spPr>
          <a:xfrm>
            <a:off x="5410080" y="5367240"/>
            <a:ext cx="533520" cy="424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2" descr="未标题-2"/>
          <p:cNvPicPr/>
          <p:nvPr/>
        </p:nvPicPr>
        <p:blipFill>
          <a:blip r:embed="rId11"/>
          <a:stretch/>
        </p:blipFill>
        <p:spPr>
          <a:xfrm>
            <a:off x="6019920" y="482292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3" descr="未标题-2"/>
          <p:cNvPicPr/>
          <p:nvPr/>
        </p:nvPicPr>
        <p:blipFill>
          <a:blip r:embed="rId12"/>
          <a:stretch/>
        </p:blipFill>
        <p:spPr>
          <a:xfrm>
            <a:off x="655308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4" descr="未标题-2"/>
          <p:cNvPicPr/>
          <p:nvPr/>
        </p:nvPicPr>
        <p:blipFill>
          <a:blip r:embed="rId13"/>
          <a:stretch/>
        </p:blipFill>
        <p:spPr>
          <a:xfrm>
            <a:off x="7086600" y="383220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5" descr="未标题-2"/>
          <p:cNvPicPr/>
          <p:nvPr/>
        </p:nvPicPr>
        <p:blipFill>
          <a:blip r:embed="rId14"/>
          <a:stretch/>
        </p:blipFill>
        <p:spPr>
          <a:xfrm>
            <a:off x="2554200" y="34290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6" descr="未标题-2"/>
          <p:cNvPicPr/>
          <p:nvPr/>
        </p:nvPicPr>
        <p:blipFill>
          <a:blip r:embed="rId15"/>
          <a:stretch/>
        </p:blipFill>
        <p:spPr>
          <a:xfrm>
            <a:off x="3075120" y="301464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7" descr="未标题-2"/>
          <p:cNvPicPr/>
          <p:nvPr/>
        </p:nvPicPr>
        <p:blipFill>
          <a:blip r:embed="rId16"/>
          <a:stretch/>
        </p:blipFill>
        <p:spPr>
          <a:xfrm>
            <a:off x="3532320" y="260208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8" descr="未标题-2"/>
          <p:cNvPicPr/>
          <p:nvPr/>
        </p:nvPicPr>
        <p:blipFill>
          <a:blip r:embed="rId17"/>
          <a:stretch/>
        </p:blipFill>
        <p:spPr>
          <a:xfrm>
            <a:off x="4141800" y="20574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9" descr="未标题-2"/>
          <p:cNvPicPr/>
          <p:nvPr/>
        </p:nvPicPr>
        <p:blipFill>
          <a:blip r:embed="rId18"/>
          <a:stretch/>
        </p:blipFill>
        <p:spPr>
          <a:xfrm>
            <a:off x="4675320" y="16002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0" descr="未标题-2"/>
          <p:cNvPicPr/>
          <p:nvPr/>
        </p:nvPicPr>
        <p:blipFill>
          <a:blip r:embed="rId19"/>
          <a:stretch/>
        </p:blipFill>
        <p:spPr>
          <a:xfrm>
            <a:off x="5208480" y="1066680"/>
            <a:ext cx="1040040" cy="827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1" descr="未标题-2"/>
          <p:cNvPicPr/>
          <p:nvPr/>
        </p:nvPicPr>
        <p:blipFill>
          <a:blip r:embed="rId20"/>
          <a:stretch/>
        </p:blipFill>
        <p:spPr>
          <a:xfrm>
            <a:off x="505620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2" descr="未标题-2"/>
          <p:cNvPicPr/>
          <p:nvPr/>
        </p:nvPicPr>
        <p:blipFill>
          <a:blip r:embed="rId21"/>
          <a:stretch/>
        </p:blipFill>
        <p:spPr>
          <a:xfrm>
            <a:off x="5589720" y="383220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3" descr="未标题-2"/>
          <p:cNvPicPr/>
          <p:nvPr/>
        </p:nvPicPr>
        <p:blipFill>
          <a:blip r:embed="rId22"/>
          <a:stretch/>
        </p:blipFill>
        <p:spPr>
          <a:xfrm>
            <a:off x="4202280" y="4092480"/>
            <a:ext cx="1409400" cy="1121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4" descr="未标题-2"/>
          <p:cNvPicPr/>
          <p:nvPr/>
        </p:nvPicPr>
        <p:blipFill>
          <a:blip r:embed="rId23"/>
          <a:stretch/>
        </p:blipFill>
        <p:spPr>
          <a:xfrm>
            <a:off x="4722840" y="367812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5" descr="未标题-2"/>
          <p:cNvPicPr/>
          <p:nvPr/>
        </p:nvPicPr>
        <p:blipFill>
          <a:blip r:embed="rId24"/>
          <a:stretch/>
        </p:blipFill>
        <p:spPr>
          <a:xfrm>
            <a:off x="5180040" y="3265560"/>
            <a:ext cx="1409760" cy="1120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6" descr="未标题-2"/>
          <p:cNvPicPr/>
          <p:nvPr/>
        </p:nvPicPr>
        <p:blipFill>
          <a:blip r:embed="rId25"/>
          <a:stretch/>
        </p:blipFill>
        <p:spPr>
          <a:xfrm>
            <a:off x="5789520" y="27208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7" descr="未标题-2"/>
          <p:cNvPicPr/>
          <p:nvPr/>
        </p:nvPicPr>
        <p:blipFill>
          <a:blip r:embed="rId26"/>
          <a:stretch/>
        </p:blipFill>
        <p:spPr>
          <a:xfrm>
            <a:off x="6323040" y="22636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8" descr="未标题-2"/>
          <p:cNvPicPr/>
          <p:nvPr/>
        </p:nvPicPr>
        <p:blipFill>
          <a:blip r:embed="rId27"/>
          <a:stretch/>
        </p:blipFill>
        <p:spPr>
          <a:xfrm>
            <a:off x="6858000" y="1730520"/>
            <a:ext cx="1407960" cy="11206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9" descr="未标题-2"/>
          <p:cNvPicPr/>
          <p:nvPr/>
        </p:nvPicPr>
        <p:blipFill>
          <a:blip r:embed="rId28"/>
          <a:stretch/>
        </p:blipFill>
        <p:spPr>
          <a:xfrm>
            <a:off x="6324480" y="5181480"/>
            <a:ext cx="723960" cy="5749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0" descr="未标题-2"/>
          <p:cNvPicPr/>
          <p:nvPr/>
        </p:nvPicPr>
        <p:blipFill>
          <a:blip r:embed="rId29"/>
          <a:stretch/>
        </p:blipFill>
        <p:spPr>
          <a:xfrm>
            <a:off x="6858000" y="4648320"/>
            <a:ext cx="723960" cy="57456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31"/>
          <p:cNvSpPr/>
          <p:nvPr/>
        </p:nvSpPr>
        <p:spPr>
          <a:xfrm>
            <a:off x="1476360" y="7128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纷纷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出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25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325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475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125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625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775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925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75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" descr="news_200417174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762120" y="53352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</a:rPr>
              <a:t>向日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xll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feng"/>
          <p:cNvPicPr/>
          <p:nvPr/>
        </p:nvPicPr>
        <p:blipFill>
          <a:blip r:embed="rId2"/>
          <a:stretch/>
        </p:blipFill>
        <p:spPr>
          <a:xfrm>
            <a:off x="0" y="1270080"/>
            <a:ext cx="4317840" cy="43178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未标题-2"/>
          <p:cNvPicPr/>
          <p:nvPr/>
        </p:nvPicPr>
        <p:blipFill>
          <a:blip r:embed="rId3"/>
          <a:stretch/>
        </p:blipFill>
        <p:spPr>
          <a:xfrm>
            <a:off x="3532320" y="38098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未标题-2"/>
          <p:cNvPicPr/>
          <p:nvPr/>
        </p:nvPicPr>
        <p:blipFill>
          <a:blip r:embed="rId4"/>
          <a:stretch/>
        </p:blipFill>
        <p:spPr>
          <a:xfrm>
            <a:off x="5638680" y="20574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0" descr="未标题-2"/>
          <p:cNvPicPr/>
          <p:nvPr/>
        </p:nvPicPr>
        <p:blipFill>
          <a:blip r:embed="rId5"/>
          <a:stretch/>
        </p:blipFill>
        <p:spPr>
          <a:xfrm>
            <a:off x="6705720" y="10666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1" descr="未标题-2"/>
          <p:cNvPicPr/>
          <p:nvPr/>
        </p:nvPicPr>
        <p:blipFill>
          <a:blip r:embed="rId6"/>
          <a:stretch/>
        </p:blipFill>
        <p:spPr>
          <a:xfrm>
            <a:off x="5410080" y="5367240"/>
            <a:ext cx="533520" cy="4240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3" descr="未标题-2"/>
          <p:cNvPicPr/>
          <p:nvPr/>
        </p:nvPicPr>
        <p:blipFill>
          <a:blip r:embed="rId7"/>
          <a:stretch/>
        </p:blipFill>
        <p:spPr>
          <a:xfrm>
            <a:off x="655308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0" descr="未标题-2"/>
          <p:cNvPicPr/>
          <p:nvPr/>
        </p:nvPicPr>
        <p:blipFill>
          <a:blip r:embed="rId8"/>
          <a:stretch/>
        </p:blipFill>
        <p:spPr>
          <a:xfrm>
            <a:off x="5208480" y="1066680"/>
            <a:ext cx="1040040" cy="827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1" descr="未标题-2"/>
          <p:cNvPicPr/>
          <p:nvPr/>
        </p:nvPicPr>
        <p:blipFill>
          <a:blip r:embed="rId9"/>
          <a:stretch/>
        </p:blipFill>
        <p:spPr>
          <a:xfrm>
            <a:off x="505620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2" descr="未标题-2"/>
          <p:cNvPicPr/>
          <p:nvPr/>
        </p:nvPicPr>
        <p:blipFill>
          <a:blip r:embed="rId10"/>
          <a:stretch/>
        </p:blipFill>
        <p:spPr>
          <a:xfrm>
            <a:off x="5589720" y="383220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7" descr="未标题-2"/>
          <p:cNvPicPr/>
          <p:nvPr/>
        </p:nvPicPr>
        <p:blipFill>
          <a:blip r:embed="rId11"/>
          <a:stretch/>
        </p:blipFill>
        <p:spPr>
          <a:xfrm>
            <a:off x="6323040" y="22636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9" descr="未标题-2"/>
          <p:cNvPicPr/>
          <p:nvPr/>
        </p:nvPicPr>
        <p:blipFill>
          <a:blip r:embed="rId12"/>
          <a:stretch/>
        </p:blipFill>
        <p:spPr>
          <a:xfrm>
            <a:off x="6324480" y="5181480"/>
            <a:ext cx="723960" cy="574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0" descr="未标题-2"/>
          <p:cNvPicPr/>
          <p:nvPr/>
        </p:nvPicPr>
        <p:blipFill>
          <a:blip r:embed="rId13"/>
          <a:stretch/>
        </p:blipFill>
        <p:spPr>
          <a:xfrm>
            <a:off x="6858000" y="4648320"/>
            <a:ext cx="723960" cy="57456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31"/>
          <p:cNvSpPr/>
          <p:nvPr/>
        </p:nvSpPr>
        <p:spPr>
          <a:xfrm>
            <a:off x="755640" y="9810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轻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乘着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纷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F77AFC66DBC4BBBB78186E477EA138D8_800"/>
          <p:cNvPicPr/>
          <p:nvPr/>
        </p:nvPicPr>
        <p:blipFill>
          <a:blip r:embed="rId1"/>
          <a:stretch/>
        </p:blipFill>
        <p:spPr>
          <a:xfrm>
            <a:off x="-433440" y="0"/>
            <a:ext cx="9577440" cy="703728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3"/>
          <p:cNvSpPr/>
          <p:nvPr/>
        </p:nvSpPr>
        <p:spPr>
          <a:xfrm>
            <a:off x="1116000" y="76500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海为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7" descr="20061111_237e1c51ddc0de0308c66940840f1af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5"/>
          <p:cNvSpPr/>
          <p:nvPr/>
        </p:nvSpPr>
        <p:spPr>
          <a:xfrm>
            <a:off x="7467480" y="6248520"/>
            <a:ext cx="738360" cy="380880"/>
          </a:xfrm>
          <a:custGeom>
            <a:avLst/>
            <a:gdLst>
              <a:gd name="textAreaLeft" fmla="*/ 24480 w 738360"/>
              <a:gd name="textAreaRight" fmla="*/ 713880 w 738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1854" h="21600">
                <a:moveTo>
                  <a:pt x="0" y="0"/>
                </a:moveTo>
                <a:lnTo>
                  <a:pt x="41854" y="0"/>
                </a:lnTo>
                <a:lnTo>
                  <a:pt x="41854" y="21600"/>
                </a:lnTo>
                <a:lnTo>
                  <a:pt x="0" y="21600"/>
                </a:lnTo>
                <a:close/>
              </a:path>
              <a:path fill="lightenLess" w="41854" h="21600">
                <a:moveTo>
                  <a:pt x="0" y="0"/>
                </a:moveTo>
                <a:lnTo>
                  <a:pt x="41854" y="0"/>
                </a:lnTo>
                <a:lnTo>
                  <a:pt x="40454" y="1400"/>
                </a:lnTo>
                <a:lnTo>
                  <a:pt x="1400" y="1400"/>
                </a:lnTo>
                <a:close/>
              </a:path>
              <a:path fill="darken" w="41854" h="21600">
                <a:moveTo>
                  <a:pt x="41854" y="0"/>
                </a:moveTo>
                <a:lnTo>
                  <a:pt x="41854" y="21600"/>
                </a:lnTo>
                <a:lnTo>
                  <a:pt x="40454" y="20200"/>
                </a:lnTo>
                <a:lnTo>
                  <a:pt x="40454" y="1400"/>
                </a:lnTo>
                <a:close/>
              </a:path>
              <a:path fill="darkenLess" w="41854" h="21600">
                <a:moveTo>
                  <a:pt x="41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54" y="20200"/>
                </a:lnTo>
                <a:close/>
              </a:path>
              <a:path fill="lighten" w="41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54" h="21600">
                <a:moveTo>
                  <a:pt x="13920" y="3794"/>
                </a:moveTo>
                <a:lnTo>
                  <a:pt x="27933" y="10800"/>
                </a:lnTo>
                <a:lnTo>
                  <a:pt x="139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3"/>
          <p:cNvSpPr/>
          <p:nvPr/>
        </p:nvSpPr>
        <p:spPr>
          <a:xfrm>
            <a:off x="684360" y="1700280"/>
            <a:ext cx="7772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蒲公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准备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降落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娃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乘着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纷纷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4"/>
          <p:cNvSpPr/>
          <p:nvPr/>
        </p:nvSpPr>
        <p:spPr>
          <a:xfrm flipH="1">
            <a:off x="8610480" y="64008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238880" y="2970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7391520" y="297000"/>
            <a:ext cx="533160" cy="70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1042920" y="5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再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5" descr="25900aacf6ddaa204b36d6a5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4"/>
          <p:cNvSpPr/>
          <p:nvPr/>
        </p:nvSpPr>
        <p:spPr>
          <a:xfrm>
            <a:off x="8077320" y="6653160"/>
            <a:ext cx="533160" cy="204840"/>
          </a:xfrm>
          <a:custGeom>
            <a:avLst/>
            <a:gdLst>
              <a:gd name="textAreaLeft" fmla="*/ 12960 w 533160"/>
              <a:gd name="textAreaRight" fmla="*/ 520200 w 53316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56160" h="21600">
                <a:moveTo>
                  <a:pt x="0" y="0"/>
                </a:moveTo>
                <a:lnTo>
                  <a:pt x="56160" y="0"/>
                </a:lnTo>
                <a:lnTo>
                  <a:pt x="56160" y="21600"/>
                </a:lnTo>
                <a:lnTo>
                  <a:pt x="0" y="21600"/>
                </a:lnTo>
                <a:close/>
              </a:path>
              <a:path fill="lightenLess" w="56160" h="21600">
                <a:moveTo>
                  <a:pt x="0" y="0"/>
                </a:moveTo>
                <a:lnTo>
                  <a:pt x="56160" y="0"/>
                </a:lnTo>
                <a:lnTo>
                  <a:pt x="54760" y="1400"/>
                </a:lnTo>
                <a:lnTo>
                  <a:pt x="1400" y="1400"/>
                </a:lnTo>
                <a:close/>
              </a:path>
              <a:path fill="darken" w="56160" h="21600">
                <a:moveTo>
                  <a:pt x="56160" y="0"/>
                </a:moveTo>
                <a:lnTo>
                  <a:pt x="56160" y="21600"/>
                </a:lnTo>
                <a:lnTo>
                  <a:pt x="54760" y="20200"/>
                </a:lnTo>
                <a:lnTo>
                  <a:pt x="54760" y="1400"/>
                </a:lnTo>
                <a:close/>
              </a:path>
              <a:path fill="darkenLess" w="56160" h="21600">
                <a:moveTo>
                  <a:pt x="56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60" y="20200"/>
                </a:lnTo>
                <a:close/>
              </a:path>
              <a:path fill="lighten" w="56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60" h="21600">
                <a:moveTo>
                  <a:pt x="21074" y="3794"/>
                </a:moveTo>
                <a:lnTo>
                  <a:pt x="35086" y="10800"/>
                </a:lnTo>
                <a:lnTo>
                  <a:pt x="210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zhanguowushi"/>
          <p:cNvPicPr/>
          <p:nvPr/>
        </p:nvPicPr>
        <p:blipFill>
          <a:blip r:embed="rId1"/>
          <a:stretch/>
        </p:blipFill>
        <p:spPr>
          <a:xfrm>
            <a:off x="0" y="0"/>
            <a:ext cx="480204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3"/>
          <p:cNvSpPr/>
          <p:nvPr/>
        </p:nvSpPr>
        <p:spPr>
          <a:xfrm>
            <a:off x="5219640" y="40464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铠 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Picture 4" descr="无标题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37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兔"/>
          <p:cNvPicPr/>
          <p:nvPr/>
        </p:nvPicPr>
        <p:blipFill>
          <a:blip r:embed="rId1"/>
          <a:stretch/>
        </p:blipFill>
        <p:spPr>
          <a:xfrm>
            <a:off x="7954920" y="0"/>
            <a:ext cx="1189080" cy="12193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兔苍二"/>
          <p:cNvPicPr/>
          <p:nvPr/>
        </p:nvPicPr>
        <p:blipFill>
          <a:blip r:embed="rId2"/>
          <a:stretch/>
        </p:blipFill>
        <p:spPr>
          <a:xfrm>
            <a:off x="2286000" y="3429000"/>
            <a:ext cx="1857240" cy="19051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兔"/>
          <p:cNvPicPr/>
          <p:nvPr/>
        </p:nvPicPr>
        <p:blipFill>
          <a:blip r:embed="rId3"/>
          <a:stretch/>
        </p:blipFill>
        <p:spPr>
          <a:xfrm>
            <a:off x="7391520" y="304920"/>
            <a:ext cx="1411200" cy="14475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兔"/>
          <p:cNvPicPr/>
          <p:nvPr/>
        </p:nvPicPr>
        <p:blipFill>
          <a:blip r:embed="rId4"/>
          <a:stretch/>
        </p:blipFill>
        <p:spPr>
          <a:xfrm>
            <a:off x="6861240" y="533520"/>
            <a:ext cx="1560600" cy="16002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" descr="兔"/>
          <p:cNvPicPr/>
          <p:nvPr/>
        </p:nvPicPr>
        <p:blipFill>
          <a:blip r:embed="rId5"/>
          <a:stretch/>
        </p:blipFill>
        <p:spPr>
          <a:xfrm>
            <a:off x="6019920" y="838080"/>
            <a:ext cx="1708200" cy="17528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兔"/>
          <p:cNvPicPr/>
          <p:nvPr/>
        </p:nvPicPr>
        <p:blipFill>
          <a:blip r:embed="rId6"/>
          <a:stretch/>
        </p:blipFill>
        <p:spPr>
          <a:xfrm>
            <a:off x="4952880" y="1676520"/>
            <a:ext cx="1708200" cy="17524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8" descr="兔"/>
          <p:cNvPicPr/>
          <p:nvPr/>
        </p:nvPicPr>
        <p:blipFill>
          <a:blip r:embed="rId7"/>
          <a:stretch/>
        </p:blipFill>
        <p:spPr>
          <a:xfrm>
            <a:off x="3718080" y="2286000"/>
            <a:ext cx="1707840" cy="17524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9" descr="兔苍二"/>
          <p:cNvPicPr/>
          <p:nvPr/>
        </p:nvPicPr>
        <p:blipFill>
          <a:blip r:embed="rId8"/>
          <a:stretch/>
        </p:blipFill>
        <p:spPr>
          <a:xfrm>
            <a:off x="1677960" y="3733920"/>
            <a:ext cx="1932120" cy="19810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0" descr="兔苍二"/>
          <p:cNvPicPr/>
          <p:nvPr/>
        </p:nvPicPr>
        <p:blipFill>
          <a:blip r:embed="rId9"/>
          <a:stretch/>
        </p:blipFill>
        <p:spPr>
          <a:xfrm>
            <a:off x="920880" y="3886200"/>
            <a:ext cx="2154240" cy="2209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1" descr="苍二"/>
          <p:cNvPicPr/>
          <p:nvPr/>
        </p:nvPicPr>
        <p:blipFill>
          <a:blip r:embed="rId10"/>
          <a:stretch/>
        </p:blipFill>
        <p:spPr>
          <a:xfrm>
            <a:off x="2286000" y="1549440"/>
            <a:ext cx="5683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25900aacf6ddaa204b36d6a5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4"/>
          <p:cNvSpPr/>
          <p:nvPr/>
        </p:nvSpPr>
        <p:spPr>
          <a:xfrm>
            <a:off x="2657160" y="836640"/>
            <a:ext cx="420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好办法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孩子们穿上带刺的铠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、山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25900aacf6ddaa204b36d6a5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3"/>
          <p:cNvSpPr/>
          <p:nvPr/>
        </p:nvSpPr>
        <p:spPr>
          <a:xfrm>
            <a:off x="2167920" y="836640"/>
            <a:ext cx="45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们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上带刺的铠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们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能去田野、山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25900aacf6ddaa204b36d6a5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3"/>
          <p:cNvSpPr/>
          <p:nvPr/>
        </p:nvSpPr>
        <p:spPr>
          <a:xfrm>
            <a:off x="2840040" y="83664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给孩子们穿上带刺的铠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、山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樱桃"/>
          <p:cNvPicPr/>
          <p:nvPr/>
        </p:nvPicPr>
        <p:blipFill>
          <a:blip r:embed="rId1"/>
          <a:stretch/>
        </p:blipFill>
        <p:spPr>
          <a:xfrm>
            <a:off x="611280" y="12600"/>
            <a:ext cx="7921440" cy="6831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1518840" y="368280"/>
            <a:ext cx="16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樱  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2008722037641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3"/>
          <p:cNvSpPr/>
          <p:nvPr/>
        </p:nvSpPr>
        <p:spPr>
          <a:xfrm>
            <a:off x="3161880" y="836640"/>
            <a:ext cx="38840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让豆荚晒在太阳底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啪的一声，豆荚炸开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蹦着跳着离开妈妈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indefinite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豆荚"/>
          <p:cNvPicPr/>
          <p:nvPr/>
        </p:nvPicPr>
        <p:blipFill>
          <a:blip r:embed="rId1"/>
          <a:stretch/>
        </p:blipFill>
        <p:spPr>
          <a:xfrm>
            <a:off x="1486080" y="749160"/>
            <a:ext cx="7657920" cy="53578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太阳"/>
          <p:cNvPicPr/>
          <p:nvPr/>
        </p:nvPicPr>
        <p:blipFill>
          <a:blip r:embed="rId2"/>
          <a:stretch/>
        </p:blipFill>
        <p:spPr>
          <a:xfrm>
            <a:off x="838080" y="533520"/>
            <a:ext cx="2032200" cy="21081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豆荚开2"/>
          <p:cNvPicPr/>
          <p:nvPr/>
        </p:nvPicPr>
        <p:blipFill>
          <a:blip r:embed="rId3"/>
          <a:stretch/>
        </p:blipFill>
        <p:spPr>
          <a:xfrm>
            <a:off x="2971800" y="5257800"/>
            <a:ext cx="1181160" cy="5079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豆荚开3"/>
          <p:cNvPicPr/>
          <p:nvPr/>
        </p:nvPicPr>
        <p:blipFill>
          <a:blip r:embed="rId4"/>
          <a:stretch/>
        </p:blipFill>
        <p:spPr>
          <a:xfrm>
            <a:off x="3848040" y="5562720"/>
            <a:ext cx="1447920" cy="8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4" name="Object 6"/>
          <p:cNvGraphicFramePr/>
          <p:nvPr/>
        </p:nvGraphicFramePr>
        <p:xfrm>
          <a:off x="2286000" y="5486400"/>
          <a:ext cx="37152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486400"/>
                    <a:ext cx="371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7"/>
          <p:cNvGraphicFramePr/>
          <p:nvPr/>
        </p:nvGraphicFramePr>
        <p:xfrm>
          <a:off x="1981080" y="5791320"/>
          <a:ext cx="371520" cy="39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791320"/>
                    <a:ext cx="3715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8"/>
          <p:cNvGraphicFramePr/>
          <p:nvPr/>
        </p:nvGraphicFramePr>
        <p:xfrm>
          <a:off x="1295280" y="5562720"/>
          <a:ext cx="371520" cy="39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562720"/>
                    <a:ext cx="3715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R5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R5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wandou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216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711" name="Text Box 3"/>
          <p:cNvSpPr/>
          <p:nvPr/>
        </p:nvSpPr>
        <p:spPr>
          <a:xfrm>
            <a:off x="2776680" y="547560"/>
            <a:ext cx="42192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让豆荚晒在太阳底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啪的一声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豆荚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炸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开妈妈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4"/>
          <p:cNvSpPr/>
          <p:nvPr/>
        </p:nvSpPr>
        <p:spPr>
          <a:xfrm>
            <a:off x="7596360" y="6021360"/>
            <a:ext cx="480960" cy="379440"/>
          </a:xfrm>
          <a:custGeom>
            <a:avLst/>
            <a:gdLst>
              <a:gd name="textAreaLeft" fmla="*/ 24480 w 480960"/>
              <a:gd name="textAreaRight" fmla="*/ 456480 w 480960"/>
              <a:gd name="textAreaTop" fmla="*/ 24480 h 379440"/>
              <a:gd name="textAreaBottom" fmla="*/ 354960 h 379440"/>
            </a:gdLst>
            <a:ahLst/>
            <a:rect l="textAreaLeft" t="textAreaTop" r="textAreaRight" b="textAreaBottom"/>
            <a:pathLst>
              <a:path w="27374" h="21600">
                <a:moveTo>
                  <a:pt x="0" y="0"/>
                </a:moveTo>
                <a:lnTo>
                  <a:pt x="27374" y="0"/>
                </a:lnTo>
                <a:lnTo>
                  <a:pt x="27374" y="21600"/>
                </a:lnTo>
                <a:lnTo>
                  <a:pt x="0" y="21600"/>
                </a:lnTo>
                <a:close/>
              </a:path>
              <a:path fill="lightenLess" w="27374" h="21600">
                <a:moveTo>
                  <a:pt x="0" y="0"/>
                </a:moveTo>
                <a:lnTo>
                  <a:pt x="27374" y="0"/>
                </a:lnTo>
                <a:lnTo>
                  <a:pt x="25974" y="1400"/>
                </a:lnTo>
                <a:lnTo>
                  <a:pt x="1400" y="1400"/>
                </a:lnTo>
                <a:close/>
              </a:path>
              <a:path fill="darken" w="27374" h="21600">
                <a:moveTo>
                  <a:pt x="27374" y="0"/>
                </a:moveTo>
                <a:lnTo>
                  <a:pt x="27374" y="21600"/>
                </a:lnTo>
                <a:lnTo>
                  <a:pt x="25974" y="20200"/>
                </a:lnTo>
                <a:lnTo>
                  <a:pt x="25974" y="1400"/>
                </a:lnTo>
                <a:close/>
              </a:path>
              <a:path fill="darkenLess" w="27374" h="21600">
                <a:moveTo>
                  <a:pt x="27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74" y="20200"/>
                </a:lnTo>
                <a:close/>
              </a:path>
              <a:path fill="lighten" w="27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74" h="21600">
                <a:moveTo>
                  <a:pt x="6680" y="3794"/>
                </a:moveTo>
                <a:lnTo>
                  <a:pt x="20693" y="10800"/>
                </a:lnTo>
                <a:lnTo>
                  <a:pt x="668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611280" y="105264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啪的一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豆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炸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3" descr="p4p4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715" name="Oval 4"/>
          <p:cNvSpPr/>
          <p:nvPr/>
        </p:nvSpPr>
        <p:spPr>
          <a:xfrm>
            <a:off x="8534520" y="6477120"/>
            <a:ext cx="15228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755640" y="105264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啪的一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豆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炸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3" descr="p4p4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718" name="Oval 4"/>
          <p:cNvSpPr/>
          <p:nvPr/>
        </p:nvSpPr>
        <p:spPr>
          <a:xfrm>
            <a:off x="8534520" y="6477120"/>
            <a:ext cx="15228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826920" y="333360"/>
            <a:ext cx="90741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粗心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1447920" y="5410080"/>
            <a:ext cx="69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到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Picture 4" descr="Q_MARK2"/>
          <p:cNvPicPr/>
          <p:nvPr/>
        </p:nvPicPr>
        <p:blipFill>
          <a:blip r:embed="rId1"/>
          <a:stretch/>
        </p:blipFill>
        <p:spPr>
          <a:xfrm>
            <a:off x="1676520" y="4876920"/>
            <a:ext cx="77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539640" y="620640"/>
            <a:ext cx="9001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能得到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324000" y="42210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细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8305920" y="297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4" descr="200841419523897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种子传播的奥秘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种子的传播方式大致有四种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风传播、动物传播、弹射传播、水传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    春天，柳絮四处飞扬。你知道春天柳絮飞扬的奥秘吗？抓一团柳絮仔细观察，会发现里面有些小颗粒，那就是柳树的种子。柳树就是靠柳絮的飞扬，把种子传播到四面八方的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凤仙花妈妈的办法跟豌豆妈妈的办法差不多，凤仙花果实成熟后炸裂，凤仙花妈妈用这种办法把种子送到四面八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tnpic190"/>
          <p:cNvPicPr/>
          <p:nvPr/>
        </p:nvPicPr>
        <p:blipFill>
          <a:blip r:embed="rId1"/>
          <a:stretch/>
        </p:blipFill>
        <p:spPr>
          <a:xfrm>
            <a:off x="0" y="0"/>
            <a:ext cx="10515600" cy="746748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3"/>
          <p:cNvSpPr/>
          <p:nvPr/>
        </p:nvSpPr>
        <p:spPr>
          <a:xfrm>
            <a:off x="609480" y="2971800"/>
            <a:ext cx="7696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你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植物还有哪些传播种子的方法吗</a:t>
            </a: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ZW_074"/>
          <p:cNvPicPr/>
          <p:nvPr/>
        </p:nvPicPr>
        <p:blipFill>
          <a:blip r:embed="rId1"/>
          <a:stretch/>
        </p:blipFill>
        <p:spPr>
          <a:xfrm>
            <a:off x="457200" y="228600"/>
            <a:ext cx="8077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a8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685800" y="379800"/>
            <a:ext cx="3741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ú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蒲公英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ZW_074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3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椰树的传播依靠流水，所以椰树一般长在江河海洋的沿岸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0" y="3809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762120" y="685800"/>
            <a:ext cx="79246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些植物的果实非常好吃。像野葡萄、柿子等被小鸟或动物 吃了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，种子会随动物的粪便传到各处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7010280" y="3124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èn  b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304920" y="6172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can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7740720" cy="66214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1332000" y="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ān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苍   耳</a:t>
            </a:r>
            <a:r>
              <a:rPr b="1" lang="zh-CN" sz="66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905120" y="5638680"/>
            <a:ext cx="5333760" cy="10087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3" descr="xin_5431104150929119278185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4"/>
          <p:cNvSpPr/>
          <p:nvPr/>
        </p:nvSpPr>
        <p:spPr>
          <a:xfrm>
            <a:off x="653040" y="907200"/>
            <a:ext cx="23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99"/>
                </a:solidFill>
                <a:latin typeface="楷体_GB2312"/>
                <a:ea typeface="楷体_GB2312"/>
              </a:rPr>
              <a:t>豌 豆</a:t>
            </a:r>
            <a:r>
              <a:rPr b="1" lang="zh-CN" sz="4800" spc="-1" strike="noStrike">
                <a:solidFill>
                  <a:srgbClr val="66ff99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7" descr="绿005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2215800" y="1628640"/>
            <a:ext cx="49262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3.</a:t>
            </a:r>
            <a:r>
              <a:rPr b="1" lang="zh-CN" sz="72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植物妈妈有办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59120" y="1533600"/>
            <a:ext cx="9137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lǚ   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ji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w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fēn   cā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 蒲　降　娃　纷　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wā   pā   z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c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s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洼 啪  炸　蹦　察　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art_0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611280" y="1125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旅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蒲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英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降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伞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娃娃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纷纷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苍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洼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啪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炸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察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蹦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跳着 知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5:15:4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16:54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