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70C-49C0-4D48-8F65-D5983AD5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4BC-CABB-435F-8380-D2900B59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BD8-DE5A-4122-AC0A-77DB4A90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DA1-BD17-4665-8B91-1B0B8707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C0BC-A231-4CA5-A0EE-5DD6037B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2971-4D3F-4569-AA1C-C9A4D2C8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6C39-0039-45B2-AB0E-E36AE8CA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0874-D154-4849-A3AD-1C9E4A93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AEA8-A387-4BA3-8E44-501E91B8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3A4F-AD2E-4C61-A6E3-5113262F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D8FD-94E0-494E-94AC-6586ADA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0D2-701B-44A4-AFF8-0103758C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1E94-273A-401A-B459-31A024CD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12D3-432D-416C-A363-6BBC3413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B190-34C4-4FDC-B290-9FA6053C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1456-4E26-4624-98C6-2B35DDA0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0871-5042-46B1-8FA7-1082246F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E100-CAE6-4F44-B030-DEDAF90F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FE1B-FFE9-4B7D-BB28-E2F99E97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94CC-351A-414D-81B2-F87668CA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E0B4-818E-4BA9-9E04-C824377A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7811E-2432-4D46-A1B6-08B413E3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B25-2326-4FBC-B294-1795C3EF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77CE-153D-476D-BE8B-43BA3303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8102-72D7-4405-BC05-CB54FCDD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BC32-6477-4A3D-9E86-A39B51B1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945F-AAA8-4A71-B8DC-4EA5185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17BF-B37F-4AA3-9B05-3C0D301E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275F-EE05-4BDA-BDE1-1313E47A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4C68-D8F2-48CD-B416-AB165E0C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5C33-C5B0-4EBE-B336-7BCFAE42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CF20-2B27-4154-B7B6-1FC0015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D231-16F1-47B2-AA38-4D668951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30A-C22B-4B4D-8959-7C704403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6641-F5A5-4518-A32B-195B4873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8884-9750-4BC2-99B6-A57F649B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A58B-1258-4721-A4A6-FB13AB3E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A5B2-F39D-4D1D-9880-A97CDD20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24589-13DC-46F2-B6AA-2809456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9A27F-3171-440E-AE59-4AA0947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93F06-5039-447A-8631-EE81FCCF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CB07-6B31-44D6-BC47-87B82964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4CC1-C4C4-4E80-873E-9DBD9985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3A915-C85E-4A9D-9157-08D21268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4D1-2326-4D1F-A0AB-5FD4443C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0689-230E-4CAD-95E7-5D50083B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3EF9D-44D4-42B3-B5BE-0F8F2675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6745-3CC6-4FCD-ADF9-F4D73D0F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8BB0-DA6F-493A-B562-011B478B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5A37C-242F-479E-A121-3966E8E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07D65-D1C8-4059-82C8-B460993E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2251-0167-42A7-94A6-06EC153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63ED-AB5F-43B9-8CD4-B8CBF57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9461A-FD87-4122-AE4F-F52010E0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A79A-F95C-42D0-A805-BEC1F576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C89-BB68-4DE2-825A-F7DEEDBE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CE335-4995-4537-A0E3-F7BE354E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5DCA3-FABC-4C61-96A7-732D1AA7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F0101-55A9-4D65-B756-9380E72E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3CBA1-EBE7-41A6-A8CA-0953112E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48BA3-49FB-409C-A061-C9D9C415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F0554-9E19-49F2-B896-1832865B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BF576-46D0-420C-A708-3F1B9B09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E339-D05B-4699-82BF-3E3E98F5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3971-8865-4AE6-B1DB-301D225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0076A-4221-4706-9760-1551DA5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117-7140-4BFE-9782-02B73A21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1F6D1-F6EA-4BE4-801C-73EB0973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21127-0330-4EBD-8E10-368493A7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5421-C4D3-4307-9CE4-B944B2C3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FE5B6-71C3-4A5A-B624-18746C7D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F09D-D227-405B-BDF8-00C82F37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A61A-D019-464F-999D-E6755344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BCD29-391A-4A70-A651-C6733131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7A64-C271-493B-8D8E-7EBCC008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D3D6B-B1C6-4A50-8BA2-518AE20D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6D9CC-9019-43D2-A312-1751A13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1F7-306D-48E3-BA57-EB7B5B2A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74D4-C4F5-4616-8FAA-D4E49128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750E4-CF00-485F-B71B-C8A62441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6D8B-D75C-45C7-84E2-6F8FA0CF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288A3-F214-415C-9DC3-EF73A6AB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33F3B-183B-4C8F-B1F1-BD1931B1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3FB-C718-4000-88FE-94BD188D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493E-1170-401F-B74F-1B21F4B1C5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68D8-0FC6-4C57-ABB4-3DE3CAFFFA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2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4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5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7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8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3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4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5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6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7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8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9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0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1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2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4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5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6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7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8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9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0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1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2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3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4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5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6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7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8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9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0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1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2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3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86B2-737D-4E90-9513-E289A801F17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FCA6-B67C-4524-AD8E-D38141A213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4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3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4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5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7C4C-6CA1-4F14-99CB-E4E451653881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DEAD-AEE1-4BE2-AEF6-29C9309674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92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3E39-D861-4DC9-B1A9-8F784B1D49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eeppt.com/beijing/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83920" y="12700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晏子使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小记者们读课文第一个故事，找出楚王侮辱晏子的事例，体会晏子反驳的话，哪句最厉害。（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线画出侮辱的事例，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~~~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线画出晏子反驳的话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3"/>
          <p:cNvSpPr txBox="1"/>
          <p:nvPr/>
        </p:nvSpPr>
        <p:spPr>
          <a:xfrm>
            <a:off x="8748720" y="0"/>
            <a:ext cx="3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7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1371600" y="21956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676520" y="10825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橘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2514600" y="762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于淮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514600" y="1523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于淮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105520" y="7779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橘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5105520" y="1539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枳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7" name="AutoShape 8"/>
          <p:cNvSpPr/>
          <p:nvPr/>
        </p:nvSpPr>
        <p:spPr>
          <a:xfrm>
            <a:off x="3059280" y="253836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851280" y="2394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土不同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1828800" y="3825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743200" y="3460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长于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3200" y="414648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入      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-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219640" y="33084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劳动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5219640" y="4122720"/>
            <a:ext cx="12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盗贼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4" name="AutoShape 15"/>
          <p:cNvSpPr/>
          <p:nvPr/>
        </p:nvSpPr>
        <p:spPr>
          <a:xfrm>
            <a:off x="2438280" y="87012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5" name="AutoShape 16"/>
          <p:cNvSpPr/>
          <p:nvPr/>
        </p:nvSpPr>
        <p:spPr>
          <a:xfrm flipH="1" rot="10810800">
            <a:off x="2588760" y="361152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6" name="AutoShape 17"/>
          <p:cNvSpPr/>
          <p:nvPr/>
        </p:nvSpPr>
        <p:spPr>
          <a:xfrm>
            <a:off x="2057400" y="53341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819520" y="53182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同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2819520" y="52578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ahoma"/>
              </a:rPr>
              <a:t>社会风气、国君治理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选择自己喜欢的方式自由读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15640" y="2249280"/>
            <a:ext cx="9396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、动口、动手、用心朗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、看课文讲了几个小故事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别是什么故事呢？从哪段看出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8748720" y="6381720"/>
            <a:ext cx="395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3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2411280" y="1159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看 课 本 剧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3" name="晏子1.mpg" descr=""/>
          <p:cNvPicPr/>
          <p:nvPr/>
        </p:nvPicPr>
        <p:blipFill>
          <a:blip r:embed="rId2"/>
          <a:stretch/>
        </p:blipFill>
        <p:spPr>
          <a:xfrm>
            <a:off x="1062000" y="1125360"/>
            <a:ext cx="7039080" cy="5758200"/>
          </a:xfrm>
          <a:prstGeom prst="rect">
            <a:avLst/>
          </a:prstGeom>
          <a:ln w="0">
            <a:noFill/>
          </a:ln>
        </p:spPr>
      </p:pic>
      <p:sp>
        <p:nvSpPr>
          <p:cNvPr id="504" name="WordArt 4"/>
          <p:cNvSpPr txBox="1"/>
          <p:nvPr/>
        </p:nvSpPr>
        <p:spPr>
          <a:xfrm>
            <a:off x="8675640" y="0"/>
            <a:ext cx="4683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8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晏子面对楚王的侮辱，他又会怎样对接待的人说这番话呢？请选择合适的提示语，然后读一读，说说你为什么这样选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怒发冲冲地    心平气和地    冷静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3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0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1834920" y="287280"/>
            <a:ext cx="6265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们还是来看看晏子是怎样说的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晏子2.mpg" descr=""/>
          <p:cNvPicPr/>
          <p:nvPr/>
        </p:nvPicPr>
        <p:blipFill>
          <a:blip r:embed="rId2"/>
          <a:stretch/>
        </p:blipFill>
        <p:spPr>
          <a:xfrm>
            <a:off x="1187280" y="1098720"/>
            <a:ext cx="7039080" cy="5759280"/>
          </a:xfrm>
          <a:prstGeom prst="rect">
            <a:avLst/>
          </a:prstGeom>
          <a:ln w="0">
            <a:noFill/>
          </a:ln>
        </p:spPr>
      </p:pic>
      <p:sp>
        <p:nvSpPr>
          <p:cNvPr id="509" name="WordArt 4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1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0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士卫把晏子的话传给了楚王，楚王听了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5280" y="285264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这句话你体会到了什么？哪一个词语集中体现了楚王毫无办法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900000" y="4697280"/>
            <a:ext cx="5400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2916360" y="155736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打开城门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WordArt 7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2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推理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访问狗国，才钻狗洞，现在楚国要让我钻狗洞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68360" y="4292640"/>
            <a:ext cx="48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3706920" y="3284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楚国就是狗国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611280" y="9079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晏子反驳时是怎么想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WordArt 7"/>
          <p:cNvSpPr txBox="1"/>
          <p:nvPr/>
        </p:nvSpPr>
        <p:spPr>
          <a:xfrm>
            <a:off x="8915400" y="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9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表      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11-1"/>
          <p:cNvPicPr/>
          <p:nvPr/>
        </p:nvPicPr>
        <p:blipFill>
          <a:blip r:embed="rId2"/>
          <a:stretch/>
        </p:blipFill>
        <p:spPr>
          <a:xfrm>
            <a:off x="1403280" y="1052640"/>
            <a:ext cx="6193080" cy="432108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4"/>
          <p:cNvSpPr/>
          <p:nvPr/>
        </p:nvSpPr>
        <p:spPr>
          <a:xfrm>
            <a:off x="431640" y="566100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楚王这次想到是什么方式来侮辱晏子呢？他是怎样反驳的？结果怎么样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WordArt 6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3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900000" y="1744560"/>
            <a:ext cx="7344000" cy="22885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机智勇敢，善于辞令，不辱使命，极大地维护了国家尊严的出色的外交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8"/>
          <p:cNvSpPr/>
          <p:nvPr/>
        </p:nvSpPr>
        <p:spPr>
          <a:xfrm>
            <a:off x="97164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0" name="Picture 2" descr="Bj_014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5335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春秋是我国历史上的一个时代。这期间，各国经常争战。其中齐楚两国国力强大，争夺霸业很激烈。这篇课文讲的是发生在齐、楚两国外交中的一个故事。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2" name="Picture 4" descr="书4"/>
          <p:cNvPicPr/>
          <p:nvPr/>
        </p:nvPicPr>
        <p:blipFill>
          <a:blip r:embed="rId2"/>
          <a:stretch/>
        </p:blipFill>
        <p:spPr>
          <a:xfrm>
            <a:off x="304920" y="380880"/>
            <a:ext cx="1279440" cy="120024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5">
            <a:hlinkClick r:id="" action="ppaction://hlinkshowjump?jump=nextslide"/>
          </p:cNvPr>
          <p:cNvSpPr/>
          <p:nvPr/>
        </p:nvSpPr>
        <p:spPr>
          <a:xfrm>
            <a:off x="7162920" y="57913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042920" y="2997360"/>
            <a:ext cx="7489800" cy="2104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Arial"/>
                <a:ea typeface="隶书"/>
              </a:rPr>
              <a:t>  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  <a:ea typeface="隶书"/>
              </a:rPr>
              <a:t>人不可貌相，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Arial"/>
                <a:ea typeface="隶书"/>
              </a:rPr>
              <a:t>海水不可斗量。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2466360" y="17002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通过这个故事，我们应该懂得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843840" y="40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转换角度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结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晏子使楚，受到楚王的侮辱，但晏子以他自己超人的智慧和善辩的口才，挫败了楚王的诡计，那么楚王会善罢干休吗？我们下节课再来学习下面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95280" y="345924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课文中难写的词语抄写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2-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遍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完成课后练习题，练习自己讲一讲本文的任意一个小故事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868680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4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75B-7509-4264-9773-01F7CC5FC5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1600200" y="144792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5" name="Picture 3" descr="列国形势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6934320" y="2057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齐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429000" y="4952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7391520" y="60958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3"/>
          <p:cNvPicPr/>
          <p:nvPr/>
        </p:nvPicPr>
        <p:blipFill>
          <a:blip r:embed="rId1"/>
          <a:stretch/>
        </p:blipFill>
        <p:spPr>
          <a:xfrm>
            <a:off x="2514600" y="83808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73"/>
          <p:cNvPicPr/>
          <p:nvPr/>
        </p:nvPicPr>
        <p:blipFill>
          <a:blip r:embed="rId2"/>
          <a:stretch/>
        </p:blipFill>
        <p:spPr>
          <a:xfrm>
            <a:off x="228600" y="3886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84"/>
          <p:cNvPicPr/>
          <p:nvPr/>
        </p:nvPicPr>
        <p:blipFill>
          <a:blip r:embed="rId3"/>
          <a:stretch/>
        </p:blipFill>
        <p:spPr>
          <a:xfrm>
            <a:off x="5029200" y="3886200"/>
            <a:ext cx="3962520" cy="288756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0" y="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隶书"/>
              </a:rPr>
              <a:t>对照下面三幅图画讲一下故事梗概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350208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ppt背景图片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故事发生在公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多年前，我国历史上曾出现了一个群雄纷争的春秋战国时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ject 3" descr=""/>
          <p:cNvPicPr/>
          <p:nvPr/>
        </p:nvPicPr>
        <p:blipFill>
          <a:blip r:embed="rId2"/>
          <a:stretch/>
        </p:blipFill>
        <p:spPr>
          <a:xfrm>
            <a:off x="863640" y="1517760"/>
            <a:ext cx="7308720" cy="5340240"/>
          </a:xfrm>
          <a:prstGeom prst="rect">
            <a:avLst/>
          </a:prstGeom>
          <a:ln w="0">
            <a:noFill/>
          </a:ln>
        </p:spPr>
      </p:pic>
      <p:sp>
        <p:nvSpPr>
          <p:cNvPr id="456" name="WordArt 4"/>
          <p:cNvSpPr txBox="1"/>
          <p:nvPr/>
        </p:nvSpPr>
        <p:spPr>
          <a:xfrm>
            <a:off x="8748720" y="0"/>
            <a:ext cx="395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165200" y="404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其中齐国和楚国是大国，而齐国的强大却离不开一个人。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58" name="Object 3" descr=""/>
          <p:cNvPicPr/>
          <p:nvPr/>
        </p:nvPicPr>
        <p:blipFill>
          <a:blip r:embed="rId2"/>
          <a:stretch/>
        </p:blipFill>
        <p:spPr>
          <a:xfrm>
            <a:off x="193680" y="1173240"/>
            <a:ext cx="4233960" cy="56847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4500720" y="19162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此人身材矮小，但能言善辨，口才极好，被派到其他国家执行外交任务，帮助齐国解决了许多外交上的争端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WordArt 5"/>
          <p:cNvSpPr txBox="1"/>
          <p:nvPr/>
        </p:nvSpPr>
        <p:spPr>
          <a:xfrm>
            <a:off x="8783640" y="6400800"/>
            <a:ext cx="36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973080" y="1988640"/>
            <a:ext cx="7199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晏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囚  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国势    得意洋洋        安居乐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901080" y="15541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yà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2269800" y="1600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449520" y="155736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ǔ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4633200" y="155736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ǒu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7556760" y="1557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961920" y="270828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ǎn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2705400" y="270828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u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3539880" y="2708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ā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4684680" y="27050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i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fà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6878880" y="270828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ái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2" name="WordArt 13"/>
          <p:cNvSpPr txBox="1"/>
          <p:nvPr/>
        </p:nvSpPr>
        <p:spPr>
          <a:xfrm>
            <a:off x="8813880" y="0"/>
            <a:ext cx="330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4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81705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晏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敝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国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侮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辱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瞅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一眼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临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撒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谎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矩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押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囚犯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淮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国势    得意洋洋      安居乐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1547640" y="522936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你是怎样记住这个字的？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5" name="WordArt 4"/>
          <p:cNvSpPr txBox="1"/>
          <p:nvPr/>
        </p:nvSpPr>
        <p:spPr>
          <a:xfrm>
            <a:off x="8915400" y="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395280" y="765000"/>
            <a:ext cx="8137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默读课文，读准字音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、想课文是按什么顺序来写的？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11280" y="4076640"/>
            <a:ext cx="8064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事情的起因，经过，结果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是什么？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WordArt 4"/>
          <p:cNvSpPr txBox="1"/>
          <p:nvPr/>
        </p:nvSpPr>
        <p:spPr>
          <a:xfrm>
            <a:off x="8820000" y="0"/>
            <a:ext cx="32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6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5:14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42:42Z</dcterms:modified>
  <cp:revision>3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