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320-0CAD-4C36-A8F7-31D167D3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7AA-A822-41B9-AE72-DFACF7FA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476-38F2-431F-ADD9-6AC0EEB3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63F-BA4C-4681-AFC4-F596E570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27C-A4FD-4FE0-BFA1-14C18457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3DA-8D3F-4A66-AA77-CDC827AF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4AB-815F-49D7-957D-312F108E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A09-8371-45E9-B7BE-70808F97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D75-E4F5-4572-8AC9-BED700D4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5E1-1356-4636-9962-813F20EF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90D-FE01-4BAA-AF4A-DC424A01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C6E-AA8A-47A0-8B09-140040EC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EC1F-A798-476E-B4A8-F0ABAF0A29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5400" y="981000"/>
            <a:ext cx="38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新年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6237360"/>
            <a:ext cx="56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B03-3AB7-43A4-B7CC-DE6F42EFA3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7T06:23:14Z</dcterms:modified>
  <cp:revision>11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