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AA6-9B95-4173-8964-BBBACCBE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030-4B87-417D-A3F7-E1D50D55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93B-4275-4DDE-A98B-74B4F477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E4B-019D-400D-8385-96D848DA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D83C-2A8B-4F27-A82C-AE88BA48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F043-6455-4E41-8B75-8BA03FD9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3EB0-1FDA-4A8C-A771-A625DBA0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5D66-503D-4C92-AE88-9BB320FF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31CE-2BC7-4084-B3D0-E2754E1C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4DF3-7CD1-4771-A79B-F608CC62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76F6-A15E-4FE5-9AFF-4B635F48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BA7-A019-47ED-979F-479F13F3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BD4B-95C4-4884-9F81-1FDFE822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4D56-4981-48D3-A1C3-B0B53BA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6134-4967-44CA-A458-45FEE365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5B12-87EA-499C-8B1C-BB0CB9DB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0DC9-B85E-4AA3-BC18-FD2ACF11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BBF0-4499-4EC3-875B-CB6948F3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A08A-AD36-448A-A786-5CE02197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670B-D32B-4DF0-94FB-DE3F422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EED5-C955-4610-83D8-0A1776EC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EC15-6F06-4687-8B98-DAAB246F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05F-C4BA-49F0-B24C-A0016432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FDD8-B0DE-46D3-9A8B-605932A4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E6E1-0992-472A-9F85-61B7A022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28521-6FAE-46AF-A74D-D8DEFE22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B24A-C3D5-44C2-9E6B-5D68FF1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2B03-C0EE-452F-B5AF-776B12A9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5ED9-8C50-46C7-A2E9-29515A6A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9081-0A31-481E-BB9A-6BB86A2F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2A5-4CEF-4044-BCB0-A669DECA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8E3-2CC0-4AA2-89F9-6EDE66EB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E3C-599D-454A-85CF-6FA8754D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C21-AEA9-4D04-A56B-21A4803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BE3-5E3E-4539-913E-280D31B9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786-270A-4F9C-A1A0-4488FAE9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nordridesign.cn/index.php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502C-1FED-4726-8672-0DF5E3D7A7E1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1BBA-DF9E-419E-A000-8D61DD9EF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1312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02912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5592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54356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5776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03712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2642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4784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078080" y="273204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logo"/>
          <p:cNvPicPr/>
          <p:nvPr/>
        </p:nvPicPr>
        <p:blipFill>
          <a:blip r:embed="rId3"/>
          <a:stretch/>
        </p:blipFill>
        <p:spPr>
          <a:xfrm>
            <a:off x="3116160" y="223848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2"/>
          <p:cNvPicPr/>
          <p:nvPr/>
        </p:nvPicPr>
        <p:blipFill>
          <a:blip r:embed="rId4"/>
          <a:stretch/>
        </p:blipFill>
        <p:spPr>
          <a:xfrm>
            <a:off x="2563920" y="206064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>
            <a:hlinkClick r:id="rId5"/>
          </p:cNvPr>
          <p:cNvSpPr/>
          <p:nvPr/>
        </p:nvSpPr>
        <p:spPr>
          <a:xfrm>
            <a:off x="2484360" y="177336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宋体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2E09-961D-4B91-97FA-5B8D0FAFB99D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057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1640" y="838080"/>
            <a:ext cx="3308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爱情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动态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99C4-8CDD-4EA5-813C-4DB4355E0E65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添加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fffff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微软雅黑）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icrosoft JhengHei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Microsoft JhengHe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JhengHei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JhengHei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Microsoft JhengHe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icrosoft JhengHei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Microsoft JhengHe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09C-9BF5-42F9-9086-7F2B6203DF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3F68-B7E4-4BF5-AFFA-8FBD83487917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添加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pic>
        <p:nvPicPr>
          <p:cNvPr id="147" name="Object 113" descr=""/>
          <p:cNvPicPr/>
          <p:nvPr/>
        </p:nvPicPr>
        <p:blipFill>
          <a:blip r:embed="rId2"/>
          <a:stretch/>
        </p:blipFill>
        <p:spPr>
          <a:xfrm>
            <a:off x="1219320" y="1830240"/>
            <a:ext cx="65516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3048120" y="2362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9999"/>
                  </a:outerShdw>
                </a:effectLst>
                <a:latin typeface="SimHei"/>
              </a:rPr>
              <a:t>感谢观赏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999999"/>
                </a:outerShdw>
              </a:effectLst>
              <a:latin typeface="SimHei"/>
              <a:ea typeface="SimHei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76320" y="2498400"/>
            <a:ext cx="29718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ffffff">
                        <a:alpha val="40000"/>
                      </a:srgbClr>
                    </a:gs>
                  </a:gsLst>
                  <a:lin ang="5400000"/>
                </a:gradFill>
                <a:latin typeface="SimHei"/>
              </a:rPr>
              <a:t>感谢观赏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atin typeface="SimHei"/>
              <a:ea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53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5:26Z</dcterms:modified>
  <cp:revision>2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