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DFA-DB85-4F06-BBDF-86650CD1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7E9-4840-4E2A-98D0-962EE3AD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824-20E9-495B-8E10-980B056C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4CD-6263-4901-9E47-22FAA2F3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DF1-C736-4D7B-A579-61C224E2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6000" y="2880"/>
            <a:ext cx="57704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336-A77F-4888-8D33-525F61B4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2D7-1ACC-4E45-B779-284D33E2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907-7061-4926-8036-32D19D2B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930-722E-47A3-951A-54BBC5EC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871-8691-411B-BC21-470C3AB1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C75-DF73-4FFB-81E5-8F2DA018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747-2BF5-473A-A3D9-AB75FAC2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916000" y="2880"/>
            <a:ext cx="57704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1d2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20640"/>
            <a:ext cx="9144000" cy="287280"/>
          </a:xfrm>
          <a:prstGeom prst="rect">
            <a:avLst/>
          </a:prstGeom>
          <a:solidFill>
            <a:srgbClr val="9eb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necteur droit 11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cbd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1d2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6012000" y="6597720"/>
            <a:ext cx="31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This work is licensed under a </a:t>
            </a:r>
            <a:r>
              <a:rPr b="0" lang="en-US" sz="900" spc="-1" strike="noStrike" u="sng">
                <a:solidFill>
                  <a:srgbClr val="b8cce4"/>
                </a:solidFill>
                <a:uFillTx/>
                <a:latin typeface="Calibri"/>
                <a:ea typeface="Calibri"/>
              </a:rPr>
              <a:t>Creative Commons Attrib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 rot="5400000">
            <a:off x="8479440" y="580068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© Copyright Showee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0" y="6597720"/>
            <a:ext cx="31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© Copyright Showeet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B81D-660D-4A7B-8A76-D4DBD4A432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Fo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1332-29A5-40A1-919E-00EEC372AA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 rot="5400000">
            <a:off x="8479440" y="580068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© Copyright Showee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e 17"/>
          <p:cNvGrpSpPr/>
          <p:nvPr/>
        </p:nvGrpSpPr>
        <p:grpSpPr>
          <a:xfrm>
            <a:off x="700560" y="2205000"/>
            <a:ext cx="3528000" cy="3316320"/>
            <a:chOff x="700560" y="2205000"/>
            <a:chExt cx="3528000" cy="3316320"/>
          </a:xfrm>
        </p:grpSpPr>
        <p:sp>
          <p:nvSpPr>
            <p:cNvPr id="88" name="Rectangle 5"/>
            <p:cNvSpPr/>
            <p:nvPr/>
          </p:nvSpPr>
          <p:spPr>
            <a:xfrm rot="21074400">
              <a:off x="998640" y="2518920"/>
              <a:ext cx="3012840" cy="27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e 9"/>
            <p:cNvGrpSpPr/>
            <p:nvPr/>
          </p:nvGrpSpPr>
          <p:grpSpPr>
            <a:xfrm>
              <a:off x="700560" y="2205000"/>
              <a:ext cx="3528000" cy="3316320"/>
              <a:chOff x="700560" y="2205000"/>
              <a:chExt cx="3528000" cy="3316320"/>
            </a:xfrm>
          </p:grpSpPr>
          <p:grpSp>
            <p:nvGrpSpPr>
              <p:cNvPr id="90" name="Groupe 14"/>
              <p:cNvGrpSpPr/>
              <p:nvPr/>
            </p:nvGrpSpPr>
            <p:grpSpPr>
              <a:xfrm>
                <a:off x="709560" y="2205000"/>
                <a:ext cx="3519000" cy="3316320"/>
                <a:chOff x="709560" y="2205000"/>
                <a:chExt cx="3519000" cy="3316320"/>
              </a:xfrm>
            </p:grpSpPr>
            <p:sp>
              <p:nvSpPr>
                <p:cNvPr id="91" name="Rectangle 5"/>
                <p:cNvSpPr/>
                <p:nvPr/>
              </p:nvSpPr>
              <p:spPr>
                <a:xfrm rot="21074400">
                  <a:off x="910080" y="2425320"/>
                  <a:ext cx="3117600" cy="2874960"/>
                </a:xfrm>
                <a:prstGeom prst="pie">
                  <a:avLst/>
                </a:prstGeom>
                <a:solidFill>
                  <a:srgbClr val="ab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Triangle rectangle 7"/>
                <p:cNvSpPr/>
                <p:nvPr/>
              </p:nvSpPr>
              <p:spPr>
                <a:xfrm rot="14260800">
                  <a:off x="3244680" y="3983040"/>
                  <a:ext cx="336960" cy="1519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08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Rectangle 1"/>
              <p:cNvSpPr/>
              <p:nvPr/>
            </p:nvSpPr>
            <p:spPr>
              <a:xfrm rot="21081000">
                <a:off x="717480" y="2464560"/>
                <a:ext cx="3006000" cy="452880"/>
              </a:xfrm>
              <a:prstGeom prst="pi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916000" y="620640"/>
            <a:ext cx="5770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631"/>
                </a:solidFill>
                <a:latin typeface="Calibri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icky No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6" name="Groupe 23"/>
          <p:cNvGrpSpPr/>
          <p:nvPr/>
        </p:nvGrpSpPr>
        <p:grpSpPr>
          <a:xfrm>
            <a:off x="4996440" y="2205360"/>
            <a:ext cx="3516840" cy="3315960"/>
            <a:chOff x="4996440" y="2205360"/>
            <a:chExt cx="3516840" cy="3315960"/>
          </a:xfrm>
        </p:grpSpPr>
        <p:sp>
          <p:nvSpPr>
            <p:cNvPr id="97" name="Rectangle 5"/>
            <p:cNvSpPr/>
            <p:nvPr/>
          </p:nvSpPr>
          <p:spPr>
            <a:xfrm rot="21074400">
              <a:off x="5285880" y="2519280"/>
              <a:ext cx="3011040" cy="27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e 26"/>
            <p:cNvGrpSpPr/>
            <p:nvPr/>
          </p:nvGrpSpPr>
          <p:grpSpPr>
            <a:xfrm>
              <a:off x="4996440" y="2205360"/>
              <a:ext cx="3516840" cy="3315960"/>
              <a:chOff x="4996440" y="2205360"/>
              <a:chExt cx="3516840" cy="3315960"/>
            </a:xfrm>
          </p:grpSpPr>
          <p:sp>
            <p:nvSpPr>
              <p:cNvPr id="99" name="Rectangle 5"/>
              <p:cNvSpPr/>
              <p:nvPr/>
            </p:nvSpPr>
            <p:spPr>
              <a:xfrm rot="21074400">
                <a:off x="5196960" y="2425680"/>
                <a:ext cx="3115440" cy="2874960"/>
              </a:xfrm>
              <a:prstGeom prst="pie">
                <a:avLst/>
              </a:prstGeom>
              <a:solidFill>
                <a:srgbClr val="ab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riangle rectangle 7"/>
              <p:cNvSpPr/>
              <p:nvPr/>
            </p:nvSpPr>
            <p:spPr>
              <a:xfrm rot="14260800">
                <a:off x="7530120" y="3983760"/>
                <a:ext cx="336960" cy="1518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08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Rectangle 21"/>
          <p:cNvSpPr/>
          <p:nvPr/>
        </p:nvSpPr>
        <p:spPr>
          <a:xfrm rot="18900000">
            <a:off x="4676760" y="2828880"/>
            <a:ext cx="1308240" cy="243000"/>
          </a:xfrm>
          <a:prstGeom prst="pie">
            <a:avLst/>
          </a:prstGeom>
          <a:solidFill>
            <a:srgbClr val="bec6d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 rot="2149200">
            <a:off x="7103880" y="2427120"/>
            <a:ext cx="1357200" cy="243000"/>
          </a:xfrm>
          <a:prstGeom prst="pie">
            <a:avLst/>
          </a:prstGeom>
          <a:solidFill>
            <a:srgbClr val="bec6d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30"/>
          <p:cNvSpPr/>
          <p:nvPr/>
        </p:nvSpPr>
        <p:spPr>
          <a:xfrm rot="20958600">
            <a:off x="869040" y="3121200"/>
            <a:ext cx="268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2fd4"/>
                </a:solidFill>
                <a:latin typeface="English Essay"/>
              </a:rPr>
              <a:t>Th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2fd4"/>
                </a:solidFill>
                <a:latin typeface="English Essay"/>
              </a:rPr>
              <a:t>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34"/>
          <p:cNvSpPr/>
          <p:nvPr/>
        </p:nvSpPr>
        <p:spPr>
          <a:xfrm rot="20958600">
            <a:off x="5091480" y="3121200"/>
            <a:ext cx="268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lish Essay"/>
              </a:rPr>
              <a:t>Th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lish Essay"/>
              </a:rPr>
              <a:t>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e 2052"/>
          <p:cNvGrpSpPr/>
          <p:nvPr/>
        </p:nvGrpSpPr>
        <p:grpSpPr>
          <a:xfrm>
            <a:off x="3132000" y="3664080"/>
            <a:ext cx="792360" cy="628560"/>
            <a:chOff x="3132000" y="3664080"/>
            <a:chExt cx="792360" cy="628560"/>
          </a:xfrm>
        </p:grpSpPr>
        <p:sp>
          <p:nvSpPr>
            <p:cNvPr id="106" name="Forme libre 2047"/>
            <p:cNvSpPr/>
            <p:nvPr/>
          </p:nvSpPr>
          <p:spPr>
            <a:xfrm>
              <a:off x="3429360" y="4043880"/>
              <a:ext cx="302400" cy="133200"/>
            </a:xfrm>
            <a:prstGeom prst="pie">
              <a:avLst/>
            </a:prstGeom>
            <a:noFill/>
            <a:ln w="38160">
              <a:solidFill>
                <a:srgbClr val="2c2f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orme libre 2048"/>
            <p:cNvSpPr/>
            <p:nvPr/>
          </p:nvSpPr>
          <p:spPr>
            <a:xfrm>
              <a:off x="3429360" y="3835800"/>
              <a:ext cx="85320" cy="63720"/>
            </a:xfrm>
            <a:prstGeom prst="pie">
              <a:avLst/>
            </a:prstGeom>
            <a:noFill/>
            <a:ln w="38160">
              <a:solidFill>
                <a:srgbClr val="2c2f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orme libre 39"/>
            <p:cNvSpPr/>
            <p:nvPr/>
          </p:nvSpPr>
          <p:spPr>
            <a:xfrm>
              <a:off x="3646440" y="3849840"/>
              <a:ext cx="85320" cy="63720"/>
            </a:xfrm>
            <a:prstGeom prst="pie">
              <a:avLst/>
            </a:prstGeom>
            <a:noFill/>
            <a:ln w="38160">
              <a:solidFill>
                <a:srgbClr val="2c2f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orme libre 2051"/>
            <p:cNvSpPr/>
            <p:nvPr/>
          </p:nvSpPr>
          <p:spPr>
            <a:xfrm>
              <a:off x="3132000" y="3664080"/>
              <a:ext cx="792360" cy="628560"/>
            </a:xfrm>
            <a:prstGeom prst="pie">
              <a:avLst/>
            </a:prstGeom>
            <a:noFill/>
            <a:ln w="38160">
              <a:solidFill>
                <a:srgbClr val="2c2f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e 55"/>
          <p:cNvGrpSpPr/>
          <p:nvPr/>
        </p:nvGrpSpPr>
        <p:grpSpPr>
          <a:xfrm>
            <a:off x="7386480" y="3664080"/>
            <a:ext cx="792360" cy="628560"/>
            <a:chOff x="7386480" y="3664080"/>
            <a:chExt cx="792360" cy="628560"/>
          </a:xfrm>
        </p:grpSpPr>
        <p:sp>
          <p:nvSpPr>
            <p:cNvPr id="111" name="Forme libre 56"/>
            <p:cNvSpPr/>
            <p:nvPr/>
          </p:nvSpPr>
          <p:spPr>
            <a:xfrm>
              <a:off x="7683840" y="4043880"/>
              <a:ext cx="302400" cy="133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orme libre 57"/>
            <p:cNvSpPr/>
            <p:nvPr/>
          </p:nvSpPr>
          <p:spPr>
            <a:xfrm>
              <a:off x="7683840" y="3835800"/>
              <a:ext cx="85320" cy="63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orme libre 58"/>
            <p:cNvSpPr/>
            <p:nvPr/>
          </p:nvSpPr>
          <p:spPr>
            <a:xfrm>
              <a:off x="7900920" y="3849840"/>
              <a:ext cx="85320" cy="63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orme libre 59"/>
            <p:cNvSpPr/>
            <p:nvPr/>
          </p:nvSpPr>
          <p:spPr>
            <a:xfrm>
              <a:off x="7386480" y="3664080"/>
              <a:ext cx="792360" cy="628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ZoneTexte 2053"/>
          <p:cNvSpPr/>
          <p:nvPr/>
        </p:nvSpPr>
        <p:spPr>
          <a:xfrm>
            <a:off x="1243440" y="13978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st-it® sticky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61"/>
          <p:cNvSpPr/>
          <p:nvPr/>
        </p:nvSpPr>
        <p:spPr>
          <a:xfrm>
            <a:off x="5042880" y="139788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ticky note with scotch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60" y="6237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38000" y="170172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便签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e 17"/>
          <p:cNvGrpSpPr/>
          <p:nvPr/>
        </p:nvGrpSpPr>
        <p:grpSpPr>
          <a:xfrm>
            <a:off x="710280" y="2205000"/>
            <a:ext cx="3518280" cy="3316320"/>
            <a:chOff x="710280" y="2205000"/>
            <a:chExt cx="3518280" cy="3316320"/>
          </a:xfrm>
        </p:grpSpPr>
        <p:sp>
          <p:nvSpPr>
            <p:cNvPr id="120" name="Rectangle 5"/>
            <p:cNvSpPr/>
            <p:nvPr/>
          </p:nvSpPr>
          <p:spPr>
            <a:xfrm rot="21074400">
              <a:off x="999720" y="2519280"/>
              <a:ext cx="3012120" cy="27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e 14"/>
            <p:cNvGrpSpPr/>
            <p:nvPr/>
          </p:nvGrpSpPr>
          <p:grpSpPr>
            <a:xfrm>
              <a:off x="710280" y="2205000"/>
              <a:ext cx="3518280" cy="3316320"/>
              <a:chOff x="710280" y="2205000"/>
              <a:chExt cx="3518280" cy="3316320"/>
            </a:xfrm>
          </p:grpSpPr>
          <p:sp>
            <p:nvSpPr>
              <p:cNvPr id="122" name="Rectangle 5"/>
              <p:cNvSpPr/>
              <p:nvPr/>
            </p:nvSpPr>
            <p:spPr>
              <a:xfrm rot="21074400">
                <a:off x="910800" y="2425680"/>
                <a:ext cx="3116880" cy="2874960"/>
              </a:xfrm>
              <a:prstGeom prst="pie">
                <a:avLst/>
              </a:prstGeom>
              <a:solidFill>
                <a:srgbClr val="ab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riangle rectangle 7"/>
              <p:cNvSpPr/>
              <p:nvPr/>
            </p:nvSpPr>
            <p:spPr>
              <a:xfrm rot="14260800">
                <a:off x="3245040" y="3983400"/>
                <a:ext cx="336960" cy="151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08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916000" y="620640"/>
            <a:ext cx="5770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631"/>
                </a:solidFill>
                <a:latin typeface="Calibri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icky No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" name="Groupe 23"/>
          <p:cNvGrpSpPr/>
          <p:nvPr/>
        </p:nvGrpSpPr>
        <p:grpSpPr>
          <a:xfrm>
            <a:off x="4996440" y="2205360"/>
            <a:ext cx="3516840" cy="3315960"/>
            <a:chOff x="4996440" y="2205360"/>
            <a:chExt cx="3516840" cy="3315960"/>
          </a:xfrm>
        </p:grpSpPr>
        <p:sp>
          <p:nvSpPr>
            <p:cNvPr id="127" name="Rectangle 5"/>
            <p:cNvSpPr/>
            <p:nvPr/>
          </p:nvSpPr>
          <p:spPr>
            <a:xfrm rot="21074400">
              <a:off x="5285880" y="2519280"/>
              <a:ext cx="3011040" cy="27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e 26"/>
            <p:cNvGrpSpPr/>
            <p:nvPr/>
          </p:nvGrpSpPr>
          <p:grpSpPr>
            <a:xfrm>
              <a:off x="4996440" y="2205360"/>
              <a:ext cx="3516840" cy="3315960"/>
              <a:chOff x="4996440" y="2205360"/>
              <a:chExt cx="3516840" cy="3315960"/>
            </a:xfrm>
          </p:grpSpPr>
          <p:sp>
            <p:nvSpPr>
              <p:cNvPr id="129" name="Rectangle 5"/>
              <p:cNvSpPr/>
              <p:nvPr/>
            </p:nvSpPr>
            <p:spPr>
              <a:xfrm rot="21074400">
                <a:off x="5196960" y="2425680"/>
                <a:ext cx="3115440" cy="2874960"/>
              </a:xfrm>
              <a:prstGeom prst="pie">
                <a:avLst/>
              </a:prstGeom>
              <a:solidFill>
                <a:srgbClr val="ab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riangle rectangle 7"/>
              <p:cNvSpPr/>
              <p:nvPr/>
            </p:nvSpPr>
            <p:spPr>
              <a:xfrm rot="14260800">
                <a:off x="7530120" y="3983760"/>
                <a:ext cx="336960" cy="1518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08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e 25"/>
          <p:cNvGrpSpPr/>
          <p:nvPr/>
        </p:nvGrpSpPr>
        <p:grpSpPr>
          <a:xfrm>
            <a:off x="3103560" y="1886760"/>
            <a:ext cx="388080" cy="762840"/>
            <a:chOff x="3103560" y="1886760"/>
            <a:chExt cx="388080" cy="762840"/>
          </a:xfrm>
        </p:grpSpPr>
        <p:sp>
          <p:nvSpPr>
            <p:cNvPr id="132" name="Rectangle 11"/>
            <p:cNvSpPr/>
            <p:nvPr/>
          </p:nvSpPr>
          <p:spPr>
            <a:xfrm rot="682800">
              <a:off x="3246120" y="2276280"/>
              <a:ext cx="41760" cy="37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Ellipse 34"/>
            <p:cNvSpPr/>
            <p:nvPr/>
          </p:nvSpPr>
          <p:spPr>
            <a:xfrm rot="682800">
              <a:off x="3141720" y="2135880"/>
              <a:ext cx="325440" cy="27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e35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Ellipse 35"/>
            <p:cNvSpPr/>
            <p:nvPr/>
          </p:nvSpPr>
          <p:spPr>
            <a:xfrm rot="2482800">
              <a:off x="3148920" y="2156760"/>
              <a:ext cx="258480" cy="23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9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1"/>
            <a:srcRect l="23144" t="19967" r="24629" b="27169"/>
            <a:stretch/>
          </p:blipFill>
          <p:spPr>
            <a:xfrm rot="20447400">
              <a:off x="3294720" y="2270160"/>
              <a:ext cx="154080" cy="1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rapèze 10"/>
            <p:cNvSpPr/>
            <p:nvPr/>
          </p:nvSpPr>
          <p:spPr>
            <a:xfrm rot="682800">
              <a:off x="3231360" y="2003760"/>
              <a:ext cx="194400" cy="303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Ellipse 38"/>
            <p:cNvSpPr/>
            <p:nvPr/>
          </p:nvSpPr>
          <p:spPr>
            <a:xfrm rot="682800">
              <a:off x="3243600" y="1907280"/>
              <a:ext cx="229680" cy="19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Ellipse 39"/>
            <p:cNvSpPr/>
            <p:nvPr/>
          </p:nvSpPr>
          <p:spPr>
            <a:xfrm rot="682800">
              <a:off x="3246480" y="1907640"/>
              <a:ext cx="229680" cy="17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Freeform 12"/>
          <p:cNvSpPr/>
          <p:nvPr/>
        </p:nvSpPr>
        <p:spPr>
          <a:xfrm rot="10077000">
            <a:off x="7268400" y="2262960"/>
            <a:ext cx="57636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41"/>
          <p:cNvSpPr/>
          <p:nvPr/>
        </p:nvSpPr>
        <p:spPr>
          <a:xfrm rot="20958600">
            <a:off x="869040" y="3121200"/>
            <a:ext cx="268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2fd4"/>
                </a:solidFill>
                <a:latin typeface="English Essay"/>
              </a:rPr>
              <a:t>Th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2fd4"/>
                </a:solidFill>
                <a:latin typeface="English Essay"/>
              </a:rPr>
              <a:t>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42"/>
          <p:cNvSpPr/>
          <p:nvPr/>
        </p:nvSpPr>
        <p:spPr>
          <a:xfrm rot="20958600">
            <a:off x="5091480" y="3121200"/>
            <a:ext cx="268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lish Essay"/>
              </a:rPr>
              <a:t>Th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lish Essay"/>
              </a:rPr>
              <a:t>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e 43"/>
          <p:cNvGrpSpPr/>
          <p:nvPr/>
        </p:nvGrpSpPr>
        <p:grpSpPr>
          <a:xfrm>
            <a:off x="3132000" y="3664080"/>
            <a:ext cx="792360" cy="628560"/>
            <a:chOff x="3132000" y="3664080"/>
            <a:chExt cx="792360" cy="628560"/>
          </a:xfrm>
        </p:grpSpPr>
        <p:sp>
          <p:nvSpPr>
            <p:cNvPr id="143" name="Forme libre 44"/>
            <p:cNvSpPr/>
            <p:nvPr/>
          </p:nvSpPr>
          <p:spPr>
            <a:xfrm>
              <a:off x="3429360" y="4043880"/>
              <a:ext cx="302400" cy="133200"/>
            </a:xfrm>
            <a:prstGeom prst="pie">
              <a:avLst/>
            </a:prstGeom>
            <a:noFill/>
            <a:ln w="38160">
              <a:solidFill>
                <a:srgbClr val="2c2f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orme libre 45"/>
            <p:cNvSpPr/>
            <p:nvPr/>
          </p:nvSpPr>
          <p:spPr>
            <a:xfrm>
              <a:off x="3429360" y="3835800"/>
              <a:ext cx="85320" cy="63720"/>
            </a:xfrm>
            <a:prstGeom prst="pie">
              <a:avLst/>
            </a:prstGeom>
            <a:noFill/>
            <a:ln w="38160">
              <a:solidFill>
                <a:srgbClr val="2c2f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orme libre 46"/>
            <p:cNvSpPr/>
            <p:nvPr/>
          </p:nvSpPr>
          <p:spPr>
            <a:xfrm>
              <a:off x="3646440" y="3849840"/>
              <a:ext cx="85320" cy="63720"/>
            </a:xfrm>
            <a:prstGeom prst="pie">
              <a:avLst/>
            </a:prstGeom>
            <a:noFill/>
            <a:ln w="38160">
              <a:solidFill>
                <a:srgbClr val="2c2f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orme libre 47"/>
            <p:cNvSpPr/>
            <p:nvPr/>
          </p:nvSpPr>
          <p:spPr>
            <a:xfrm>
              <a:off x="3132000" y="3664080"/>
              <a:ext cx="792360" cy="628560"/>
            </a:xfrm>
            <a:prstGeom prst="pie">
              <a:avLst/>
            </a:prstGeom>
            <a:noFill/>
            <a:ln w="38160">
              <a:solidFill>
                <a:srgbClr val="2c2f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e 48"/>
          <p:cNvGrpSpPr/>
          <p:nvPr/>
        </p:nvGrpSpPr>
        <p:grpSpPr>
          <a:xfrm>
            <a:off x="7386480" y="3664080"/>
            <a:ext cx="792360" cy="628560"/>
            <a:chOff x="7386480" y="3664080"/>
            <a:chExt cx="792360" cy="628560"/>
          </a:xfrm>
        </p:grpSpPr>
        <p:sp>
          <p:nvSpPr>
            <p:cNvPr id="148" name="Forme libre 49"/>
            <p:cNvSpPr/>
            <p:nvPr/>
          </p:nvSpPr>
          <p:spPr>
            <a:xfrm>
              <a:off x="7683840" y="4043880"/>
              <a:ext cx="302400" cy="133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orme libre 50"/>
            <p:cNvSpPr/>
            <p:nvPr/>
          </p:nvSpPr>
          <p:spPr>
            <a:xfrm>
              <a:off x="7683840" y="3835800"/>
              <a:ext cx="85320" cy="63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orme libre 51"/>
            <p:cNvSpPr/>
            <p:nvPr/>
          </p:nvSpPr>
          <p:spPr>
            <a:xfrm>
              <a:off x="7900920" y="3849840"/>
              <a:ext cx="85320" cy="63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orme libre 52"/>
            <p:cNvSpPr/>
            <p:nvPr/>
          </p:nvSpPr>
          <p:spPr>
            <a:xfrm>
              <a:off x="7386480" y="3664080"/>
              <a:ext cx="792360" cy="628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ZoneTexte 53"/>
          <p:cNvSpPr/>
          <p:nvPr/>
        </p:nvSpPr>
        <p:spPr>
          <a:xfrm>
            <a:off x="1127880" y="13978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ticky note with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54"/>
          <p:cNvSpPr/>
          <p:nvPr/>
        </p:nvSpPr>
        <p:spPr>
          <a:xfrm>
            <a:off x="5226480" y="139788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ticky note with paper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916000" y="620640"/>
            <a:ext cx="5770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631"/>
                </a:solidFill>
                <a:latin typeface="Calibri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icky No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6" name="Groupe 55"/>
          <p:cNvGrpSpPr/>
          <p:nvPr/>
        </p:nvGrpSpPr>
        <p:grpSpPr>
          <a:xfrm>
            <a:off x="426960" y="1491120"/>
            <a:ext cx="4372560" cy="4123080"/>
            <a:chOff x="426960" y="1491120"/>
            <a:chExt cx="4372560" cy="4123080"/>
          </a:xfrm>
        </p:grpSpPr>
        <p:sp>
          <p:nvSpPr>
            <p:cNvPr id="157" name="Rectangle 5"/>
            <p:cNvSpPr/>
            <p:nvPr/>
          </p:nvSpPr>
          <p:spPr>
            <a:xfrm rot="21074400">
              <a:off x="786240" y="1881720"/>
              <a:ext cx="3743640" cy="344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e 57"/>
            <p:cNvGrpSpPr/>
            <p:nvPr/>
          </p:nvGrpSpPr>
          <p:grpSpPr>
            <a:xfrm>
              <a:off x="426960" y="1491120"/>
              <a:ext cx="4372560" cy="4123080"/>
              <a:chOff x="426960" y="1491120"/>
              <a:chExt cx="4372560" cy="4123080"/>
            </a:xfrm>
          </p:grpSpPr>
          <p:sp>
            <p:nvSpPr>
              <p:cNvPr id="159" name="Rectangle 5"/>
              <p:cNvSpPr/>
              <p:nvPr/>
            </p:nvSpPr>
            <p:spPr>
              <a:xfrm rot="21074400">
                <a:off x="676440" y="1765080"/>
                <a:ext cx="3873240" cy="3574800"/>
              </a:xfrm>
              <a:prstGeom prst="pie">
                <a:avLst/>
              </a:prstGeom>
              <a:solidFill>
                <a:srgbClr val="ab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riangle rectangle 7"/>
              <p:cNvSpPr/>
              <p:nvPr/>
            </p:nvSpPr>
            <p:spPr>
              <a:xfrm rot="14260800">
                <a:off x="3576960" y="3702960"/>
                <a:ext cx="419040" cy="1888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08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Rectangle 21"/>
          <p:cNvSpPr/>
          <p:nvPr/>
        </p:nvSpPr>
        <p:spPr>
          <a:xfrm rot="18900000">
            <a:off x="-155160" y="2215800"/>
            <a:ext cx="1940040" cy="358920"/>
          </a:xfrm>
          <a:prstGeom prst="pie">
            <a:avLst/>
          </a:prstGeom>
          <a:solidFill>
            <a:srgbClr val="bec6d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 rot="2149200">
            <a:off x="2889000" y="1752480"/>
            <a:ext cx="2016000" cy="360360"/>
          </a:xfrm>
          <a:prstGeom prst="pie">
            <a:avLst/>
          </a:prstGeom>
          <a:solidFill>
            <a:srgbClr val="bec6d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phique 1" descr=""/>
          <p:cNvPicPr/>
          <p:nvPr/>
        </p:nvPicPr>
        <p:blipFill>
          <a:blip r:embed="rId1"/>
          <a:stretch/>
        </p:blipFill>
        <p:spPr>
          <a:xfrm>
            <a:off x="1042920" y="2395440"/>
            <a:ext cx="3362400" cy="2506680"/>
          </a:xfrm>
          <a:prstGeom prst="rect">
            <a:avLst/>
          </a:prstGeom>
          <a:ln w="0">
            <a:noFill/>
          </a:ln>
        </p:spPr>
      </p:pic>
      <p:sp>
        <p:nvSpPr>
          <p:cNvPr id="164" name="ZoneTexte 62"/>
          <p:cNvSpPr/>
          <p:nvPr/>
        </p:nvSpPr>
        <p:spPr>
          <a:xfrm rot="21112200">
            <a:off x="537840" y="2104560"/>
            <a:ext cx="37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2fd4"/>
                </a:solidFill>
                <a:latin typeface="English Essay"/>
              </a:rPr>
              <a:t>Key results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e 63"/>
          <p:cNvGrpSpPr/>
          <p:nvPr/>
        </p:nvGrpSpPr>
        <p:grpSpPr>
          <a:xfrm>
            <a:off x="5089680" y="1773360"/>
            <a:ext cx="3725640" cy="3763800"/>
            <a:chOff x="5089680" y="1773360"/>
            <a:chExt cx="3725640" cy="3763800"/>
          </a:xfrm>
        </p:grpSpPr>
        <p:sp>
          <p:nvSpPr>
            <p:cNvPr id="166" name="Rectangle 3"/>
            <p:cNvSpPr/>
            <p:nvPr/>
          </p:nvSpPr>
          <p:spPr>
            <a:xfrm>
              <a:off x="5126400" y="2023920"/>
              <a:ext cx="3522240" cy="342756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"/>
            <p:cNvSpPr/>
            <p:nvPr/>
          </p:nvSpPr>
          <p:spPr>
            <a:xfrm>
              <a:off x="5089680" y="1773360"/>
              <a:ext cx="3725640" cy="37638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21"/>
          <p:cNvSpPr/>
          <p:nvPr/>
        </p:nvSpPr>
        <p:spPr>
          <a:xfrm>
            <a:off x="5899320" y="1616040"/>
            <a:ext cx="2143080" cy="474840"/>
          </a:xfrm>
          <a:prstGeom prst="pie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67"/>
          <p:cNvSpPr/>
          <p:nvPr/>
        </p:nvSpPr>
        <p:spPr>
          <a:xfrm rot="155400">
            <a:off x="5140440" y="2255760"/>
            <a:ext cx="37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English Essay"/>
              </a:rPr>
              <a:t>Key results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phique 68" descr=""/>
          <p:cNvPicPr/>
          <p:nvPr/>
        </p:nvPicPr>
        <p:blipFill>
          <a:blip r:embed="rId2"/>
          <a:stretch/>
        </p:blipFill>
        <p:spPr>
          <a:xfrm>
            <a:off x="5272200" y="2714760"/>
            <a:ext cx="3360600" cy="2506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3640" y="60228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b8cce4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916000" y="620640"/>
            <a:ext cx="5770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631"/>
                </a:solidFill>
                <a:latin typeface="Calibri"/>
              </a:rPr>
              <a:t>Pins Colle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icky No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4" name="Groupe 1"/>
          <p:cNvGrpSpPr/>
          <p:nvPr/>
        </p:nvGrpSpPr>
        <p:grpSpPr>
          <a:xfrm>
            <a:off x="141480" y="1197000"/>
            <a:ext cx="2195640" cy="3029400"/>
            <a:chOff x="141480" y="1197000"/>
            <a:chExt cx="2195640" cy="3029400"/>
          </a:xfrm>
        </p:grpSpPr>
        <p:grpSp>
          <p:nvGrpSpPr>
            <p:cNvPr id="175" name="Groupe 33"/>
            <p:cNvGrpSpPr/>
            <p:nvPr/>
          </p:nvGrpSpPr>
          <p:grpSpPr>
            <a:xfrm>
              <a:off x="141480" y="2977920"/>
              <a:ext cx="1809000" cy="1248480"/>
              <a:chOff x="141480" y="2977920"/>
              <a:chExt cx="1809000" cy="1248480"/>
            </a:xfrm>
          </p:grpSpPr>
          <p:sp>
            <p:nvSpPr>
              <p:cNvPr id="176" name="Rectangle 11"/>
              <p:cNvSpPr/>
              <p:nvPr/>
            </p:nvSpPr>
            <p:spPr>
              <a:xfrm rot="14400000">
                <a:off x="1464840" y="2795760"/>
                <a:ext cx="105120" cy="938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Ellipse 35"/>
              <p:cNvSpPr/>
              <p:nvPr/>
            </p:nvSpPr>
            <p:spPr>
              <a:xfrm rot="14400000">
                <a:off x="691920" y="3155400"/>
                <a:ext cx="815760" cy="70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Ellipse 36"/>
              <p:cNvSpPr/>
              <p:nvPr/>
            </p:nvSpPr>
            <p:spPr>
              <a:xfrm rot="16200000">
                <a:off x="819360" y="3260160"/>
                <a:ext cx="647280" cy="593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rapèze 10"/>
              <p:cNvSpPr/>
              <p:nvPr/>
            </p:nvSpPr>
            <p:spPr>
              <a:xfrm rot="14400000">
                <a:off x="591840" y="3276360"/>
                <a:ext cx="487080" cy="76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Ellipse 39"/>
              <p:cNvSpPr/>
              <p:nvPr/>
            </p:nvSpPr>
            <p:spPr>
              <a:xfrm rot="14400000">
                <a:off x="215640" y="3598920"/>
                <a:ext cx="576000" cy="50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Ellipse 40"/>
              <p:cNvSpPr/>
              <p:nvPr/>
            </p:nvSpPr>
            <p:spPr>
              <a:xfrm rot="14400000">
                <a:off x="184320" y="3652920"/>
                <a:ext cx="576000" cy="43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e 25"/>
            <p:cNvGrpSpPr/>
            <p:nvPr/>
          </p:nvGrpSpPr>
          <p:grpSpPr>
            <a:xfrm>
              <a:off x="1410480" y="1197000"/>
              <a:ext cx="926640" cy="1891800"/>
              <a:chOff x="1410480" y="1197000"/>
              <a:chExt cx="926640" cy="1891800"/>
            </a:xfrm>
          </p:grpSpPr>
          <p:sp>
            <p:nvSpPr>
              <p:cNvPr id="183" name="Rectangle 11"/>
              <p:cNvSpPr/>
              <p:nvPr/>
            </p:nvSpPr>
            <p:spPr>
              <a:xfrm>
                <a:off x="1852920" y="2149920"/>
                <a:ext cx="105120" cy="93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Ellipse 12"/>
              <p:cNvSpPr/>
              <p:nvPr/>
            </p:nvSpPr>
            <p:spPr>
              <a:xfrm>
                <a:off x="1496880" y="1786680"/>
                <a:ext cx="816120" cy="702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037e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Ellipse 13"/>
              <p:cNvSpPr/>
              <p:nvPr/>
            </p:nvSpPr>
            <p:spPr>
              <a:xfrm rot="1800000">
                <a:off x="1515600" y="1852920"/>
                <a:ext cx="647640" cy="593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9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" name="Picture 5" descr=""/>
              <p:cNvPicPr/>
              <p:nvPr/>
            </p:nvPicPr>
            <p:blipFill>
              <a:blip r:embed="rId1"/>
              <a:srcRect l="23152" t="19910" r="24572" b="27214"/>
              <a:stretch/>
            </p:blipFill>
            <p:spPr>
              <a:xfrm rot="19764600">
                <a:off x="1902600" y="2089080"/>
                <a:ext cx="385920" cy="29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Trapèze 10"/>
              <p:cNvSpPr/>
              <p:nvPr/>
            </p:nvSpPr>
            <p:spPr>
              <a:xfrm>
                <a:off x="1661040" y="1449000"/>
                <a:ext cx="487440" cy="765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Ellipse 7"/>
              <p:cNvSpPr/>
              <p:nvPr/>
            </p:nvSpPr>
            <p:spPr>
              <a:xfrm>
                <a:off x="1616760" y="1197000"/>
                <a:ext cx="576000" cy="50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Ellipse 5"/>
              <p:cNvSpPr/>
              <p:nvPr/>
            </p:nvSpPr>
            <p:spPr>
              <a:xfrm>
                <a:off x="1616760" y="1197000"/>
                <a:ext cx="576000" cy="432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e 2"/>
          <p:cNvGrpSpPr/>
          <p:nvPr/>
        </p:nvGrpSpPr>
        <p:grpSpPr>
          <a:xfrm>
            <a:off x="5015160" y="1197000"/>
            <a:ext cx="1195200" cy="2448720"/>
            <a:chOff x="5015160" y="1197000"/>
            <a:chExt cx="1195200" cy="2448720"/>
          </a:xfrm>
        </p:grpSpPr>
        <p:grpSp>
          <p:nvGrpSpPr>
            <p:cNvPr id="191" name="Groupe 28"/>
            <p:cNvGrpSpPr/>
            <p:nvPr/>
          </p:nvGrpSpPr>
          <p:grpSpPr>
            <a:xfrm>
              <a:off x="5029920" y="2451240"/>
              <a:ext cx="1180440" cy="1194480"/>
              <a:chOff x="5029920" y="2451240"/>
              <a:chExt cx="1180440" cy="1194480"/>
            </a:xfrm>
          </p:grpSpPr>
          <p:sp>
            <p:nvSpPr>
              <p:cNvPr id="192" name="Rectangle 11"/>
              <p:cNvSpPr/>
              <p:nvPr/>
            </p:nvSpPr>
            <p:spPr>
              <a:xfrm rot="8100000">
                <a:off x="5439600" y="2295720"/>
                <a:ext cx="49320" cy="118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Ellipse 49"/>
              <p:cNvSpPr/>
              <p:nvPr/>
            </p:nvSpPr>
            <p:spPr>
              <a:xfrm rot="20596800">
                <a:off x="5540040" y="2698920"/>
                <a:ext cx="554400" cy="885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e 29"/>
            <p:cNvGrpSpPr/>
            <p:nvPr/>
          </p:nvGrpSpPr>
          <p:grpSpPr>
            <a:xfrm>
              <a:off x="5015160" y="1197000"/>
              <a:ext cx="941760" cy="1319760"/>
              <a:chOff x="5015160" y="1197000"/>
              <a:chExt cx="941760" cy="1319760"/>
            </a:xfrm>
          </p:grpSpPr>
          <p:grpSp>
            <p:nvGrpSpPr>
              <p:cNvPr id="195" name="Groupe 27"/>
              <p:cNvGrpSpPr/>
              <p:nvPr/>
            </p:nvGrpSpPr>
            <p:grpSpPr>
              <a:xfrm>
                <a:off x="5015160" y="1197000"/>
                <a:ext cx="941760" cy="1319760"/>
                <a:chOff x="5015160" y="1197000"/>
                <a:chExt cx="941760" cy="1319760"/>
              </a:xfrm>
            </p:grpSpPr>
            <p:sp>
              <p:nvSpPr>
                <p:cNvPr id="196" name="Rectangle 11"/>
                <p:cNvSpPr/>
                <p:nvPr/>
              </p:nvSpPr>
              <p:spPr>
                <a:xfrm rot="1800000">
                  <a:off x="5306760" y="1403280"/>
                  <a:ext cx="49320" cy="1180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Ellipse 26"/>
                <p:cNvSpPr/>
                <p:nvPr/>
              </p:nvSpPr>
              <p:spPr>
                <a:xfrm>
                  <a:off x="5165640" y="1197000"/>
                  <a:ext cx="791280" cy="79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8" name="Picture 5" descr=""/>
              <p:cNvPicPr/>
              <p:nvPr/>
            </p:nvPicPr>
            <p:blipFill>
              <a:blip r:embed="rId2"/>
              <a:srcRect l="23152" t="19910" r="24572" b="27214"/>
              <a:stretch/>
            </p:blipFill>
            <p:spPr>
              <a:xfrm rot="19764600">
                <a:off x="5247000" y="1288800"/>
                <a:ext cx="385560" cy="294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9" name="Groupe 30"/>
          <p:cNvGrpSpPr/>
          <p:nvPr/>
        </p:nvGrpSpPr>
        <p:grpSpPr>
          <a:xfrm>
            <a:off x="1486080" y="2406600"/>
            <a:ext cx="2195640" cy="3029400"/>
            <a:chOff x="1486080" y="2406600"/>
            <a:chExt cx="2195640" cy="3029400"/>
          </a:xfrm>
        </p:grpSpPr>
        <p:grpSp>
          <p:nvGrpSpPr>
            <p:cNvPr id="200" name="Groupe 31"/>
            <p:cNvGrpSpPr/>
            <p:nvPr/>
          </p:nvGrpSpPr>
          <p:grpSpPr>
            <a:xfrm>
              <a:off x="1486080" y="4187520"/>
              <a:ext cx="1809000" cy="1248480"/>
              <a:chOff x="1486080" y="4187520"/>
              <a:chExt cx="1809000" cy="1248480"/>
            </a:xfrm>
          </p:grpSpPr>
          <p:sp>
            <p:nvSpPr>
              <p:cNvPr id="201" name="Rectangle 11"/>
              <p:cNvSpPr/>
              <p:nvPr/>
            </p:nvSpPr>
            <p:spPr>
              <a:xfrm rot="14400000">
                <a:off x="2809440" y="4005360"/>
                <a:ext cx="105120" cy="938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Ellipse 52"/>
              <p:cNvSpPr/>
              <p:nvPr/>
            </p:nvSpPr>
            <p:spPr>
              <a:xfrm rot="14400000">
                <a:off x="2036520" y="4365000"/>
                <a:ext cx="815760" cy="70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Ellipse 53"/>
              <p:cNvSpPr/>
              <p:nvPr/>
            </p:nvSpPr>
            <p:spPr>
              <a:xfrm rot="16200000">
                <a:off x="2163960" y="4469760"/>
                <a:ext cx="647280" cy="593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rapèze 10"/>
              <p:cNvSpPr/>
              <p:nvPr/>
            </p:nvSpPr>
            <p:spPr>
              <a:xfrm rot="14400000">
                <a:off x="1936440" y="4485960"/>
                <a:ext cx="487080" cy="76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Ellipse 55"/>
              <p:cNvSpPr/>
              <p:nvPr/>
            </p:nvSpPr>
            <p:spPr>
              <a:xfrm rot="14400000">
                <a:off x="1560240" y="4808520"/>
                <a:ext cx="576000" cy="50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Ellipse 56"/>
              <p:cNvSpPr/>
              <p:nvPr/>
            </p:nvSpPr>
            <p:spPr>
              <a:xfrm rot="14400000">
                <a:off x="1528920" y="4862520"/>
                <a:ext cx="576000" cy="43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e 32"/>
            <p:cNvGrpSpPr/>
            <p:nvPr/>
          </p:nvGrpSpPr>
          <p:grpSpPr>
            <a:xfrm>
              <a:off x="2755080" y="2406600"/>
              <a:ext cx="926640" cy="1891800"/>
              <a:chOff x="2755080" y="2406600"/>
              <a:chExt cx="926640" cy="1891800"/>
            </a:xfrm>
          </p:grpSpPr>
          <p:sp>
            <p:nvSpPr>
              <p:cNvPr id="208" name="Rectangle 11"/>
              <p:cNvSpPr/>
              <p:nvPr/>
            </p:nvSpPr>
            <p:spPr>
              <a:xfrm>
                <a:off x="3197520" y="3359520"/>
                <a:ext cx="105120" cy="93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Ellipse 41"/>
              <p:cNvSpPr/>
              <p:nvPr/>
            </p:nvSpPr>
            <p:spPr>
              <a:xfrm>
                <a:off x="2841480" y="2996280"/>
                <a:ext cx="816120" cy="702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e353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Ellipse 42"/>
              <p:cNvSpPr/>
              <p:nvPr/>
            </p:nvSpPr>
            <p:spPr>
              <a:xfrm rot="1800000">
                <a:off x="2860200" y="3062520"/>
                <a:ext cx="647640" cy="593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9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Picture 5" descr=""/>
              <p:cNvPicPr/>
              <p:nvPr/>
            </p:nvPicPr>
            <p:blipFill>
              <a:blip r:embed="rId3"/>
              <a:srcRect l="23152" t="19910" r="24572" b="27214"/>
              <a:stretch/>
            </p:blipFill>
            <p:spPr>
              <a:xfrm rot="19764600">
                <a:off x="3247200" y="3298680"/>
                <a:ext cx="385920" cy="29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Trapèze 10"/>
              <p:cNvSpPr/>
              <p:nvPr/>
            </p:nvSpPr>
            <p:spPr>
              <a:xfrm>
                <a:off x="3005640" y="2658600"/>
                <a:ext cx="487440" cy="765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Ellipse 47"/>
              <p:cNvSpPr/>
              <p:nvPr/>
            </p:nvSpPr>
            <p:spPr>
              <a:xfrm>
                <a:off x="2961360" y="2406600"/>
                <a:ext cx="576000" cy="50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Ellipse 50"/>
              <p:cNvSpPr/>
              <p:nvPr/>
            </p:nvSpPr>
            <p:spPr>
              <a:xfrm>
                <a:off x="2961360" y="2406600"/>
                <a:ext cx="576000" cy="432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Groupe 57"/>
          <p:cNvGrpSpPr/>
          <p:nvPr/>
        </p:nvGrpSpPr>
        <p:grpSpPr>
          <a:xfrm>
            <a:off x="2845080" y="3616200"/>
            <a:ext cx="2195640" cy="3029400"/>
            <a:chOff x="2845080" y="3616200"/>
            <a:chExt cx="2195640" cy="3029400"/>
          </a:xfrm>
        </p:grpSpPr>
        <p:grpSp>
          <p:nvGrpSpPr>
            <p:cNvPr id="216" name="Groupe 58"/>
            <p:cNvGrpSpPr/>
            <p:nvPr/>
          </p:nvGrpSpPr>
          <p:grpSpPr>
            <a:xfrm>
              <a:off x="2845080" y="5397120"/>
              <a:ext cx="1809000" cy="1248480"/>
              <a:chOff x="2845080" y="5397120"/>
              <a:chExt cx="1809000" cy="1248480"/>
            </a:xfrm>
          </p:grpSpPr>
          <p:sp>
            <p:nvSpPr>
              <p:cNvPr id="217" name="Rectangle 11"/>
              <p:cNvSpPr/>
              <p:nvPr/>
            </p:nvSpPr>
            <p:spPr>
              <a:xfrm rot="14400000">
                <a:off x="4168440" y="5214960"/>
                <a:ext cx="105120" cy="938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Ellipse 68"/>
              <p:cNvSpPr/>
              <p:nvPr/>
            </p:nvSpPr>
            <p:spPr>
              <a:xfrm rot="14400000">
                <a:off x="3395520" y="5574600"/>
                <a:ext cx="815760" cy="70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Ellipse 69"/>
              <p:cNvSpPr/>
              <p:nvPr/>
            </p:nvSpPr>
            <p:spPr>
              <a:xfrm rot="16200000">
                <a:off x="3522960" y="5679360"/>
                <a:ext cx="647280" cy="593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rapèze 10"/>
              <p:cNvSpPr/>
              <p:nvPr/>
            </p:nvSpPr>
            <p:spPr>
              <a:xfrm rot="14400000">
                <a:off x="3295440" y="5695560"/>
                <a:ext cx="487080" cy="76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Ellipse 71"/>
              <p:cNvSpPr/>
              <p:nvPr/>
            </p:nvSpPr>
            <p:spPr>
              <a:xfrm rot="14400000">
                <a:off x="2919240" y="6018120"/>
                <a:ext cx="576000" cy="50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Ellipse 72"/>
              <p:cNvSpPr/>
              <p:nvPr/>
            </p:nvSpPr>
            <p:spPr>
              <a:xfrm rot="14400000">
                <a:off x="2887920" y="6072120"/>
                <a:ext cx="576000" cy="43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e 59"/>
            <p:cNvGrpSpPr/>
            <p:nvPr/>
          </p:nvGrpSpPr>
          <p:grpSpPr>
            <a:xfrm>
              <a:off x="4114440" y="3616200"/>
              <a:ext cx="926280" cy="1891800"/>
              <a:chOff x="4114440" y="3616200"/>
              <a:chExt cx="926280" cy="1891800"/>
            </a:xfrm>
          </p:grpSpPr>
          <p:sp>
            <p:nvSpPr>
              <p:cNvPr id="224" name="Rectangle 11"/>
              <p:cNvSpPr/>
              <p:nvPr/>
            </p:nvSpPr>
            <p:spPr>
              <a:xfrm>
                <a:off x="4556520" y="4569120"/>
                <a:ext cx="105120" cy="93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Ellipse 61"/>
              <p:cNvSpPr/>
              <p:nvPr/>
            </p:nvSpPr>
            <p:spPr>
              <a:xfrm>
                <a:off x="4200480" y="4205880"/>
                <a:ext cx="816120" cy="702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Ellipse 62"/>
              <p:cNvSpPr/>
              <p:nvPr/>
            </p:nvSpPr>
            <p:spPr>
              <a:xfrm rot="1800000">
                <a:off x="4219200" y="4272120"/>
                <a:ext cx="647640" cy="593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9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7" name="Picture 5" descr=""/>
              <p:cNvPicPr/>
              <p:nvPr/>
            </p:nvPicPr>
            <p:blipFill>
              <a:blip r:embed="rId4"/>
              <a:srcRect l="23152" t="19910" r="24572" b="27214"/>
              <a:stretch/>
            </p:blipFill>
            <p:spPr>
              <a:xfrm rot="19764600">
                <a:off x="4606200" y="4508280"/>
                <a:ext cx="385920" cy="29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Trapèze 10"/>
              <p:cNvSpPr/>
              <p:nvPr/>
            </p:nvSpPr>
            <p:spPr>
              <a:xfrm>
                <a:off x="4364640" y="3868200"/>
                <a:ext cx="487440" cy="765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Ellipse 65"/>
              <p:cNvSpPr/>
              <p:nvPr/>
            </p:nvSpPr>
            <p:spPr>
              <a:xfrm>
                <a:off x="4320360" y="3616200"/>
                <a:ext cx="576000" cy="50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Ellipse 66"/>
              <p:cNvSpPr/>
              <p:nvPr/>
            </p:nvSpPr>
            <p:spPr>
              <a:xfrm>
                <a:off x="4320360" y="3616200"/>
                <a:ext cx="576000" cy="432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e 73"/>
          <p:cNvGrpSpPr/>
          <p:nvPr/>
        </p:nvGrpSpPr>
        <p:grpSpPr>
          <a:xfrm>
            <a:off x="6480360" y="2570040"/>
            <a:ext cx="1195200" cy="2449080"/>
            <a:chOff x="6480360" y="2570040"/>
            <a:chExt cx="1195200" cy="2449080"/>
          </a:xfrm>
        </p:grpSpPr>
        <p:grpSp>
          <p:nvGrpSpPr>
            <p:cNvPr id="232" name="Groupe 74"/>
            <p:cNvGrpSpPr/>
            <p:nvPr/>
          </p:nvGrpSpPr>
          <p:grpSpPr>
            <a:xfrm>
              <a:off x="6495120" y="3824640"/>
              <a:ext cx="1180440" cy="1194480"/>
              <a:chOff x="6495120" y="3824640"/>
              <a:chExt cx="1180440" cy="1194480"/>
            </a:xfrm>
          </p:grpSpPr>
          <p:sp>
            <p:nvSpPr>
              <p:cNvPr id="233" name="Rectangle 11"/>
              <p:cNvSpPr/>
              <p:nvPr/>
            </p:nvSpPr>
            <p:spPr>
              <a:xfrm rot="8100000">
                <a:off x="6904800" y="3669120"/>
                <a:ext cx="49320" cy="118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Ellipse 81"/>
              <p:cNvSpPr/>
              <p:nvPr/>
            </p:nvSpPr>
            <p:spPr>
              <a:xfrm rot="20596800">
                <a:off x="7005240" y="4072320"/>
                <a:ext cx="554400" cy="885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e 75"/>
            <p:cNvGrpSpPr/>
            <p:nvPr/>
          </p:nvGrpSpPr>
          <p:grpSpPr>
            <a:xfrm>
              <a:off x="6480360" y="2570040"/>
              <a:ext cx="941760" cy="1320120"/>
              <a:chOff x="6480360" y="2570040"/>
              <a:chExt cx="941760" cy="1320120"/>
            </a:xfrm>
          </p:grpSpPr>
          <p:grpSp>
            <p:nvGrpSpPr>
              <p:cNvPr id="236" name="Groupe 76"/>
              <p:cNvGrpSpPr/>
              <p:nvPr/>
            </p:nvGrpSpPr>
            <p:grpSpPr>
              <a:xfrm>
                <a:off x="6480360" y="2570040"/>
                <a:ext cx="941760" cy="1320120"/>
                <a:chOff x="6480360" y="2570040"/>
                <a:chExt cx="941760" cy="1320120"/>
              </a:xfrm>
            </p:grpSpPr>
            <p:sp>
              <p:nvSpPr>
                <p:cNvPr id="237" name="Rectangle 11"/>
                <p:cNvSpPr/>
                <p:nvPr/>
              </p:nvSpPr>
              <p:spPr>
                <a:xfrm rot="1800000">
                  <a:off x="6771960" y="2776320"/>
                  <a:ext cx="49320" cy="1180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Ellipse 79"/>
                <p:cNvSpPr/>
                <p:nvPr/>
              </p:nvSpPr>
              <p:spPr>
                <a:xfrm>
                  <a:off x="6630840" y="2570040"/>
                  <a:ext cx="791280" cy="79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9" name="Picture 5" descr=""/>
              <p:cNvPicPr/>
              <p:nvPr/>
            </p:nvPicPr>
            <p:blipFill>
              <a:blip r:embed="rId5"/>
              <a:srcRect l="23152" t="19910" r="24572" b="27214"/>
              <a:stretch/>
            </p:blipFill>
            <p:spPr>
              <a:xfrm rot="19764600">
                <a:off x="6712200" y="2661840"/>
                <a:ext cx="385560" cy="294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82"/>
          <p:cNvGrpSpPr/>
          <p:nvPr/>
        </p:nvGrpSpPr>
        <p:grpSpPr>
          <a:xfrm>
            <a:off x="7807680" y="3943440"/>
            <a:ext cx="1195200" cy="2448720"/>
            <a:chOff x="7807680" y="3943440"/>
            <a:chExt cx="1195200" cy="2448720"/>
          </a:xfrm>
        </p:grpSpPr>
        <p:grpSp>
          <p:nvGrpSpPr>
            <p:cNvPr id="241" name="Groupe 83"/>
            <p:cNvGrpSpPr/>
            <p:nvPr/>
          </p:nvGrpSpPr>
          <p:grpSpPr>
            <a:xfrm>
              <a:off x="7822440" y="5197680"/>
              <a:ext cx="1180440" cy="1194480"/>
              <a:chOff x="7822440" y="5197680"/>
              <a:chExt cx="1180440" cy="1194480"/>
            </a:xfrm>
          </p:grpSpPr>
          <p:sp>
            <p:nvSpPr>
              <p:cNvPr id="242" name="Rectangle 11"/>
              <p:cNvSpPr/>
              <p:nvPr/>
            </p:nvSpPr>
            <p:spPr>
              <a:xfrm rot="8100000">
                <a:off x="8232120" y="5042160"/>
                <a:ext cx="49320" cy="118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Ellipse 90"/>
              <p:cNvSpPr/>
              <p:nvPr/>
            </p:nvSpPr>
            <p:spPr>
              <a:xfrm rot="20596800">
                <a:off x="8332560" y="5445360"/>
                <a:ext cx="554400" cy="885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e 84"/>
            <p:cNvGrpSpPr/>
            <p:nvPr/>
          </p:nvGrpSpPr>
          <p:grpSpPr>
            <a:xfrm>
              <a:off x="7807680" y="3943440"/>
              <a:ext cx="941760" cy="1319760"/>
              <a:chOff x="7807680" y="3943440"/>
              <a:chExt cx="941760" cy="1319760"/>
            </a:xfrm>
          </p:grpSpPr>
          <p:grpSp>
            <p:nvGrpSpPr>
              <p:cNvPr id="245" name="Groupe 85"/>
              <p:cNvGrpSpPr/>
              <p:nvPr/>
            </p:nvGrpSpPr>
            <p:grpSpPr>
              <a:xfrm>
                <a:off x="7807680" y="3943440"/>
                <a:ext cx="941760" cy="1319760"/>
                <a:chOff x="7807680" y="3943440"/>
                <a:chExt cx="941760" cy="1319760"/>
              </a:xfrm>
            </p:grpSpPr>
            <p:sp>
              <p:nvSpPr>
                <p:cNvPr id="246" name="Rectangle 11"/>
                <p:cNvSpPr/>
                <p:nvPr/>
              </p:nvSpPr>
              <p:spPr>
                <a:xfrm rot="1800000">
                  <a:off x="8099280" y="4149720"/>
                  <a:ext cx="49320" cy="1180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Ellipse 88"/>
                <p:cNvSpPr/>
                <p:nvPr/>
              </p:nvSpPr>
              <p:spPr>
                <a:xfrm>
                  <a:off x="7958160" y="3943440"/>
                  <a:ext cx="791280" cy="79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8" name="Picture 5" descr=""/>
              <p:cNvPicPr/>
              <p:nvPr/>
            </p:nvPicPr>
            <p:blipFill>
              <a:blip r:embed="rId6"/>
              <a:srcRect l="23152" t="19910" r="24572" b="27214"/>
              <a:stretch/>
            </p:blipFill>
            <p:spPr>
              <a:xfrm rot="19764600">
                <a:off x="8039520" y="4035240"/>
                <a:ext cx="385560" cy="294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916000" y="620640"/>
            <a:ext cx="5770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631"/>
                </a:solidFill>
                <a:latin typeface="Calibri"/>
              </a:rPr>
              <a:t>Green Vari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icky No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1" name="Groupe 5"/>
          <p:cNvGrpSpPr/>
          <p:nvPr/>
        </p:nvGrpSpPr>
        <p:grpSpPr>
          <a:xfrm>
            <a:off x="355680" y="1188000"/>
            <a:ext cx="2649600" cy="2492280"/>
            <a:chOff x="355680" y="1188000"/>
            <a:chExt cx="2649600" cy="2492280"/>
          </a:xfrm>
        </p:grpSpPr>
        <p:sp>
          <p:nvSpPr>
            <p:cNvPr id="252" name="Rectangle 5"/>
            <p:cNvSpPr/>
            <p:nvPr/>
          </p:nvSpPr>
          <p:spPr>
            <a:xfrm rot="21074400">
              <a:off x="579240" y="1423800"/>
              <a:ext cx="2262960" cy="20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Groupe 7"/>
            <p:cNvGrpSpPr/>
            <p:nvPr/>
          </p:nvGrpSpPr>
          <p:grpSpPr>
            <a:xfrm>
              <a:off x="355680" y="1188000"/>
              <a:ext cx="2649600" cy="2492280"/>
              <a:chOff x="355680" y="1188000"/>
              <a:chExt cx="2649600" cy="2492280"/>
            </a:xfrm>
          </p:grpSpPr>
          <p:grpSp>
            <p:nvGrpSpPr>
              <p:cNvPr id="254" name="Groupe 8"/>
              <p:cNvGrpSpPr/>
              <p:nvPr/>
            </p:nvGrpSpPr>
            <p:grpSpPr>
              <a:xfrm>
                <a:off x="362160" y="1188000"/>
                <a:ext cx="2643120" cy="2492280"/>
                <a:chOff x="362160" y="1188000"/>
                <a:chExt cx="2643120" cy="2492280"/>
              </a:xfrm>
            </p:grpSpPr>
            <p:sp>
              <p:nvSpPr>
                <p:cNvPr id="255" name="Rectangle 5"/>
                <p:cNvSpPr/>
                <p:nvPr/>
              </p:nvSpPr>
              <p:spPr>
                <a:xfrm rot="21074400">
                  <a:off x="513000" y="1353600"/>
                  <a:ext cx="2341440" cy="2160720"/>
                </a:xfrm>
                <a:prstGeom prst="pie">
                  <a:avLst/>
                </a:prstGeom>
                <a:solidFill>
                  <a:srgbClr val="abf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riangle rectangle 7"/>
                <p:cNvSpPr/>
                <p:nvPr/>
              </p:nvSpPr>
              <p:spPr>
                <a:xfrm rot="14260800">
                  <a:off x="2266200" y="2524320"/>
                  <a:ext cx="253080" cy="114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08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Rectangle 1"/>
              <p:cNvSpPr/>
              <p:nvPr/>
            </p:nvSpPr>
            <p:spPr>
              <a:xfrm rot="21081000">
                <a:off x="368280" y="1383480"/>
                <a:ext cx="2257560" cy="340200"/>
              </a:xfrm>
              <a:prstGeom prst="pi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Groupe 12"/>
          <p:cNvGrpSpPr/>
          <p:nvPr/>
        </p:nvGrpSpPr>
        <p:grpSpPr>
          <a:xfrm>
            <a:off x="3290760" y="1188360"/>
            <a:ext cx="2641680" cy="2491920"/>
            <a:chOff x="3290760" y="1188360"/>
            <a:chExt cx="2641680" cy="2491920"/>
          </a:xfrm>
        </p:grpSpPr>
        <p:sp>
          <p:nvSpPr>
            <p:cNvPr id="259" name="Rectangle 5"/>
            <p:cNvSpPr/>
            <p:nvPr/>
          </p:nvSpPr>
          <p:spPr>
            <a:xfrm rot="21074400">
              <a:off x="3507480" y="1423800"/>
              <a:ext cx="2261880" cy="20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e 15"/>
            <p:cNvGrpSpPr/>
            <p:nvPr/>
          </p:nvGrpSpPr>
          <p:grpSpPr>
            <a:xfrm>
              <a:off x="3290760" y="1188360"/>
              <a:ext cx="2641680" cy="2491920"/>
              <a:chOff x="3290760" y="1188360"/>
              <a:chExt cx="2641680" cy="2491920"/>
            </a:xfrm>
          </p:grpSpPr>
          <p:sp>
            <p:nvSpPr>
              <p:cNvPr id="261" name="Rectangle 5"/>
              <p:cNvSpPr/>
              <p:nvPr/>
            </p:nvSpPr>
            <p:spPr>
              <a:xfrm rot="21074400">
                <a:off x="3441600" y="1353960"/>
                <a:ext cx="2340000" cy="2160720"/>
              </a:xfrm>
              <a:prstGeom prst="pie">
                <a:avLst/>
              </a:prstGeom>
              <a:solidFill>
                <a:srgbClr val="ab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riangle rectangle 7"/>
              <p:cNvSpPr/>
              <p:nvPr/>
            </p:nvSpPr>
            <p:spPr>
              <a:xfrm rot="14260800">
                <a:off x="5193720" y="2525040"/>
                <a:ext cx="253080" cy="1140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08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e 19"/>
          <p:cNvGrpSpPr/>
          <p:nvPr/>
        </p:nvGrpSpPr>
        <p:grpSpPr>
          <a:xfrm>
            <a:off x="6210360" y="1188000"/>
            <a:ext cx="2649600" cy="2492280"/>
            <a:chOff x="6210360" y="1188000"/>
            <a:chExt cx="2649600" cy="2492280"/>
          </a:xfrm>
        </p:grpSpPr>
        <p:sp>
          <p:nvSpPr>
            <p:cNvPr id="264" name="Rectangle 5"/>
            <p:cNvSpPr/>
            <p:nvPr/>
          </p:nvSpPr>
          <p:spPr>
            <a:xfrm rot="21074400">
              <a:off x="6433920" y="1423800"/>
              <a:ext cx="2262960" cy="20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e 21"/>
            <p:cNvGrpSpPr/>
            <p:nvPr/>
          </p:nvGrpSpPr>
          <p:grpSpPr>
            <a:xfrm>
              <a:off x="6210360" y="1188000"/>
              <a:ext cx="2649600" cy="2492280"/>
              <a:chOff x="6210360" y="1188000"/>
              <a:chExt cx="2649600" cy="2492280"/>
            </a:xfrm>
          </p:grpSpPr>
          <p:grpSp>
            <p:nvGrpSpPr>
              <p:cNvPr id="266" name="Groupe 22"/>
              <p:cNvGrpSpPr/>
              <p:nvPr/>
            </p:nvGrpSpPr>
            <p:grpSpPr>
              <a:xfrm>
                <a:off x="6216840" y="1188000"/>
                <a:ext cx="2643120" cy="2492280"/>
                <a:chOff x="6216840" y="1188000"/>
                <a:chExt cx="2643120" cy="2492280"/>
              </a:xfrm>
            </p:grpSpPr>
            <p:sp>
              <p:nvSpPr>
                <p:cNvPr id="267" name="Rectangle 5"/>
                <p:cNvSpPr/>
                <p:nvPr/>
              </p:nvSpPr>
              <p:spPr>
                <a:xfrm rot="21074400">
                  <a:off x="6367680" y="1353600"/>
                  <a:ext cx="2341440" cy="2160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6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riangle rectangle 7"/>
                <p:cNvSpPr/>
                <p:nvPr/>
              </p:nvSpPr>
              <p:spPr>
                <a:xfrm rot="14260800">
                  <a:off x="8120880" y="2524320"/>
                  <a:ext cx="253080" cy="114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08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Rectangle 1"/>
              <p:cNvSpPr/>
              <p:nvPr/>
            </p:nvSpPr>
            <p:spPr>
              <a:xfrm rot="21081000">
                <a:off x="6222960" y="1383480"/>
                <a:ext cx="2257560" cy="340200"/>
              </a:xfrm>
              <a:prstGeom prst="pi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Groupe 38"/>
          <p:cNvGrpSpPr/>
          <p:nvPr/>
        </p:nvGrpSpPr>
        <p:grpSpPr>
          <a:xfrm>
            <a:off x="466560" y="4005360"/>
            <a:ext cx="2365560" cy="2390760"/>
            <a:chOff x="466560" y="4005360"/>
            <a:chExt cx="2365560" cy="2390760"/>
          </a:xfrm>
        </p:grpSpPr>
        <p:sp>
          <p:nvSpPr>
            <p:cNvPr id="271" name="Rectangle 3"/>
            <p:cNvSpPr/>
            <p:nvPr/>
          </p:nvSpPr>
          <p:spPr>
            <a:xfrm>
              <a:off x="489960" y="4168080"/>
              <a:ext cx="2292120" cy="217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"/>
            <p:cNvSpPr/>
            <p:nvPr/>
          </p:nvSpPr>
          <p:spPr>
            <a:xfrm>
              <a:off x="466560" y="4009320"/>
              <a:ext cx="2364480" cy="2386800"/>
            </a:xfrm>
            <a:prstGeom prst="pie">
              <a:avLst/>
            </a:prstGeom>
            <a:solidFill>
              <a:srgbClr val="abf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"/>
            <p:cNvSpPr/>
            <p:nvPr/>
          </p:nvSpPr>
          <p:spPr>
            <a:xfrm>
              <a:off x="511920" y="4005360"/>
              <a:ext cx="2320200" cy="4680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e 39"/>
          <p:cNvGrpSpPr/>
          <p:nvPr/>
        </p:nvGrpSpPr>
        <p:grpSpPr>
          <a:xfrm>
            <a:off x="3394080" y="4022640"/>
            <a:ext cx="2363760" cy="2386080"/>
            <a:chOff x="3394080" y="4022640"/>
            <a:chExt cx="2363760" cy="2386080"/>
          </a:xfrm>
        </p:grpSpPr>
        <p:sp>
          <p:nvSpPr>
            <p:cNvPr id="275" name="Rectangle 3"/>
            <p:cNvSpPr/>
            <p:nvPr/>
          </p:nvSpPr>
          <p:spPr>
            <a:xfrm>
              <a:off x="3417480" y="4181400"/>
              <a:ext cx="2234880" cy="217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"/>
            <p:cNvSpPr/>
            <p:nvPr/>
          </p:nvSpPr>
          <p:spPr>
            <a:xfrm>
              <a:off x="3394080" y="4022640"/>
              <a:ext cx="2363760" cy="2386080"/>
            </a:xfrm>
            <a:prstGeom prst="pie">
              <a:avLst/>
            </a:prstGeom>
            <a:solidFill>
              <a:srgbClr val="abf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e 43"/>
          <p:cNvGrpSpPr/>
          <p:nvPr/>
        </p:nvGrpSpPr>
        <p:grpSpPr>
          <a:xfrm>
            <a:off x="6321600" y="4017960"/>
            <a:ext cx="2365200" cy="2390760"/>
            <a:chOff x="6321600" y="4017960"/>
            <a:chExt cx="2365200" cy="2390760"/>
          </a:xfrm>
        </p:grpSpPr>
        <p:sp>
          <p:nvSpPr>
            <p:cNvPr id="278" name="Rectangle 3"/>
            <p:cNvSpPr/>
            <p:nvPr/>
          </p:nvSpPr>
          <p:spPr>
            <a:xfrm>
              <a:off x="6345000" y="4180680"/>
              <a:ext cx="2291760" cy="217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"/>
            <p:cNvSpPr/>
            <p:nvPr/>
          </p:nvSpPr>
          <p:spPr>
            <a:xfrm>
              <a:off x="6321600" y="4021920"/>
              <a:ext cx="2364120" cy="2386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"/>
            <p:cNvSpPr/>
            <p:nvPr/>
          </p:nvSpPr>
          <p:spPr>
            <a:xfrm>
              <a:off x="6366960" y="4017960"/>
              <a:ext cx="2319840" cy="4680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ectangle 21"/>
          <p:cNvSpPr/>
          <p:nvPr/>
        </p:nvSpPr>
        <p:spPr>
          <a:xfrm rot="18900000">
            <a:off x="2857680" y="1642680"/>
            <a:ext cx="1307880" cy="243000"/>
          </a:xfrm>
          <a:prstGeom prst="pie">
            <a:avLst/>
          </a:prstGeom>
          <a:solidFill>
            <a:srgbClr val="bec6d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2"/>
          <p:cNvSpPr/>
          <p:nvPr/>
        </p:nvSpPr>
        <p:spPr>
          <a:xfrm rot="2149200">
            <a:off x="4673160" y="1352160"/>
            <a:ext cx="1359000" cy="243000"/>
          </a:xfrm>
          <a:prstGeom prst="pie">
            <a:avLst/>
          </a:prstGeom>
          <a:solidFill>
            <a:srgbClr val="bec6d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3767040" y="3860640"/>
            <a:ext cx="1586160" cy="351000"/>
          </a:xfrm>
          <a:prstGeom prst="pie">
            <a:avLst/>
          </a:prstGeom>
          <a:solidFill>
            <a:srgbClr val="bec6d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916000" y="620640"/>
            <a:ext cx="5770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631"/>
                </a:solidFill>
                <a:latin typeface="Calibri"/>
              </a:rPr>
              <a:t>Pink Vari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icky No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e 5"/>
          <p:cNvGrpSpPr/>
          <p:nvPr/>
        </p:nvGrpSpPr>
        <p:grpSpPr>
          <a:xfrm>
            <a:off x="355680" y="1188000"/>
            <a:ext cx="2649600" cy="2492280"/>
            <a:chOff x="355680" y="1188000"/>
            <a:chExt cx="2649600" cy="2492280"/>
          </a:xfrm>
        </p:grpSpPr>
        <p:sp>
          <p:nvSpPr>
            <p:cNvPr id="287" name="Rectangle 5"/>
            <p:cNvSpPr/>
            <p:nvPr/>
          </p:nvSpPr>
          <p:spPr>
            <a:xfrm rot="21074400">
              <a:off x="579240" y="1423800"/>
              <a:ext cx="2262960" cy="20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e 7"/>
            <p:cNvGrpSpPr/>
            <p:nvPr/>
          </p:nvGrpSpPr>
          <p:grpSpPr>
            <a:xfrm>
              <a:off x="355680" y="1188000"/>
              <a:ext cx="2649600" cy="2492280"/>
              <a:chOff x="355680" y="1188000"/>
              <a:chExt cx="2649600" cy="2492280"/>
            </a:xfrm>
          </p:grpSpPr>
          <p:grpSp>
            <p:nvGrpSpPr>
              <p:cNvPr id="289" name="Groupe 8"/>
              <p:cNvGrpSpPr/>
              <p:nvPr/>
            </p:nvGrpSpPr>
            <p:grpSpPr>
              <a:xfrm>
                <a:off x="362160" y="1188000"/>
                <a:ext cx="2643120" cy="2492280"/>
                <a:chOff x="362160" y="1188000"/>
                <a:chExt cx="2643120" cy="2492280"/>
              </a:xfrm>
            </p:grpSpPr>
            <p:sp>
              <p:nvSpPr>
                <p:cNvPr id="290" name="Rectangle 5"/>
                <p:cNvSpPr/>
                <p:nvPr/>
              </p:nvSpPr>
              <p:spPr>
                <a:xfrm rot="21074400">
                  <a:off x="513000" y="1353600"/>
                  <a:ext cx="2341440" cy="2160720"/>
                </a:xfrm>
                <a:prstGeom prst="pie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Triangle rectangle 7"/>
                <p:cNvSpPr/>
                <p:nvPr/>
              </p:nvSpPr>
              <p:spPr>
                <a:xfrm rot="14260800">
                  <a:off x="2266200" y="2524320"/>
                  <a:ext cx="253080" cy="114156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Rectangle 1"/>
              <p:cNvSpPr/>
              <p:nvPr/>
            </p:nvSpPr>
            <p:spPr>
              <a:xfrm rot="21081000">
                <a:off x="368280" y="1383480"/>
                <a:ext cx="2257560" cy="340200"/>
              </a:xfrm>
              <a:prstGeom prst="pi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e 12"/>
          <p:cNvGrpSpPr/>
          <p:nvPr/>
        </p:nvGrpSpPr>
        <p:grpSpPr>
          <a:xfrm>
            <a:off x="3290760" y="1188360"/>
            <a:ext cx="2641680" cy="2491920"/>
            <a:chOff x="3290760" y="1188360"/>
            <a:chExt cx="2641680" cy="2491920"/>
          </a:xfrm>
        </p:grpSpPr>
        <p:sp>
          <p:nvSpPr>
            <p:cNvPr id="294" name="Rectangle 5"/>
            <p:cNvSpPr/>
            <p:nvPr/>
          </p:nvSpPr>
          <p:spPr>
            <a:xfrm rot="21074400">
              <a:off x="3507480" y="1423800"/>
              <a:ext cx="2261880" cy="20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e 15"/>
            <p:cNvGrpSpPr/>
            <p:nvPr/>
          </p:nvGrpSpPr>
          <p:grpSpPr>
            <a:xfrm>
              <a:off x="3290760" y="1188360"/>
              <a:ext cx="2641680" cy="2491920"/>
              <a:chOff x="3290760" y="1188360"/>
              <a:chExt cx="2641680" cy="2491920"/>
            </a:xfrm>
          </p:grpSpPr>
          <p:sp>
            <p:nvSpPr>
              <p:cNvPr id="296" name="Rectangle 5"/>
              <p:cNvSpPr/>
              <p:nvPr/>
            </p:nvSpPr>
            <p:spPr>
              <a:xfrm rot="21074400">
                <a:off x="3441600" y="1353960"/>
                <a:ext cx="2340000" cy="216072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riangle rectangle 7"/>
              <p:cNvSpPr/>
              <p:nvPr/>
            </p:nvSpPr>
            <p:spPr>
              <a:xfrm rot="14260800">
                <a:off x="5193720" y="2525040"/>
                <a:ext cx="253080" cy="1140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Groupe 19"/>
          <p:cNvGrpSpPr/>
          <p:nvPr/>
        </p:nvGrpSpPr>
        <p:grpSpPr>
          <a:xfrm>
            <a:off x="6210360" y="1188000"/>
            <a:ext cx="2649600" cy="2492280"/>
            <a:chOff x="6210360" y="1188000"/>
            <a:chExt cx="2649600" cy="2492280"/>
          </a:xfrm>
        </p:grpSpPr>
        <p:sp>
          <p:nvSpPr>
            <p:cNvPr id="299" name="Rectangle 5"/>
            <p:cNvSpPr/>
            <p:nvPr/>
          </p:nvSpPr>
          <p:spPr>
            <a:xfrm rot="21074400">
              <a:off x="6433920" y="1423800"/>
              <a:ext cx="2262960" cy="20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e 21"/>
            <p:cNvGrpSpPr/>
            <p:nvPr/>
          </p:nvGrpSpPr>
          <p:grpSpPr>
            <a:xfrm>
              <a:off x="6210360" y="1188000"/>
              <a:ext cx="2649600" cy="2492280"/>
              <a:chOff x="6210360" y="1188000"/>
              <a:chExt cx="2649600" cy="2492280"/>
            </a:xfrm>
          </p:grpSpPr>
          <p:grpSp>
            <p:nvGrpSpPr>
              <p:cNvPr id="301" name="Groupe 22"/>
              <p:cNvGrpSpPr/>
              <p:nvPr/>
            </p:nvGrpSpPr>
            <p:grpSpPr>
              <a:xfrm>
                <a:off x="6216840" y="1188000"/>
                <a:ext cx="2643120" cy="2492280"/>
                <a:chOff x="6216840" y="1188000"/>
                <a:chExt cx="2643120" cy="2492280"/>
              </a:xfrm>
            </p:grpSpPr>
            <p:sp>
              <p:nvSpPr>
                <p:cNvPr id="302" name="Rectangle 5"/>
                <p:cNvSpPr/>
                <p:nvPr/>
              </p:nvSpPr>
              <p:spPr>
                <a:xfrm rot="21074400">
                  <a:off x="6367680" y="1353600"/>
                  <a:ext cx="2341440" cy="2160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6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Triangle rectangle 7"/>
                <p:cNvSpPr/>
                <p:nvPr/>
              </p:nvSpPr>
              <p:spPr>
                <a:xfrm rot="14260800">
                  <a:off x="8120880" y="2524320"/>
                  <a:ext cx="253080" cy="11415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Rectangle 1"/>
              <p:cNvSpPr/>
              <p:nvPr/>
            </p:nvSpPr>
            <p:spPr>
              <a:xfrm rot="21081000">
                <a:off x="6222960" y="1383480"/>
                <a:ext cx="2257560" cy="340200"/>
              </a:xfrm>
              <a:prstGeom prst="pi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Groupe 38"/>
          <p:cNvGrpSpPr/>
          <p:nvPr/>
        </p:nvGrpSpPr>
        <p:grpSpPr>
          <a:xfrm>
            <a:off x="466560" y="4005360"/>
            <a:ext cx="2365560" cy="2390760"/>
            <a:chOff x="466560" y="4005360"/>
            <a:chExt cx="2365560" cy="2390760"/>
          </a:xfrm>
        </p:grpSpPr>
        <p:sp>
          <p:nvSpPr>
            <p:cNvPr id="306" name="Rectangle 3"/>
            <p:cNvSpPr/>
            <p:nvPr/>
          </p:nvSpPr>
          <p:spPr>
            <a:xfrm>
              <a:off x="489960" y="4168080"/>
              <a:ext cx="2292120" cy="217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"/>
            <p:cNvSpPr/>
            <p:nvPr/>
          </p:nvSpPr>
          <p:spPr>
            <a:xfrm>
              <a:off x="466560" y="4009320"/>
              <a:ext cx="2364480" cy="238680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4"/>
            <p:cNvSpPr/>
            <p:nvPr/>
          </p:nvSpPr>
          <p:spPr>
            <a:xfrm>
              <a:off x="511920" y="4005360"/>
              <a:ext cx="2320200" cy="4680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e 39"/>
          <p:cNvGrpSpPr/>
          <p:nvPr/>
        </p:nvGrpSpPr>
        <p:grpSpPr>
          <a:xfrm>
            <a:off x="3394080" y="4022640"/>
            <a:ext cx="2363760" cy="2386080"/>
            <a:chOff x="3394080" y="4022640"/>
            <a:chExt cx="2363760" cy="2386080"/>
          </a:xfrm>
        </p:grpSpPr>
        <p:sp>
          <p:nvSpPr>
            <p:cNvPr id="310" name="Rectangle 3"/>
            <p:cNvSpPr/>
            <p:nvPr/>
          </p:nvSpPr>
          <p:spPr>
            <a:xfrm>
              <a:off x="3417480" y="4181400"/>
              <a:ext cx="2234880" cy="217296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"/>
            <p:cNvSpPr/>
            <p:nvPr/>
          </p:nvSpPr>
          <p:spPr>
            <a:xfrm>
              <a:off x="3394080" y="4022640"/>
              <a:ext cx="2363760" cy="238608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e 43"/>
          <p:cNvGrpSpPr/>
          <p:nvPr/>
        </p:nvGrpSpPr>
        <p:grpSpPr>
          <a:xfrm>
            <a:off x="6321600" y="4017960"/>
            <a:ext cx="2365200" cy="2390760"/>
            <a:chOff x="6321600" y="4017960"/>
            <a:chExt cx="2365200" cy="2390760"/>
          </a:xfrm>
        </p:grpSpPr>
        <p:sp>
          <p:nvSpPr>
            <p:cNvPr id="313" name="Rectangle 3"/>
            <p:cNvSpPr/>
            <p:nvPr/>
          </p:nvSpPr>
          <p:spPr>
            <a:xfrm>
              <a:off x="6345000" y="4180680"/>
              <a:ext cx="2291760" cy="217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3"/>
            <p:cNvSpPr/>
            <p:nvPr/>
          </p:nvSpPr>
          <p:spPr>
            <a:xfrm>
              <a:off x="6321600" y="4021920"/>
              <a:ext cx="2364120" cy="2386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4"/>
            <p:cNvSpPr/>
            <p:nvPr/>
          </p:nvSpPr>
          <p:spPr>
            <a:xfrm>
              <a:off x="6366960" y="4017960"/>
              <a:ext cx="2319840" cy="4680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21"/>
          <p:cNvSpPr/>
          <p:nvPr/>
        </p:nvSpPr>
        <p:spPr>
          <a:xfrm rot="18900000">
            <a:off x="2857680" y="1642680"/>
            <a:ext cx="1307880" cy="243000"/>
          </a:xfrm>
          <a:prstGeom prst="pie">
            <a:avLst/>
          </a:prstGeom>
          <a:solidFill>
            <a:srgbClr val="435a74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2"/>
          <p:cNvSpPr/>
          <p:nvPr/>
        </p:nvSpPr>
        <p:spPr>
          <a:xfrm rot="2149200">
            <a:off x="4673160" y="1352160"/>
            <a:ext cx="1359000" cy="243000"/>
          </a:xfrm>
          <a:prstGeom prst="pie">
            <a:avLst/>
          </a:prstGeom>
          <a:solidFill>
            <a:srgbClr val="435a74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3767040" y="3860640"/>
            <a:ext cx="1586160" cy="351000"/>
          </a:xfrm>
          <a:prstGeom prst="pie">
            <a:avLst/>
          </a:prstGeom>
          <a:solidFill>
            <a:srgbClr val="435a74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2916000" y="620640"/>
            <a:ext cx="5770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631"/>
                </a:solidFill>
                <a:latin typeface="Calibri"/>
              </a:rPr>
              <a:t>Blue Vari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icky No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1" name="Groupe 5"/>
          <p:cNvGrpSpPr/>
          <p:nvPr/>
        </p:nvGrpSpPr>
        <p:grpSpPr>
          <a:xfrm>
            <a:off x="355680" y="1188000"/>
            <a:ext cx="2649600" cy="2492280"/>
            <a:chOff x="355680" y="1188000"/>
            <a:chExt cx="2649600" cy="2492280"/>
          </a:xfrm>
        </p:grpSpPr>
        <p:sp>
          <p:nvSpPr>
            <p:cNvPr id="322" name="Rectangle 5"/>
            <p:cNvSpPr/>
            <p:nvPr/>
          </p:nvSpPr>
          <p:spPr>
            <a:xfrm rot="21074400">
              <a:off x="579240" y="1423800"/>
              <a:ext cx="2262960" cy="20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Groupe 7"/>
            <p:cNvGrpSpPr/>
            <p:nvPr/>
          </p:nvGrpSpPr>
          <p:grpSpPr>
            <a:xfrm>
              <a:off x="355680" y="1188000"/>
              <a:ext cx="2649600" cy="2492280"/>
              <a:chOff x="355680" y="1188000"/>
              <a:chExt cx="2649600" cy="2492280"/>
            </a:xfrm>
          </p:grpSpPr>
          <p:grpSp>
            <p:nvGrpSpPr>
              <p:cNvPr id="324" name="Groupe 8"/>
              <p:cNvGrpSpPr/>
              <p:nvPr/>
            </p:nvGrpSpPr>
            <p:grpSpPr>
              <a:xfrm>
                <a:off x="362160" y="1188000"/>
                <a:ext cx="2643120" cy="2492280"/>
                <a:chOff x="362160" y="1188000"/>
                <a:chExt cx="2643120" cy="2492280"/>
              </a:xfrm>
            </p:grpSpPr>
            <p:sp>
              <p:nvSpPr>
                <p:cNvPr id="325" name="Rectangle 5"/>
                <p:cNvSpPr/>
                <p:nvPr/>
              </p:nvSpPr>
              <p:spPr>
                <a:xfrm rot="21074400">
                  <a:off x="513000" y="1353600"/>
                  <a:ext cx="2341440" cy="2160720"/>
                </a:xfrm>
                <a:prstGeom prst="pie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Triangle rectangle 7"/>
                <p:cNvSpPr/>
                <p:nvPr/>
              </p:nvSpPr>
              <p:spPr>
                <a:xfrm rot="14260800">
                  <a:off x="2266200" y="2524320"/>
                  <a:ext cx="253080" cy="114156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Rectangle 1"/>
              <p:cNvSpPr/>
              <p:nvPr/>
            </p:nvSpPr>
            <p:spPr>
              <a:xfrm rot="21081000">
                <a:off x="368280" y="1383480"/>
                <a:ext cx="2257560" cy="340200"/>
              </a:xfrm>
              <a:prstGeom prst="pi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Groupe 12"/>
          <p:cNvGrpSpPr/>
          <p:nvPr/>
        </p:nvGrpSpPr>
        <p:grpSpPr>
          <a:xfrm>
            <a:off x="3290760" y="1188360"/>
            <a:ext cx="2641680" cy="2491920"/>
            <a:chOff x="3290760" y="1188360"/>
            <a:chExt cx="2641680" cy="2491920"/>
          </a:xfrm>
        </p:grpSpPr>
        <p:sp>
          <p:nvSpPr>
            <p:cNvPr id="329" name="Rectangle 5"/>
            <p:cNvSpPr/>
            <p:nvPr/>
          </p:nvSpPr>
          <p:spPr>
            <a:xfrm rot="21074400">
              <a:off x="3507480" y="1423800"/>
              <a:ext cx="2261880" cy="20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e 15"/>
            <p:cNvGrpSpPr/>
            <p:nvPr/>
          </p:nvGrpSpPr>
          <p:grpSpPr>
            <a:xfrm>
              <a:off x="3290760" y="1188360"/>
              <a:ext cx="2641680" cy="2491920"/>
              <a:chOff x="3290760" y="1188360"/>
              <a:chExt cx="2641680" cy="2491920"/>
            </a:xfrm>
          </p:grpSpPr>
          <p:sp>
            <p:nvSpPr>
              <p:cNvPr id="331" name="Rectangle 5"/>
              <p:cNvSpPr/>
              <p:nvPr/>
            </p:nvSpPr>
            <p:spPr>
              <a:xfrm rot="21074400">
                <a:off x="3441600" y="1353960"/>
                <a:ext cx="2340000" cy="21607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riangle rectangle 7"/>
              <p:cNvSpPr/>
              <p:nvPr/>
            </p:nvSpPr>
            <p:spPr>
              <a:xfrm rot="14260800">
                <a:off x="5193720" y="2525040"/>
                <a:ext cx="253080" cy="1140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Groupe 19"/>
          <p:cNvGrpSpPr/>
          <p:nvPr/>
        </p:nvGrpSpPr>
        <p:grpSpPr>
          <a:xfrm>
            <a:off x="6210360" y="1188000"/>
            <a:ext cx="2649600" cy="2492280"/>
            <a:chOff x="6210360" y="1188000"/>
            <a:chExt cx="2649600" cy="2492280"/>
          </a:xfrm>
        </p:grpSpPr>
        <p:sp>
          <p:nvSpPr>
            <p:cNvPr id="334" name="Rectangle 5"/>
            <p:cNvSpPr/>
            <p:nvPr/>
          </p:nvSpPr>
          <p:spPr>
            <a:xfrm rot="21074400">
              <a:off x="6433920" y="1423800"/>
              <a:ext cx="2262960" cy="20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e 21"/>
            <p:cNvGrpSpPr/>
            <p:nvPr/>
          </p:nvGrpSpPr>
          <p:grpSpPr>
            <a:xfrm>
              <a:off x="6210360" y="1188000"/>
              <a:ext cx="2649600" cy="2492280"/>
              <a:chOff x="6210360" y="1188000"/>
              <a:chExt cx="2649600" cy="2492280"/>
            </a:xfrm>
          </p:grpSpPr>
          <p:grpSp>
            <p:nvGrpSpPr>
              <p:cNvPr id="336" name="Groupe 22"/>
              <p:cNvGrpSpPr/>
              <p:nvPr/>
            </p:nvGrpSpPr>
            <p:grpSpPr>
              <a:xfrm>
                <a:off x="6216840" y="1188000"/>
                <a:ext cx="2643120" cy="2492280"/>
                <a:chOff x="6216840" y="1188000"/>
                <a:chExt cx="2643120" cy="2492280"/>
              </a:xfrm>
            </p:grpSpPr>
            <p:sp>
              <p:nvSpPr>
                <p:cNvPr id="337" name="Rectangle 5"/>
                <p:cNvSpPr/>
                <p:nvPr/>
              </p:nvSpPr>
              <p:spPr>
                <a:xfrm rot="21074400">
                  <a:off x="6367680" y="1353600"/>
                  <a:ext cx="2341440" cy="2160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6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Triangle rectangle 7"/>
                <p:cNvSpPr/>
                <p:nvPr/>
              </p:nvSpPr>
              <p:spPr>
                <a:xfrm rot="14260800">
                  <a:off x="8120880" y="2524320"/>
                  <a:ext cx="253080" cy="11415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Rectangle 1"/>
              <p:cNvSpPr/>
              <p:nvPr/>
            </p:nvSpPr>
            <p:spPr>
              <a:xfrm rot="21081000">
                <a:off x="6222960" y="1383480"/>
                <a:ext cx="2257560" cy="340200"/>
              </a:xfrm>
              <a:prstGeom prst="pi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Groupe 38"/>
          <p:cNvGrpSpPr/>
          <p:nvPr/>
        </p:nvGrpSpPr>
        <p:grpSpPr>
          <a:xfrm>
            <a:off x="466560" y="4005360"/>
            <a:ext cx="2365560" cy="2390760"/>
            <a:chOff x="466560" y="4005360"/>
            <a:chExt cx="2365560" cy="2390760"/>
          </a:xfrm>
        </p:grpSpPr>
        <p:sp>
          <p:nvSpPr>
            <p:cNvPr id="341" name="Rectangle 3"/>
            <p:cNvSpPr/>
            <p:nvPr/>
          </p:nvSpPr>
          <p:spPr>
            <a:xfrm>
              <a:off x="489960" y="4168080"/>
              <a:ext cx="2292120" cy="217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3"/>
            <p:cNvSpPr/>
            <p:nvPr/>
          </p:nvSpPr>
          <p:spPr>
            <a:xfrm>
              <a:off x="466560" y="4009320"/>
              <a:ext cx="2364480" cy="23868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4"/>
            <p:cNvSpPr/>
            <p:nvPr/>
          </p:nvSpPr>
          <p:spPr>
            <a:xfrm>
              <a:off x="511920" y="4005360"/>
              <a:ext cx="2320200" cy="4680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e 39"/>
          <p:cNvGrpSpPr/>
          <p:nvPr/>
        </p:nvGrpSpPr>
        <p:grpSpPr>
          <a:xfrm>
            <a:off x="3394080" y="4022640"/>
            <a:ext cx="2363760" cy="2386080"/>
            <a:chOff x="3394080" y="4022640"/>
            <a:chExt cx="2363760" cy="2386080"/>
          </a:xfrm>
        </p:grpSpPr>
        <p:sp>
          <p:nvSpPr>
            <p:cNvPr id="345" name="Rectangle 3"/>
            <p:cNvSpPr/>
            <p:nvPr/>
          </p:nvSpPr>
          <p:spPr>
            <a:xfrm>
              <a:off x="3417480" y="4181400"/>
              <a:ext cx="2234880" cy="217296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"/>
            <p:cNvSpPr/>
            <p:nvPr/>
          </p:nvSpPr>
          <p:spPr>
            <a:xfrm>
              <a:off x="3394080" y="4022640"/>
              <a:ext cx="2363760" cy="23860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e 43"/>
          <p:cNvGrpSpPr/>
          <p:nvPr/>
        </p:nvGrpSpPr>
        <p:grpSpPr>
          <a:xfrm>
            <a:off x="6321600" y="4017960"/>
            <a:ext cx="2365200" cy="2390760"/>
            <a:chOff x="6321600" y="4017960"/>
            <a:chExt cx="2365200" cy="2390760"/>
          </a:xfrm>
        </p:grpSpPr>
        <p:sp>
          <p:nvSpPr>
            <p:cNvPr id="348" name="Rectangle 3"/>
            <p:cNvSpPr/>
            <p:nvPr/>
          </p:nvSpPr>
          <p:spPr>
            <a:xfrm>
              <a:off x="6345000" y="4180680"/>
              <a:ext cx="2291760" cy="217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"/>
            <p:cNvSpPr/>
            <p:nvPr/>
          </p:nvSpPr>
          <p:spPr>
            <a:xfrm>
              <a:off x="6321600" y="4021920"/>
              <a:ext cx="2364120" cy="2386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4"/>
            <p:cNvSpPr/>
            <p:nvPr/>
          </p:nvSpPr>
          <p:spPr>
            <a:xfrm>
              <a:off x="6366960" y="4017960"/>
              <a:ext cx="2319840" cy="4680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21"/>
          <p:cNvSpPr/>
          <p:nvPr/>
        </p:nvSpPr>
        <p:spPr>
          <a:xfrm rot="18900000">
            <a:off x="2857680" y="1642680"/>
            <a:ext cx="1307880" cy="24300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2"/>
          <p:cNvSpPr/>
          <p:nvPr/>
        </p:nvSpPr>
        <p:spPr>
          <a:xfrm rot="2149200">
            <a:off x="4673160" y="1352160"/>
            <a:ext cx="1359000" cy="24300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1"/>
          <p:cNvSpPr/>
          <p:nvPr/>
        </p:nvSpPr>
        <p:spPr>
          <a:xfrm>
            <a:off x="3767040" y="3860640"/>
            <a:ext cx="1586160" cy="35100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b8cce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2916000" y="620640"/>
            <a:ext cx="5770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631"/>
                </a:solidFill>
                <a:latin typeface="Calibri"/>
              </a:rPr>
              <a:t>Orange Vari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icky No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9" name="Groupe 5"/>
          <p:cNvGrpSpPr/>
          <p:nvPr/>
        </p:nvGrpSpPr>
        <p:grpSpPr>
          <a:xfrm>
            <a:off x="355680" y="1188000"/>
            <a:ext cx="2649600" cy="2492280"/>
            <a:chOff x="355680" y="1188000"/>
            <a:chExt cx="2649600" cy="2492280"/>
          </a:xfrm>
        </p:grpSpPr>
        <p:sp>
          <p:nvSpPr>
            <p:cNvPr id="360" name="Rectangle 5"/>
            <p:cNvSpPr/>
            <p:nvPr/>
          </p:nvSpPr>
          <p:spPr>
            <a:xfrm rot="21074400">
              <a:off x="579240" y="1423800"/>
              <a:ext cx="2262960" cy="20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Groupe 7"/>
            <p:cNvGrpSpPr/>
            <p:nvPr/>
          </p:nvGrpSpPr>
          <p:grpSpPr>
            <a:xfrm>
              <a:off x="355680" y="1188000"/>
              <a:ext cx="2649600" cy="2492280"/>
              <a:chOff x="355680" y="1188000"/>
              <a:chExt cx="2649600" cy="2492280"/>
            </a:xfrm>
          </p:grpSpPr>
          <p:grpSp>
            <p:nvGrpSpPr>
              <p:cNvPr id="362" name="Groupe 8"/>
              <p:cNvGrpSpPr/>
              <p:nvPr/>
            </p:nvGrpSpPr>
            <p:grpSpPr>
              <a:xfrm>
                <a:off x="362160" y="1188000"/>
                <a:ext cx="2643120" cy="2492280"/>
                <a:chOff x="362160" y="1188000"/>
                <a:chExt cx="2643120" cy="2492280"/>
              </a:xfrm>
            </p:grpSpPr>
            <p:sp>
              <p:nvSpPr>
                <p:cNvPr id="363" name="Rectangle 5"/>
                <p:cNvSpPr/>
                <p:nvPr/>
              </p:nvSpPr>
              <p:spPr>
                <a:xfrm rot="21074400">
                  <a:off x="513000" y="1353600"/>
                  <a:ext cx="2341440" cy="2160720"/>
                </a:xfrm>
                <a:prstGeom prst="pi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Triangle rectangle 7"/>
                <p:cNvSpPr/>
                <p:nvPr/>
              </p:nvSpPr>
              <p:spPr>
                <a:xfrm rot="14260800">
                  <a:off x="2266200" y="2524320"/>
                  <a:ext cx="253080" cy="114156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Rectangle 1"/>
              <p:cNvSpPr/>
              <p:nvPr/>
            </p:nvSpPr>
            <p:spPr>
              <a:xfrm rot="21081000">
                <a:off x="368280" y="1383480"/>
                <a:ext cx="2257560" cy="340200"/>
              </a:xfrm>
              <a:prstGeom prst="pi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e 12"/>
          <p:cNvGrpSpPr/>
          <p:nvPr/>
        </p:nvGrpSpPr>
        <p:grpSpPr>
          <a:xfrm>
            <a:off x="3290760" y="1188360"/>
            <a:ext cx="2641680" cy="2491920"/>
            <a:chOff x="3290760" y="1188360"/>
            <a:chExt cx="2641680" cy="2491920"/>
          </a:xfrm>
        </p:grpSpPr>
        <p:sp>
          <p:nvSpPr>
            <p:cNvPr id="367" name="Rectangle 5"/>
            <p:cNvSpPr/>
            <p:nvPr/>
          </p:nvSpPr>
          <p:spPr>
            <a:xfrm rot="21074400">
              <a:off x="3507480" y="1423800"/>
              <a:ext cx="2261880" cy="20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e 15"/>
            <p:cNvGrpSpPr/>
            <p:nvPr/>
          </p:nvGrpSpPr>
          <p:grpSpPr>
            <a:xfrm>
              <a:off x="3290760" y="1188360"/>
              <a:ext cx="2641680" cy="2491920"/>
              <a:chOff x="3290760" y="1188360"/>
              <a:chExt cx="2641680" cy="2491920"/>
            </a:xfrm>
          </p:grpSpPr>
          <p:sp>
            <p:nvSpPr>
              <p:cNvPr id="369" name="Rectangle 5"/>
              <p:cNvSpPr/>
              <p:nvPr/>
            </p:nvSpPr>
            <p:spPr>
              <a:xfrm rot="21074400">
                <a:off x="3441600" y="1353960"/>
                <a:ext cx="2340000" cy="216072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riangle rectangle 7"/>
              <p:cNvSpPr/>
              <p:nvPr/>
            </p:nvSpPr>
            <p:spPr>
              <a:xfrm rot="14260800">
                <a:off x="5193720" y="2525040"/>
                <a:ext cx="253080" cy="1140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Groupe 19"/>
          <p:cNvGrpSpPr/>
          <p:nvPr/>
        </p:nvGrpSpPr>
        <p:grpSpPr>
          <a:xfrm>
            <a:off x="6210360" y="1188000"/>
            <a:ext cx="2649600" cy="2492280"/>
            <a:chOff x="6210360" y="1188000"/>
            <a:chExt cx="2649600" cy="2492280"/>
          </a:xfrm>
        </p:grpSpPr>
        <p:sp>
          <p:nvSpPr>
            <p:cNvPr id="372" name="Rectangle 5"/>
            <p:cNvSpPr/>
            <p:nvPr/>
          </p:nvSpPr>
          <p:spPr>
            <a:xfrm rot="21074400">
              <a:off x="6433920" y="1423800"/>
              <a:ext cx="2262960" cy="20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e 21"/>
            <p:cNvGrpSpPr/>
            <p:nvPr/>
          </p:nvGrpSpPr>
          <p:grpSpPr>
            <a:xfrm>
              <a:off x="6210360" y="1188000"/>
              <a:ext cx="2649600" cy="2492280"/>
              <a:chOff x="6210360" y="1188000"/>
              <a:chExt cx="2649600" cy="2492280"/>
            </a:xfrm>
          </p:grpSpPr>
          <p:grpSp>
            <p:nvGrpSpPr>
              <p:cNvPr id="374" name="Groupe 22"/>
              <p:cNvGrpSpPr/>
              <p:nvPr/>
            </p:nvGrpSpPr>
            <p:grpSpPr>
              <a:xfrm>
                <a:off x="6216840" y="1188000"/>
                <a:ext cx="2643120" cy="2492280"/>
                <a:chOff x="6216840" y="1188000"/>
                <a:chExt cx="2643120" cy="2492280"/>
              </a:xfrm>
            </p:grpSpPr>
            <p:sp>
              <p:nvSpPr>
                <p:cNvPr id="375" name="Rectangle 5"/>
                <p:cNvSpPr/>
                <p:nvPr/>
              </p:nvSpPr>
              <p:spPr>
                <a:xfrm rot="21074400">
                  <a:off x="6367680" y="1353600"/>
                  <a:ext cx="2341440" cy="2160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6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Triangle rectangle 7"/>
                <p:cNvSpPr/>
                <p:nvPr/>
              </p:nvSpPr>
              <p:spPr>
                <a:xfrm rot="14260800">
                  <a:off x="8120880" y="2524320"/>
                  <a:ext cx="253080" cy="11415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Rectangle 1"/>
              <p:cNvSpPr/>
              <p:nvPr/>
            </p:nvSpPr>
            <p:spPr>
              <a:xfrm rot="21081000">
                <a:off x="6222960" y="1383480"/>
                <a:ext cx="2257560" cy="340200"/>
              </a:xfrm>
              <a:prstGeom prst="pi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Groupe 38"/>
          <p:cNvGrpSpPr/>
          <p:nvPr/>
        </p:nvGrpSpPr>
        <p:grpSpPr>
          <a:xfrm>
            <a:off x="466560" y="4005360"/>
            <a:ext cx="2365560" cy="2390760"/>
            <a:chOff x="466560" y="4005360"/>
            <a:chExt cx="2365560" cy="2390760"/>
          </a:xfrm>
        </p:grpSpPr>
        <p:sp>
          <p:nvSpPr>
            <p:cNvPr id="379" name="Rectangle 3"/>
            <p:cNvSpPr/>
            <p:nvPr/>
          </p:nvSpPr>
          <p:spPr>
            <a:xfrm>
              <a:off x="489960" y="4168080"/>
              <a:ext cx="2292120" cy="217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"/>
            <p:cNvSpPr/>
            <p:nvPr/>
          </p:nvSpPr>
          <p:spPr>
            <a:xfrm>
              <a:off x="466560" y="4009320"/>
              <a:ext cx="2364480" cy="238680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"/>
            <p:cNvSpPr/>
            <p:nvPr/>
          </p:nvSpPr>
          <p:spPr>
            <a:xfrm>
              <a:off x="511920" y="4005360"/>
              <a:ext cx="2320200" cy="4680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e 39"/>
          <p:cNvGrpSpPr/>
          <p:nvPr/>
        </p:nvGrpSpPr>
        <p:grpSpPr>
          <a:xfrm>
            <a:off x="3394080" y="4022640"/>
            <a:ext cx="2363760" cy="2386080"/>
            <a:chOff x="3394080" y="4022640"/>
            <a:chExt cx="2363760" cy="2386080"/>
          </a:xfrm>
        </p:grpSpPr>
        <p:sp>
          <p:nvSpPr>
            <p:cNvPr id="383" name="Rectangle 3"/>
            <p:cNvSpPr/>
            <p:nvPr/>
          </p:nvSpPr>
          <p:spPr>
            <a:xfrm>
              <a:off x="3417480" y="4181400"/>
              <a:ext cx="2234880" cy="217296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"/>
            <p:cNvSpPr/>
            <p:nvPr/>
          </p:nvSpPr>
          <p:spPr>
            <a:xfrm>
              <a:off x="3394080" y="4022640"/>
              <a:ext cx="2363760" cy="23860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e 43"/>
          <p:cNvGrpSpPr/>
          <p:nvPr/>
        </p:nvGrpSpPr>
        <p:grpSpPr>
          <a:xfrm>
            <a:off x="6321600" y="4017960"/>
            <a:ext cx="2365200" cy="2390760"/>
            <a:chOff x="6321600" y="4017960"/>
            <a:chExt cx="2365200" cy="2390760"/>
          </a:xfrm>
        </p:grpSpPr>
        <p:sp>
          <p:nvSpPr>
            <p:cNvPr id="386" name="Rectangle 3"/>
            <p:cNvSpPr/>
            <p:nvPr/>
          </p:nvSpPr>
          <p:spPr>
            <a:xfrm>
              <a:off x="6345000" y="4180680"/>
              <a:ext cx="2291760" cy="217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"/>
            <p:cNvSpPr/>
            <p:nvPr/>
          </p:nvSpPr>
          <p:spPr>
            <a:xfrm>
              <a:off x="6321600" y="4021920"/>
              <a:ext cx="2364120" cy="2386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"/>
            <p:cNvSpPr/>
            <p:nvPr/>
          </p:nvSpPr>
          <p:spPr>
            <a:xfrm>
              <a:off x="6366960" y="4017960"/>
              <a:ext cx="2319840" cy="4680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21"/>
          <p:cNvSpPr/>
          <p:nvPr/>
        </p:nvSpPr>
        <p:spPr>
          <a:xfrm rot="18900000">
            <a:off x="2857680" y="1642680"/>
            <a:ext cx="1307880" cy="243000"/>
          </a:xfrm>
          <a:prstGeom prst="pie">
            <a:avLst/>
          </a:prstGeom>
          <a:solidFill>
            <a:srgbClr val="00b0f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2"/>
          <p:cNvSpPr/>
          <p:nvPr/>
        </p:nvSpPr>
        <p:spPr>
          <a:xfrm rot="2149200">
            <a:off x="4673160" y="1352160"/>
            <a:ext cx="1359000" cy="243000"/>
          </a:xfrm>
          <a:prstGeom prst="pie">
            <a:avLst/>
          </a:prstGeom>
          <a:solidFill>
            <a:srgbClr val="00b0f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3767040" y="3860640"/>
            <a:ext cx="1586160" cy="351000"/>
          </a:xfrm>
          <a:prstGeom prst="pie">
            <a:avLst/>
          </a:prstGeom>
          <a:solidFill>
            <a:srgbClr val="00b0f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4:1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3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