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9E3-41C9-4A2E-8696-8E46C61E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C20-810D-4D1D-8E6E-2B8C9164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944-41BC-4404-AB6B-81A8FD16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C1E-C95E-4BFE-9866-11C3F746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553B-AE61-4B82-9624-68015123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81E3-0B85-42A2-89DB-D9E3CF6D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65EB-2B93-4C3A-A569-9AACF96D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0CAA-6836-4993-A27C-C1032285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5127-8FEE-48F5-99C6-38FAEA84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8C9D-4363-440E-B2AC-997E3233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395A-E588-4516-9444-53FD6106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BCA-415E-43D1-8B70-FF687910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0EC9-7B9E-4FEA-B11B-18AEBD95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431F-07DC-404A-B0C2-79F06E48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89A0-F7D0-4B65-AD7A-014896C7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421A-94B3-4B66-8744-8287C37C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A340-1DF4-40B3-8D80-140B98F5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CDA-BEF1-40A3-957E-2773B101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659-A24B-4B92-8BA9-83B6BF81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77F-752F-4268-BF23-7C71DBFB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A4E-92E0-491E-B42F-53D60241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4AF-0CDB-4068-8D69-D04B5696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6801-6167-485B-B7A2-A74EAB1C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9FD-F213-4EF2-BD1F-A13A7647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9F07-0309-4313-9C69-176DB562AF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6D82-68D4-4E9D-8EC0-5BC2595668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mobile.tech.tom.com/1048/1076/2004/7/27-59394.html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aoyu/" TargetMode="External"/><Relationship Id="rId3" Type="http://schemas.openxmlformats.org/officeDocument/2006/relationships/hyperlink" Target="http://www.eeppt.com/moban/jiaoyu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" name="Picture 4" descr="32653_100225163209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3984480" y="685800"/>
            <a:ext cx="51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Text Box 6" descr=""/>
          <p:cNvPicPr/>
          <p:nvPr/>
        </p:nvPicPr>
        <p:blipFill>
          <a:blip r:embed="rId3"/>
          <a:stretch/>
        </p:blipFill>
        <p:spPr>
          <a:xfrm>
            <a:off x="19080" y="-365040"/>
            <a:ext cx="3449520" cy="6802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28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468360" y="907920"/>
            <a:ext cx="8300880" cy="4572000"/>
            <a:chOff x="468360" y="907920"/>
            <a:chExt cx="8300880" cy="4572000"/>
          </a:xfrm>
        </p:grpSpPr>
        <p:sp>
          <p:nvSpPr>
            <p:cNvPr id="124" name="Rectangle 3"/>
            <p:cNvSpPr/>
            <p:nvPr/>
          </p:nvSpPr>
          <p:spPr>
            <a:xfrm>
              <a:off x="468360" y="907920"/>
              <a:ext cx="83008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四害之一，接电话来了，好哇。前些日子消灭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四害你没敢出来吧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?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嗯，我是谁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?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我是谁你不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知道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不知道你猜猜。猜不着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?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猜不着使劲猜。呃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猜不着我告诉你。我姓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方正楷体"/>
                </a:rPr>
                <a:t>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，我叫    唆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对，是我，我找小王讲话，我的未婚妻，她是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女的呀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25" name="Picture 4" descr="01"/>
            <p:cNvPicPr/>
            <p:nvPr/>
          </p:nvPicPr>
          <p:blipFill>
            <a:blip r:embed="rId2"/>
            <a:stretch/>
          </p:blipFill>
          <p:spPr>
            <a:xfrm>
              <a:off x="4749840" y="370188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5" descr="01"/>
            <p:cNvPicPr/>
            <p:nvPr/>
          </p:nvPicPr>
          <p:blipFill>
            <a:blip r:embed="rId3"/>
            <a:stretch/>
          </p:blipFill>
          <p:spPr>
            <a:xfrm>
              <a:off x="6156360" y="3701880"/>
              <a:ext cx="39996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Rectangle 6"/>
          <p:cNvSpPr/>
          <p:nvPr/>
        </p:nvSpPr>
        <p:spPr>
          <a:xfrm>
            <a:off x="2297160" y="5573880"/>
            <a:ext cx="47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说话和主题无关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啰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8" name="Picture 7" descr="22-3"/>
          <p:cNvPicPr/>
          <p:nvPr/>
        </p:nvPicPr>
        <p:blipFill>
          <a:blip r:embed="rId4"/>
          <a:stretch/>
        </p:blipFill>
        <p:spPr>
          <a:xfrm>
            <a:off x="6372360" y="11592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492120" y="836640"/>
            <a:ext cx="8327880" cy="5211720"/>
            <a:chOff x="492120" y="836640"/>
            <a:chExt cx="8327880" cy="5211720"/>
          </a:xfrm>
        </p:grpSpPr>
        <p:sp>
          <p:nvSpPr>
            <p:cNvPr id="130" name="Rectangle 3"/>
            <p:cNvSpPr/>
            <p:nvPr/>
          </p:nvSpPr>
          <p:spPr>
            <a:xfrm>
              <a:off x="492120" y="836640"/>
              <a:ext cx="8327880" cy="52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喂，小王，我是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方正楷体"/>
                </a:rPr>
                <a:t>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唆呀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!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我正找你呢。今天晚上有什么事吗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?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学习吗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不学习呀。开会吗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?  ······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不开会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讨论吗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?  ······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不讨论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太好了，我请你听戏好不好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?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票都买好了。长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安大戏院，楼下十排三号五号，咱俩挨着。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价八毛一张的，我买了两张，一块六。是一块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六，我给了他五块，他找了我三块四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31" name="Picture 4" descr="01"/>
            <p:cNvPicPr/>
            <p:nvPr/>
          </p:nvPicPr>
          <p:blipFill>
            <a:blip r:embed="rId2"/>
            <a:stretch/>
          </p:blipFill>
          <p:spPr>
            <a:xfrm>
              <a:off x="3727440" y="1063800"/>
              <a:ext cx="399960" cy="43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5" descr="22-3"/>
          <p:cNvPicPr/>
          <p:nvPr/>
        </p:nvPicPr>
        <p:blipFill>
          <a:blip r:embed="rId3"/>
          <a:stretch/>
        </p:blipFill>
        <p:spPr>
          <a:xfrm>
            <a:off x="6372360" y="11592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539640" y="1066680"/>
            <a:ext cx="80265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甲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什么戏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你猜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甲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嗯，京戏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不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对。嗯，评戏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不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越剧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哎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!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甲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不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说事语言不精练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啰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4" name="Picture 3" descr="22-3"/>
          <p:cNvPicPr/>
          <p:nvPr/>
        </p:nvPicPr>
        <p:blipFill>
          <a:blip r:embed="rId2"/>
          <a:stretch/>
        </p:blipFill>
        <p:spPr>
          <a:xfrm>
            <a:off x="6372360" y="115920"/>
            <a:ext cx="2519280" cy="1150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468360" y="2441520"/>
            <a:ext cx="83008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甲这样打电话，听电话的小王会是什么感觉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如果你此时站在甲的旁边，正等着打电话，你心里会怎么想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你会怎么做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7" name="Picture 3" descr="按钮"/>
          <p:cNvPicPr/>
          <p:nvPr/>
        </p:nvPicPr>
        <p:blipFill>
          <a:blip r:embed="rId2"/>
          <a:srcRect l="36232" t="10674" r="34225" b="53418"/>
          <a:stretch/>
        </p:blipFill>
        <p:spPr>
          <a:xfrm>
            <a:off x="1251000" y="2751120"/>
            <a:ext cx="303120" cy="276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按钮"/>
          <p:cNvPicPr/>
          <p:nvPr/>
        </p:nvPicPr>
        <p:blipFill>
          <a:blip r:embed="rId3"/>
          <a:srcRect l="36232" t="10674" r="34225" b="53418"/>
          <a:stretch/>
        </p:blipFill>
        <p:spPr>
          <a:xfrm>
            <a:off x="1251000" y="3441600"/>
            <a:ext cx="303120" cy="276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22-3"/>
          <p:cNvPicPr/>
          <p:nvPr/>
        </p:nvPicPr>
        <p:blipFill>
          <a:blip r:embed="rId4"/>
          <a:stretch/>
        </p:blipFill>
        <p:spPr>
          <a:xfrm>
            <a:off x="611280" y="907920"/>
            <a:ext cx="1944720" cy="889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1150920" y="193500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想一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1" name="Picture 7" descr="22-3"/>
          <p:cNvPicPr/>
          <p:nvPr/>
        </p:nvPicPr>
        <p:blipFill>
          <a:blip r:embed="rId5"/>
          <a:stretch/>
        </p:blipFill>
        <p:spPr>
          <a:xfrm>
            <a:off x="6372360" y="11592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99"/>
                </a:solidFill>
                <a:latin typeface="Arial"/>
              </a:rPr>
              <a:t>思一思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我们在生活中打电话时要注意什么问题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？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04920" y="380880"/>
            <a:ext cx="84582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打电话应该注意：                   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拨清楚电话号码，注意用礼貌用语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要把话说清楚明白、简明扼要。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要注意自我介绍 ，讲究礼貌                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听到嘟！嘟！的忙音时，要呆会再打。 </a:t>
            </a:r>
            <a:br>
              <a:rPr sz="2800"/>
            </a:b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生活中常用的电话号码：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报警报案电话要打“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10”      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交通事故要打“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12 ”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病人急救要打“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20”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发生火灾要打“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19”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知道号码要打“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14”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向电话局查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166-43C2-4B58-ABE5-03B8C7FA4F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74520"/>
            <a:ext cx="8540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13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打电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啰嗦</a:t>
            </a:r>
            <a:r>
              <a:rPr b="1" lang="en-US" sz="4400" spc="-1" strike="noStrike">
                <a:solidFill>
                  <a:srgbClr val="007a77"/>
                </a:solidFill>
                <a:latin typeface="宋体"/>
              </a:rPr>
              <a:t>----------</a:t>
            </a: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误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↓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说话要简洁明了、意思表达清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540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模拟练习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华星期天去外婆家，路上遇到有两个年轻人正在向一个学生模样的人要钱，刚好不远处有一个电话亭，小华该怎样打电话向公安局报警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你本来约好同学星期六去书店，可是周六的早上妈妈突然病了，你要陪妈妈去医院，你该如何打电话向同学说明原因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现场模拟打电话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如果你今天身体不舒服，想要给老师打电话请个假，你会怎么打这个电话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Picture 4" descr="040730100911motorola_a835"/>
          <p:cNvPicPr/>
          <p:nvPr/>
        </p:nvPicPr>
        <p:blipFill>
          <a:blip r:embed="rId2"/>
          <a:stretch/>
        </p:blipFill>
        <p:spPr>
          <a:xfrm>
            <a:off x="1143000" y="3352680"/>
            <a:ext cx="1211400" cy="2438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040728114919nokia_76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3276720"/>
            <a:ext cx="111744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1985400" y="3429000"/>
            <a:ext cx="1399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学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880880" y="3429000"/>
            <a:ext cx="1399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教师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809880" y="3124080"/>
            <a:ext cx="94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a77"/>
                </a:solidFill>
                <a:latin typeface="Arial"/>
              </a:rPr>
              <a:t>→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192560" y="36576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a77"/>
                </a:solidFill>
                <a:latin typeface="Arial"/>
              </a:rPr>
              <a:t>←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Ban-01_16"/>
          <p:cNvPicPr/>
          <p:nvPr/>
        </p:nvPicPr>
        <p:blipFill>
          <a:blip r:embed="rId2"/>
          <a:srcRect l="44172" t="10000" r="46371" b="80004"/>
          <a:stretch/>
        </p:blipFill>
        <p:spPr>
          <a:xfrm>
            <a:off x="380880" y="4038480"/>
            <a:ext cx="1473480" cy="2210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Ban-09_122"/>
          <p:cNvPicPr/>
          <p:nvPr/>
        </p:nvPicPr>
        <p:blipFill>
          <a:blip r:embed="rId3"/>
          <a:srcRect l="74207" t="78532" r="16336" b="11130"/>
          <a:stretch/>
        </p:blipFill>
        <p:spPr>
          <a:xfrm>
            <a:off x="7238880" y="4038480"/>
            <a:ext cx="1219320" cy="190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8" name="AutoShape 4"/>
          <p:cNvSpPr/>
          <p:nvPr/>
        </p:nvSpPr>
        <p:spPr>
          <a:xfrm>
            <a:off x="0" y="304920"/>
            <a:ext cx="3124080" cy="533160"/>
          </a:xfrm>
          <a:prstGeom prst="wedgeRoundRectCallout">
            <a:avLst>
              <a:gd name="adj1" fmla="val -31708"/>
              <a:gd name="adj2" fmla="val 572916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c5900"/>
                </a:solidFill>
                <a:latin typeface="Comic Sans MS"/>
              </a:rPr>
              <a:t>你好</a:t>
            </a:r>
            <a:r>
              <a:rPr b="1" lang="zh-CN" sz="1800" spc="-1" strike="noStrike">
                <a:solidFill>
                  <a:srgbClr val="dc5900"/>
                </a:solidFill>
                <a:latin typeface="Arial"/>
              </a:rPr>
              <a:t>！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是刘老师吗</a:t>
            </a:r>
            <a:r>
              <a:rPr b="1" lang="zh-CN" sz="1800" spc="-1" strike="noStrike">
                <a:solidFill>
                  <a:srgbClr val="dc59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6629400" y="457200"/>
            <a:ext cx="2209680" cy="838080"/>
          </a:xfrm>
          <a:prstGeom prst="wedgeRoundRectCallout">
            <a:avLst>
              <a:gd name="adj1" fmla="val 10342"/>
              <a:gd name="adj2" fmla="val 373675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Comic Sans MS"/>
              </a:rPr>
              <a:t>我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是刘老师，你是谁呀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295280" y="1371600"/>
            <a:ext cx="4343400" cy="838080"/>
          </a:xfrm>
          <a:prstGeom prst="wedgeRoundRectCallout">
            <a:avLst>
              <a:gd name="adj1" fmla="val -49125"/>
              <a:gd name="adj2" fmla="val 291856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刘老师，我是王龙，今天身体不舒服，向你请半天假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419720" y="2514600"/>
            <a:ext cx="2743200" cy="838080"/>
          </a:xfrm>
          <a:prstGeom prst="wedgeRoundRectCallout">
            <a:avLst>
              <a:gd name="adj1" fmla="val 70833"/>
              <a:gd name="adj2" fmla="val 164583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刘老师知道了，你好好在家休息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362320" y="3352680"/>
            <a:ext cx="685800" cy="2057400"/>
          </a:xfrm>
          <a:prstGeom prst="wedgeRoundRectCallout">
            <a:avLst>
              <a:gd name="adj1" fmla="val -155555"/>
              <a:gd name="adj2" fmla="val 18902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刘老师再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267080" y="3505320"/>
            <a:ext cx="533520" cy="2514600"/>
          </a:xfrm>
          <a:prstGeom prst="wedgeRoundRectCallout">
            <a:avLst>
              <a:gd name="adj1" fmla="val 585712"/>
              <a:gd name="adj2" fmla="val 6374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Comic Sans MS"/>
              </a:rPr>
              <a:t>王龙同学再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0"/>
          <p:cNvSpPr/>
          <p:nvPr/>
        </p:nvSpPr>
        <p:spPr>
          <a:xfrm>
            <a:off x="3549600" y="2895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596880" y="1125360"/>
            <a:ext cx="65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同学们平时最喜欢的电视节目有哪些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Picture 3" descr="返回"/>
          <p:cNvPicPr/>
          <p:nvPr/>
        </p:nvPicPr>
        <p:blipFill>
          <a:blip r:embed="rId2"/>
          <a:stretch/>
        </p:blipFill>
        <p:spPr>
          <a:xfrm>
            <a:off x="6862680" y="5856120"/>
            <a:ext cx="1670040" cy="525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13-03"/>
          <p:cNvPicPr/>
          <p:nvPr/>
        </p:nvPicPr>
        <p:blipFill>
          <a:blip r:embed="rId3"/>
          <a:stretch/>
        </p:blipFill>
        <p:spPr>
          <a:xfrm>
            <a:off x="1547640" y="1773360"/>
            <a:ext cx="5200920" cy="3900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13-01"/>
          <p:cNvPicPr/>
          <p:nvPr/>
        </p:nvPicPr>
        <p:blipFill>
          <a:blip r:embed="rId4"/>
          <a:stretch/>
        </p:blipFill>
        <p:spPr>
          <a:xfrm>
            <a:off x="1547640" y="1773360"/>
            <a:ext cx="5200920" cy="3900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13-02"/>
          <p:cNvPicPr/>
          <p:nvPr/>
        </p:nvPicPr>
        <p:blipFill>
          <a:blip r:embed="rId5"/>
          <a:stretch/>
        </p:blipFill>
        <p:spPr>
          <a:xfrm>
            <a:off x="1547640" y="1773360"/>
            <a:ext cx="5200920" cy="3900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22-3"/>
          <p:cNvPicPr/>
          <p:nvPr/>
        </p:nvPicPr>
        <p:blipFill>
          <a:blip r:embed="rId6"/>
          <a:stretch/>
        </p:blipFill>
        <p:spPr>
          <a:xfrm>
            <a:off x="6372360" y="11592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xit" presetID="7" presetSubtype="2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xit" presetID="7" presetSubtype="2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17680" y="1182600"/>
            <a:ext cx="840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相声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相声是所有说唱艺术之中最为人们熟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的品种，起源于北京，流行于全国各地。相声是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言的艺术，也是幽默的艺术，运用说学逗唱的技巧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组织包袱逗观众哈哈一笑，并有针砭世俗、寓教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乐的功能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2" name="Picture 3" descr="22-3"/>
          <p:cNvPicPr/>
          <p:nvPr/>
        </p:nvPicPr>
        <p:blipFill>
          <a:blip r:embed="rId2"/>
          <a:stretch/>
        </p:blipFill>
        <p:spPr>
          <a:xfrm>
            <a:off x="6372360" y="11592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相声的特点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单口相声（一人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对口相声（二人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群口相声（多人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语言风趣幽默、寓意深刻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既能说又能唱，形式多样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640080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3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0" dur="3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3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8" dur="3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3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549360" y="1182600"/>
            <a:ext cx="838188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阅读提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读相声，想想相声主要说了一件什么事，故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事里的甲说话有什么特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这篇相声对你有什么启发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7" name="Picture 3" descr="22-3"/>
          <p:cNvPicPr/>
          <p:nvPr/>
        </p:nvPicPr>
        <p:blipFill>
          <a:blip r:embed="rId2"/>
          <a:stretch/>
        </p:blipFill>
        <p:spPr>
          <a:xfrm>
            <a:off x="6372360" y="11592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99"/>
                </a:solidFill>
                <a:latin typeface="Arial"/>
              </a:rPr>
              <a:t>想一想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这则相声中打电话的那个人说话有什么特点？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6400800"/>
            <a:ext cx="6259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教育教学ppt模板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http://www.eeppt.com/moban/jiaoyu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549360" y="1182600"/>
            <a:ext cx="84153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甲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: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喂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·····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喂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·····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，怎么不说话，哎呀，拿倒了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!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喂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你的电话是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4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局 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5678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吗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我这是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1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局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2345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喂，你贵姓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哦，老胡呀。呃，不是老胡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甲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: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老张呀。哎呀，我没听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·····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呃，不是老张，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老刘呀。呃，不是老刘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甲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: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是耗子呀。这人外号叫耗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2" name="Picture 3" descr="22-3"/>
          <p:cNvPicPr/>
          <p:nvPr/>
        </p:nvPicPr>
        <p:blipFill>
          <a:blip r:embed="rId2"/>
          <a:stretch/>
        </p:blipFill>
        <p:spPr>
          <a:xfrm>
            <a:off x="6372360" y="11592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3:31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9T04:58:34Z</dcterms:modified>
  <cp:revision>2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