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FBE7-1178-4F74-87D9-F18F066B5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37FF-278B-45EC-8018-513B07A73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33F3-452A-49CF-9E03-A5A4941E2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7D58-201C-4C52-9CE6-44DA1AE1E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FCA96-3563-4E53-9D6A-E899CC9F4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FDB37-2E46-47A7-A8FD-9E98065C9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712CA-F75B-4A81-97B8-427EF5E3C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019B3-CC23-4B7C-95C0-6C39DA13B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174F4-07FD-4D3C-A7C4-EABDCD129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C0870-A1F1-4B78-952C-8A8D5B5F0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D5CF9-12D2-447F-844C-C35AAFF1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5B1B-F6BB-4089-8834-3F74ECC27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D8A73-B72D-4B18-AA82-7F0D126B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48DDE-697D-4328-B68C-3CA7F198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5950B-2A3B-4280-A6D3-5DDC60D92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62B91-F397-4974-9C4D-FDEC10958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47A28-C888-4E2C-9D8F-5B2D846DD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72D8-C3F7-4A8D-B3D0-F247ED8C1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41AA-94A7-4325-91B6-7793C4F25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E0FC-BC6A-4652-B747-45C382A00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2E81-8328-442A-9DA6-D1BAD4130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0D62-73CA-48DC-BAB8-A71353EE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F38B-FD45-491B-9D34-FC51ABB3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0343-74ED-49FF-880A-BC2F90C1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D9447-7973-44C8-BD01-14F53C371FF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1E50A-6A95-497B-AE39-4895FFEFD8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7C84B-8CEC-4F6D-B411-2AA8565301B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92002-4BEE-45DB-830A-38E55BD4162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f9c0514f76e82cb4093d44e02fb547ed" descr=""/>
          <p:cNvPicPr/>
          <p:nvPr/>
        </p:nvPicPr>
        <p:blipFill>
          <a:blip r:embed="rId1"/>
          <a:stretch/>
        </p:blipFill>
        <p:spPr>
          <a:xfrm>
            <a:off x="25560" y="36360"/>
            <a:ext cx="9067680" cy="67644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6360" y="6453360"/>
            <a:ext cx="508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319480" y="209520"/>
            <a:ext cx="406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大拇指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素材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8024A-D13E-47BF-95CD-0F5CCA6A5B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04:32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