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type.wav" ContentType="audio/x-wav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26.jpeg" ContentType="image/jpeg"/>
  <Override PartName="/ppt/media/image19.png" ContentType="image/png"/>
  <Override PartName="/ppt/media/image15.gif" ContentType="image/gif"/>
  <Override PartName="/ppt/media/image1.png" ContentType="image/png"/>
  <Override PartName="/ppt/media/image25.jpeg" ContentType="image/jpeg"/>
  <Override PartName="/ppt/media/image2.jpeg" ContentType="image/jpeg"/>
  <Override PartName="/ppt/media/image20.jpeg" ContentType="image/jpeg"/>
  <Override PartName="/ppt/media/image18.jpeg" ContentType="image/jpeg"/>
  <Override PartName="/ppt/media/image17.gif" ContentType="image/gif"/>
  <Override PartName="/ppt/media/image22.png" ContentType="image/png"/>
  <Override PartName="/ppt/media/image21.jpeg" ContentType="image/jpeg"/>
  <Override PartName="/ppt/media/image12.gif" ContentType="image/gi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E81-21C7-48EB-BF52-8CDA479C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692-96E4-4EE6-8F49-27E3CC03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531-ED04-43FE-AC9E-89F41700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4FE-713E-406D-8D74-876FB9C8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BE58-BE4E-4EFD-93D2-E77A3812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07FD-DC15-47E2-8FD4-46252249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B07E-D697-4E44-A8A6-1BAB814B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5686-5DED-470E-A31C-7E95FBD4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2291-E0C4-48AB-B17A-AE910205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A054-B96F-4A40-8D12-49C311A5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F9FA-C28C-4B2E-88B7-C5A07D3D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A0F-E052-4FAC-A170-094BCC55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4FC8-7AF6-4672-8D48-73B5F6A3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74C7-B524-46D4-9A3B-A6C47A47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1EAB-26DC-4018-B07A-CB94FBF2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6C6D-37D1-4865-AD0E-280A5B55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32B2-7610-46D5-B1BC-BBBB2A49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ACB-2AAC-4B8F-B234-4D7726BA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32A-BCB6-4285-989A-D5EB25AE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2C0-1FEC-4167-B786-30257098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3EA-36F9-4D87-B295-5A892F18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145-AEF5-4349-B36F-F2127FF8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5B2-CEA7-4E40-9556-728645A0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58D-2116-4F18-95F6-0505D041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3017-4789-4783-BECD-F400FEEFF2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E8DB-047C-48A1-8294-99182D69D7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gynobs.fmmu.sn.cn/jingcaituku/huandengbeijing/huandengbeijing-2.htm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moban/jiaoyu/" TargetMode="External"/><Relationship Id="rId2" Type="http://schemas.openxmlformats.org/officeDocument/2006/relationships/hyperlink" Target="http://www.eeppt.com/moban/jiaoyu/" TargetMode="External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gynobs.fmmu.sn.cn/jingcaituku/huandengbeijing/huandengbeijing-2.htm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gynobs.fmmu.sn.cn/jingcaituku/huandengbeijing/huandengbeijing-2.htm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9c1145638c72d313a2935c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466560" y="3573360"/>
            <a:ext cx="7632720" cy="197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动手做做看课件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526080"/>
            <a:ext cx="50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4800600" y="1447920"/>
            <a:ext cx="3161520" cy="3352320"/>
            <a:chOff x="4800600" y="1447920"/>
            <a:chExt cx="3161520" cy="3352320"/>
          </a:xfrm>
        </p:grpSpPr>
        <p:sp>
          <p:nvSpPr>
            <p:cNvPr id="145" name="Rectangle 3"/>
            <p:cNvSpPr/>
            <p:nvPr/>
          </p:nvSpPr>
          <p:spPr>
            <a:xfrm>
              <a:off x="4800600" y="1447920"/>
              <a:ext cx="3122280" cy="3352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>
              <a:off x="4833000" y="3156840"/>
              <a:ext cx="31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>
              <a:off x="6351480" y="1447920"/>
              <a:ext cx="0" cy="33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"/>
          <p:cNvGrpSpPr/>
          <p:nvPr/>
        </p:nvGrpSpPr>
        <p:grpSpPr>
          <a:xfrm>
            <a:off x="1066680" y="1371600"/>
            <a:ext cx="3161880" cy="3352320"/>
            <a:chOff x="1066680" y="1371600"/>
            <a:chExt cx="3161880" cy="3352320"/>
          </a:xfrm>
        </p:grpSpPr>
        <p:sp>
          <p:nvSpPr>
            <p:cNvPr id="149" name="Rectangle 7"/>
            <p:cNvSpPr/>
            <p:nvPr/>
          </p:nvSpPr>
          <p:spPr>
            <a:xfrm>
              <a:off x="1066680" y="1371600"/>
              <a:ext cx="3122640" cy="3352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099080" y="3080520"/>
              <a:ext cx="312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2617560" y="1371600"/>
              <a:ext cx="0" cy="33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0"/>
          <p:cNvSpPr/>
          <p:nvPr/>
        </p:nvSpPr>
        <p:spPr>
          <a:xfrm>
            <a:off x="1661040" y="134316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提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5416920" y="13716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971640" y="4797360"/>
            <a:ext cx="3641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提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提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提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2360" y="4869000"/>
            <a:ext cx="315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题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04920" y="838080"/>
            <a:ext cx="838188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黄若</a:t>
            </a: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楷体_GB2312"/>
              </a:rPr>
              <a:t>琳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楷体_GB2312"/>
              </a:rPr>
              <a:t>朗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读杂</a:t>
            </a: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楷体_GB2312"/>
              </a:rPr>
              <a:t>志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上的故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李</a:t>
            </a: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楷体_GB2312"/>
              </a:rPr>
              <a:t>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为了</a:t>
            </a: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楷体_GB2312"/>
              </a:rPr>
              <a:t>哄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小妹妹开心，带着她在看</a:t>
            </a: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楷体_GB2312"/>
              </a:rPr>
              <a:t>漫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画故事《七彩鱼</a:t>
            </a: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楷体_GB2312"/>
              </a:rPr>
              <a:t>鳞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7320" y="6423120"/>
            <a:ext cx="33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22200" y="-4557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457200" y="2819520"/>
            <a:ext cx="82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　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一个杯子装满了水，再放进别的东西，水就会漫出来。如果放进一条金鱼，却不是这样。这是为什么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书和问号"/>
          <p:cNvPicPr/>
          <p:nvPr/>
        </p:nvPicPr>
        <p:blipFill>
          <a:blip r:embed="rId4"/>
          <a:stretch/>
        </p:blipFill>
        <p:spPr>
          <a:xfrm>
            <a:off x="609480" y="1143000"/>
            <a:ext cx="1152720" cy="1008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5"/>
          <p:cNvSpPr txBox="1"/>
          <p:nvPr/>
        </p:nvSpPr>
        <p:spPr>
          <a:xfrm rot="21024000">
            <a:off x="2590560" y="990720"/>
            <a:ext cx="304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奇怪的问题</a:t>
            </a:r>
            <a:endParaRPr b="1" lang="en-US" sz="4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665280" y="6793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7288920" y="316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动手做做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2195640" y="2637000"/>
            <a:ext cx="3168360" cy="1368360"/>
            <a:chOff x="2195640" y="2637000"/>
            <a:chExt cx="3168360" cy="1368360"/>
          </a:xfrm>
        </p:grpSpPr>
        <p:sp>
          <p:nvSpPr>
            <p:cNvPr id="166" name="AutoShape 6"/>
            <p:cNvSpPr/>
            <p:nvPr/>
          </p:nvSpPr>
          <p:spPr>
            <a:xfrm>
              <a:off x="2195640" y="2637000"/>
              <a:ext cx="3168360" cy="1368360"/>
            </a:xfrm>
            <a:prstGeom prst="cloudCallout">
              <a:avLst>
                <a:gd name="adj1" fmla="val 36222"/>
                <a:gd name="adj2" fmla="val 92226"/>
              </a:avLst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2365200" y="2794320"/>
              <a:ext cx="292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因为鱼身上有鳞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5508720" y="2708280"/>
            <a:ext cx="3635280" cy="1438200"/>
            <a:chOff x="5508720" y="2708280"/>
            <a:chExt cx="3635280" cy="1438200"/>
          </a:xfrm>
        </p:grpSpPr>
        <p:sp>
          <p:nvSpPr>
            <p:cNvPr id="169" name="AutoShape 9"/>
            <p:cNvSpPr/>
            <p:nvPr/>
          </p:nvSpPr>
          <p:spPr>
            <a:xfrm>
              <a:off x="5508720" y="2708280"/>
              <a:ext cx="3635280" cy="1438200"/>
            </a:xfrm>
            <a:prstGeom prst="cloudCallout">
              <a:avLst>
                <a:gd name="adj1" fmla="val 24106"/>
                <a:gd name="adj2" fmla="val 150439"/>
              </a:avLst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5597640" y="2852640"/>
              <a:ext cx="354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一定是金鱼把水喝下去了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1"/>
          <p:cNvSpPr/>
          <p:nvPr/>
        </p:nvSpPr>
        <p:spPr>
          <a:xfrm rot="20776200">
            <a:off x="1143360" y="1616040"/>
            <a:ext cx="1262880" cy="22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？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0920" y="0"/>
            <a:ext cx="8893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小朋友（        ）地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       ）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另一个小朋友（        ）地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          ）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月亮女孩"/>
          <p:cNvPicPr/>
          <p:nvPr/>
        </p:nvPicPr>
        <p:blipFill>
          <a:blip r:embed="rId2"/>
          <a:stretch/>
        </p:blipFill>
        <p:spPr>
          <a:xfrm>
            <a:off x="0" y="0"/>
            <a:ext cx="1763640" cy="14922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4356000" y="16477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毫不犹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87280" y="458136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定是金鱼把水喝下去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859280" y="393372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不假思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116000" y="2349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因为金鱼身上有鱼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50920" y="333360"/>
            <a:ext cx="8532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伊琳娜是怎么想的？怎么做的？结果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　从课文中找出有关的句子回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50920" y="-98280"/>
            <a:ext cx="8532720" cy="24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伊琳娜觉得他们都没说对，但自己又想不出道理来。她回到家里问妈妈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妈妈说：“不能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想，你动手做做看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图像-04"/>
          <p:cNvPicPr/>
          <p:nvPr/>
        </p:nvPicPr>
        <p:blipFill>
          <a:blip r:embed="rId2"/>
          <a:stretch/>
        </p:blipFill>
        <p:spPr>
          <a:xfrm>
            <a:off x="-466560" y="0"/>
            <a:ext cx="519588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3311640" y="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Arial"/>
                <a:ea typeface="黑体"/>
              </a:rPr>
              <a:t>尹琳娜在干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211640" y="1916280"/>
            <a:ext cx="475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伊琳娜找来一条金鱼，把它放进一个装满水的杯子里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哎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，和郎志万说的不一样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水漫出来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iantou"/>
          <p:cNvPicPr/>
          <p:nvPr/>
        </p:nvPicPr>
        <p:blipFill>
          <a:blip r:embed="rId2"/>
          <a:stretch/>
        </p:blipFill>
        <p:spPr>
          <a:xfrm>
            <a:off x="7191360" y="4930920"/>
            <a:ext cx="428760" cy="4791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539640" y="333360"/>
            <a:ext cx="81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伊琳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越想越生气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第二天一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就去问郎志万：“您怎么可以提这样的问题，来哄骗我们小朋友呢？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755640" y="458136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您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不可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提这样的问题，来哄骗我们小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193840" y="413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258920" y="404640"/>
            <a:ext cx="72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朗志万听了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哈哈大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他说：“我不是想骗你们。我是想让你们知道，科学家的话，也不一定都是对的，要动手做做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187280" y="4508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伊琳娜听懂了朗志万的话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高兴地笑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7-2"/>
          <p:cNvPicPr/>
          <p:nvPr/>
        </p:nvPicPr>
        <p:blipFill>
          <a:blip r:embed="rId2"/>
          <a:stretch/>
        </p:blipFill>
        <p:spPr>
          <a:xfrm>
            <a:off x="2438280" y="228600"/>
            <a:ext cx="4800600" cy="84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2860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1280" y="83664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妈妈对伊琳娜说：“不能光想，你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动手做做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55640" y="2924280"/>
            <a:ext cx="79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朗志万对伊琳娜说：“我是想让你们知道，科学家说的话，也不一定都是对的，要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动手做做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200993225625544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12"/>
          <p:cNvPicPr/>
          <p:nvPr/>
        </p:nvPicPr>
        <p:blipFill>
          <a:blip r:embed="rId2"/>
          <a:srcRect l="45567" t="0" r="0" b="22344"/>
          <a:stretch/>
        </p:blipFill>
        <p:spPr>
          <a:xfrm>
            <a:off x="611280" y="692280"/>
            <a:ext cx="3956040" cy="4105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12"/>
          <p:cNvPicPr/>
          <p:nvPr/>
        </p:nvPicPr>
        <p:blipFill>
          <a:blip r:embed="rId3"/>
          <a:srcRect l="0" t="0" r="51446" b="22344"/>
          <a:stretch/>
        </p:blipFill>
        <p:spPr>
          <a:xfrm>
            <a:off x="4932360" y="620640"/>
            <a:ext cx="3529080" cy="41054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3208320" y="4724280"/>
            <a:ext cx="29239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伊琳娜为什么生气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7288920" y="316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动手做做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241440" y="5410080"/>
            <a:ext cx="264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她又为什么高兴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妈妈：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你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动手做做看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郎志万：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要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动手做做看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7320" y="6423120"/>
            <a:ext cx="33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图像-11"/>
          <p:cNvPicPr/>
          <p:nvPr/>
        </p:nvPicPr>
        <p:blipFill>
          <a:blip r:embed="rId2"/>
          <a:stretch/>
        </p:blipFill>
        <p:spPr>
          <a:xfrm>
            <a:off x="0" y="0"/>
            <a:ext cx="9144000" cy="3860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图像-10"/>
          <p:cNvPicPr/>
          <p:nvPr/>
        </p:nvPicPr>
        <p:blipFill>
          <a:blip r:embed="rId3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217296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的话也不一定是对的，要（　　　）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193840" y="413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4360" y="1117440"/>
            <a:ext cx="7920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不要不加思考地相信别人的话。对待别人说的话或提出的问题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不光要动脑筋想一想，而且还要动手做一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917720" y="851760"/>
            <a:ext cx="79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黑体"/>
              </a:rPr>
              <a:t>例：越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想</a:t>
            </a: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黑体"/>
              </a:rPr>
              <a:t>越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生气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越——越——　　　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越——越——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越——越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2411280" y="476280"/>
            <a:ext cx="424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66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名人名言</a:t>
            </a:r>
            <a:endParaRPr b="0" lang="en-US" sz="1800" spc="-1" strike="noStrike">
              <a:ln w="9360">
                <a:solidFill>
                  <a:srgbClr val="ff66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11280" y="2236680"/>
            <a:ext cx="795636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科学家的话，也不一定都是对的，要动手做做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朗志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4377960" y="69228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不能光想，你动手做做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118320" y="162864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不能光说不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873960" y="256536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不见不识，不做不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4381560" y="3429000"/>
            <a:ext cx="154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不下水，一辈子学不会游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736000" y="4437000"/>
            <a:ext cx="48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聪明人听到一次，思考十次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看到一次，实践十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366920" y="2610000"/>
          <a:ext cx="1600200" cy="1523880"/>
        </p:xfrm>
        <a:graphic>
          <a:graphicData uri="http://schemas.openxmlformats.org/drawingml/2006/table">
            <a:tbl>
              <a:tblPr/>
              <a:tblGrid>
                <a:gridCol w="752400"/>
                <a:gridCol w="8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 Box 13"/>
          <p:cNvSpPr/>
          <p:nvPr/>
        </p:nvSpPr>
        <p:spPr>
          <a:xfrm>
            <a:off x="1575720" y="2494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780000" y="2709720"/>
          <a:ext cx="1600200" cy="1523880"/>
        </p:xfrm>
        <a:graphic>
          <a:graphicData uri="http://schemas.openxmlformats.org/drawingml/2006/table">
            <a:tbl>
              <a:tblPr/>
              <a:tblGrid>
                <a:gridCol w="752400"/>
                <a:gridCol w="8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25"/>
          <p:cNvSpPr/>
          <p:nvPr/>
        </p:nvSpPr>
        <p:spPr>
          <a:xfrm>
            <a:off x="4025520" y="2637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330200" y="4797360"/>
          <a:ext cx="1600200" cy="1523880"/>
        </p:xfrm>
        <a:graphic>
          <a:graphicData uri="http://schemas.openxmlformats.org/drawingml/2006/table">
            <a:tbl>
              <a:tblPr/>
              <a:tblGrid>
                <a:gridCol w="752400"/>
                <a:gridCol w="8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Text Box 37"/>
          <p:cNvSpPr/>
          <p:nvPr/>
        </p:nvSpPr>
        <p:spPr>
          <a:xfrm>
            <a:off x="1575720" y="46544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851280" y="4797360"/>
          <a:ext cx="1600200" cy="1523880"/>
        </p:xfrm>
        <a:graphic>
          <a:graphicData uri="http://schemas.openxmlformats.org/drawingml/2006/table">
            <a:tbl>
              <a:tblPr/>
              <a:tblGrid>
                <a:gridCol w="752400"/>
                <a:gridCol w="8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49"/>
          <p:cNvSpPr/>
          <p:nvPr/>
        </p:nvSpPr>
        <p:spPr>
          <a:xfrm>
            <a:off x="4096800" y="46544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03280" y="404640"/>
          <a:ext cx="1600200" cy="1523880"/>
        </p:xfrm>
        <a:graphic>
          <a:graphicData uri="http://schemas.openxmlformats.org/drawingml/2006/table">
            <a:tbl>
              <a:tblPr/>
              <a:tblGrid>
                <a:gridCol w="752400"/>
                <a:gridCol w="8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61"/>
          <p:cNvSpPr/>
          <p:nvPr/>
        </p:nvSpPr>
        <p:spPr>
          <a:xfrm>
            <a:off x="1648800" y="260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16360" y="504720"/>
          <a:ext cx="1600200" cy="1523880"/>
        </p:xfrm>
        <a:graphic>
          <a:graphicData uri="http://schemas.openxmlformats.org/drawingml/2006/table">
            <a:tbl>
              <a:tblPr/>
              <a:tblGrid>
                <a:gridCol w="752400"/>
                <a:gridCol w="8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73"/>
          <p:cNvSpPr/>
          <p:nvPr/>
        </p:nvSpPr>
        <p:spPr>
          <a:xfrm>
            <a:off x="4061880" y="431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6259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教育教学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1295280" y="304920"/>
            <a:ext cx="6705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be0000"/>
                  </a:solidFill>
                  <a:miter/>
                </a:ln>
                <a:solidFill>
                  <a:srgbClr val="f2ef62"/>
                </a:solidFill>
                <a:latin typeface="华文新魏"/>
              </a:rPr>
              <a:t>你会怎么选？</a:t>
            </a:r>
            <a:endParaRPr b="1" lang="en-US" sz="6600" spc="-1" strike="noStrike">
              <a:ln w="9360">
                <a:solidFill>
                  <a:srgbClr val="be0000"/>
                </a:solidFill>
                <a:miter/>
              </a:ln>
              <a:solidFill>
                <a:srgbClr val="f2ef62"/>
              </a:solidFill>
              <a:latin typeface="华文新魏"/>
              <a:ea typeface="华文新魏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80880" y="1600200"/>
            <a:ext cx="84582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把一把尺子放进一个装满水的杯子里，从杯子外面可以看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</a:t>
            </a:r>
            <a:r>
              <a:rPr b="1" lang="en-US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A</a:t>
            </a: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：尺子上的字不变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</a:t>
            </a:r>
            <a:r>
              <a:rPr b="1" lang="en-US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B</a:t>
            </a: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：尺子上的字变大了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CFAZMG"/>
          <p:cNvPicPr/>
          <p:nvPr/>
        </p:nvPicPr>
        <p:blipFill>
          <a:blip r:embed="rId1"/>
          <a:stretch/>
        </p:blipFill>
        <p:spPr>
          <a:xfrm>
            <a:off x="7772400" y="54100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AH2RRLF"/>
          <p:cNvPicPr/>
          <p:nvPr/>
        </p:nvPicPr>
        <p:blipFill>
          <a:blip r:embed="rId2"/>
          <a:stretch/>
        </p:blipFill>
        <p:spPr>
          <a:xfrm>
            <a:off x="304920" y="1371600"/>
            <a:ext cx="960480" cy="960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57320" y="6423120"/>
            <a:ext cx="33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朗志万"/>
          <p:cNvPicPr/>
          <p:nvPr/>
        </p:nvPicPr>
        <p:blipFill>
          <a:blip r:embed="rId2"/>
          <a:stretch/>
        </p:blipFill>
        <p:spPr>
          <a:xfrm>
            <a:off x="684360" y="0"/>
            <a:ext cx="3743280" cy="4221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684360" y="53737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朗志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64000" y="53737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伊琳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11280" y="44956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l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987200" y="446724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zh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516640" y="468324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y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554880" y="4724280"/>
            <a:ext cx="8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543800" y="4724280"/>
            <a:ext cx="8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n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Image3"/>
          <p:cNvPicPr/>
          <p:nvPr/>
        </p:nvPicPr>
        <p:blipFill>
          <a:blip r:embed="rId3"/>
          <a:stretch/>
        </p:blipFill>
        <p:spPr>
          <a:xfrm>
            <a:off x="4932360" y="0"/>
            <a:ext cx="37432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64E3-8214-4FC8-B47F-47F53756D9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Fr60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900000" y="290952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阅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马过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把读后的感受说给爸爸妈妈或小朋友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动手做做看：杯子里装满水，在上面放上一张纸，然后把杯子倒过来，水会不会洒出来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908000" y="836640"/>
            <a:ext cx="59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作业套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7-2"/>
          <p:cNvPicPr/>
          <p:nvPr/>
        </p:nvPicPr>
        <p:blipFill>
          <a:blip r:embed="rId2"/>
          <a:stretch/>
        </p:blipFill>
        <p:spPr>
          <a:xfrm>
            <a:off x="2438280" y="228600"/>
            <a:ext cx="4800600" cy="841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116000" y="1341360"/>
            <a:ext cx="75438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ǎng zh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à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朗 志 万　 漫 出　 鱼 鳞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ī    lín    nà        āi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ǒng piàn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伊 琳 娜   哎 呀    哄 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863080" y="519120"/>
            <a:ext cx="3228840" cy="6189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朗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939040" y="519120"/>
            <a:ext cx="3228840" cy="6189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漫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923200" y="539640"/>
            <a:ext cx="3228840" cy="6189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鳞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863080" y="519120"/>
            <a:ext cx="3228840" cy="6189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伊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63080" y="519120"/>
            <a:ext cx="3228840" cy="6189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哄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863080" y="595440"/>
            <a:ext cx="3228840" cy="6189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哎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939040" y="519120"/>
            <a:ext cx="3228840" cy="6189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志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863080" y="519120"/>
            <a:ext cx="3228840" cy="6189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琳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863080" y="519120"/>
            <a:ext cx="3228840" cy="6189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骗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2939040" y="260280"/>
            <a:ext cx="3228840" cy="6189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娜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64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03-3"/>
          <p:cNvPicPr/>
          <p:nvPr/>
        </p:nvPicPr>
        <p:blipFill>
          <a:blip r:embed="rId2"/>
          <a:stretch/>
        </p:blipFill>
        <p:spPr>
          <a:xfrm>
            <a:off x="395280" y="333360"/>
            <a:ext cx="3529080" cy="10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2236_jpg"/>
          <p:cNvPicPr/>
          <p:nvPr/>
        </p:nvPicPr>
        <p:blipFill>
          <a:blip r:embed="rId3"/>
          <a:stretch/>
        </p:blipFill>
        <p:spPr>
          <a:xfrm>
            <a:off x="6477120" y="609480"/>
            <a:ext cx="799920" cy="9748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1547640" y="1989000"/>
            <a:ext cx="5791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骗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609920" y="542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换偏旁识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730520" y="4648320"/>
            <a:ext cx="634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出来了   一（  ）文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缓（  ）       哄（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726200" y="4594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117840" y="4687920"/>
            <a:ext cx="105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466000" y="5300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642720" y="5373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24000" y="1844640"/>
            <a:ext cx="928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老爷爷（　　）地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水满了，从鱼缸里（　）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发大水了，河水（　）过了小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979640" y="9079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慢　　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635280" y="18446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慢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15636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754600" y="306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76720" y="4365720"/>
          <a:ext cx="1600200" cy="1523880"/>
        </p:xfrm>
        <a:graphic>
          <a:graphicData uri="http://schemas.openxmlformats.org/drawingml/2006/table">
            <a:tbl>
              <a:tblPr/>
              <a:tblGrid>
                <a:gridCol w="755640"/>
                <a:gridCol w="8445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522240" y="4365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3"/>
          <p:cNvSpPr txBox="1"/>
          <p:nvPr/>
        </p:nvSpPr>
        <p:spPr>
          <a:xfrm>
            <a:off x="826920" y="2349360"/>
            <a:ext cx="74678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思考课文讲了一件什么事？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 rot="360000">
            <a:off x="3047760" y="1143000"/>
            <a:ext cx="2895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2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我能这样说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2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62040" y="2514600"/>
            <a:ext cx="630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法国科学家朗志万提了　　　　　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对此伊琳娜产生了　　　　　　　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并通过　　　　　　　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明白了　　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　　　　　　　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5410080" y="304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4572000" y="35053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2362320" y="41148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1828800" y="47242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9"/>
          <p:cNvSpPr txBox="1"/>
          <p:nvPr/>
        </p:nvSpPr>
        <p:spPr>
          <a:xfrm rot="555000">
            <a:off x="5638320" y="2362320"/>
            <a:ext cx="23194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个奇怪的问题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1" name="WordArt 10"/>
          <p:cNvSpPr txBox="1"/>
          <p:nvPr/>
        </p:nvSpPr>
        <p:spPr>
          <a:xfrm rot="925800">
            <a:off x="5409720" y="2971800"/>
            <a:ext cx="114300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怀疑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2" name="WordArt 11"/>
          <p:cNvSpPr txBox="1"/>
          <p:nvPr/>
        </p:nvSpPr>
        <p:spPr>
          <a:xfrm rot="459600">
            <a:off x="2590560" y="3428640"/>
            <a:ext cx="24667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亲自动手做做看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3" name="WordArt 12"/>
          <p:cNvSpPr txBox="1"/>
          <p:nvPr/>
        </p:nvSpPr>
        <p:spPr>
          <a:xfrm rot="302400">
            <a:off x="2209320" y="4038120"/>
            <a:ext cx="398160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朗志万的话是错误的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3:39:1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4:59:02Z</dcterms:modified>
  <cp:revision>2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