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%E7%83%9F%E8%8A%B1%E7%89%B9%E6%95%88%20(0m%2003s).wav" ContentType="audio/x-wav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3B1B7-EC24-435B-A4FF-7B8572F4AA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40A84-2016-4582-8EFE-4B2DF349B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EEFCF-9526-4065-9229-221E62740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A9A3-D625-4555-9D2E-3C892461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DB75-8902-429B-A1A5-3D6EFD22E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4B8B-7EE4-4303-BD6A-71AD263B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A35F-F003-47E4-97CA-AE8E9E32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2A44-B952-4414-A0A6-4B024726A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506E-86F9-4F86-8E22-501658175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10E2-2065-46D8-82A4-0B4245F59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845-A104-4BC0-9D12-A636EA7A2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CD757-AF88-44F3-A679-72C4DD62A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幼圆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幼圆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幼圆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幼圆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幼圆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幼圆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A7810-BD71-406E-949B-4EA24923814C}" type="slidenum">
              <a:rPr b="0" lang="zh-CN" sz="1400" spc="-1" strike="noStrike">
                <a:solidFill>
                  <a:srgbClr val="000000"/>
                </a:solidFill>
                <a:latin typeface="幼圆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&#28895;&#33457;&#29305;&#25928;%20(0m%2003s)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eppt.com/dongtai/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2341440" y="-598320"/>
            <a:ext cx="4389840" cy="3952080"/>
            <a:chOff x="2341440" y="-598320"/>
            <a:chExt cx="4389840" cy="3952080"/>
          </a:xfrm>
        </p:grpSpPr>
        <p:grpSp>
          <p:nvGrpSpPr>
            <p:cNvPr id="42" name=""/>
            <p:cNvGrpSpPr/>
            <p:nvPr/>
          </p:nvGrpSpPr>
          <p:grpSpPr>
            <a:xfrm>
              <a:off x="2341440" y="-598320"/>
              <a:ext cx="4389840" cy="3952080"/>
              <a:chOff x="2341440" y="-598320"/>
              <a:chExt cx="4389840" cy="3952080"/>
            </a:xfrm>
          </p:grpSpPr>
          <p:sp>
            <p:nvSpPr>
              <p:cNvPr id="43" name=""/>
              <p:cNvSpPr/>
              <p:nvPr/>
            </p:nvSpPr>
            <p:spPr>
              <a:xfrm>
                <a:off x="4516920" y="-598320"/>
                <a:ext cx="73800" cy="39520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 rot="1800000">
                <a:off x="4516560" y="-598320"/>
                <a:ext cx="73800" cy="39520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rot="3600000">
                <a:off x="4502880" y="-81864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rot="5400000">
                <a:off x="4503240" y="-81900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 rot="7200000">
                <a:off x="4502880" y="-818640"/>
                <a:ext cx="66240" cy="4389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 rot="9000000">
                <a:off x="4519440" y="-595440"/>
                <a:ext cx="74520" cy="39524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49" name=""/>
            <p:cNvGrpSpPr/>
            <p:nvPr/>
          </p:nvGrpSpPr>
          <p:grpSpPr>
            <a:xfrm>
              <a:off x="2666160" y="-267120"/>
              <a:ext cx="3746880" cy="3290760"/>
              <a:chOff x="2666160" y="-267120"/>
              <a:chExt cx="3746880" cy="3290760"/>
            </a:xfrm>
          </p:grpSpPr>
          <p:sp>
            <p:nvSpPr>
              <p:cNvPr id="50" name=""/>
              <p:cNvSpPr/>
              <p:nvPr/>
            </p:nvSpPr>
            <p:spPr>
              <a:xfrm rot="387000">
                <a:off x="4522680" y="-273960"/>
                <a:ext cx="63360" cy="3304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rot="2187600">
                <a:off x="4523040" y="-273960"/>
                <a:ext cx="63360" cy="3304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rot="3987600">
                <a:off x="451188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rot="5787600">
                <a:off x="451152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 rot="7587600">
                <a:off x="4511880" y="-506880"/>
                <a:ext cx="55440" cy="3764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 rot="9387600">
                <a:off x="4524840" y="-271440"/>
                <a:ext cx="63720" cy="3305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3101760" y="-43560"/>
              <a:ext cx="2874600" cy="2841120"/>
              <a:chOff x="3101760" y="-43560"/>
              <a:chExt cx="2874600" cy="2841120"/>
            </a:xfrm>
          </p:grpSpPr>
          <p:sp>
            <p:nvSpPr>
              <p:cNvPr id="57" name=""/>
              <p:cNvSpPr/>
              <p:nvPr/>
            </p:nvSpPr>
            <p:spPr>
              <a:xfrm rot="20864400">
                <a:off x="4525920" y="-71280"/>
                <a:ext cx="49320" cy="2896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 rot="1064400">
                <a:off x="4525920" y="-70920"/>
                <a:ext cx="49320" cy="2896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rot="2864400">
                <a:off x="4514400" y="-8712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4664400">
                <a:off x="4514400" y="-8676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464400">
                <a:off x="4514400" y="-87120"/>
                <a:ext cx="48600" cy="2931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8264400">
                <a:off x="4528080" y="-69840"/>
                <a:ext cx="49680" cy="2897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63" name=""/>
          <p:cNvSpPr/>
          <p:nvPr/>
        </p:nvSpPr>
        <p:spPr>
          <a:xfrm>
            <a:off x="4535640" y="7713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508720" y="490680"/>
            <a:ext cx="3668400" cy="3282120"/>
            <a:chOff x="5508720" y="490680"/>
            <a:chExt cx="3668400" cy="3282120"/>
          </a:xfrm>
        </p:grpSpPr>
        <p:grpSp>
          <p:nvGrpSpPr>
            <p:cNvPr id="65" name=""/>
            <p:cNvGrpSpPr/>
            <p:nvPr/>
          </p:nvGrpSpPr>
          <p:grpSpPr>
            <a:xfrm>
              <a:off x="5508720" y="490680"/>
              <a:ext cx="3668400" cy="3282120"/>
              <a:chOff x="5508720" y="490680"/>
              <a:chExt cx="3668400" cy="3282120"/>
            </a:xfrm>
          </p:grpSpPr>
          <p:sp>
            <p:nvSpPr>
              <p:cNvPr id="66" name=""/>
              <p:cNvSpPr/>
              <p:nvPr/>
            </p:nvSpPr>
            <p:spPr>
              <a:xfrm rot="19630800">
                <a:off x="7324920" y="1045080"/>
                <a:ext cx="61560" cy="2158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21431400">
                <a:off x="7324920" y="1045080"/>
                <a:ext cx="61560" cy="2158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630800">
                <a:off x="7324920" y="29592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3430800">
                <a:off x="7324920" y="29556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rot="5230800">
                <a:off x="7324920" y="295920"/>
                <a:ext cx="36000" cy="3670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rot="7030800">
                <a:off x="7327080" y="1044000"/>
                <a:ext cx="62280" cy="2158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72" name=""/>
            <p:cNvGrpSpPr/>
            <p:nvPr/>
          </p:nvGrpSpPr>
          <p:grpSpPr>
            <a:xfrm>
              <a:off x="5772960" y="810720"/>
              <a:ext cx="3143160" cy="2637000"/>
              <a:chOff x="5772960" y="810720"/>
              <a:chExt cx="3143160" cy="2637000"/>
            </a:xfrm>
          </p:grpSpPr>
          <p:sp>
            <p:nvSpPr>
              <p:cNvPr id="73" name=""/>
              <p:cNvSpPr/>
              <p:nvPr/>
            </p:nvSpPr>
            <p:spPr>
              <a:xfrm rot="20017800">
                <a:off x="7329960" y="1221840"/>
                <a:ext cx="52920" cy="1804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rot="218400">
                <a:off x="7329600" y="1221120"/>
                <a:ext cx="52920" cy="1804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rot="2018400">
                <a:off x="7329240" y="55548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rot="3818400">
                <a:off x="7329240" y="55512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rot="5618400">
                <a:off x="7329240" y="555120"/>
                <a:ext cx="30240" cy="3147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rot="7418400">
                <a:off x="7332480" y="1221120"/>
                <a:ext cx="53280" cy="1805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79" name=""/>
            <p:cNvGrpSpPr/>
            <p:nvPr/>
          </p:nvGrpSpPr>
          <p:grpSpPr>
            <a:xfrm>
              <a:off x="6158880" y="943560"/>
              <a:ext cx="2373480" cy="2375280"/>
              <a:chOff x="6158880" y="943560"/>
              <a:chExt cx="2373480" cy="2375280"/>
            </a:xfrm>
          </p:grpSpPr>
          <p:sp>
            <p:nvSpPr>
              <p:cNvPr id="80" name=""/>
              <p:cNvSpPr/>
              <p:nvPr/>
            </p:nvSpPr>
            <p:spPr>
              <a:xfrm rot="18895200">
                <a:off x="7332840" y="1333080"/>
                <a:ext cx="41040" cy="1582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rot="20695800">
                <a:off x="7332480" y="1333440"/>
                <a:ext cx="41040" cy="1582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895200">
                <a:off x="7332480" y="90540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2695200">
                <a:off x="7332480" y="90504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4495200">
                <a:off x="7332120" y="905400"/>
                <a:ext cx="2664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rot="6295200">
                <a:off x="7333560" y="1332720"/>
                <a:ext cx="41400" cy="1582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86" name=""/>
          <p:cNvSpPr/>
          <p:nvPr/>
        </p:nvSpPr>
        <p:spPr>
          <a:xfrm>
            <a:off x="7416720" y="8613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8320" y="755280"/>
            <a:ext cx="3540960" cy="2421000"/>
            <a:chOff x="58320" y="755280"/>
            <a:chExt cx="3540960" cy="2421000"/>
          </a:xfrm>
        </p:grpSpPr>
        <p:grpSp>
          <p:nvGrpSpPr>
            <p:cNvPr id="88" name=""/>
            <p:cNvGrpSpPr/>
            <p:nvPr/>
          </p:nvGrpSpPr>
          <p:grpSpPr>
            <a:xfrm>
              <a:off x="58320" y="755280"/>
              <a:ext cx="3540960" cy="2421000"/>
              <a:chOff x="58320" y="755280"/>
              <a:chExt cx="3540960" cy="2421000"/>
            </a:xfrm>
          </p:grpSpPr>
          <p:sp>
            <p:nvSpPr>
              <p:cNvPr id="89" name=""/>
              <p:cNvSpPr/>
              <p:nvPr/>
            </p:nvSpPr>
            <p:spPr>
              <a:xfrm rot="592800">
                <a:off x="1812240" y="74196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2392800">
                <a:off x="1812240" y="74232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4192800">
                <a:off x="180792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rot="5992800">
                <a:off x="180828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rot="7792800">
                <a:off x="1808280" y="168840"/>
                <a:ext cx="41040" cy="35870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 rot="9592800">
                <a:off x="1813680" y="744120"/>
                <a:ext cx="60840" cy="2447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333000" y="837360"/>
              <a:ext cx="2996280" cy="2248560"/>
              <a:chOff x="333000" y="837360"/>
              <a:chExt cx="2996280" cy="2248560"/>
            </a:xfrm>
          </p:grpSpPr>
          <p:sp>
            <p:nvSpPr>
              <p:cNvPr id="96" name=""/>
              <p:cNvSpPr/>
              <p:nvPr/>
            </p:nvSpPr>
            <p:spPr>
              <a:xfrm rot="979800">
                <a:off x="1817280" y="94284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rot="2780400">
                <a:off x="1816920" y="94248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rot="4580400">
                <a:off x="1814040" y="42408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 rot="6380400">
                <a:off x="1814040" y="42372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rot="8180400">
                <a:off x="1814040" y="423720"/>
                <a:ext cx="34200" cy="3075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9980400">
                <a:off x="1818000" y="944280"/>
                <a:ext cx="52200" cy="20466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633960" y="1067040"/>
              <a:ext cx="2393640" cy="1794240"/>
              <a:chOff x="633960" y="1067040"/>
              <a:chExt cx="2393640" cy="1794240"/>
            </a:xfrm>
          </p:grpSpPr>
          <p:sp>
            <p:nvSpPr>
              <p:cNvPr id="103" name=""/>
              <p:cNvSpPr/>
              <p:nvPr/>
            </p:nvSpPr>
            <p:spPr>
              <a:xfrm rot="21457800">
                <a:off x="1820160" y="1067040"/>
                <a:ext cx="4032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rot="1657200">
                <a:off x="1820160" y="1067400"/>
                <a:ext cx="4032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3457200">
                <a:off x="1815480" y="76608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5257200">
                <a:off x="1815840" y="76608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057200">
                <a:off x="1815480" y="765720"/>
                <a:ext cx="29880" cy="23947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8857200">
                <a:off x="1821240" y="1067760"/>
                <a:ext cx="4068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1827360" y="832500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097800" y="473040"/>
            <a:ext cx="3376800" cy="2361600"/>
            <a:chOff x="3097800" y="473040"/>
            <a:chExt cx="3376800" cy="2361600"/>
          </a:xfrm>
        </p:grpSpPr>
        <p:grpSp>
          <p:nvGrpSpPr>
            <p:cNvPr id="111" name=""/>
            <p:cNvGrpSpPr/>
            <p:nvPr/>
          </p:nvGrpSpPr>
          <p:grpSpPr>
            <a:xfrm>
              <a:off x="3097800" y="473040"/>
              <a:ext cx="3376800" cy="2361600"/>
              <a:chOff x="3097800" y="473040"/>
              <a:chExt cx="3376800" cy="2361600"/>
            </a:xfrm>
          </p:grpSpPr>
          <p:sp>
            <p:nvSpPr>
              <p:cNvPr id="112" name=""/>
              <p:cNvSpPr/>
              <p:nvPr/>
            </p:nvSpPr>
            <p:spPr>
              <a:xfrm rot="757200">
                <a:off x="4770360" y="721800"/>
                <a:ext cx="57960" cy="18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2557200">
                <a:off x="4770000" y="722160"/>
                <a:ext cx="57960" cy="18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4357200">
                <a:off x="4770000" y="-7236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6157200">
                <a:off x="4770360" y="-7272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7957200">
                <a:off x="4770000" y="-72720"/>
                <a:ext cx="31320" cy="345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9757200">
                <a:off x="4772160" y="723600"/>
                <a:ext cx="58680" cy="187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18" name=""/>
            <p:cNvGrpSpPr/>
            <p:nvPr/>
          </p:nvGrpSpPr>
          <p:grpSpPr>
            <a:xfrm>
              <a:off x="3332520" y="525960"/>
              <a:ext cx="2912400" cy="2254680"/>
              <a:chOff x="3332520" y="525960"/>
              <a:chExt cx="2912400" cy="2254680"/>
            </a:xfrm>
          </p:grpSpPr>
          <p:sp>
            <p:nvSpPr>
              <p:cNvPr id="119" name=""/>
              <p:cNvSpPr/>
              <p:nvPr/>
            </p:nvSpPr>
            <p:spPr>
              <a:xfrm rot="1144200">
                <a:off x="4775040" y="875880"/>
                <a:ext cx="49680" cy="156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 rot="2944800">
                <a:off x="4775040" y="875880"/>
                <a:ext cx="49680" cy="156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rot="4744800">
                <a:off x="4775400" y="17280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 rot="6544800">
                <a:off x="4775040" y="17280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rot="8344800">
                <a:off x="4775760" y="172440"/>
                <a:ext cx="26280" cy="2961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rot="10144800">
                <a:off x="4776120" y="876600"/>
                <a:ext cx="50040" cy="15649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3635640" y="970200"/>
              <a:ext cx="2305440" cy="1372320"/>
              <a:chOff x="3635640" y="970200"/>
              <a:chExt cx="2305440" cy="1372320"/>
            </a:xfrm>
          </p:grpSpPr>
          <p:sp>
            <p:nvSpPr>
              <p:cNvPr id="126" name=""/>
              <p:cNvSpPr/>
              <p:nvPr/>
            </p:nvSpPr>
            <p:spPr>
              <a:xfrm rot="21600">
                <a:off x="4778280" y="970200"/>
                <a:ext cx="3852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1821600">
                <a:off x="4777920" y="970200"/>
                <a:ext cx="3852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36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54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rot="7221600">
                <a:off x="4776480" y="502920"/>
                <a:ext cx="23040" cy="23054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rot="9021600">
                <a:off x="4779000" y="970560"/>
                <a:ext cx="38880" cy="1371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32" name=""/>
          <p:cNvSpPr/>
          <p:nvPr/>
        </p:nvSpPr>
        <p:spPr>
          <a:xfrm>
            <a:off x="4751280" y="795816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5434560" y="-409320"/>
            <a:ext cx="3631320" cy="3241800"/>
            <a:chOff x="5434560" y="-409320"/>
            <a:chExt cx="3631320" cy="3241800"/>
          </a:xfrm>
        </p:grpSpPr>
        <p:grpSp>
          <p:nvGrpSpPr>
            <p:cNvPr id="134" name=""/>
            <p:cNvGrpSpPr/>
            <p:nvPr/>
          </p:nvGrpSpPr>
          <p:grpSpPr>
            <a:xfrm>
              <a:off x="5434560" y="-409320"/>
              <a:ext cx="3631320" cy="3241800"/>
              <a:chOff x="5434560" y="-409320"/>
              <a:chExt cx="3631320" cy="3241800"/>
            </a:xfrm>
          </p:grpSpPr>
          <p:sp>
            <p:nvSpPr>
              <p:cNvPr id="135" name=""/>
              <p:cNvSpPr/>
              <p:nvPr/>
            </p:nvSpPr>
            <p:spPr>
              <a:xfrm rot="19630800">
                <a:off x="7232760" y="663480"/>
                <a:ext cx="61200" cy="1080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21431400">
                <a:off x="7232400" y="663480"/>
                <a:ext cx="61200" cy="1080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rot="1630800">
                <a:off x="7241400" y="-60588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 rot="3430800">
                <a:off x="7241400" y="-60588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 rot="5230800">
                <a:off x="7241040" y="-606240"/>
                <a:ext cx="18000" cy="3634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 rot="7030800">
                <a:off x="7234560" y="663120"/>
                <a:ext cx="61560" cy="1080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41" name=""/>
            <p:cNvGrpSpPr/>
            <p:nvPr/>
          </p:nvGrpSpPr>
          <p:grpSpPr>
            <a:xfrm>
              <a:off x="5697000" y="-92160"/>
              <a:ext cx="3111120" cy="2603160"/>
              <a:chOff x="5697000" y="-92160"/>
              <a:chExt cx="3111120" cy="2603160"/>
            </a:xfrm>
          </p:grpSpPr>
          <p:sp>
            <p:nvSpPr>
              <p:cNvPr id="142" name=""/>
              <p:cNvSpPr/>
              <p:nvPr/>
            </p:nvSpPr>
            <p:spPr>
              <a:xfrm rot="20017800">
                <a:off x="7237440" y="752760"/>
                <a:ext cx="5220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8400">
                <a:off x="7237440" y="752760"/>
                <a:ext cx="5220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2018400">
                <a:off x="724464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 rot="3818400">
                <a:off x="724428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5618400">
                <a:off x="7244640" y="-348840"/>
                <a:ext cx="15120" cy="3116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7418400">
                <a:off x="7239240" y="751320"/>
                <a:ext cx="52920" cy="903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6079320" y="36000"/>
              <a:ext cx="2346840" cy="2348280"/>
              <a:chOff x="6079320" y="36000"/>
              <a:chExt cx="2346840" cy="2348280"/>
            </a:xfrm>
          </p:grpSpPr>
          <p:sp>
            <p:nvSpPr>
              <p:cNvPr id="149" name=""/>
              <p:cNvSpPr/>
              <p:nvPr/>
            </p:nvSpPr>
            <p:spPr>
              <a:xfrm rot="18895200">
                <a:off x="7239240" y="807120"/>
                <a:ext cx="40680" cy="791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20695800">
                <a:off x="7239600" y="807480"/>
                <a:ext cx="40680" cy="7916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95200">
                <a:off x="7246080" y="-288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 rot="2695200">
                <a:off x="7246080" y="-288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4495200">
                <a:off x="7245720" y="-3240"/>
                <a:ext cx="13320" cy="2426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rot="6295200">
                <a:off x="7241040" y="806400"/>
                <a:ext cx="41040" cy="792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55" name=""/>
          <p:cNvSpPr/>
          <p:nvPr/>
        </p:nvSpPr>
        <p:spPr>
          <a:xfrm>
            <a:off x="7236000" y="777708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1625400" y="350280"/>
            <a:ext cx="2193120" cy="2464200"/>
            <a:chOff x="1625400" y="350280"/>
            <a:chExt cx="2193120" cy="2464200"/>
          </a:xfrm>
        </p:grpSpPr>
        <p:grpSp>
          <p:nvGrpSpPr>
            <p:cNvPr id="157" name=""/>
            <p:cNvGrpSpPr/>
            <p:nvPr/>
          </p:nvGrpSpPr>
          <p:grpSpPr>
            <a:xfrm>
              <a:off x="1625400" y="350280"/>
              <a:ext cx="2193120" cy="2464200"/>
              <a:chOff x="1625400" y="350280"/>
              <a:chExt cx="2193120" cy="2464200"/>
            </a:xfrm>
          </p:grpSpPr>
          <p:sp>
            <p:nvSpPr>
              <p:cNvPr id="158" name=""/>
              <p:cNvSpPr/>
              <p:nvPr/>
            </p:nvSpPr>
            <p:spPr>
              <a:xfrm rot="592800">
                <a:off x="2711880" y="334800"/>
                <a:ext cx="37080" cy="24948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rot="2392800">
                <a:off x="2711880" y="335160"/>
                <a:ext cx="37080" cy="24948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rot="4192800">
                <a:off x="2701080" y="46980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rot="5992800">
                <a:off x="2701080" y="46980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rot="7792800">
                <a:off x="2701080" y="470160"/>
                <a:ext cx="41760" cy="22186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rot="9592800">
                <a:off x="2713680" y="336240"/>
                <a:ext cx="37440" cy="24951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1796400" y="566280"/>
              <a:ext cx="1857240" cy="2035080"/>
              <a:chOff x="1796400" y="566280"/>
              <a:chExt cx="1857240" cy="2035080"/>
            </a:xfrm>
          </p:grpSpPr>
          <p:sp>
            <p:nvSpPr>
              <p:cNvPr id="165" name=""/>
              <p:cNvSpPr/>
              <p:nvPr/>
            </p:nvSpPr>
            <p:spPr>
              <a:xfrm rot="979800">
                <a:off x="2715480" y="538920"/>
                <a:ext cx="32040" cy="2086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2780400">
                <a:off x="2715480" y="539280"/>
                <a:ext cx="32040" cy="2086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 rot="4580400">
                <a:off x="2707200" y="62748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6380400">
                <a:off x="2707200" y="62712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 rot="8180400">
                <a:off x="2707200" y="627480"/>
                <a:ext cx="34920" cy="190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 rot="9980400">
                <a:off x="2716200" y="540360"/>
                <a:ext cx="32040" cy="2086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71" name=""/>
            <p:cNvGrpSpPr/>
            <p:nvPr/>
          </p:nvGrpSpPr>
          <p:grpSpPr>
            <a:xfrm>
              <a:off x="1983240" y="667800"/>
              <a:ext cx="1481760" cy="1828440"/>
              <a:chOff x="1983240" y="667800"/>
              <a:chExt cx="1481760" cy="1828440"/>
            </a:xfrm>
          </p:grpSpPr>
          <p:sp>
            <p:nvSpPr>
              <p:cNvPr id="172" name=""/>
              <p:cNvSpPr/>
              <p:nvPr/>
            </p:nvSpPr>
            <p:spPr>
              <a:xfrm rot="21457800">
                <a:off x="2716920" y="667440"/>
                <a:ext cx="24840" cy="1828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rot="1657200">
                <a:off x="2716920" y="667440"/>
                <a:ext cx="24840" cy="1828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3457200">
                <a:off x="2708640" y="84024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rot="5257200">
                <a:off x="2708640" y="83988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 rot="7057200">
                <a:off x="2708280" y="840600"/>
                <a:ext cx="30600" cy="1481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8857200">
                <a:off x="2717640" y="667800"/>
                <a:ext cx="25200" cy="1829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178" name=""/>
          <p:cNvSpPr/>
          <p:nvPr/>
        </p:nvSpPr>
        <p:spPr>
          <a:xfrm>
            <a:off x="2043000" y="7848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179" name=""/>
          <p:cNvGrpSpPr/>
          <p:nvPr/>
        </p:nvGrpSpPr>
        <p:grpSpPr>
          <a:xfrm>
            <a:off x="3131640" y="1989000"/>
            <a:ext cx="3093480" cy="2805480"/>
            <a:chOff x="3131640" y="1989000"/>
            <a:chExt cx="3093480" cy="2805480"/>
          </a:xfrm>
        </p:grpSpPr>
        <p:grpSp>
          <p:nvGrpSpPr>
            <p:cNvPr id="180" name=""/>
            <p:cNvGrpSpPr/>
            <p:nvPr/>
          </p:nvGrpSpPr>
          <p:grpSpPr>
            <a:xfrm>
              <a:off x="3131640" y="1989000"/>
              <a:ext cx="3093480" cy="2805480"/>
              <a:chOff x="3131640" y="1989000"/>
              <a:chExt cx="3093480" cy="2805480"/>
            </a:xfrm>
          </p:grpSpPr>
          <p:sp>
            <p:nvSpPr>
              <p:cNvPr id="181" name=""/>
              <p:cNvSpPr/>
              <p:nvPr/>
            </p:nvSpPr>
            <p:spPr>
              <a:xfrm>
                <a:off x="4664880" y="198900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1800000">
                <a:off x="4664880" y="198864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 rot="3600000">
                <a:off x="4654800" y="184392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4654800" y="184356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 rot="7200000">
                <a:off x="4654440" y="1843560"/>
                <a:ext cx="47160" cy="3093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 rot="9000000">
                <a:off x="4667040" y="199044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3360960" y="2223720"/>
              <a:ext cx="2640240" cy="2336400"/>
              <a:chOff x="3360960" y="2223720"/>
              <a:chExt cx="2640240" cy="2336400"/>
            </a:xfrm>
          </p:grpSpPr>
          <p:sp>
            <p:nvSpPr>
              <p:cNvPr id="188" name=""/>
              <p:cNvSpPr/>
              <p:nvPr/>
            </p:nvSpPr>
            <p:spPr>
              <a:xfrm rot="387000">
                <a:off x="4669200" y="221868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 rot="2187600">
                <a:off x="4668840" y="221832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 rot="3987600">
                <a:off x="4661640" y="206280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 rot="5787600">
                <a:off x="4661280" y="206316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 rot="7587600">
                <a:off x="4661280" y="2063160"/>
                <a:ext cx="39240" cy="2652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9387600">
                <a:off x="4670280" y="222012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3667680" y="2382840"/>
              <a:ext cx="2025720" cy="2017080"/>
              <a:chOff x="3667680" y="2382840"/>
              <a:chExt cx="2025720" cy="2017080"/>
            </a:xfrm>
          </p:grpSpPr>
          <p:sp>
            <p:nvSpPr>
              <p:cNvPr id="195" name=""/>
              <p:cNvSpPr/>
              <p:nvPr/>
            </p:nvSpPr>
            <p:spPr>
              <a:xfrm rot="20864400">
                <a:off x="4671000" y="236268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064400">
                <a:off x="4671000" y="236268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864400">
                <a:off x="4663080" y="235872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664400">
                <a:off x="4663080" y="235908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6464400">
                <a:off x="4663440" y="2359080"/>
                <a:ext cx="34560" cy="2065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8264400">
                <a:off x="4672440" y="236340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01" name=""/>
          <p:cNvSpPr/>
          <p:nvPr/>
        </p:nvSpPr>
        <p:spPr>
          <a:xfrm>
            <a:off x="4751280" y="9729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6300000" y="1686240"/>
            <a:ext cx="3669480" cy="3290400"/>
            <a:chOff x="6300000" y="1686240"/>
            <a:chExt cx="3669480" cy="3290400"/>
          </a:xfrm>
        </p:grpSpPr>
        <p:grpSp>
          <p:nvGrpSpPr>
            <p:cNvPr id="203" name=""/>
            <p:cNvGrpSpPr/>
            <p:nvPr/>
          </p:nvGrpSpPr>
          <p:grpSpPr>
            <a:xfrm>
              <a:off x="6300000" y="1686240"/>
              <a:ext cx="3669480" cy="3290400"/>
              <a:chOff x="6300000" y="1686240"/>
              <a:chExt cx="3669480" cy="3290400"/>
            </a:xfrm>
          </p:grpSpPr>
          <p:sp>
            <p:nvSpPr>
              <p:cNvPr id="204" name=""/>
              <p:cNvSpPr/>
              <p:nvPr/>
            </p:nvSpPr>
            <p:spPr>
              <a:xfrm rot="19630800">
                <a:off x="8116920" y="1719720"/>
                <a:ext cx="61560" cy="32097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21431400">
                <a:off x="8116920" y="1719720"/>
                <a:ext cx="61560" cy="32097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1630800">
                <a:off x="8107560" y="149580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 rot="3430800">
                <a:off x="8107560" y="149544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 rot="5230800">
                <a:off x="8107560" y="1495800"/>
                <a:ext cx="54000" cy="3671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rot="7030800">
                <a:off x="8119080" y="1719720"/>
                <a:ext cx="62280" cy="3210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564240" y="1983960"/>
              <a:ext cx="3144240" cy="2681640"/>
              <a:chOff x="6564240" y="1983960"/>
              <a:chExt cx="3144240" cy="2681640"/>
            </a:xfrm>
          </p:grpSpPr>
          <p:sp>
            <p:nvSpPr>
              <p:cNvPr id="211" name=""/>
              <p:cNvSpPr/>
              <p:nvPr/>
            </p:nvSpPr>
            <p:spPr>
              <a:xfrm rot="20017800">
                <a:off x="8121240" y="1982520"/>
                <a:ext cx="52920" cy="2683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rot="218400">
                <a:off x="8121600" y="1982880"/>
                <a:ext cx="52920" cy="26838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2018400">
                <a:off x="8113680" y="175464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rot="3818400">
                <a:off x="8113680" y="175500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rot="5618400">
                <a:off x="8113680" y="1754640"/>
                <a:ext cx="45000" cy="31478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7418400">
                <a:off x="8124480" y="1982880"/>
                <a:ext cx="53280" cy="26841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6948720" y="2142360"/>
              <a:ext cx="2377080" cy="2378520"/>
              <a:chOff x="6948720" y="2142360"/>
              <a:chExt cx="2377080" cy="2378520"/>
            </a:xfrm>
          </p:grpSpPr>
          <p:sp>
            <p:nvSpPr>
              <p:cNvPr id="218" name=""/>
              <p:cNvSpPr/>
              <p:nvPr/>
            </p:nvSpPr>
            <p:spPr>
              <a:xfrm rot="18895200">
                <a:off x="8124480" y="2148840"/>
                <a:ext cx="41040" cy="235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0695800">
                <a:off x="8124120" y="2148480"/>
                <a:ext cx="41040" cy="23529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895200">
                <a:off x="8117640" y="210600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rot="2695200">
                <a:off x="8118000" y="210636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4495200">
                <a:off x="8117280" y="2106360"/>
                <a:ext cx="39600" cy="2450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 rot="6295200">
                <a:off x="8125920" y="2148840"/>
                <a:ext cx="41400" cy="2353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24" name=""/>
          <p:cNvSpPr/>
          <p:nvPr/>
        </p:nvSpPr>
        <p:spPr>
          <a:xfrm>
            <a:off x="8093160" y="972972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-297720" y="2304720"/>
            <a:ext cx="3536280" cy="2421000"/>
            <a:chOff x="-297720" y="2304720"/>
            <a:chExt cx="3536280" cy="2421000"/>
          </a:xfrm>
        </p:grpSpPr>
        <p:grpSp>
          <p:nvGrpSpPr>
            <p:cNvPr id="226" name=""/>
            <p:cNvGrpSpPr/>
            <p:nvPr/>
          </p:nvGrpSpPr>
          <p:grpSpPr>
            <a:xfrm>
              <a:off x="-297720" y="2304720"/>
              <a:ext cx="3536280" cy="2421000"/>
              <a:chOff x="-297720" y="2304720"/>
              <a:chExt cx="3536280" cy="2421000"/>
            </a:xfrm>
          </p:grpSpPr>
          <p:sp>
            <p:nvSpPr>
              <p:cNvPr id="227" name=""/>
              <p:cNvSpPr/>
              <p:nvPr/>
            </p:nvSpPr>
            <p:spPr>
              <a:xfrm rot="592800">
                <a:off x="1454040" y="229140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 rot="2392800">
                <a:off x="1454040" y="2291760"/>
                <a:ext cx="60120" cy="24469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 rot="4192800">
                <a:off x="1449720" y="172044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 rot="5992800">
                <a:off x="1449720" y="172008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rot="7792800">
                <a:off x="1449720" y="1720440"/>
                <a:ext cx="41040" cy="35823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rot="9592800">
                <a:off x="1455840" y="2293560"/>
                <a:ext cx="60840" cy="24472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-22320" y="2388240"/>
              <a:ext cx="2992680" cy="2245680"/>
              <a:chOff x="-22320" y="2388240"/>
              <a:chExt cx="2992680" cy="2245680"/>
            </a:xfrm>
          </p:grpSpPr>
          <p:sp>
            <p:nvSpPr>
              <p:cNvPr id="234" name=""/>
              <p:cNvSpPr/>
              <p:nvPr/>
            </p:nvSpPr>
            <p:spPr>
              <a:xfrm rot="979800">
                <a:off x="1459440" y="249264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 rot="2780400">
                <a:off x="1459080" y="2491920"/>
                <a:ext cx="51480" cy="204624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 rot="4580400">
                <a:off x="1456920" y="197496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 rot="6380400">
                <a:off x="1456560" y="197532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 rot="8180400">
                <a:off x="1456560" y="1974960"/>
                <a:ext cx="34200" cy="30715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 rot="9980400">
                <a:off x="1460520" y="2493720"/>
                <a:ext cx="52200" cy="20466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277200" y="2616480"/>
              <a:ext cx="2390400" cy="1794240"/>
              <a:chOff x="277200" y="2616480"/>
              <a:chExt cx="2390400" cy="1794240"/>
            </a:xfrm>
          </p:grpSpPr>
          <p:sp>
            <p:nvSpPr>
              <p:cNvPr id="241" name=""/>
              <p:cNvSpPr/>
              <p:nvPr/>
            </p:nvSpPr>
            <p:spPr>
              <a:xfrm rot="21457800">
                <a:off x="1461960" y="2616480"/>
                <a:ext cx="3996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rot="1657200">
                <a:off x="1461960" y="2616480"/>
                <a:ext cx="3996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 rot="3457200">
                <a:off x="1457640" y="231768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 rot="5257200">
                <a:off x="1457280" y="231696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rot="7057200">
                <a:off x="1457640" y="2316960"/>
                <a:ext cx="29880" cy="2391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rot="8857200">
                <a:off x="1463400" y="2617200"/>
                <a:ext cx="40680" cy="17938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47" name=""/>
          <p:cNvSpPr/>
          <p:nvPr/>
        </p:nvSpPr>
        <p:spPr>
          <a:xfrm>
            <a:off x="1467000" y="987408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248" name="">
            <a:hlinkClick r:id="" action="ppaction://hlinkshowjump?jump=nextslide"/>
          </p:cNvPr>
          <p:cNvSpPr/>
          <p:nvPr/>
        </p:nvSpPr>
        <p:spPr>
          <a:xfrm>
            <a:off x="7885080" y="5877000"/>
            <a:ext cx="719280" cy="360360"/>
          </a:xfrm>
          <a:custGeom>
            <a:avLst/>
            <a:gdLst>
              <a:gd name="textAreaLeft" fmla="*/ 22320 w 719280"/>
              <a:gd name="textAreaRight" fmla="*/ 696960 w 719280"/>
              <a:gd name="textAreaTop" fmla="*/ 22320 h 360360"/>
              <a:gd name="textAreaBottom" fmla="*/ 33804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742" y="1350"/>
                </a:lnTo>
                <a:lnTo>
                  <a:pt x="1350" y="135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742" y="20250"/>
                </a:lnTo>
                <a:lnTo>
                  <a:pt x="41742" y="135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41742" y="2025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43092" h="21600">
                <a:moveTo>
                  <a:pt x="14502" y="3756"/>
                </a:moveTo>
                <a:lnTo>
                  <a:pt x="28590" y="10800"/>
                </a:lnTo>
                <a:lnTo>
                  <a:pt x="14502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ff0000"/>
                </a:solidFill>
                <a:latin typeface="幼圆"/>
              </a:rPr>
              <a:t>制作方法</a:t>
            </a:r>
            <a:endParaRPr b="0" lang="en-US" sz="10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024360" y="2023920"/>
            <a:ext cx="3093120" cy="2805480"/>
            <a:chOff x="3024360" y="2023920"/>
            <a:chExt cx="3093120" cy="2805480"/>
          </a:xfrm>
        </p:grpSpPr>
        <p:grpSp>
          <p:nvGrpSpPr>
            <p:cNvPr id="250" name=""/>
            <p:cNvGrpSpPr/>
            <p:nvPr/>
          </p:nvGrpSpPr>
          <p:grpSpPr>
            <a:xfrm>
              <a:off x="3024360" y="2023920"/>
              <a:ext cx="3093120" cy="2805480"/>
              <a:chOff x="3024360" y="2023920"/>
              <a:chExt cx="3093120" cy="2805480"/>
            </a:xfrm>
          </p:grpSpPr>
          <p:sp>
            <p:nvSpPr>
              <p:cNvPr id="251" name=""/>
              <p:cNvSpPr/>
              <p:nvPr/>
            </p:nvSpPr>
            <p:spPr>
              <a:xfrm>
                <a:off x="4557240" y="202392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rot="1800000">
                <a:off x="4557240" y="202356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rot="36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rot="54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rot="7200000">
                <a:off x="4547160" y="18788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rot="9000000">
                <a:off x="4559400" y="202536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57" name=""/>
            <p:cNvGrpSpPr/>
            <p:nvPr/>
          </p:nvGrpSpPr>
          <p:grpSpPr>
            <a:xfrm>
              <a:off x="3252960" y="2258640"/>
              <a:ext cx="2639880" cy="2336400"/>
              <a:chOff x="3252960" y="2258640"/>
              <a:chExt cx="2639880" cy="2336400"/>
            </a:xfrm>
          </p:grpSpPr>
          <p:sp>
            <p:nvSpPr>
              <p:cNvPr id="258" name=""/>
              <p:cNvSpPr/>
              <p:nvPr/>
            </p:nvSpPr>
            <p:spPr>
              <a:xfrm rot="387000">
                <a:off x="4561560" y="225360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 rot="2187600">
                <a:off x="4561200" y="225324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 rot="3987600">
                <a:off x="4553640" y="20984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rot="5787600">
                <a:off x="4553280" y="209808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rot="7587600">
                <a:off x="4553640" y="209808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rot="9387600">
                <a:off x="4562640" y="225504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3559680" y="2417760"/>
              <a:ext cx="2025360" cy="2017080"/>
              <a:chOff x="3559680" y="2417760"/>
              <a:chExt cx="2025360" cy="2017080"/>
            </a:xfrm>
          </p:grpSpPr>
          <p:sp>
            <p:nvSpPr>
              <p:cNvPr id="265" name=""/>
              <p:cNvSpPr/>
              <p:nvPr/>
            </p:nvSpPr>
            <p:spPr>
              <a:xfrm rot="20864400">
                <a:off x="4563360" y="239760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1064400">
                <a:off x="4563360" y="239760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28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46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6464400">
                <a:off x="4555080" y="239400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8264400">
                <a:off x="4564440" y="239832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71" name=""/>
          <p:cNvSpPr/>
          <p:nvPr/>
        </p:nvSpPr>
        <p:spPr>
          <a:xfrm>
            <a:off x="4643280" y="976464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070520" y="1270080"/>
            <a:ext cx="3093120" cy="2805480"/>
            <a:chOff x="4070520" y="1270080"/>
            <a:chExt cx="3093120" cy="2805480"/>
          </a:xfrm>
        </p:grpSpPr>
        <p:grpSp>
          <p:nvGrpSpPr>
            <p:cNvPr id="273" name=""/>
            <p:cNvGrpSpPr/>
            <p:nvPr/>
          </p:nvGrpSpPr>
          <p:grpSpPr>
            <a:xfrm>
              <a:off x="4070520" y="1270080"/>
              <a:ext cx="3093120" cy="2805480"/>
              <a:chOff x="4070520" y="1270080"/>
              <a:chExt cx="3093120" cy="280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5603400" y="127008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800000">
                <a:off x="5603400" y="1269720"/>
                <a:ext cx="5184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36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54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7200000">
                <a:off x="5593320" y="112500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9000000">
                <a:off x="5605560" y="1271520"/>
                <a:ext cx="52560" cy="28058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4299120" y="1504800"/>
              <a:ext cx="2639880" cy="2336400"/>
              <a:chOff x="4299120" y="1504800"/>
              <a:chExt cx="2639880" cy="2336400"/>
            </a:xfrm>
          </p:grpSpPr>
          <p:sp>
            <p:nvSpPr>
              <p:cNvPr id="281" name=""/>
              <p:cNvSpPr/>
              <p:nvPr/>
            </p:nvSpPr>
            <p:spPr>
              <a:xfrm rot="387000">
                <a:off x="5607720" y="149976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187600">
                <a:off x="5607360" y="1499400"/>
                <a:ext cx="4464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3987600">
                <a:off x="5599800" y="134460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5787600">
                <a:off x="5599440" y="1344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7587600">
                <a:off x="5599800" y="1344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9387600">
                <a:off x="5608800" y="1501200"/>
                <a:ext cx="45000" cy="234648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287" name=""/>
            <p:cNvGrpSpPr/>
            <p:nvPr/>
          </p:nvGrpSpPr>
          <p:grpSpPr>
            <a:xfrm>
              <a:off x="4605840" y="1663920"/>
              <a:ext cx="2025360" cy="2017080"/>
              <a:chOff x="4605840" y="1663920"/>
              <a:chExt cx="2025360" cy="2017080"/>
            </a:xfrm>
          </p:grpSpPr>
          <p:sp>
            <p:nvSpPr>
              <p:cNvPr id="288" name=""/>
              <p:cNvSpPr/>
              <p:nvPr/>
            </p:nvSpPr>
            <p:spPr>
              <a:xfrm rot="20864400">
                <a:off x="5609520" y="164376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 rot="1064400">
                <a:off x="5609520" y="1643760"/>
                <a:ext cx="3456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 rot="28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 rot="46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 rot="6464400">
                <a:off x="5601240" y="1640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 rot="8264400">
                <a:off x="5610600" y="1644480"/>
                <a:ext cx="34920" cy="205704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294" name=""/>
          <p:cNvSpPr/>
          <p:nvPr/>
        </p:nvSpPr>
        <p:spPr>
          <a:xfrm>
            <a:off x="5689440" y="9010800"/>
            <a:ext cx="7920" cy="17928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2916360" y="1486080"/>
            <a:ext cx="3093120" cy="2805120"/>
            <a:chOff x="2916360" y="1486080"/>
            <a:chExt cx="3093120" cy="2805120"/>
          </a:xfrm>
        </p:grpSpPr>
        <p:grpSp>
          <p:nvGrpSpPr>
            <p:cNvPr id="296" name=""/>
            <p:cNvGrpSpPr/>
            <p:nvPr/>
          </p:nvGrpSpPr>
          <p:grpSpPr>
            <a:xfrm>
              <a:off x="2916360" y="1486080"/>
              <a:ext cx="3093120" cy="2805120"/>
              <a:chOff x="2916360" y="1486080"/>
              <a:chExt cx="3093120" cy="2805120"/>
            </a:xfrm>
          </p:grpSpPr>
          <p:sp>
            <p:nvSpPr>
              <p:cNvPr id="297" name=""/>
              <p:cNvSpPr/>
              <p:nvPr/>
            </p:nvSpPr>
            <p:spPr>
              <a:xfrm>
                <a:off x="4449240" y="1486080"/>
                <a:ext cx="51840" cy="2805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rot="1800000">
                <a:off x="4449240" y="1486080"/>
                <a:ext cx="51840" cy="2805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rot="36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 rot="54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 rot="7200000">
                <a:off x="4439160" y="1340640"/>
                <a:ext cx="47160" cy="309312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rot="9000000">
                <a:off x="4451040" y="1487520"/>
                <a:ext cx="52560" cy="280548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03" name=""/>
            <p:cNvGrpSpPr/>
            <p:nvPr/>
          </p:nvGrpSpPr>
          <p:grpSpPr>
            <a:xfrm>
              <a:off x="3144960" y="1720800"/>
              <a:ext cx="2639880" cy="2336040"/>
              <a:chOff x="3144960" y="1720800"/>
              <a:chExt cx="2639880" cy="2336040"/>
            </a:xfrm>
          </p:grpSpPr>
          <p:sp>
            <p:nvSpPr>
              <p:cNvPr id="304" name=""/>
              <p:cNvSpPr/>
              <p:nvPr/>
            </p:nvSpPr>
            <p:spPr>
              <a:xfrm rot="387000">
                <a:off x="4453560" y="1715760"/>
                <a:ext cx="44640" cy="2345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 rot="2187600">
                <a:off x="4453560" y="1715400"/>
                <a:ext cx="44640" cy="23457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rot="3987600">
                <a:off x="4445640" y="156060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 rot="5787600">
                <a:off x="4445280" y="1560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rot="7587600">
                <a:off x="4445640" y="1560240"/>
                <a:ext cx="39240" cy="2652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 rot="9387600">
                <a:off x="4454640" y="1717200"/>
                <a:ext cx="45000" cy="2346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10" name=""/>
            <p:cNvGrpSpPr/>
            <p:nvPr/>
          </p:nvGrpSpPr>
          <p:grpSpPr>
            <a:xfrm>
              <a:off x="3452040" y="1879560"/>
              <a:ext cx="2025360" cy="2016720"/>
              <a:chOff x="3452040" y="1879560"/>
              <a:chExt cx="2025360" cy="2016720"/>
            </a:xfrm>
          </p:grpSpPr>
          <p:sp>
            <p:nvSpPr>
              <p:cNvPr id="311" name=""/>
              <p:cNvSpPr/>
              <p:nvPr/>
            </p:nvSpPr>
            <p:spPr>
              <a:xfrm rot="20864400">
                <a:off x="4455720" y="1859400"/>
                <a:ext cx="34560" cy="2056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rot="1064400">
                <a:off x="4455360" y="1859760"/>
                <a:ext cx="34560" cy="2056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 rot="28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rot="46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 rot="6464400">
                <a:off x="4447440" y="1856160"/>
                <a:ext cx="34560" cy="20653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rot="8264400">
                <a:off x="4456440" y="1860120"/>
                <a:ext cx="34920" cy="205668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317" name=""/>
          <p:cNvSpPr/>
          <p:nvPr/>
        </p:nvSpPr>
        <p:spPr>
          <a:xfrm>
            <a:off x="3382920" y="9226440"/>
            <a:ext cx="7920" cy="179640"/>
          </a:xfrm>
          <a:prstGeom prst="ellipse">
            <a:avLst/>
          </a:prstGeom>
          <a:gradFill rotWithShape="0">
            <a:gsLst>
              <a:gs pos="0">
                <a:srgbClr val="757575">
                  <a:alpha val="0"/>
                </a:srgbClr>
              </a:gs>
              <a:gs pos="50000">
                <a:srgbClr val="ffffff"/>
              </a:gs>
              <a:gs pos="100000">
                <a:srgbClr val="757575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56610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幼圆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幼圆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19" name=""/>
          <p:cNvSpPr/>
          <p:nvPr/>
        </p:nvSpPr>
        <p:spPr>
          <a:xfrm>
            <a:off x="1312560" y="479736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动态烟花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幼圆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" dur="2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 repeatCount="indefinite">
                                  <p:stCondLst>
                                    <p:cond delay="21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9" repeatCount="indefinite">
                                  <p:stCondLst>
                                    <p:cond delay="2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15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3" presetSubtype="16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xit" presetID="9" repeatCount="indefinite">
                                  <p:stCondLst>
                                    <p:cond delay="3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path" presetID="64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24" dur="2000" fill="hold"/>
                                        <p:tgtEl>
                                          <p:spTgt spid="10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3" presetSubtype="16" repeatCount="indefinite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xit" presetID="9" repeatCount="indefinite">
                                  <p:stCondLst>
                                    <p:cond delay="3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33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9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42" dur="2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8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64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51" dur="2000" fill="hold"/>
                                        <p:tgtEl>
                                          <p:spTgt spid="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3" presetSubtype="16" repeatCount="indefinite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9" repeatCount="indefinite">
                                  <p:stCondLst>
                                    <p:cond delay="4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5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0" dur="2000" fill="hold"/>
                                        <p:tgtEl>
                                          <p:spTgt spid="2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6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64" repeatCount="indefinite">
                                  <p:stCondLst>
                                    <p:cond delay="5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69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3" presetSubtype="16" repeatCount="indefinite">
                                  <p:stCondLst>
                                    <p:cond delay="71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" nodeType="withEffect" fill="hold" presetClass="exit" presetID="9" repeatCount="indefinite">
                                  <p:stCondLst>
                                    <p:cond delay="7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5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64" repeatCount="indefinite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78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3" presetSubtype="16" repeatCount="indefinite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xit" presetID="9" repeatCount="indefinite">
                                  <p:stCondLst>
                                    <p:cond delay="8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4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87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96" dur="2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2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4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-4.16667E-006 -2.59259E-006 L -4.16667E-006 -0.92407 E">
                                      <p:cBhvr>
                                        <p:cTn id="105" dur="2000" fill="hold"/>
                                        <p:tgtEl>
                                          <p:spTgt spid="3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23" presetSubtype="16" repeatCount="indefinite">
                                  <p:stCondLst>
                                    <p:cond delay="51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xit" presetID="9" repeatCount="indefinite">
                                  <p:stCondLst>
                                    <p:cond delay="52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1" dur="2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539640" y="260280"/>
            <a:ext cx="806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1" name=""/>
          <p:cNvSpPr/>
          <p:nvPr/>
        </p:nvSpPr>
        <p:spPr>
          <a:xfrm>
            <a:off x="2916360" y="3645000"/>
            <a:ext cx="2880" cy="215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22" name=""/>
          <p:cNvSpPr/>
          <p:nvPr/>
        </p:nvSpPr>
        <p:spPr>
          <a:xfrm>
            <a:off x="3421080" y="3430440"/>
            <a:ext cx="71280" cy="35892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grpSp>
        <p:nvGrpSpPr>
          <p:cNvPr id="323" name=""/>
          <p:cNvGrpSpPr/>
          <p:nvPr/>
        </p:nvGrpSpPr>
        <p:grpSpPr>
          <a:xfrm>
            <a:off x="2050920" y="5445000"/>
            <a:ext cx="1060560" cy="1151640"/>
            <a:chOff x="2050920" y="5445000"/>
            <a:chExt cx="1060560" cy="1151640"/>
          </a:xfrm>
        </p:grpSpPr>
        <p:grpSp>
          <p:nvGrpSpPr>
            <p:cNvPr id="324" name=""/>
            <p:cNvGrpSpPr/>
            <p:nvPr/>
          </p:nvGrpSpPr>
          <p:grpSpPr>
            <a:xfrm>
              <a:off x="2050920" y="5445000"/>
              <a:ext cx="1060560" cy="1151640"/>
              <a:chOff x="2050920" y="5445000"/>
              <a:chExt cx="1060560" cy="1151640"/>
            </a:xfrm>
          </p:grpSpPr>
          <p:sp>
            <p:nvSpPr>
              <p:cNvPr id="325" name=""/>
              <p:cNvSpPr/>
              <p:nvPr/>
            </p:nvSpPr>
            <p:spPr>
              <a:xfrm>
                <a:off x="2576520" y="5445000"/>
                <a:ext cx="17640" cy="115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800000">
                <a:off x="2576160" y="5444640"/>
                <a:ext cx="17640" cy="115164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 rot="3600000">
                <a:off x="257184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5400000">
                <a:off x="257148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 rot="7200000">
                <a:off x="2571480" y="5489640"/>
                <a:ext cx="19080" cy="106056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9000000">
                <a:off x="2577240" y="5445360"/>
                <a:ext cx="18000" cy="1152000"/>
              </a:xfrm>
              <a:prstGeom prst="flowChartCollate">
                <a:avLst/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ff00"/>
                  </a:gs>
                  <a:gs pos="100000">
                    <a:srgbClr val="ff00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2129400" y="5541120"/>
              <a:ext cx="905400" cy="958680"/>
              <a:chOff x="2129400" y="5541120"/>
              <a:chExt cx="905400" cy="958680"/>
            </a:xfrm>
          </p:grpSpPr>
          <p:sp>
            <p:nvSpPr>
              <p:cNvPr id="332" name=""/>
              <p:cNvSpPr/>
              <p:nvPr/>
            </p:nvSpPr>
            <p:spPr>
              <a:xfrm rot="387000">
                <a:off x="2577600" y="553860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 rot="2187600">
                <a:off x="2577600" y="553896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 rot="3987600">
                <a:off x="2574000" y="556488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 rot="5787600">
                <a:off x="2573640" y="556488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 rot="7587600">
                <a:off x="2573640" y="5564520"/>
                <a:ext cx="16200" cy="90936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 rot="9387600">
                <a:off x="2578320" y="5538600"/>
                <a:ext cx="15120" cy="963000"/>
              </a:xfrm>
              <a:prstGeom prst="flowChartCollate">
                <a:avLst/>
              </a:prstGeom>
              <a:gradFill rotWithShape="0">
                <a:gsLst>
                  <a:gs pos="0">
                    <a:srgbClr val="00ff00"/>
                  </a:gs>
                  <a:gs pos="50000">
                    <a:srgbClr val="ff0000"/>
                  </a:gs>
                  <a:gs pos="100000">
                    <a:srgbClr val="00ff00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  <p:grpSp>
          <p:nvGrpSpPr>
            <p:cNvPr id="338" name=""/>
            <p:cNvGrpSpPr/>
            <p:nvPr/>
          </p:nvGrpSpPr>
          <p:grpSpPr>
            <a:xfrm>
              <a:off x="2233800" y="5606640"/>
              <a:ext cx="694800" cy="827640"/>
              <a:chOff x="2233800" y="5606640"/>
              <a:chExt cx="694800" cy="827640"/>
            </a:xfrm>
          </p:grpSpPr>
          <p:sp>
            <p:nvSpPr>
              <p:cNvPr id="339" name=""/>
              <p:cNvSpPr/>
              <p:nvPr/>
            </p:nvSpPr>
            <p:spPr>
              <a:xfrm rot="20864400">
                <a:off x="2578320" y="5598000"/>
                <a:ext cx="11880" cy="844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 rot="1064400">
                <a:off x="2577960" y="5598360"/>
                <a:ext cx="11880" cy="84420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36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 rot="2864400">
                <a:off x="2574000" y="566676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 rot="4664400">
                <a:off x="2574000" y="566676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 rot="6464400">
                <a:off x="2574000" y="5666400"/>
                <a:ext cx="14040" cy="70812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9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 rot="8264400">
                <a:off x="2578320" y="5598720"/>
                <a:ext cx="11880" cy="844560"/>
              </a:xfrm>
              <a:prstGeom prst="flowChartCollate">
                <a:avLst/>
              </a:prstGeom>
              <a:gradFill rotWithShape="0">
                <a:gsLst>
                  <a:gs pos="0">
                    <a:srgbClr val="00ffff"/>
                  </a:gs>
                  <a:gs pos="50000">
                    <a:srgbClr val="ffffff"/>
                  </a:gs>
                  <a:gs pos="100000">
                    <a:srgbClr val="00ffff"/>
                  </a:gs>
                </a:gsLst>
                <a:lin ang="180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幼圆"/>
                </a:endParaRPr>
              </a:p>
            </p:txBody>
          </p:sp>
        </p:grpSp>
      </p:grpSp>
      <p:sp>
        <p:nvSpPr>
          <p:cNvPr id="345" name="">
            <a:hlinkClick r:id="" action="ppaction://hlinkshowjump?jump=nextslide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6640 w 576000"/>
              <a:gd name="textAreaRight" fmla="*/ 549000 w 57600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68" y="1350"/>
                </a:lnTo>
                <a:lnTo>
                  <a:pt x="1350" y="135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68" y="20250"/>
                </a:lnTo>
                <a:lnTo>
                  <a:pt x="27468" y="135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68" y="2025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18" h="21600">
                <a:moveTo>
                  <a:pt x="7365" y="3756"/>
                </a:moveTo>
                <a:lnTo>
                  <a:pt x="21453" y="10800"/>
                </a:lnTo>
                <a:lnTo>
                  <a:pt x="7365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6" name=""/>
          <p:cNvSpPr/>
          <p:nvPr/>
        </p:nvSpPr>
        <p:spPr>
          <a:xfrm>
            <a:off x="4067280" y="566100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当然，也可以采用自选图形里的五星、圆形、圆角矩形等图像鼠绘出多种多样绚丽多彩的烟花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7" name=""/>
          <p:cNvSpPr/>
          <p:nvPr/>
        </p:nvSpPr>
        <p:spPr>
          <a:xfrm>
            <a:off x="1116000" y="4437000"/>
            <a:ext cx="5643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9999"/>
                </a:solidFill>
                <a:uFillTx/>
                <a:latin typeface="幼圆"/>
                <a:hlinkClick r:id="rId1"/>
              </a:rPr>
              <a:t>动态ppt模板</a:t>
            </a:r>
            <a:r>
              <a:rPr b="0" lang="en-US" sz="1800" spc="-1" strike="noStrike">
                <a:solidFill>
                  <a:srgbClr val="000000"/>
                </a:solidFill>
                <a:latin typeface="幼圆"/>
              </a:rPr>
              <a:t>http://www.eeppt.com/dongtai/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幼圆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幼圆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幼圆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幼圆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F42AC-E31A-4B37-AB11-5FDD03B793C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395280" y="380880"/>
            <a:ext cx="8424720" cy="49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幼圆"/>
              </a:rPr>
              <a:t>自定义动画设置（按顺序）</a:t>
            </a:r>
            <a:r>
              <a:rPr b="0" lang="zh-CN" sz="2400" spc="-1" strike="noStrike">
                <a:solidFill>
                  <a:srgbClr val="00ffff"/>
                </a:solidFill>
                <a:latin typeface="幼圆"/>
              </a:rPr>
              <a:t>：</a:t>
            </a:r>
            <a:endParaRPr b="0" lang="en-US" sz="24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弹置于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ppt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页面底部下方，升空采取路径向上，终止点到幻灯片页面顶部的烟花中心点，不选平稳开始平稳结束自动翻转，之前，计时中速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自定义动画进入，之前，缩放，计时中速，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送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3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烟花自定义动画退出，之前，向外溶解，计时中速，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.2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，重复直到幻灯片末尾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4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框选烟花和烟花弹，采取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Ctrl+D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复制两份，调整位置置于两边，对该两份各动画元素延时增加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5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选中浏览视图，采取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Ctrl+D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复制两页幻灯片包含有上条内容。其一对各元素动画增加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1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；其二对各元素动画增加延时</a:t>
            </a: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2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秒。按需要调整烟花位置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5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先后框选其一，其二幻灯片里各元素粘贴到制作页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6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保留制作页，其余删除，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ff"/>
                </a:solidFill>
                <a:latin typeface="幼圆"/>
              </a:rPr>
              <a:t>7.</a:t>
            </a: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嵌入烟弹升空“推动”声响和烟花爆炸声响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完成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ffff"/>
                </a:solidFill>
                <a:latin typeface="幼圆"/>
              </a:rPr>
              <a:t>以上制作说明瑕疵难免，请提意见并指导。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  <p:sp>
        <p:nvSpPr>
          <p:cNvPr id="352" name="">
            <a:hlinkClick r:id="" action="ppaction://hlinkshowjump?jump=endshow"/>
          </p:cNvPr>
          <p:cNvSpPr/>
          <p:nvPr/>
        </p:nvSpPr>
        <p:spPr>
          <a:xfrm>
            <a:off x="7093080" y="5950080"/>
            <a:ext cx="576000" cy="431640"/>
          </a:xfrm>
          <a:custGeom>
            <a:avLst/>
            <a:gdLst>
              <a:gd name="textAreaLeft" fmla="*/ 26640 w 576000"/>
              <a:gd name="textAreaRight" fmla="*/ 549000 w 576000"/>
              <a:gd name="textAreaTop" fmla="*/ 27000 h 431640"/>
              <a:gd name="textAreaBottom" fmla="*/ 40500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68" y="1350"/>
                </a:lnTo>
                <a:lnTo>
                  <a:pt x="1350" y="135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68" y="20250"/>
                </a:lnTo>
                <a:lnTo>
                  <a:pt x="27468" y="135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7468" y="2025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818" h="21600">
                <a:moveTo>
                  <a:pt x="7365" y="3756"/>
                </a:moveTo>
                <a:lnTo>
                  <a:pt x="21453" y="10800"/>
                </a:lnTo>
                <a:lnTo>
                  <a:pt x="7365" y="17844"/>
                </a:lnTo>
                <a:close/>
              </a:path>
            </a:pathLst>
          </a:custGeom>
          <a:gradFill rotWithShape="0">
            <a:gsLst>
              <a:gs pos="0">
                <a:srgbClr val="ff0000">
                  <a:alpha val="49019"/>
                </a:srgbClr>
              </a:gs>
              <a:gs pos="50000">
                <a:srgbClr val="00ffff"/>
              </a:gs>
              <a:gs pos="100000">
                <a:srgbClr val="ff0000">
                  <a:alpha val="4901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黑体"/>
                <a:ea typeface="黑体"/>
              </a:rPr>
              <a:t>结束</a:t>
            </a:r>
            <a:endParaRPr b="0" lang="en-US" sz="1800" spc="-1" strike="noStrike">
              <a:solidFill>
                <a:srgbClr val="000000"/>
              </a:solidFill>
              <a:latin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2T09:19:2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17T00:58:34Z</dcterms:modified>
  <cp:revision>3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NXTAG2">
    <vt:lpwstr>0008002403000000000001024140</vt:lpwstr>
  </property>
</Properties>
</file>