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3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png" ContentType="image/png"/>
  <Override PartName="/ppt/media/image13.png" ContentType="image/png"/>
  <Override PartName="/ppt/media/image37.png" ContentType="image/png"/>
  <Override PartName="/ppt/media/image38.png" ContentType="image/png"/>
  <Override PartName="/ppt/media/image40.png" ContentType="image/png"/>
  <Override PartName="/ppt/media/image19.jpeg" ContentType="image/jpeg"/>
  <Override PartName="/ppt/media/image42.jpeg" ContentType="image/jpeg"/>
  <Override PartName="/ppt/media/image8.gif" ContentType="image/gif"/>
  <Override PartName="/ppt/media/image41.jpeg" ContentType="image/jpeg"/>
  <Override PartName="/ppt/media/image43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A84-73D7-408F-B0E7-9CD61E66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5F1-F9D4-498A-BEB7-152625B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75E-2FE5-4A06-B3DD-813EC984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310-6B5B-439F-8E94-46EF0865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995-F1EA-45EF-9121-B94E6AE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926-F6E3-4145-9C83-84676A4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3C5-7A2F-439E-AAE3-2234599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3E4-2DC7-49FF-A20D-99CE903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AF6-B228-4E1A-8B3D-3D8CBDE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BA9-32D8-4F84-BA83-86AB043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838-170A-486E-B121-FF1C104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F1D-2BE1-45B9-9B63-C6CF4AF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0B7-5B13-46CF-A9CA-03DFAB66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hyperlink" Target="http://www.haowanqq.com/html/243236804.htm" TargetMode="External"/><Relationship Id="rId4" Type="http://schemas.openxmlformats.org/officeDocument/2006/relationships/image" Target="../media/image38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990720" y="213372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夸父：古传说中的人名。夸父拼命追赶太阳。追至太阳身边，因炎热而口渴，喝干了江河仍嫌不足，于是，欲饮沼泽之水，未等喝到，不幸渴死。手杖弃于路边，竟然长成一片桃林。这篇神话反映了古代人民探索、征服大自然的强烈愿望和顽强意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2057400" y="533520"/>
            <a:ext cx="5410080" cy="1143000"/>
            <a:chOff x="2057400" y="533520"/>
            <a:chExt cx="5410080" cy="1143000"/>
          </a:xfrm>
        </p:grpSpPr>
        <p:grpSp>
          <p:nvGrpSpPr>
            <p:cNvPr id="108" name="Group 9"/>
            <p:cNvGrpSpPr/>
            <p:nvPr/>
          </p:nvGrpSpPr>
          <p:grpSpPr>
            <a:xfrm>
              <a:off x="2057400" y="609840"/>
              <a:ext cx="5410080" cy="1066680"/>
              <a:chOff x="2057400" y="609840"/>
              <a:chExt cx="5410080" cy="1066680"/>
            </a:xfrm>
          </p:grpSpPr>
          <p:sp>
            <p:nvSpPr>
              <p:cNvPr id="109" name="Text Box 10"/>
              <p:cNvSpPr/>
              <p:nvPr/>
            </p:nvSpPr>
            <p:spPr>
              <a:xfrm>
                <a:off x="2743200" y="60984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整体感知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" name="Picture 11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29564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2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68616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Picture 13" descr="9整体感知"/>
            <p:cNvPicPr/>
            <p:nvPr/>
          </p:nvPicPr>
          <p:blipFill>
            <a:blip r:embed="rId4"/>
            <a:stretch/>
          </p:blipFill>
          <p:spPr>
            <a:xfrm>
              <a:off x="6324480" y="53352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219320" y="1828800"/>
            <a:ext cx="6172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夸父与日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逐走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入日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渴，欲得饮，饮于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河、渭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河、渭不足，北饮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大泽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未至，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道渴而死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弃其杖，化为</a:t>
            </a: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邓林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038480" y="1828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竞跑，赛跑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458600" y="2590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追赶到太阳落下的地方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151040" y="3276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黄河和渭水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715000" y="4037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大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236280" y="47998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在半路因口渴而死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245920" y="54856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楷体"/>
                <a:ea typeface="华文楷体"/>
              </a:rPr>
              <a:t>桃林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2057400" y="457200"/>
            <a:ext cx="5410080" cy="1218960"/>
            <a:chOff x="2057400" y="457200"/>
            <a:chExt cx="5410080" cy="1218960"/>
          </a:xfrm>
        </p:grpSpPr>
        <p:grpSp>
          <p:nvGrpSpPr>
            <p:cNvPr id="121" name="Group 13"/>
            <p:cNvGrpSpPr/>
            <p:nvPr/>
          </p:nvGrpSpPr>
          <p:grpSpPr>
            <a:xfrm>
              <a:off x="2057400" y="609480"/>
              <a:ext cx="5410080" cy="1066680"/>
              <a:chOff x="2057400" y="609480"/>
              <a:chExt cx="5410080" cy="1066680"/>
            </a:xfrm>
          </p:grpSpPr>
          <p:sp>
            <p:nvSpPr>
              <p:cNvPr id="122" name="Text Box 14"/>
              <p:cNvSpPr/>
              <p:nvPr/>
            </p:nvSpPr>
            <p:spPr>
              <a:xfrm>
                <a:off x="2743200" y="60948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课文讲解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Picture 15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29528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6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68580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Picture 17" descr="10课文讲解"/>
            <p:cNvPicPr/>
            <p:nvPr/>
          </p:nvPicPr>
          <p:blipFill>
            <a:blip r:embed="rId4"/>
            <a:stretch/>
          </p:blipFill>
          <p:spPr>
            <a:xfrm>
              <a:off x="6172200" y="4572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20061013112543877"/>
          <p:cNvPicPr/>
          <p:nvPr/>
        </p:nvPicPr>
        <p:blipFill>
          <a:blip r:embed="rId2"/>
          <a:stretch/>
        </p:blipFill>
        <p:spPr>
          <a:xfrm>
            <a:off x="1600200" y="11430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581280" y="571500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化为邓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66680" y="1905120"/>
            <a:ext cx="7391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       </a:t>
            </a: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1</a:t>
            </a:r>
            <a:r>
              <a:rPr b="1" lang="zh-CN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、这篇短文的主要内容是什么？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2819520"/>
            <a:ext cx="746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夸父逐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是我国最早的神话之一。在这篇神话中，巨人夸父敢于与太阳竞跑，最后口渴而死，他的手杖化为桃林。这个奇妙的神话表现了夸父无比的英雄气概，反映了古代人民探索、征服大自然的强烈愿望和顽强意志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2057400" y="457200"/>
            <a:ext cx="5410080" cy="1066680"/>
            <a:chOff x="2057400" y="457200"/>
            <a:chExt cx="5410080" cy="1066680"/>
          </a:xfrm>
        </p:grpSpPr>
        <p:grpSp>
          <p:nvGrpSpPr>
            <p:cNvPr id="132" name="Group 8"/>
            <p:cNvGrpSpPr/>
            <p:nvPr/>
          </p:nvGrpSpPr>
          <p:grpSpPr>
            <a:xfrm>
              <a:off x="2057400" y="457200"/>
              <a:ext cx="5410080" cy="1066680"/>
              <a:chOff x="2057400" y="457200"/>
              <a:chExt cx="5410080" cy="106668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2743200" y="45720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疑难解析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" name="Picture 10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14300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11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53352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6" name="Picture 12" descr="11疑难解析"/>
            <p:cNvPicPr/>
            <p:nvPr/>
          </p:nvPicPr>
          <p:blipFill>
            <a:blip r:embed="rId4"/>
            <a:stretch/>
          </p:blipFill>
          <p:spPr>
            <a:xfrm>
              <a:off x="6400800" y="457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29528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         </a:t>
            </a: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1</a:t>
            </a:r>
            <a:r>
              <a:rPr b="1" lang="zh-CN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、全文仅</a:t>
            </a: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37</a:t>
            </a:r>
            <a:r>
              <a:rPr b="1" lang="zh-CN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个字，但故事情节波澜曲折，这篇神话共分几个画面来描述夸父？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828800" y="3200400"/>
            <a:ext cx="5410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逐走，入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渴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饮于河渭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北饮大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道渴而死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弃杖化邓林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ni_png_0724"/>
          <p:cNvPicPr/>
          <p:nvPr/>
        </p:nvPicPr>
        <p:blipFill>
          <a:blip r:embed="rId2"/>
          <a:stretch/>
        </p:blipFill>
        <p:spPr>
          <a:xfrm>
            <a:off x="6781680" y="49528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523880" y="1295280"/>
            <a:ext cx="6978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2</a:t>
            </a:r>
            <a:r>
              <a:rPr b="1" lang="zh-CN" sz="3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、你对夸父追日的行为有什么看法？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362320"/>
            <a:ext cx="7086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夸父是一个古代神话英雄，他不向自然屈服，敢于和自然斗争，甚至为此献身，更令人感动的是，死后，他的手杖化成一片桃林，将顽强的生命延续下去。勇于探索、不怕牺牲、造福人类的可贵精神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ni_png_0724"/>
          <p:cNvPicPr/>
          <p:nvPr/>
        </p:nvPicPr>
        <p:blipFill>
          <a:blip r:embed="rId2"/>
          <a:stretch/>
        </p:blipFill>
        <p:spPr>
          <a:xfrm>
            <a:off x="6781680" y="49528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523880" y="5562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山海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故事，流传千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Sunset"/>
          <p:cNvPicPr/>
          <p:nvPr/>
        </p:nvPicPr>
        <p:blipFill>
          <a:blip r:embed="rId2"/>
          <a:stretch/>
        </p:blipFill>
        <p:spPr>
          <a:xfrm>
            <a:off x="2209680" y="1752480"/>
            <a:ext cx="4876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8"/>
          <p:cNvGrpSpPr/>
          <p:nvPr/>
        </p:nvGrpSpPr>
        <p:grpSpPr>
          <a:xfrm>
            <a:off x="1981080" y="228600"/>
            <a:ext cx="5411880" cy="1143000"/>
            <a:chOff x="1981080" y="228600"/>
            <a:chExt cx="5411880" cy="1143000"/>
          </a:xfrm>
        </p:grpSpPr>
        <p:grpSp>
          <p:nvGrpSpPr>
            <p:cNvPr id="146" name="Group 9"/>
            <p:cNvGrpSpPr/>
            <p:nvPr/>
          </p:nvGrpSpPr>
          <p:grpSpPr>
            <a:xfrm>
              <a:off x="1981080" y="304920"/>
              <a:ext cx="5410080" cy="1066680"/>
              <a:chOff x="1981080" y="304920"/>
              <a:chExt cx="5410080" cy="1066680"/>
            </a:xfrm>
          </p:grpSpPr>
          <p:sp>
            <p:nvSpPr>
              <p:cNvPr id="147" name="Text Box 10"/>
              <p:cNvSpPr/>
              <p:nvPr/>
            </p:nvSpPr>
            <p:spPr>
              <a:xfrm>
                <a:off x="2666880" y="30492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能力拓展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Picture 11" descr="bar0061"/>
              <p:cNvPicPr/>
              <p:nvPr/>
            </p:nvPicPr>
            <p:blipFill>
              <a:blip r:embed="rId3"/>
              <a:stretch/>
            </p:blipFill>
            <p:spPr>
              <a:xfrm>
                <a:off x="1981080" y="99072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2" descr="174"/>
              <p:cNvPicPr/>
              <p:nvPr/>
            </p:nvPicPr>
            <p:blipFill>
              <a:blip r:embed="rId4"/>
              <a:srcRect l="0" t="0" r="0" b="28499"/>
              <a:stretch/>
            </p:blipFill>
            <p:spPr>
              <a:xfrm>
                <a:off x="2631960" y="38124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0" name="Picture 13" descr="13能力拓展"/>
            <p:cNvPicPr/>
            <p:nvPr/>
          </p:nvPicPr>
          <p:blipFill>
            <a:blip r:embed="rId5"/>
            <a:stretch/>
          </p:blipFill>
          <p:spPr>
            <a:xfrm>
              <a:off x="6400800" y="228600"/>
              <a:ext cx="992160" cy="992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ut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657600" y="54864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精卫填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111605600221013"/>
          <p:cNvPicPr/>
          <p:nvPr/>
        </p:nvPicPr>
        <p:blipFill>
          <a:blip r:embed="rId2"/>
          <a:stretch/>
        </p:blipFill>
        <p:spPr>
          <a:xfrm>
            <a:off x="1676520" y="1066680"/>
            <a:ext cx="5943600" cy="404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W020070828687759520077"/>
          <p:cNvPicPr/>
          <p:nvPr/>
        </p:nvPicPr>
        <p:blipFill>
          <a:blip r:embed="rId2"/>
          <a:stretch/>
        </p:blipFill>
        <p:spPr>
          <a:xfrm>
            <a:off x="1752480" y="914400"/>
            <a:ext cx="5562720" cy="4314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657600" y="5486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后羿射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5d212aa899f64ca2cb130c1a"/>
          <p:cNvPicPr/>
          <p:nvPr/>
        </p:nvPicPr>
        <p:blipFill>
          <a:blip r:embed="rId2"/>
          <a:stretch/>
        </p:blipFill>
        <p:spPr>
          <a:xfrm>
            <a:off x="1523880" y="838080"/>
            <a:ext cx="6324840" cy="4442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581280" y="5486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夸父逐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2"/>
          <p:cNvSpPr/>
          <p:nvPr/>
        </p:nvSpPr>
        <p:spPr>
          <a:xfrm>
            <a:off x="4051440" y="2438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1"/>
          <p:cNvPicPr/>
          <p:nvPr/>
        </p:nvPicPr>
        <p:blipFill>
          <a:blip r:embed="rId2"/>
          <a:stretch/>
        </p:blipFill>
        <p:spPr>
          <a:xfrm>
            <a:off x="2209680" y="1625760"/>
            <a:ext cx="4267440" cy="3798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505320" y="5715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夸父逐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1905120" y="457200"/>
            <a:ext cx="5553000" cy="1066680"/>
            <a:chOff x="1905120" y="457200"/>
            <a:chExt cx="5553000" cy="1066680"/>
          </a:xfrm>
        </p:grpSpPr>
        <p:grpSp>
          <p:nvGrpSpPr>
            <p:cNvPr id="46" name="Group 8"/>
            <p:cNvGrpSpPr/>
            <p:nvPr/>
          </p:nvGrpSpPr>
          <p:grpSpPr>
            <a:xfrm>
              <a:off x="1905120" y="457200"/>
              <a:ext cx="5410080" cy="1066680"/>
              <a:chOff x="1905120" y="457200"/>
              <a:chExt cx="5410080" cy="1066680"/>
            </a:xfrm>
          </p:grpSpPr>
          <p:sp>
            <p:nvSpPr>
              <p:cNvPr id="47" name="Text Box 9"/>
              <p:cNvSpPr/>
              <p:nvPr/>
            </p:nvSpPr>
            <p:spPr>
              <a:xfrm>
                <a:off x="2590920" y="45720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导入新课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" name="Picture 10" descr="bar0061"/>
              <p:cNvPicPr/>
              <p:nvPr/>
            </p:nvPicPr>
            <p:blipFill>
              <a:blip r:embed="rId3"/>
              <a:stretch/>
            </p:blipFill>
            <p:spPr>
              <a:xfrm>
                <a:off x="1905120" y="114300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1" descr="174"/>
              <p:cNvPicPr/>
              <p:nvPr/>
            </p:nvPicPr>
            <p:blipFill>
              <a:blip r:embed="rId4"/>
              <a:srcRect l="0" t="0" r="0" b="28499"/>
              <a:stretch/>
            </p:blipFill>
            <p:spPr>
              <a:xfrm>
                <a:off x="2556000" y="53352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12" descr="illusticon237002s"/>
            <p:cNvPicPr/>
            <p:nvPr/>
          </p:nvPicPr>
          <p:blipFill>
            <a:blip r:embed="rId5"/>
            <a:stretch/>
          </p:blipFill>
          <p:spPr>
            <a:xfrm>
              <a:off x="6553440" y="457200"/>
              <a:ext cx="90468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350532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女娲造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200792610135292388"/>
          <p:cNvPicPr/>
          <p:nvPr/>
        </p:nvPicPr>
        <p:blipFill>
          <a:blip r:embed="rId2"/>
          <a:stretch/>
        </p:blipFill>
        <p:spPr>
          <a:xfrm>
            <a:off x="1371600" y="990720"/>
            <a:ext cx="6629400" cy="4475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E3E-F98B-4348-99D9-F3B4049381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505320" y="5715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女娲补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nwbt"/>
          <p:cNvPicPr/>
          <p:nvPr/>
        </p:nvPicPr>
        <p:blipFill>
          <a:blip r:embed="rId2"/>
          <a:stretch/>
        </p:blipFill>
        <p:spPr>
          <a:xfrm>
            <a:off x="2514600" y="609480"/>
            <a:ext cx="4191120" cy="495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80730214783571"/>
          <p:cNvPicPr/>
          <p:nvPr/>
        </p:nvPicPr>
        <p:blipFill>
          <a:blip r:embed="rId2"/>
          <a:srcRect l="0" t="0" r="-894" b="2943"/>
          <a:stretch/>
        </p:blipFill>
        <p:spPr>
          <a:xfrm>
            <a:off x="2743200" y="457200"/>
            <a:ext cx="3733920" cy="5029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3581280" y="5715000"/>
            <a:ext cx="22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刑天舞干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566c568608c19a34c75cc335"/>
          <p:cNvPicPr/>
          <p:nvPr/>
        </p:nvPicPr>
        <p:blipFill>
          <a:blip r:embed="rId2"/>
          <a:stretch/>
        </p:blipFill>
        <p:spPr>
          <a:xfrm>
            <a:off x="1981080" y="457200"/>
            <a:ext cx="3483000" cy="498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3fdc97f355803c0db17ec535"/>
          <p:cNvPicPr/>
          <p:nvPr/>
        </p:nvPicPr>
        <p:blipFill>
          <a:blip r:embed="rId3"/>
          <a:stretch/>
        </p:blipFill>
        <p:spPr>
          <a:xfrm>
            <a:off x="2971800" y="457200"/>
            <a:ext cx="3338640" cy="5000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3352680" y="5715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嫦娥奔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066680" y="2209680"/>
            <a:ext cx="73915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大荒北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大荒之中，有山名曰成都，载天（戴天，极高）。有人珥（挂耳上）两黄蛇，把两黄蛇，名曰夸父。后土生信，信生夸父。夸父不量力，欲追日景（日光），逮之于禺谷。将饮河而不足也，将走大泽，未至，死于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057400" y="533520"/>
            <a:ext cx="5410080" cy="1143000"/>
            <a:chOff x="2057400" y="533520"/>
            <a:chExt cx="5410080" cy="1143000"/>
          </a:xfrm>
        </p:grpSpPr>
        <p:grpSp>
          <p:nvGrpSpPr>
            <p:cNvPr id="172" name="Group 8"/>
            <p:cNvGrpSpPr/>
            <p:nvPr/>
          </p:nvGrpSpPr>
          <p:grpSpPr>
            <a:xfrm>
              <a:off x="2057400" y="609840"/>
              <a:ext cx="5410080" cy="1066680"/>
              <a:chOff x="2057400" y="609840"/>
              <a:chExt cx="5410080" cy="1066680"/>
            </a:xfrm>
          </p:grpSpPr>
          <p:sp>
            <p:nvSpPr>
              <p:cNvPr id="173" name="Text Box 9"/>
              <p:cNvSpPr/>
              <p:nvPr/>
            </p:nvSpPr>
            <p:spPr>
              <a:xfrm>
                <a:off x="2743200" y="60984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拓展阅读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4" name="Picture 10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29564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1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68616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Picture 12" descr="18拓展阅读"/>
            <p:cNvPicPr/>
            <p:nvPr/>
          </p:nvPicPr>
          <p:blipFill>
            <a:blip r:embed="rId4"/>
            <a:stretch/>
          </p:blipFill>
          <p:spPr>
            <a:xfrm>
              <a:off x="6400800" y="53352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5" descr="ni_png_0777"/>
          <p:cNvPicPr/>
          <p:nvPr/>
        </p:nvPicPr>
        <p:blipFill>
          <a:blip r:embed="rId5"/>
          <a:stretch/>
        </p:blipFill>
        <p:spPr>
          <a:xfrm>
            <a:off x="6858000" y="4876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762120" y="4648320"/>
            <a:ext cx="76197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唐朝柳宗元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行路难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诗曰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君不见夸父逐日窥虞渊，跳踉北海超昆仑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343400" y="1523880"/>
            <a:ext cx="4800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晋朝邓璞有诗赞曰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神哉夸父，难以理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倾沙逐日，遁形邓林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2"/>
          <a:stretch/>
        </p:blipFill>
        <p:spPr>
          <a:xfrm>
            <a:off x="1219320" y="1371600"/>
            <a:ext cx="3200400" cy="2849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143000" y="7621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文学家萧兵先生在其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盗火英雄：夸父与普罗米修斯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一书中称：夸父逐日是为了给人类采撷火种，使大地获得光明与温暖。夸父是“盗火英雄”，是中国的普罗米修斯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c93c3ca84d84f2dc1f17a25a"/>
          <p:cNvPicPr/>
          <p:nvPr/>
        </p:nvPicPr>
        <p:blipFill>
          <a:blip r:embed="rId2"/>
          <a:stretch/>
        </p:blipFill>
        <p:spPr>
          <a:xfrm>
            <a:off x="1447920" y="2590920"/>
            <a:ext cx="1935000" cy="304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"/>
          <p:cNvPicPr/>
          <p:nvPr/>
        </p:nvPicPr>
        <p:blipFill>
          <a:blip r:embed="rId3"/>
          <a:stretch/>
        </p:blipFill>
        <p:spPr>
          <a:xfrm>
            <a:off x="4724280" y="2590920"/>
            <a:ext cx="342900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1371600" y="571500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普罗米修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867280" y="57150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夸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657600" y="3886200"/>
            <a:ext cx="914400" cy="533520"/>
          </a:xfrm>
          <a:prstGeom prst="leftRightArrow">
            <a:avLst>
              <a:gd name="adj1" fmla="val 50000"/>
              <a:gd name="adj2" fmla="val 34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23"/>
          <p:cNvPicPr/>
          <p:nvPr/>
        </p:nvPicPr>
        <p:blipFill>
          <a:blip r:embed="rId2"/>
          <a:stretch/>
        </p:blipFill>
        <p:spPr>
          <a:xfrm>
            <a:off x="1143000" y="3886200"/>
            <a:ext cx="6781680" cy="2347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3048120" y="7912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夸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981080" y="1600200"/>
            <a:ext cx="5589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为什么要苦苦去挽救黄昏呢？ </a:t>
            </a: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那只是落日的背影。 </a:t>
            </a: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也不必吸尽大洋与长河， </a:t>
            </a:r>
            <a:br>
              <a:rPr sz="2800"/>
            </a:b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那只是落日的倒影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320440" y="990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余光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962520" y="1055520"/>
            <a:ext cx="495288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与其穷追苍茫的暮景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埋没在紫蔼的余烬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何不回身挥杖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迎面奔向新绽的旭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去探千瓣之光的蕊心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壮士的前途不在昨夜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在明晨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西奔是徒劳，奔回东方吧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既然是追不上了，就撞上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20061013112543877"/>
          <p:cNvPicPr/>
          <p:nvPr/>
        </p:nvPicPr>
        <p:blipFill>
          <a:blip r:embed="rId2"/>
          <a:srcRect l="9000" t="3331" r="36999" b="0"/>
          <a:stretch/>
        </p:blipFill>
        <p:spPr>
          <a:xfrm>
            <a:off x="838080" y="1752480"/>
            <a:ext cx="3036960" cy="407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343400" y="1523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巴金 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我怀念上古的夸父，他追赶日影，渴死在山谷。为着追求光和热，人宁愿舍弃自己的生命。生命是可爱的。但寒冷的、寂寞的生，却不如轰轰烈烈的死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F200611221450431703647121"/>
          <p:cNvPicPr/>
          <p:nvPr/>
        </p:nvPicPr>
        <p:blipFill>
          <a:blip r:embed="rId2"/>
          <a:stretch/>
        </p:blipFill>
        <p:spPr>
          <a:xfrm>
            <a:off x="990720" y="1905120"/>
            <a:ext cx="3186000" cy="327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1828800" y="5410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巴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43000" y="1523880"/>
            <a:ext cx="60199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读山海经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》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精卫衔微木，将以填沧海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刑天舞干戚，猛志固常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同物既无虑，化去不复悔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徒设在昔心，良辰讵可待！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5627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陶渊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1447920" y="2438280"/>
            <a:ext cx="6400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为追求光和热而英勇献身的精神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为改变现状不惜牺牲的奋斗精神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为心中的坚持锲而不舍的拼搏精神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295280" y="1752480"/>
            <a:ext cx="65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隶书"/>
              </a:rPr>
              <a:t>我们应该学习夸父什么样的精神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1" descr="20081125063751"/>
          <p:cNvPicPr/>
          <p:nvPr/>
        </p:nvPicPr>
        <p:blipFill>
          <a:blip r:embed="rId2"/>
          <a:stretch/>
        </p:blipFill>
        <p:spPr>
          <a:xfrm>
            <a:off x="1828800" y="4495680"/>
            <a:ext cx="1733400" cy="1857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2008111811652494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495680"/>
            <a:ext cx="15350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9"/>
          <p:cNvGrpSpPr/>
          <p:nvPr/>
        </p:nvGrpSpPr>
        <p:grpSpPr>
          <a:xfrm>
            <a:off x="2057400" y="609480"/>
            <a:ext cx="5410080" cy="1066680"/>
            <a:chOff x="2057400" y="609480"/>
            <a:chExt cx="5410080" cy="1066680"/>
          </a:xfrm>
        </p:grpSpPr>
        <p:grpSp>
          <p:nvGrpSpPr>
            <p:cNvPr id="201" name="Group 20"/>
            <p:cNvGrpSpPr/>
            <p:nvPr/>
          </p:nvGrpSpPr>
          <p:grpSpPr>
            <a:xfrm>
              <a:off x="2057400" y="609480"/>
              <a:ext cx="5410080" cy="1066680"/>
              <a:chOff x="2057400" y="609480"/>
              <a:chExt cx="5410080" cy="1066680"/>
            </a:xfrm>
          </p:grpSpPr>
          <p:sp>
            <p:nvSpPr>
              <p:cNvPr id="202" name="Text Box 21"/>
              <p:cNvSpPr/>
              <p:nvPr/>
            </p:nvSpPr>
            <p:spPr>
              <a:xfrm>
                <a:off x="2743200" y="60948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讨论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" name="Picture 22" descr="bar0061"/>
              <p:cNvPicPr/>
              <p:nvPr/>
            </p:nvPicPr>
            <p:blipFill>
              <a:blip r:embed="rId5"/>
              <a:stretch/>
            </p:blipFill>
            <p:spPr>
              <a:xfrm>
                <a:off x="2057400" y="129528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Picture 23" descr="174"/>
              <p:cNvPicPr/>
              <p:nvPr/>
            </p:nvPicPr>
            <p:blipFill>
              <a:blip r:embed="rId6"/>
              <a:srcRect l="0" t="0" r="0" b="28499"/>
              <a:stretch/>
            </p:blipFill>
            <p:spPr>
              <a:xfrm>
                <a:off x="2708280" y="68580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Picture 24" descr="14讨论"/>
            <p:cNvPicPr/>
            <p:nvPr/>
          </p:nvPicPr>
          <p:blipFill>
            <a:blip r:embed="rId7"/>
            <a:stretch/>
          </p:blipFill>
          <p:spPr>
            <a:xfrm>
              <a:off x="5867280" y="609480"/>
              <a:ext cx="682920" cy="68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1295280" y="2057400"/>
            <a:ext cx="716292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夸父追日的神话，曲折地反映了远古时代人们向大自然竞胜的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晋代陶渊明在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读山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诗中却称赞说“夸父诞宏志，乃与日竞走”。实则赞美为追求理想而不惜牺牲一切的大无畏精神。夸父的精神值得我们学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2057400" y="457200"/>
            <a:ext cx="5410080" cy="1066680"/>
            <a:chOff x="2057400" y="457200"/>
            <a:chExt cx="5410080" cy="1066680"/>
          </a:xfrm>
        </p:grpSpPr>
        <p:grpSp>
          <p:nvGrpSpPr>
            <p:cNvPr id="208" name="Group 7"/>
            <p:cNvGrpSpPr/>
            <p:nvPr/>
          </p:nvGrpSpPr>
          <p:grpSpPr>
            <a:xfrm>
              <a:off x="2057400" y="457200"/>
              <a:ext cx="5410080" cy="1066680"/>
              <a:chOff x="2057400" y="457200"/>
              <a:chExt cx="5410080" cy="1066680"/>
            </a:xfrm>
          </p:grpSpPr>
          <p:sp>
            <p:nvSpPr>
              <p:cNvPr id="209" name="Text Box 8"/>
              <p:cNvSpPr/>
              <p:nvPr/>
            </p:nvSpPr>
            <p:spPr>
              <a:xfrm>
                <a:off x="2743200" y="45720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课堂小结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0" name="Picture 9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14300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10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53352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Picture 11" descr="19课后作业"/>
            <p:cNvPicPr/>
            <p:nvPr/>
          </p:nvPicPr>
          <p:blipFill>
            <a:blip r:embed="rId4"/>
            <a:stretch/>
          </p:blipFill>
          <p:spPr>
            <a:xfrm>
              <a:off x="6400800" y="45720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1371600" y="175248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解释词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与日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渭不足（                 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饮大泽（                 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弃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杖（                           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494320" y="2666160"/>
            <a:ext cx="4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竞跑、赛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114520" y="33519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黄河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267160" y="41140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向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759200" y="48758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他的，指夸父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2057400" y="457200"/>
            <a:ext cx="5410080" cy="1066680"/>
            <a:chOff x="2057400" y="457200"/>
            <a:chExt cx="5410080" cy="1066680"/>
          </a:xfrm>
        </p:grpSpPr>
        <p:grpSp>
          <p:nvGrpSpPr>
            <p:cNvPr id="219" name="Group 11"/>
            <p:cNvGrpSpPr/>
            <p:nvPr/>
          </p:nvGrpSpPr>
          <p:grpSpPr>
            <a:xfrm>
              <a:off x="2057400" y="457200"/>
              <a:ext cx="5410080" cy="1066680"/>
              <a:chOff x="2057400" y="457200"/>
              <a:chExt cx="5410080" cy="1066680"/>
            </a:xfrm>
          </p:grpSpPr>
          <p:sp>
            <p:nvSpPr>
              <p:cNvPr id="220" name="Text Box 12"/>
              <p:cNvSpPr/>
              <p:nvPr/>
            </p:nvSpPr>
            <p:spPr>
              <a:xfrm>
                <a:off x="2743200" y="45720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课堂练习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1" name="Picture 13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14300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14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53352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" name="Picture 15" descr="19课后作业"/>
            <p:cNvPicPr/>
            <p:nvPr/>
          </p:nvPicPr>
          <p:blipFill>
            <a:blip r:embed="rId4"/>
            <a:stretch/>
          </p:blipFill>
          <p:spPr>
            <a:xfrm>
              <a:off x="6400800" y="45720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523880" y="762120"/>
            <a:ext cx="56390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翻译下列句子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夸父与日逐走，入日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未至，道渴而死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弃其杖，化为邓林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878360" y="39614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还没赶到大湖，在半路就口渴而死了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62120" y="19810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夸父与太阳竞跑，一直追到太阳落山的地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74720" y="548568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他遗弃的手杖，化成桃林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809261105072093"/>
          <p:cNvPicPr/>
          <p:nvPr/>
        </p:nvPicPr>
        <p:blipFill>
          <a:blip r:embed="rId2"/>
          <a:stretch/>
        </p:blipFill>
        <p:spPr>
          <a:xfrm>
            <a:off x="1828800" y="1600200"/>
            <a:ext cx="5143680" cy="4113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3200400" y="5638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神话中的世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905120" y="457200"/>
            <a:ext cx="5553000" cy="1066680"/>
            <a:chOff x="1905120" y="457200"/>
            <a:chExt cx="5553000" cy="1066680"/>
          </a:xfrm>
        </p:grpSpPr>
        <p:grpSp>
          <p:nvGrpSpPr>
            <p:cNvPr id="231" name="Group 5"/>
            <p:cNvGrpSpPr/>
            <p:nvPr/>
          </p:nvGrpSpPr>
          <p:grpSpPr>
            <a:xfrm>
              <a:off x="1905120" y="457200"/>
              <a:ext cx="5410080" cy="1066680"/>
              <a:chOff x="1905120" y="457200"/>
              <a:chExt cx="5410080" cy="1066680"/>
            </a:xfrm>
          </p:grpSpPr>
          <p:sp>
            <p:nvSpPr>
              <p:cNvPr id="232" name="Text Box 6"/>
              <p:cNvSpPr/>
              <p:nvPr/>
            </p:nvSpPr>
            <p:spPr>
              <a:xfrm>
                <a:off x="2590920" y="45720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导入新课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Picture 7" descr="bar0061"/>
              <p:cNvPicPr/>
              <p:nvPr/>
            </p:nvPicPr>
            <p:blipFill>
              <a:blip r:embed="rId3"/>
              <a:stretch/>
            </p:blipFill>
            <p:spPr>
              <a:xfrm>
                <a:off x="1905120" y="114300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8" descr="174"/>
              <p:cNvPicPr/>
              <p:nvPr/>
            </p:nvPicPr>
            <p:blipFill>
              <a:blip r:embed="rId4"/>
              <a:srcRect l="0" t="0" r="0" b="28499"/>
              <a:stretch/>
            </p:blipFill>
            <p:spPr>
              <a:xfrm>
                <a:off x="2556000" y="53352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5" name="Picture 9" descr="illusticon237002s"/>
            <p:cNvPicPr/>
            <p:nvPr/>
          </p:nvPicPr>
          <p:blipFill>
            <a:blip r:embed="rId5"/>
            <a:stretch/>
          </p:blipFill>
          <p:spPr>
            <a:xfrm>
              <a:off x="6553440" y="457200"/>
              <a:ext cx="90468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019b93bd68d08dd4c120e"/>
          <p:cNvPicPr/>
          <p:nvPr/>
        </p:nvPicPr>
        <p:blipFill>
          <a:blip r:embed="rId2"/>
          <a:srcRect l="1603" t="-1503" r="2011" b="0"/>
          <a:stretch/>
        </p:blipFill>
        <p:spPr>
          <a:xfrm>
            <a:off x="2298600" y="457200"/>
            <a:ext cx="4367160" cy="487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5CEC65F2D7576D79225540E48AFF7CD6"/>
          <p:cNvPicPr/>
          <p:nvPr/>
        </p:nvPicPr>
        <p:blipFill>
          <a:blip r:embed="rId3"/>
          <a:stretch/>
        </p:blipFill>
        <p:spPr>
          <a:xfrm>
            <a:off x="2298600" y="45720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2133720" y="5486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天威难犯，用灾难惩罚人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143000" y="1828800"/>
            <a:ext cx="73152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华文隶书"/>
                <a:ea typeface="华文隶书"/>
              </a:rPr>
              <a:t>知识与能力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诵全文，积累文言词汇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华文隶书"/>
                <a:ea typeface="华文隶书"/>
              </a:rPr>
              <a:t>过程与方法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神话故事的含义及夸父形象。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华文隶书"/>
                <a:ea typeface="华文隶书"/>
              </a:rPr>
              <a:t>情感、态度与价值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会古代劳动人民探索、征服大自然的愿望和意志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2133720" y="304920"/>
            <a:ext cx="5410080" cy="1143000"/>
            <a:chOff x="2133720" y="304920"/>
            <a:chExt cx="5410080" cy="1143000"/>
          </a:xfrm>
        </p:grpSpPr>
        <p:grpSp>
          <p:nvGrpSpPr>
            <p:cNvPr id="56" name="Group 7"/>
            <p:cNvGrpSpPr/>
            <p:nvPr/>
          </p:nvGrpSpPr>
          <p:grpSpPr>
            <a:xfrm>
              <a:off x="2133720" y="381240"/>
              <a:ext cx="5410080" cy="1066680"/>
              <a:chOff x="2133720" y="381240"/>
              <a:chExt cx="5410080" cy="1066680"/>
            </a:xfrm>
          </p:grpSpPr>
          <p:sp>
            <p:nvSpPr>
              <p:cNvPr id="57" name="Text Box 8"/>
              <p:cNvSpPr/>
              <p:nvPr/>
            </p:nvSpPr>
            <p:spPr>
              <a:xfrm>
                <a:off x="2819520" y="38124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学习目标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Picture 9" descr="bar0061"/>
              <p:cNvPicPr/>
              <p:nvPr/>
            </p:nvPicPr>
            <p:blipFill>
              <a:blip r:embed="rId5"/>
              <a:stretch/>
            </p:blipFill>
            <p:spPr>
              <a:xfrm>
                <a:off x="2133720" y="106704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0" descr="174"/>
              <p:cNvPicPr/>
              <p:nvPr/>
            </p:nvPicPr>
            <p:blipFill>
              <a:blip r:embed="rId6"/>
              <a:srcRect l="0" t="0" r="0" b="28499"/>
              <a:stretch/>
            </p:blipFill>
            <p:spPr>
              <a:xfrm>
                <a:off x="2784600" y="45756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11" descr="2学习目标"/>
            <p:cNvPicPr/>
            <p:nvPr/>
          </p:nvPicPr>
          <p:blipFill>
            <a:blip r:embed="rId7"/>
            <a:stretch/>
          </p:blipFill>
          <p:spPr>
            <a:xfrm>
              <a:off x="6400800" y="30492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447920" y="190512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、拓展思维训练、口语训练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、了解神话故事的含义及夸父形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2057400" y="609480"/>
            <a:ext cx="5410080" cy="1066680"/>
            <a:chOff x="2057400" y="609480"/>
            <a:chExt cx="5410080" cy="1066680"/>
          </a:xfrm>
        </p:grpSpPr>
        <p:grpSp>
          <p:nvGrpSpPr>
            <p:cNvPr id="63" name="Group 8"/>
            <p:cNvGrpSpPr/>
            <p:nvPr/>
          </p:nvGrpSpPr>
          <p:grpSpPr>
            <a:xfrm>
              <a:off x="2057400" y="609480"/>
              <a:ext cx="5410080" cy="1066680"/>
              <a:chOff x="2057400" y="609480"/>
              <a:chExt cx="5410080" cy="1066680"/>
            </a:xfrm>
          </p:grpSpPr>
          <p:sp>
            <p:nvSpPr>
              <p:cNvPr id="64" name="Text Box 9"/>
              <p:cNvSpPr/>
              <p:nvPr/>
            </p:nvSpPr>
            <p:spPr>
              <a:xfrm>
                <a:off x="2743200" y="60948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学习重难点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" name="Picture 10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29528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1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68580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Picture 12" descr="3学习重难点"/>
            <p:cNvPicPr/>
            <p:nvPr/>
          </p:nvPicPr>
          <p:blipFill>
            <a:blip r:embed="rId4"/>
            <a:stretch/>
          </p:blipFill>
          <p:spPr>
            <a:xfrm>
              <a:off x="6629400" y="60948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3" descr="ni_png_0524"/>
          <p:cNvPicPr/>
          <p:nvPr/>
        </p:nvPicPr>
        <p:blipFill>
          <a:blip r:embed="rId5"/>
          <a:stretch/>
        </p:blipFill>
        <p:spPr>
          <a:xfrm>
            <a:off x="746748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ni_png_0524"/>
          <p:cNvPicPr/>
          <p:nvPr/>
        </p:nvPicPr>
        <p:blipFill>
          <a:blip r:embed="rId6"/>
          <a:stretch/>
        </p:blipFill>
        <p:spPr>
          <a:xfrm>
            <a:off x="1066680" y="5105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733920" y="3110760"/>
            <a:ext cx="5029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海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中国先秦古籍。一般认为主要记述的是古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神话、地理、物产、巫术、宗教、古史、医药、民俗、民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方面的内容。全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藏山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外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内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荒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荒海内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 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034965f4de7559caf2d3859d"/>
          <p:cNvPicPr/>
          <p:nvPr/>
        </p:nvPicPr>
        <p:blipFill>
          <a:blip r:embed="rId2"/>
          <a:stretch/>
        </p:blipFill>
        <p:spPr>
          <a:xfrm>
            <a:off x="990720" y="2133720"/>
            <a:ext cx="2543040" cy="35812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4"/>
          <p:cNvGrpSpPr/>
          <p:nvPr/>
        </p:nvGrpSpPr>
        <p:grpSpPr>
          <a:xfrm>
            <a:off x="2362320" y="380880"/>
            <a:ext cx="5638680" cy="1066680"/>
            <a:chOff x="2362320" y="380880"/>
            <a:chExt cx="5638680" cy="1066680"/>
          </a:xfrm>
        </p:grpSpPr>
        <p:grpSp>
          <p:nvGrpSpPr>
            <p:cNvPr id="73" name="Group 13"/>
            <p:cNvGrpSpPr/>
            <p:nvPr/>
          </p:nvGrpSpPr>
          <p:grpSpPr>
            <a:xfrm>
              <a:off x="2362320" y="380880"/>
              <a:ext cx="5410080" cy="1066680"/>
              <a:chOff x="2362320" y="380880"/>
              <a:chExt cx="5410080" cy="1066680"/>
            </a:xfrm>
          </p:grpSpPr>
          <p:sp>
            <p:nvSpPr>
              <p:cNvPr id="74" name="Text Box 9"/>
              <p:cNvSpPr/>
              <p:nvPr/>
            </p:nvSpPr>
            <p:spPr>
              <a:xfrm>
                <a:off x="2514600" y="380880"/>
                <a:ext cx="4876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《</a:t>
                </a: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山海经</a:t>
                </a:r>
                <a:r>
                  <a:rPr b="1" lang="en-US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》</a:t>
                </a: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简介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" name="Picture 10" descr="bar0061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106668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1" descr="174"/>
              <p:cNvPicPr/>
              <p:nvPr/>
            </p:nvPicPr>
            <p:blipFill>
              <a:blip r:embed="rId4"/>
              <a:srcRect l="0" t="0" r="0" b="28499"/>
              <a:stretch/>
            </p:blipFill>
            <p:spPr>
              <a:xfrm>
                <a:off x="2708280" y="45720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Picture 12" descr="4作者简介"/>
            <p:cNvPicPr/>
            <p:nvPr/>
          </p:nvPicPr>
          <p:blipFill>
            <a:blip r:embed="rId5"/>
            <a:stretch/>
          </p:blipFill>
          <p:spPr>
            <a:xfrm>
              <a:off x="7239240" y="45720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295280" y="2962080"/>
            <a:ext cx="693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神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映古代人们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世界起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自然现象及社会生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原始理解，并通过超自然的形象和幻想的形式来表现的故事和传说。神话都是用想象和借助想象以征服自然力，支配支配自然力，把自然力加以形象化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2057400" y="609480"/>
            <a:ext cx="5410080" cy="1066680"/>
            <a:chOff x="2057400" y="609480"/>
            <a:chExt cx="5410080" cy="1066680"/>
          </a:xfrm>
        </p:grpSpPr>
        <p:grpSp>
          <p:nvGrpSpPr>
            <p:cNvPr id="80" name="Group 7"/>
            <p:cNvGrpSpPr/>
            <p:nvPr/>
          </p:nvGrpSpPr>
          <p:grpSpPr>
            <a:xfrm>
              <a:off x="2057400" y="609480"/>
              <a:ext cx="5410080" cy="1066680"/>
              <a:chOff x="2057400" y="609480"/>
              <a:chExt cx="5410080" cy="1066680"/>
            </a:xfrm>
          </p:grpSpPr>
          <p:sp>
            <p:nvSpPr>
              <p:cNvPr id="81" name="Text Box 8"/>
              <p:cNvSpPr/>
              <p:nvPr/>
            </p:nvSpPr>
            <p:spPr>
              <a:xfrm>
                <a:off x="2743200" y="60948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资料链接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" name="Picture 9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29528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10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708280" y="68580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4" name="Picture 11" descr="5资料链接"/>
            <p:cNvPicPr/>
            <p:nvPr/>
          </p:nvPicPr>
          <p:blipFill>
            <a:blip r:embed="rId4"/>
            <a:stretch/>
          </p:blipFill>
          <p:spPr>
            <a:xfrm>
              <a:off x="6248520" y="609480"/>
              <a:ext cx="836640" cy="83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12" descr="ni_png_0527"/>
          <p:cNvPicPr/>
          <p:nvPr/>
        </p:nvPicPr>
        <p:blipFill>
          <a:blip r:embed="rId5"/>
          <a:stretch/>
        </p:blipFill>
        <p:spPr>
          <a:xfrm>
            <a:off x="7086600" y="5181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914400" y="124632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中华民族最古老的奇书之一。它有如下几个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90720" y="2723040"/>
            <a:ext cx="79246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①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为述图之书。</a:t>
            </a:r>
            <a:br>
              <a:rPr sz="2800"/>
            </a:b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②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保留了大量远古时期的史料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③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与东方夷族有关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④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中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山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各成一体。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海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又可分为两组：一组为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海外四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海内四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；一组为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大荒四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海内经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676520" y="175248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逐走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971800" y="1752480"/>
            <a:ext cx="26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竞跑，赛跑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676520" y="251460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入日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971800" y="2514600"/>
            <a:ext cx="47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追赶到太阳落下的地方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295280" y="3200400"/>
            <a:ext cx="18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河、渭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971800" y="3276720"/>
            <a:ext cx="26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河和渭水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838080" y="480060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道渴而死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48120" y="4876920"/>
            <a:ext cx="39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半路因口渴而死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676520" y="556272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邓林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124080" y="5638680"/>
            <a:ext cx="14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桃林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1676520" y="403848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大泽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048120" y="40384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湖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1981080" y="0"/>
            <a:ext cx="5410080" cy="1371600"/>
            <a:chOff x="1981080" y="0"/>
            <a:chExt cx="5410080" cy="1371600"/>
          </a:xfrm>
        </p:grpSpPr>
        <p:grpSp>
          <p:nvGrpSpPr>
            <p:cNvPr id="101" name="Group 19"/>
            <p:cNvGrpSpPr/>
            <p:nvPr/>
          </p:nvGrpSpPr>
          <p:grpSpPr>
            <a:xfrm>
              <a:off x="1981080" y="304920"/>
              <a:ext cx="5410080" cy="1066680"/>
              <a:chOff x="1981080" y="304920"/>
              <a:chExt cx="5410080" cy="1066680"/>
            </a:xfrm>
          </p:grpSpPr>
          <p:sp>
            <p:nvSpPr>
              <p:cNvPr id="102" name="Text Box 20"/>
              <p:cNvSpPr/>
              <p:nvPr/>
            </p:nvSpPr>
            <p:spPr>
              <a:xfrm>
                <a:off x="2666880" y="304920"/>
                <a:ext cx="358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3300"/>
                    </a:solidFill>
                    <a:latin typeface="Times New Roman"/>
                    <a:ea typeface="华文行楷"/>
                  </a:rPr>
                  <a:t>词语解释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" name="Picture 21" descr="bar0061"/>
              <p:cNvPicPr/>
              <p:nvPr/>
            </p:nvPicPr>
            <p:blipFill>
              <a:blip r:embed="rId2"/>
              <a:stretch/>
            </p:blipFill>
            <p:spPr>
              <a:xfrm>
                <a:off x="1981080" y="990720"/>
                <a:ext cx="5410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22" descr="174"/>
              <p:cNvPicPr/>
              <p:nvPr/>
            </p:nvPicPr>
            <p:blipFill>
              <a:blip r:embed="rId3"/>
              <a:srcRect l="0" t="0" r="0" b="28499"/>
              <a:stretch/>
            </p:blipFill>
            <p:spPr>
              <a:xfrm>
                <a:off x="2631960" y="381240"/>
                <a:ext cx="11592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" name="Picture 23" descr="8词语解释"/>
            <p:cNvPicPr/>
            <p:nvPr/>
          </p:nvPicPr>
          <p:blipFill>
            <a:blip r:embed="rId4"/>
            <a:stretch/>
          </p:blipFill>
          <p:spPr>
            <a:xfrm>
              <a:off x="6172200" y="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5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47:40Z</dcterms:modified>
  <cp:revision>8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