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chimes.wav" ContentType="audio/x-wav"/>
  <Override PartName="/ppt/media/image9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5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18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38A-D849-49E4-8446-BCC03635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D4E-2803-43EE-9107-B224A587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767F1-4BDE-4454-9366-6A2C1C8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F6C82-9DC7-42F8-9339-D672A66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E63E3-D4DD-4E4A-ADC9-F8E2C46A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D2BC-C5D3-4370-BE03-D0E9F8C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E1900-4685-4CBF-A4C0-C4F4A43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D5101-F2F0-4BFA-BEEB-7EBA91E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10538-FC22-4058-B0C1-9E89B77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8F573-1D53-4042-9B24-645E4788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2C43-5FF6-4340-B15B-0FFE82C5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26987-C111-432B-BA31-FF357C35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3EB-0887-4678-9ED0-041BA66F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09710-79FC-4EC6-86DB-3BE3EEF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488B-BA8C-458A-B936-5443D83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CA332-D5D6-4182-9DFD-7C1CED92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C797B-C6BB-44A3-80DB-3B96492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0BB52-52DA-430A-A0B7-6FBBB393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1FD0D-F0BC-4BB4-B0DF-422481E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E4AFB-ADF1-430C-84E3-103BF90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49219-2EA5-4E5F-A2ED-E198B81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4C68-9E73-4BE8-96A4-92ABD45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D0F4-85BF-4D8D-80D6-596FCC87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DA8-8625-4C54-86B4-9354A74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34331-78B8-4782-84AE-48055B3B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C6A3-AA9C-42A5-B05B-F9D3D4B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B701-D8C1-44FB-9286-47AD5F64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EF28-F7DC-4475-B2CF-2753CC35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BEF95-19CC-48B2-BBCA-4AB6214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4502-9201-413C-9B85-9F80FC09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0C895-2A12-4D9A-A444-2999D8A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061A-63EA-475B-AB8E-BDAA8A6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D2C60-F3B0-4D7F-B177-4E21D91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3B54C-C7E8-46B1-BF47-4F0A9CA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53D-A8DE-432A-AE1B-BDF7938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B26A6-356A-4FEC-AA4D-8D532F5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27DE-2A3F-4678-AC09-7E2F3EF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FBB29-078F-4591-8492-D1B5CA38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6684E-3543-4353-9E3F-8A99F5A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2D184-1C27-4944-84C7-9C739A7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26269-AA8B-4778-81E8-0B2CE4E8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AB936-579A-4362-AE17-22D9CD49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6125-12A7-49CC-93B6-8163AE4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9928B-DD5A-4AEC-906A-F7460786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78ACB-130D-4A2C-A9A0-3046A91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F6BC-E3F0-4F63-B6E7-506B281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D9841-459D-491F-87DD-711FF374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7EF7D-6EF7-460B-93FA-486BC7C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64457-E54C-413E-BA93-1F85C75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A3DF4-EA38-45C1-934D-73C0B35B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6041A-B6FB-4E40-9C39-A3A23226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522AC-2163-41BA-818A-76B14116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19AB5-7EB6-43C8-9EFC-8AF6284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B7F1B-2CE9-47DF-A741-228CC89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3117D-082B-4ADA-9F88-CF6663A1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22D84-CB7D-4442-B262-32DA577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463-3CED-4ADA-AA45-F75CCD56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6CCC0-20B2-49A6-81F4-AE6DBB5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929D4-C0E0-4882-A4BE-6BBDDAC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29067-7294-4D43-94B1-7D7FD4D5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42DA8-6969-4654-A23A-6030323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EFFFF-EC21-4B7D-8D6F-0A42613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41D9D-56F7-4E56-8C47-48CEFEA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28E5A-4D4B-405E-9401-1D94E1FC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9FA37-7527-476F-91C7-9820F7F3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02A0A-341D-4935-B406-9DB8304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E69AC-5423-4FAE-A00C-04728837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F904-5F13-4C9F-BF98-3CC1F8D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76312-EFFF-4D7D-A1B0-FCBABDC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8959C-DCDB-4614-A157-C97057A3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27701-67F2-4FCB-B90E-11E3C77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8F66A-03F5-4CE9-95CA-9990AA4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60CD6-0CE7-4661-8FC8-CB21A89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11903-D35B-478D-B38F-A6A36B3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C24EF-4D9F-49DC-8E80-FE8C56EA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B57D3-560C-4005-9532-E6EFBF96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48ADF-0880-4CBA-A3C2-5CB3E937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7CD1E-7AA4-4F97-9034-D0B7E116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013-B761-4962-992B-DCA2C13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5E60A-DBAF-4B28-A51A-25559B7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ED5FA-BC67-4601-B085-26369E0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766CE-D572-4FB1-AE08-0170882B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287A1-45AC-4485-94FB-B058CC61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A7189-32BD-47BD-B22F-9E6F8DD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C3F68-DDD0-4090-81F6-AEEBDC0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5C369-F317-4775-A094-8CF4D18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E2D73-D074-4B3D-B586-ACD0883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84F07-BA3E-42D4-969C-A0F1FE4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D2175-9FE4-40D7-9076-5CA87DC1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936-28E5-45B7-B024-FA83951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AB9D3-EC3F-4E7E-9D61-C1AB52C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1756B-0187-4047-83FA-0AFA690E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B5F9D-841E-47C3-B5CD-277A851F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F7AE2-DD8B-4CF0-8BB7-4D5296AC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E3901-DA93-48D7-AE26-FC72498F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DC25E-D199-4C52-9631-EE5D5CE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5EB7C-6548-417C-BF97-BB8ECE6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44E0A-8036-416B-B3B5-2C6AFE7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6223D-8CA5-4F8B-B479-4693E89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B3350-DA15-4784-A65B-874BACB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A009-8FE9-4ABA-BE2C-782BBBC8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ACAF1-8759-408A-9DDA-1C56330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4FC38-8A66-4121-8659-80842DC4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81EBC-E70E-4F30-97D8-7D73E0F6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CFBF8-B31E-4BE0-BCE9-4017F24B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7A4AE-B394-4238-A2E8-8535E04F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434EE-D70A-4513-A886-BDD24A7D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F45D2-E49C-414D-A4B8-608888F6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83AC2-8ED8-4430-90E7-EF4EC8F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E5B0E-D747-43A7-8CCF-13A32754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287EF-5EBC-4470-90F8-5CB46AA5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746-8314-47F4-8086-5FA100F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C3D-28B6-46D1-80D3-5009131E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EA462-EA5E-4E1B-94C0-45E15AF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CE505-AB87-40A8-9104-BC0FA51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72391-D6B6-4525-81DD-BE6CCC9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E6FA6-EEA6-45D4-9748-795BB5BF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FF9F8-2810-44E4-98D6-A148F9E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14F0-9AEA-4240-A3E2-29DA3E3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117-612B-43FC-8C84-009EFBA3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DE4-CBAD-4197-AF99-DFC889B2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723-C89A-49B4-B555-1907C624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E4F3-D0E1-4A02-9262-0C62232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7052-6753-4F9F-8CA5-A37B9D1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0856-4ADF-4F85-8CDA-EE6F22A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3968-D2C5-428A-9262-1A8AF2C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4C9E-2BED-4A58-BFF2-EB0569B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0DA-9F04-4ECE-8A07-386E15D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FC25-2B6A-4DFC-AF62-FF38140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7AFC-8587-4174-9A62-1F65FD0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79DA-1D50-4BEE-BF93-67E15D9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C4DE-54BA-4F25-B46A-1DF8FB7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9E47-E07B-48A1-AA27-3D2E6D28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3715-2C50-457B-B68E-E65324B3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6925-FF34-4924-8A72-099BA51E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5CF5-B4CE-4FCA-8E09-C189215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C141-F281-4184-BCEB-4A38914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3D4B-4A63-4A20-91B3-BC226F6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F2A-DD2E-4736-AB49-635DB03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CCD2-0F11-41AC-9070-AB39BE5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F9D3-6B0D-4747-863C-1437BAB4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D987-EFF7-41FF-B00B-A9529CF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E86B-0BC6-42F2-B8B3-16B4E4D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101E-BAFA-4B84-98AF-2CF900C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F5E9-9EA0-4AD9-95E6-3C6E838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8C18-D256-45DB-8886-666C29FA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3C92-8702-402D-BA19-51200DE9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43E6-44B3-4E92-A9C8-F41D2009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7F7AD-9B16-4435-9664-739F7330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19E-CA7B-45A5-884F-37C47FB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F7F4-1C0B-4742-98BA-4B99F60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16F5-7EE0-41AD-8148-CC9D5D5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11DB-F6CB-4511-8E8B-1F9D3DE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FB99-97C4-42E1-BAB5-4075DAD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FCCE-F11E-4A3A-AA78-69B6B54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2AC8-2740-4868-A7E5-F211ED1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D50F-9B14-49D4-AA49-49009B6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FCDEB-3812-47D9-983F-21C16FCA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0200-F0E9-4BE0-ACD3-A0687DF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6AE4-409A-4D7A-BD6E-E3C8A6C1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DBC-ECDE-45F1-9B3C-73382611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2589-793C-4C13-964C-711BCAEE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2DFC-7303-4FAD-85B4-BA42438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7814-6C5F-4BAC-8213-DB5B53E9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EABB-C4F7-4159-9712-6F8B2288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635A-0C98-4A36-A16B-C92C5F9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E3B38-2049-41C5-B80F-6F54688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9386-BBB8-4F29-9720-71CB54A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A3A5-1035-44EB-9705-43A3691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AF4F-2592-4350-A049-1C390EF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360A-21F3-443D-8B72-DA35AAE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9F5-97F3-4AAB-8EBE-CA808E8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E214-D885-440A-9E65-96FF24D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14FD-9620-4A5E-9FB4-E8DBDF29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D31E-219E-413C-8272-0C08682F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4D44-B6AB-4D0C-9FF1-15B531DF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0B32-E4E8-462E-A3ED-979FE90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547E-552E-41C5-A473-B5BD8BC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0FD5-C67C-44B0-AA9F-C3DB570E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04E9-A8C5-49D3-B859-F7EF271E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8D14-5960-4F7A-AFA9-83DED29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CD3A-E4DF-40C3-B2F9-B6A9050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640-9D9C-4AA4-9F33-8982CE7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038A3-DBBC-4C85-9571-E8ECE77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E51C-42B4-4F3B-AF34-559D5A9C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2411C-6A52-4423-820B-F5EFF9E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0C74-3146-40DF-A556-BCCB839F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14B9F-F0F6-48DA-8FC8-E3CE1999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2CA1-D2B7-4B7E-BCEA-A6005F07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C799-09CD-4607-AE5F-366AE21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4CB19-B834-4AF4-A9B2-349B2B9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126A3-BC7B-4414-8D43-9635E22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54BA-0FFF-4C53-A0C3-3CE51E6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3C5-D8FF-4C5D-8C19-C3B9B2A7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8EC6D-E629-444A-9D1A-E534A490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1386-1D2E-404C-88B6-698A845E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2DE48-157C-4943-B24C-51C31D3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CB81-FA5C-4EDA-9FE0-F9777A72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1DC7-6CF2-45EC-81A9-009CCE83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E658-4ABD-443E-80E3-C408D02C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2E6B-593C-4647-8D6C-0F779B68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10E5-6863-42F4-A7F4-6CB3969D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5264-11C8-4C1E-B8B7-1AAAC3B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DB56-10F9-4A8C-BE2A-B986B866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94FA-EA1B-49AE-A015-5FD619C0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040-C5FD-4BFC-BFCB-AD7C462D34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1EB1-851A-444A-B53B-4BE1765F9B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06C-FA75-41CB-BE0B-2CA32F3585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557-AAA2-4C24-889F-F111AD20AF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1ED-C9A8-4993-A39F-CCF88AA499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44B6-8231-499E-9F89-254FC2B464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128-0A42-4902-8FB0-A9AD1A7DAD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E4EC-1F51-407A-A64B-45B9597E24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E34-9077-48FE-8068-737E233E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FDAF-7A91-4832-A902-D6CF52797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DE36-0A68-44EC-80B0-67AFBA324E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6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2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FAE3-01B2-4F82-8FA3-87581F99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4D2E-9EB1-4096-ABBB-33D39E9DF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D03-576B-4A0B-9D75-3AC377F760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272-B53F-413F-BAA4-1B5B42F89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4A7-C5BF-4E28-9694-B88C56ED30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hyperlink" Target="http://www.17xxw.com/" TargetMode="Externa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hyperlink" Target="http://www.17xxw.com/" TargetMode="External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rcRect l="0" t="0" r="0" b="36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9" name="Rectangle 5"/>
          <p:cNvSpPr/>
          <p:nvPr/>
        </p:nvSpPr>
        <p:spPr>
          <a:xfrm>
            <a:off x="1225080" y="6998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彩云"/>
              </a:rPr>
              <a:t>钓鱼的启示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华文彩云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彩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4"/>
          <p:cNvSpPr/>
          <p:nvPr/>
        </p:nvSpPr>
        <p:spPr>
          <a:xfrm>
            <a:off x="304560" y="653904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9144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先写什么，再写什么，最后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钓鱼        放鱼         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用心读课文 ，一边读一边想体会到了课文中的什么情感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再次默读课文，找出有关描写“我”的情感变化的语句，并用（）表示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4" descr="W020070628504573216729"/>
          <p:cNvPicPr/>
          <p:nvPr/>
        </p:nvPicPr>
        <p:blipFill>
          <a:blip r:embed="rId1"/>
          <a:stretch/>
        </p:blipFill>
        <p:spPr>
          <a:xfrm rot="3650400">
            <a:off x="431640" y="131400"/>
            <a:ext cx="2654280" cy="289584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5"/>
          <p:cNvSpPr/>
          <p:nvPr/>
        </p:nvSpPr>
        <p:spPr>
          <a:xfrm>
            <a:off x="3124080" y="5014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单元导读告诉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我们什么 </a:t>
            </a:r>
            <a:r>
              <a:rPr b="1" lang="en-US" sz="5400" spc="-1" strike="noStrike">
                <a:solidFill>
                  <a:srgbClr val="008000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6"/>
          <p:cNvSpPr/>
          <p:nvPr/>
        </p:nvSpPr>
        <p:spPr>
          <a:xfrm>
            <a:off x="2438280" y="360972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、把握课文内容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体会    作者从生活中得到了哪 些启示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、抓住关键词句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体会其含义及表达效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投向了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慢慢地把鱼钩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鲈鱼的嘴唇上取下来，依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依不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把它放回到湖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慢慢地把鱼钩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鲈鱼的嘴唇上取下来，依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依不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把它放回到湖里去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依依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2"/>
          <p:cNvSpPr/>
          <p:nvPr/>
        </p:nvSpPr>
        <p:spPr>
          <a:xfrm>
            <a:off x="2590920" y="556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3"/>
          <p:cNvGrpSpPr/>
          <p:nvPr/>
        </p:nvGrpSpPr>
        <p:grpSpPr>
          <a:xfrm>
            <a:off x="227160" y="380880"/>
            <a:ext cx="8916840" cy="2955960"/>
            <a:chOff x="227160" y="380880"/>
            <a:chExt cx="8916840" cy="2955960"/>
          </a:xfrm>
        </p:grpSpPr>
        <p:sp>
          <p:nvSpPr>
            <p:cNvPr id="1173" name="Rectangle 4"/>
            <p:cNvSpPr/>
            <p:nvPr/>
          </p:nvSpPr>
          <p:spPr>
            <a:xfrm>
              <a:off x="227160" y="834840"/>
              <a:ext cx="8916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3156840" y="380880"/>
              <a:ext cx="4389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啊，这样大的鱼！我还从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6"/>
            <p:cNvSpPr/>
            <p:nvPr/>
          </p:nvSpPr>
          <p:spPr>
            <a:xfrm>
              <a:off x="379440" y="1143000"/>
              <a:ext cx="86011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没有见过，还是条鲈鱼。我和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亲得意地欣赏着这条漂亮的大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鱼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7"/>
          <p:cNvSpPr/>
          <p:nvPr/>
        </p:nvSpPr>
        <p:spPr>
          <a:xfrm>
            <a:off x="838080" y="3733920"/>
            <a:ext cx="16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8"/>
          <p:cNvSpPr/>
          <p:nvPr/>
        </p:nvSpPr>
        <p:spPr>
          <a:xfrm>
            <a:off x="2133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9"/>
          <p:cNvSpPr/>
          <p:nvPr/>
        </p:nvSpPr>
        <p:spPr>
          <a:xfrm>
            <a:off x="3276720" y="3733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漂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4952880" y="3733920"/>
            <a:ext cx="30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来没见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Box 5"/>
          <p:cNvSpPr/>
          <p:nvPr/>
        </p:nvSpPr>
        <p:spPr>
          <a:xfrm>
            <a:off x="533520" y="685800"/>
            <a:ext cx="72388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上渔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仲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上往来人，但爱鲈鱼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看一叶舟，出没风波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228600" y="31240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533520" y="0"/>
            <a:ext cx="723888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！为什么？”我急切地问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“可是不会再钓到这么大的鱼了。”我大声争辩着，竟然哭出了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又抬头看了一下四周，到处都是静悄悄的，皎洁的月光下看不见其它任何人的影子时，我再次把乞求的目光投向了父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到湖里去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228600" y="31240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我最爱的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3" descr="starfish"/>
          <p:cNvPicPr/>
          <p:nvPr/>
        </p:nvPicPr>
        <p:blipFill>
          <a:blip r:embed="rId2"/>
          <a:stretch/>
        </p:blipFill>
        <p:spPr>
          <a:xfrm>
            <a:off x="324000" y="285264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starfish"/>
          <p:cNvPicPr/>
          <p:nvPr/>
        </p:nvPicPr>
        <p:blipFill>
          <a:blip r:embed="rId3"/>
          <a:stretch/>
        </p:blipFill>
        <p:spPr>
          <a:xfrm>
            <a:off x="304920" y="411480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starfish"/>
          <p:cNvPicPr/>
          <p:nvPr/>
        </p:nvPicPr>
        <p:blipFill>
          <a:blip r:embed="rId4"/>
          <a:stretch/>
        </p:blipFill>
        <p:spPr>
          <a:xfrm>
            <a:off x="304920" y="5410080"/>
            <a:ext cx="996840" cy="42552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6"/>
          <p:cNvSpPr/>
          <p:nvPr/>
        </p:nvSpPr>
        <p:spPr>
          <a:xfrm>
            <a:off x="684360" y="112536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不想放鱼的原因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7"/>
          <p:cNvSpPr/>
          <p:nvPr/>
        </p:nvSpPr>
        <p:spPr>
          <a:xfrm>
            <a:off x="1332000" y="2637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”钓到这条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不容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1403280" y="3789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鲈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又大又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9"/>
          <p:cNvSpPr/>
          <p:nvPr/>
        </p:nvSpPr>
        <p:spPr>
          <a:xfrm>
            <a:off x="1371600" y="52293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钓着鱼时四周又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无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盯着鲈鱼看了好一会儿，然后把目光转向了我：“孩子，你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它放回湖里去。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13557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1454040" y="3973680"/>
            <a:ext cx="68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着鲈鱼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了好一会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里在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————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会钓到别的鱼的。”父亲平静地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 尽管没有人看到我们，更无人知道我是在什么时候钓到这条鲈鱼的，但是从父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容争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声音中，我清楚地知道，父亲的话是没有商量的余地的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4"/>
          <p:cNvSpPr/>
          <p:nvPr/>
        </p:nvSpPr>
        <p:spPr>
          <a:xfrm>
            <a:off x="304920" y="1522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我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那年的一个傍晚，我随着爸爸来到了新汉普斯湖中的小岛上，我们把钓线抛下去不久，月亮就慢慢地升起来了，越升越高。湖面上银光闪闪，四周围静悄悄的，看不见其他任何人的影子，只有那如水的月光轻轻地泻在我们的身上。就在那个月光如水的晚上，发生了一件令我终生难忘的往事，它留给了我永久的回忆和终生的启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5" descr="land-004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97" name="Picture 3" descr="11"/>
          <p:cNvPicPr/>
          <p:nvPr/>
        </p:nvPicPr>
        <p:blipFill>
          <a:blip r:embed="rId1"/>
          <a:stretch/>
        </p:blipFill>
        <p:spPr>
          <a:xfrm>
            <a:off x="-365040" y="0"/>
            <a:ext cx="9545400" cy="7029360"/>
          </a:xfrm>
          <a:prstGeom prst="rect">
            <a:avLst/>
          </a:prstGeom>
          <a:ln w="0">
            <a:noFill/>
          </a:ln>
        </p:spPr>
      </p:pic>
      <p:sp>
        <p:nvSpPr>
          <p:cNvPr id="1198" name="Text Box 4"/>
          <p:cNvSpPr/>
          <p:nvPr/>
        </p:nvSpPr>
        <p:spPr>
          <a:xfrm>
            <a:off x="152280" y="99072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324000" y="1052640"/>
            <a:ext cx="72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鲈鱼捕捞开放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鲈鱼的繁殖能力很差，所以在鲈鱼繁殖期间禁止打捞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休渔期在每年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月一号到九月十五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放捕捞的那一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鲈鱼捕捞开放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禁渔期”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保护某些重要的经济鱼类资源，在鱼类产卵、繁殖和生长发育的特定时期，规定禁止捕捞或限制捕捞活动的时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的禁渔期”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次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青鱼禁渔期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毛蚶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禁渔期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淡水湖区与水库禁渔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pic024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6227280" y="-360"/>
            <a:ext cx="3132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父亲那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不容争辩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声音中，我清楚地知道，父亲的话是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没有商量的余地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我慢慢地把鱼钩从大鲈鱼的嘴唇上取下来，依依不舍地把它放回到湖里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4">
            <a:hlinkClick r:id="rId2" action="ppaction://hlinksldjump"/>
          </p:cNvPr>
          <p:cNvSpPr/>
          <p:nvPr/>
        </p:nvSpPr>
        <p:spPr>
          <a:xfrm>
            <a:off x="7667640" y="558972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5"/>
          <p:cNvSpPr/>
          <p:nvPr/>
        </p:nvSpPr>
        <p:spPr>
          <a:xfrm>
            <a:off x="971640" y="2852640"/>
            <a:ext cx="2808360" cy="2089080"/>
          </a:xfrm>
          <a:prstGeom prst="wedgeRectCallout">
            <a:avLst>
              <a:gd name="adj1" fmla="val 165263"/>
              <a:gd name="adj2" fmla="val -84194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要求“我”把鱼放回湖中的真正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3360" y="228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爸爸</a:t>
            </a:r>
            <a:r>
              <a:rPr b="0" lang="zh-CN" sz="4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zh-CN" sz="4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我急切地问道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可是不会钓到这么大的鱼了。”我大声争辩着，哭出了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我再次把乞求的目光投向了父亲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了好长时间，鱼竿突然剧烈地抖动了一下，一定是个大家伙上钩了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晚霞辉映的湖面上溅起了一圈圈彩色的涟漪。不一会月亮升起来了，湖面变得银光闪闪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过了好长时间，鱼竿突然剧烈地抖动了一下，一定是个大家伙上钩了。我小心翼翼地一收一放，熟练地操纵着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2"/>
          <p:cNvSpPr/>
          <p:nvPr/>
        </p:nvSpPr>
        <p:spPr>
          <a:xfrm>
            <a:off x="2590920" y="556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3"/>
          <p:cNvGrpSpPr/>
          <p:nvPr/>
        </p:nvGrpSpPr>
        <p:grpSpPr>
          <a:xfrm>
            <a:off x="227160" y="380880"/>
            <a:ext cx="8916840" cy="2955960"/>
            <a:chOff x="227160" y="380880"/>
            <a:chExt cx="8916840" cy="2955960"/>
          </a:xfrm>
        </p:grpSpPr>
        <p:sp>
          <p:nvSpPr>
            <p:cNvPr id="1216" name="Rectangle 4"/>
            <p:cNvSpPr/>
            <p:nvPr/>
          </p:nvSpPr>
          <p:spPr>
            <a:xfrm>
              <a:off x="227160" y="834840"/>
              <a:ext cx="8916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5"/>
            <p:cNvSpPr/>
            <p:nvPr/>
          </p:nvSpPr>
          <p:spPr>
            <a:xfrm>
              <a:off x="3156840" y="380880"/>
              <a:ext cx="4389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啊，这样大的鱼！我还从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6"/>
            <p:cNvSpPr/>
            <p:nvPr/>
          </p:nvSpPr>
          <p:spPr>
            <a:xfrm>
              <a:off x="379440" y="1143000"/>
              <a:ext cx="86011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没有见过，还是条鲈鱼。我和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亲得意地欣赏着这条漂亮的大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鱼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Text Box 7"/>
          <p:cNvSpPr/>
          <p:nvPr/>
        </p:nvSpPr>
        <p:spPr>
          <a:xfrm>
            <a:off x="838080" y="3733920"/>
            <a:ext cx="16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2133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3276720" y="3733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漂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4952880" y="3733920"/>
            <a:ext cx="30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来没见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抬头看了一下四周，到处都是静悄悄的，皎洁的月光下看不见其他人和船的影子。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  “没有人看到我们，更无人知道我是在什么时候钓到这条鲈鱼的。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”不愿意放鱼的原因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条鱼是“我”好不容易才钓到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3601440" y="3716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围没有人，不会受到限制和批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5"/>
          <p:cNvSpPr/>
          <p:nvPr/>
        </p:nvSpPr>
        <p:spPr>
          <a:xfrm>
            <a:off x="3407400" y="2781360"/>
            <a:ext cx="8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宋体"/>
              </a:rPr>
              <a:t>鲈鱼这么大，这么美，很诱惑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60948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本文作者汤姆，美国著名的建筑工程师，从小受到父亲的严格教育，一向以社会公德作为自己的行动准则，深受广大人民的爱戴，正是这一点，他取得了巨大的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思想家孟德斯鸠说：衡量人的真正品德，是看他在知道没有人会发觉的时候做些什么。这两个小时代表的就是刚才几位同学说的道德、品性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4"/>
          <p:cNvSpPr/>
          <p:nvPr/>
        </p:nvSpPr>
        <p:spPr>
          <a:xfrm>
            <a:off x="152280" y="13845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在作者钓到鱼、放走鱼的过程中作者受到了什么启示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请在课文中勾画出有关语句？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457200" y="391464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道德只是个简 单的是与非的 问题，实践起 来却很难。”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父亲盯着鲈鱼看了好一会儿。然后把目光转向我：“孩子，你得把它放回湖里去。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设计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素材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文化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3360" y="228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爸爸！为什么？”我急切地问道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可是不会钓到这么大的鱼了。”我大声争辩着，哭出了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父亲曾告诫我的话：道德只是个简单的是与非的问题，但是实践起来却很难。要是人们从小受到像把钓到的大鲈鱼放回湖中这样严格的教育的话，就会获得道德实践的勇气和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3"/>
          <p:cNvSpPr/>
          <p:nvPr/>
        </p:nvSpPr>
        <p:spPr>
          <a:xfrm>
            <a:off x="395280" y="3500280"/>
            <a:ext cx="8229600" cy="703440"/>
          </a:xfrm>
          <a:prstGeom prst="rect">
            <a:avLst/>
          </a:prstGeom>
          <a:solidFill>
            <a:srgbClr val="99cc00"/>
          </a:solidFill>
          <a:ln cap="sq"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是道德是非说起来容易做起来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380880" y="4518000"/>
            <a:ext cx="8382240" cy="703440"/>
          </a:xfrm>
          <a:prstGeom prst="rect">
            <a:avLst/>
          </a:prstGeom>
          <a:solidFill>
            <a:srgbClr val="99cc00"/>
          </a:solidFill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是必须从小时候开始，处处严格教育，事事严格要求，才能成为有道德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5" descr="fish14"/>
          <p:cNvPicPr/>
          <p:nvPr/>
        </p:nvPicPr>
        <p:blipFill>
          <a:blip r:embed="rId1"/>
          <a:stretch/>
        </p:blipFill>
        <p:spPr>
          <a:xfrm>
            <a:off x="7162920" y="220968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Picture 2" descr="钓鱼1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3"/>
          <p:cNvSpPr/>
          <p:nvPr/>
        </p:nvSpPr>
        <p:spPr>
          <a:xfrm>
            <a:off x="457200" y="304920"/>
            <a:ext cx="8381880" cy="764280"/>
          </a:xfrm>
          <a:prstGeom prst="rect">
            <a:avLst/>
          </a:prstGeom>
          <a:solidFill>
            <a:srgbClr val="cc99ff"/>
          </a:solidFill>
          <a:ln cap="sq" w="41400">
            <a:solidFill>
              <a:srgbClr val="ffa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却不止一次地遇到了与那条鲈鱼相似的诱惑人的‘鱼’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1143000" y="3505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8" name="Picture 3" descr=""/>
          <p:cNvPicPr/>
          <p:nvPr/>
        </p:nvPicPr>
        <p:blipFill>
          <a:blip r:embed="rId1"/>
          <a:stretch/>
        </p:blipFill>
        <p:spPr>
          <a:xfrm>
            <a:off x="-303120" y="0"/>
            <a:ext cx="9658080" cy="722484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4"/>
          <p:cNvSpPr/>
          <p:nvPr/>
        </p:nvSpPr>
        <p:spPr>
          <a:xfrm>
            <a:off x="685800" y="6094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那晚以后，我再也没有钓到过那样大的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但是，在人生的旅途中，我却不止一次地遇到了与那条鲈鱼相似的诱惑人的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“鱼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Picture 4" descr="fish15"/>
          <p:cNvPicPr/>
          <p:nvPr/>
        </p:nvPicPr>
        <p:blipFill>
          <a:blip r:embed="rId1"/>
          <a:stretch/>
        </p:blipFill>
        <p:spPr>
          <a:xfrm>
            <a:off x="6858000" y="1600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fish17"/>
          <p:cNvPicPr/>
          <p:nvPr/>
        </p:nvPicPr>
        <p:blipFill>
          <a:blip r:embed="rId2"/>
          <a:stretch/>
        </p:blipFill>
        <p:spPr>
          <a:xfrm>
            <a:off x="609480" y="5486400"/>
            <a:ext cx="3124440" cy="121932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6"/>
          <p:cNvSpPr/>
          <p:nvPr/>
        </p:nvSpPr>
        <p:spPr>
          <a:xfrm>
            <a:off x="1050840" y="30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8"/>
          <p:cNvSpPr/>
          <p:nvPr/>
        </p:nvSpPr>
        <p:spPr>
          <a:xfrm>
            <a:off x="1854360" y="304920"/>
            <a:ext cx="56671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下面的句子，回答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人生的旅途中，我却不止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次地遇到了与那条鲈鱼相似的诱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的“鱼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个“鱼”是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个“鱼”是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9"/>
          <p:cNvSpPr/>
          <p:nvPr/>
        </p:nvSpPr>
        <p:spPr>
          <a:xfrm>
            <a:off x="5382000" y="3733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又大又美的鲈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0"/>
          <p:cNvSpPr/>
          <p:nvPr/>
        </p:nvSpPr>
        <p:spPr>
          <a:xfrm>
            <a:off x="6292800" y="4419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指人生中的名利、财富等诱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99cc00"/>
          </a:solidFill>
          <a:ln cap="sq" w="4140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遇到过类似的情况吗？是怎样做的？请联系个人的生活实际和体验想一想，说一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4"/>
          <p:cNvSpPr/>
          <p:nvPr/>
        </p:nvSpPr>
        <p:spPr>
          <a:xfrm>
            <a:off x="3657600" y="7146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读课题你有什么疑问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5" descr="W020070628504573216729"/>
          <p:cNvPicPr/>
          <p:nvPr/>
        </p:nvPicPr>
        <p:blipFill>
          <a:blip r:embed="rId1"/>
          <a:stretch/>
        </p:blipFill>
        <p:spPr>
          <a:xfrm rot="3321600">
            <a:off x="444960" y="163800"/>
            <a:ext cx="2562120" cy="223380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6"/>
          <p:cNvSpPr/>
          <p:nvPr/>
        </p:nvSpPr>
        <p:spPr>
          <a:xfrm>
            <a:off x="3816720" y="2057040"/>
            <a:ext cx="40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启示”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是什么意思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1066680" y="3671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启示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启发指示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使有所领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4"/>
          <p:cNvSpPr/>
          <p:nvPr/>
        </p:nvSpPr>
        <p:spPr>
          <a:xfrm>
            <a:off x="838080" y="380880"/>
            <a:ext cx="7620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家里 ：父母不在家，电视很精彩，是完成作业还是看电视？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：考试，老师多给了分数，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公共场所：买东西时，售货员多找了钱给你，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路上，你拣到了一件自己喜欢的玩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父亲曾告诫我的话：道德只是个简单的是与非的问题，但是实践起来却很难。要是人们从小受到像把钓到的大鲈鱼放回湖中这样严格的教育的话，就会获得道德实践的勇气和力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          ），要是人们从小受到像把钓到的大鲈鱼放回湖中这样严格的教育的话，就会获得道德实践的勇气和力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眼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过去了，当年那个沮丧的孩子已是纽约一位著名的建筑设计师了。我再没有钓到过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前那个夜晚钓到的那样大的鱼。但是，在人生的旅途中，我却不止一次地遇到了与那条鲈鱼相似的诱惑人的“鱼”。当我一次次地面临道德抉择的时候，我就会想起父亲曾告诫我的话：道德只是个简单的是与非的问题，但是实践起来却很难。要是人们从小受到像把钓到的大鲈鱼放回湖中这样严格的教育的话，就会获得道德实践的勇气和力量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年前的那个月光如水的夜晚，在我的脑海中留下了永久的回忆和终生的启示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 三十四年前，皎洁的月光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”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三十四年后，月光如水的记忆里，“我”的依依不舍换来了父亲的告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只是个简单的是与非的问题，实践起来却很难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380520" y="76212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这块橡皮都看不出是什么颜色了，衣服都被我搓成成灰了。它好像被人打了似的，青一块，紫一块，鼻青脸肿的，看起来像一个光头丑八怪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黑体"/>
              </a:rPr>
              <a:t>   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它虽然不起眼，但是很有用。每次我写错字时，它帮我改正让我把字写得工工整整。它真是我的好朋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178920" y="1066680"/>
            <a:ext cx="849636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他们就像是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城市美容师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当每天太阳还没升起，他们就开始工作，总是把灰尘留给自己，把美丽留给别人，忍受汽车尾气、噪音和灰尘。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178920" y="152280"/>
            <a:ext cx="849636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我识字起，我就认识铅笔了。那时候妈妈给我买了很多铅笔，我的印象中，铅笔长的又长又细，穿着墨绿的衣服，不是很鲜艳的颜色，像很碍眼似的，只要我把它削掉头，里面就会出来肉色的表皮和黑色的铅蕊。这样变显得更难看了。与自动铅笔和钢笔比起来，可真上差远了！可是它是我最好的帮手，是我最好的用品。我干什么都得用它：写字、打草稿、画格等等，都不能丢掉它。可它却在一点一点的变衰老。我们却没有察觉，等到它变的实在是太小了，我们才知道丢掉它，它用自己的生命换来了我们写字的工整，换来了我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，它总是默默无闻的为人类贡献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也要学习铅笔，舍己为人的可贵品格！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178920" y="990360"/>
            <a:ext cx="84963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俗话说得好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春蚕到死丝方尽，蜡炬成灰泪始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蜡烛的确如此。它不像闹钟一样，时间到了就大闹一翻，也不像手表一样穿着华丽的衣服，整天滴答滴答地乱吵人。它只是默默无闻地送给人们光明，然而它面临的却是牺牲自己的难题。可是他还是义无反顾的制造光明，它最可贵的是：虽没有外在的美丽，却朴实无华、默默无闻、不计名利、无私奉献，最终燃烧自己照亮别人，我要学习他的品格，做个对社会对人们有用的人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4"/>
          <p:cNvSpPr/>
          <p:nvPr/>
        </p:nvSpPr>
        <p:spPr>
          <a:xfrm>
            <a:off x="685800" y="8380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5"/>
          <p:cNvSpPr/>
          <p:nvPr/>
        </p:nvSpPr>
        <p:spPr>
          <a:xfrm>
            <a:off x="457200" y="609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大声朗读课文。遇到难读的字词圈出来，读正确；遇到难读的句子划出来，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再读课文，在文中空白处做批注笔记，写下自己的理解、感受、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读完后想想课文先写什么？再写什么？最后写什么？分别是哪几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从什么事情中得到了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</a:rPr>
              <a:t>送给大家一句名言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178920" y="26370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衡量真正的品德，是看他在没有人发觉的时候做些什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孟德斯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1143000" y="63244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258920" y="333000"/>
            <a:ext cx="74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鲈鱼   捕捞   启示   附近   鱼饵    辉映   剧烈   上钩   操纵    摆脱   鱼鳃    皎洁 乞求    嘴唇    沮丧   旅途   诱惑    告诫    实践   严格   永久    抉择    涟漪   鱼钩 获得    挣扎   翕动    皎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依依不舍  筋疲力尽  银光闪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小心翼翼         不容争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4"/>
          <p:cNvSpPr/>
          <p:nvPr/>
        </p:nvSpPr>
        <p:spPr>
          <a:xfrm>
            <a:off x="457200" y="685800"/>
            <a:ext cx="8381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放好鱼饵  抛出钓线  湖面涟漪  耐心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鱼竿剧抖  大鱼挣扎  小心翼翼  操纵钓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鱼跃不已  筋疲力尽  拉鱼上岸  父子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乞求无果  不容争辩  放鱼回湖  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光如水  获得启示  遇到诱惑  思父告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道德抉择  简单问题  道德实践  勇气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4" descr="ed3180dcbea169235882dd74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1139" name="Text Box 5"/>
          <p:cNvSpPr/>
          <p:nvPr/>
        </p:nvSpPr>
        <p:spPr>
          <a:xfrm>
            <a:off x="2916360" y="692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2158920" y="184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想一想这篇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2124000" y="3141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文可以分成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8" descr="gif_icon031"/>
          <p:cNvPicPr/>
          <p:nvPr/>
        </p:nvPicPr>
        <p:blipFill>
          <a:blip r:embed="rId2"/>
          <a:stretch/>
        </p:blipFill>
        <p:spPr>
          <a:xfrm>
            <a:off x="1547640" y="3500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9" descr="gif_icon044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3:23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4:0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