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35.jpeg" ContentType="image/jpe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AB1-2391-4611-B218-4A6A2434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3D6-82D8-48E4-813F-3706162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C57-A0E3-4CDC-8409-1098E39B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7C8-DAE9-459C-841F-33F73577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293-398B-49D9-9320-37CBAE09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A19-03C5-4052-9F2D-B8ACD63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895-74E1-4ED4-8B14-6A951AC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7DD9-EA05-4D86-8EA7-786C05C2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8B18-CE34-43C1-948C-8091859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9BA-5CF5-43D3-8FC6-E0F2A645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7444-AFC8-4F0D-AE55-ACBBB7E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7EF-36F0-4E1E-9222-879C9B9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1E6C-8DEE-4A9D-922B-82561CE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F3FB-722E-4F39-B39A-D7A53E4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50D-79E0-4BC5-A967-3A9E20D2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A424-7613-4259-8619-805F8D7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1BD-8BF6-4F4A-B7F1-14DD3AC0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054-DD61-4210-8940-CE21257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469-F7F4-44B2-B68B-9FAF7827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FBC-C75F-415B-9F66-B7C6BA2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F73-089D-438F-851C-526E27D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479-187D-4FC9-A4B3-4F0616A3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C0D-B3BA-4EB4-942D-7652EDA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771-F68D-4AC4-8ED6-23AEB82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2312-EBE7-4171-BDAF-A5D4D0051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BCC-1E0F-4A01-8502-B85DC21876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4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0" y="0"/>
            <a:ext cx="9191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333600" y="-3941640"/>
            <a:ext cx="2419560" cy="7503840"/>
            <a:chOff x="3333600" y="-3941640"/>
            <a:chExt cx="2419560" cy="7503840"/>
          </a:xfrm>
        </p:grpSpPr>
        <p:sp>
          <p:nvSpPr>
            <p:cNvPr id="85" name="Rectangle 8"/>
            <p:cNvSpPr/>
            <p:nvPr/>
          </p:nvSpPr>
          <p:spPr>
            <a:xfrm>
              <a:off x="3333600" y="1619640"/>
              <a:ext cx="2419560" cy="19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0"/>
            <p:cNvSpPr/>
            <p:nvPr/>
          </p:nvSpPr>
          <p:spPr>
            <a:xfrm>
              <a:off x="4357440" y="-394164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-1922400" y="-2970360"/>
            <a:ext cx="12723840" cy="10236240"/>
            <a:chOff x="-1922400" y="-2970360"/>
            <a:chExt cx="12723840" cy="10236240"/>
          </a:xfrm>
        </p:grpSpPr>
        <p:sp>
          <p:nvSpPr>
            <p:cNvPr id="88" name="Rectangle 8"/>
            <p:cNvSpPr/>
            <p:nvPr/>
          </p:nvSpPr>
          <p:spPr>
            <a:xfrm>
              <a:off x="-1922400" y="3021480"/>
              <a:ext cx="12723840" cy="424440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5"/>
            <p:cNvSpPr/>
            <p:nvPr/>
          </p:nvSpPr>
          <p:spPr>
            <a:xfrm>
              <a:off x="4358520" y="-297036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7"/>
          <p:cNvSpPr/>
          <p:nvPr/>
        </p:nvSpPr>
        <p:spPr>
          <a:xfrm>
            <a:off x="2124000" y="1620720"/>
            <a:ext cx="304920" cy="577800"/>
          </a:xfrm>
          <a:custGeom>
            <a:avLst/>
            <a:gdLst>
              <a:gd name="textAreaLeft" fmla="*/ 0 w 304920"/>
              <a:gd name="textAreaRight" fmla="*/ 305280 w 304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>
            <a:off x="2530440" y="1262160"/>
            <a:ext cx="461880" cy="547560"/>
          </a:xfrm>
          <a:custGeom>
            <a:avLst/>
            <a:gdLst>
              <a:gd name="textAreaLeft" fmla="*/ 0 w 461880"/>
              <a:gd name="textAreaRight" fmla="*/ 462240 w 4618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3121200" y="958680"/>
            <a:ext cx="607680" cy="505080"/>
          </a:xfrm>
          <a:custGeom>
            <a:avLst/>
            <a:gdLst>
              <a:gd name="textAreaLeft" fmla="*/ 0 w 607680"/>
              <a:gd name="textAreaRight" fmla="*/ 608040 w 6076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0"/>
          <p:cNvSpPr/>
          <p:nvPr/>
        </p:nvSpPr>
        <p:spPr>
          <a:xfrm>
            <a:off x="3878280" y="880920"/>
            <a:ext cx="668160" cy="411480"/>
          </a:xfrm>
          <a:custGeom>
            <a:avLst/>
            <a:gdLst>
              <a:gd name="textAreaLeft" fmla="*/ 0 w 668160"/>
              <a:gd name="textAreaRight" fmla="*/ 668520 w 66816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4708440" y="880920"/>
            <a:ext cx="658800" cy="449280"/>
          </a:xfrm>
          <a:custGeom>
            <a:avLst/>
            <a:gdLst>
              <a:gd name="textAreaLeft" fmla="*/ 0 w 658800"/>
              <a:gd name="textAreaRight" fmla="*/ 659160 w 6588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2"/>
          <p:cNvSpPr/>
          <p:nvPr/>
        </p:nvSpPr>
        <p:spPr>
          <a:xfrm>
            <a:off x="5500800" y="1000080"/>
            <a:ext cx="595080" cy="534960"/>
          </a:xfrm>
          <a:custGeom>
            <a:avLst/>
            <a:gdLst>
              <a:gd name="textAreaLeft" fmla="*/ 0 w 595080"/>
              <a:gd name="textAreaRight" fmla="*/ 595440 w 595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3"/>
          <p:cNvSpPr/>
          <p:nvPr/>
        </p:nvSpPr>
        <p:spPr>
          <a:xfrm>
            <a:off x="6240600" y="1330200"/>
            <a:ext cx="428400" cy="547920"/>
          </a:xfrm>
          <a:custGeom>
            <a:avLst/>
            <a:gdLst>
              <a:gd name="textAreaLeft" fmla="*/ 0 w 428400"/>
              <a:gd name="textAreaRight" fmla="*/ 428760 w 4284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775560" y="1762200"/>
            <a:ext cx="261720" cy="547560"/>
          </a:xfrm>
          <a:custGeom>
            <a:avLst/>
            <a:gdLst>
              <a:gd name="textAreaLeft" fmla="*/ 0 w 261720"/>
              <a:gd name="textAreaRight" fmla="*/ 262080 w 26172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5"/>
          <p:cNvSpPr/>
          <p:nvPr/>
        </p:nvSpPr>
        <p:spPr>
          <a:xfrm>
            <a:off x="6959520" y="2708280"/>
            <a:ext cx="217440" cy="679320"/>
          </a:xfrm>
          <a:custGeom>
            <a:avLst/>
            <a:gdLst>
              <a:gd name="textAreaLeft" fmla="*/ 0 w 217440"/>
              <a:gd name="textAreaRight" fmla="*/ 217800 w 21744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6"/>
          <p:cNvSpPr/>
          <p:nvPr/>
        </p:nvSpPr>
        <p:spPr>
          <a:xfrm>
            <a:off x="6518160" y="2990880"/>
            <a:ext cx="385920" cy="689040"/>
          </a:xfrm>
          <a:custGeom>
            <a:avLst/>
            <a:gdLst>
              <a:gd name="textAreaLeft" fmla="*/ 0 w 385920"/>
              <a:gd name="textAreaRight" fmla="*/ 386280 w 3859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7"/>
          <p:cNvSpPr/>
          <p:nvPr/>
        </p:nvSpPr>
        <p:spPr>
          <a:xfrm>
            <a:off x="5884920" y="3243240"/>
            <a:ext cx="569880" cy="646200"/>
          </a:xfrm>
          <a:custGeom>
            <a:avLst/>
            <a:gdLst>
              <a:gd name="textAreaLeft" fmla="*/ 0 w 569880"/>
              <a:gd name="textAreaRight" fmla="*/ 570240 w 5698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8"/>
          <p:cNvSpPr/>
          <p:nvPr/>
        </p:nvSpPr>
        <p:spPr>
          <a:xfrm>
            <a:off x="5114880" y="3387600"/>
            <a:ext cx="655560" cy="633600"/>
          </a:xfrm>
          <a:custGeom>
            <a:avLst/>
            <a:gdLst>
              <a:gd name="textAreaLeft" fmla="*/ 0 w 655560"/>
              <a:gd name="textAreaRight" fmla="*/ 655920 w 6555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9"/>
          <p:cNvSpPr/>
          <p:nvPr/>
        </p:nvSpPr>
        <p:spPr>
          <a:xfrm>
            <a:off x="4208400" y="3483000"/>
            <a:ext cx="739800" cy="568440"/>
          </a:xfrm>
          <a:custGeom>
            <a:avLst/>
            <a:gdLst>
              <a:gd name="textAreaLeft" fmla="*/ 0 w 739800"/>
              <a:gd name="textAreaRight" fmla="*/ 740160 w 73980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0"/>
          <p:cNvSpPr/>
          <p:nvPr/>
        </p:nvSpPr>
        <p:spPr>
          <a:xfrm>
            <a:off x="3386160" y="3422520"/>
            <a:ext cx="681120" cy="598680"/>
          </a:xfrm>
          <a:custGeom>
            <a:avLst/>
            <a:gdLst>
              <a:gd name="textAreaLeft" fmla="*/ 0 w 681120"/>
              <a:gd name="textAreaRight" fmla="*/ 681480 w 681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"/>
          <p:cNvSpPr/>
          <p:nvPr/>
        </p:nvSpPr>
        <p:spPr>
          <a:xfrm>
            <a:off x="2727360" y="3243240"/>
            <a:ext cx="547560" cy="646200"/>
          </a:xfrm>
          <a:custGeom>
            <a:avLst/>
            <a:gdLst>
              <a:gd name="textAreaLeft" fmla="*/ 0 w 547560"/>
              <a:gd name="textAreaRight" fmla="*/ 547920 w 54756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2235240" y="2990880"/>
            <a:ext cx="390600" cy="650880"/>
          </a:xfrm>
          <a:custGeom>
            <a:avLst/>
            <a:gdLst>
              <a:gd name="textAreaLeft" fmla="*/ 0 w 390600"/>
              <a:gd name="textAreaRight" fmla="*/ 390960 w 3906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1967040" y="2652840"/>
            <a:ext cx="209520" cy="663480"/>
          </a:xfrm>
          <a:custGeom>
            <a:avLst/>
            <a:gdLst>
              <a:gd name="textAreaLeft" fmla="*/ 0 w 209520"/>
              <a:gd name="textAreaRight" fmla="*/ 209880 w 2095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20000">
                                      <p:cBhvr>
                                        <p:cTn id="6" dur="7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359880">
                                      <p:cBhvr>
                                        <p:cTn id="8" dur="1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33333E-006 4.19753E-006 L -0.08333 0.36296 E">
                                      <p:cBhvr>
                                        <p:cTn id="14" dur="7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5062E-006 L -3.33333E-006 -0.05926 E">
                                      <p:cBhvr>
                                        <p:cTn id="22" dur="175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4" dur="7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419880">
                                      <p:cBhvr>
                                        <p:cTn id="26" dur="1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1.66667E-006 -0.05926 E">
                                      <p:cBhvr>
                                        <p:cTn id="91" dur="18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04376 -0.01851 E">
                                      <p:cBhvr>
                                        <p:cTn id="93" dur="18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31760"/>
            <a:ext cx="8424720" cy="35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541440" y="3166920"/>
            <a:ext cx="82818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13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/>
          <p:cNvSpPr/>
          <p:nvPr/>
        </p:nvSpPr>
        <p:spPr>
          <a:xfrm>
            <a:off x="4680" y="-6480"/>
            <a:ext cx="91918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"/>
          <p:cNvSpPr/>
          <p:nvPr/>
        </p:nvSpPr>
        <p:spPr>
          <a:xfrm>
            <a:off x="1635120" y="1442880"/>
            <a:ext cx="365040" cy="693720"/>
          </a:xfrm>
          <a:custGeom>
            <a:avLst/>
            <a:gdLst>
              <a:gd name="textAreaLeft" fmla="*/ 0 w 365040"/>
              <a:gd name="textAreaRight" fmla="*/ 365400 w 36504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"/>
          <p:cNvSpPr/>
          <p:nvPr/>
        </p:nvSpPr>
        <p:spPr>
          <a:xfrm>
            <a:off x="2122560" y="1011240"/>
            <a:ext cx="554040" cy="658800"/>
          </a:xfrm>
          <a:custGeom>
            <a:avLst/>
            <a:gdLst>
              <a:gd name="textAreaLeft" fmla="*/ 0 w 554040"/>
              <a:gd name="textAreaRight" fmla="*/ 554400 w 554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"/>
          <p:cNvSpPr/>
          <p:nvPr/>
        </p:nvSpPr>
        <p:spPr>
          <a:xfrm>
            <a:off x="2832120" y="647640"/>
            <a:ext cx="728640" cy="606600"/>
          </a:xfrm>
          <a:custGeom>
            <a:avLst/>
            <a:gdLst>
              <a:gd name="textAreaLeft" fmla="*/ 0 w 728640"/>
              <a:gd name="textAreaRight" fmla="*/ 729000 w 7286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0"/>
          <p:cNvSpPr/>
          <p:nvPr/>
        </p:nvSpPr>
        <p:spPr>
          <a:xfrm>
            <a:off x="3740040" y="555480"/>
            <a:ext cx="801720" cy="492120"/>
          </a:xfrm>
          <a:custGeom>
            <a:avLst/>
            <a:gdLst>
              <a:gd name="textAreaLeft" fmla="*/ 0 w 801720"/>
              <a:gd name="textAreaRight" fmla="*/ 802080 w 80172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1"/>
          <p:cNvSpPr/>
          <p:nvPr/>
        </p:nvSpPr>
        <p:spPr>
          <a:xfrm>
            <a:off x="4737240" y="555480"/>
            <a:ext cx="790560" cy="538200"/>
          </a:xfrm>
          <a:custGeom>
            <a:avLst/>
            <a:gdLst>
              <a:gd name="textAreaLeft" fmla="*/ 0 w 790560"/>
              <a:gd name="textAreaRight" fmla="*/ 790920 w 790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"/>
          <p:cNvSpPr/>
          <p:nvPr/>
        </p:nvSpPr>
        <p:spPr>
          <a:xfrm>
            <a:off x="5686560" y="698400"/>
            <a:ext cx="712800" cy="642960"/>
          </a:xfrm>
          <a:custGeom>
            <a:avLst/>
            <a:gdLst>
              <a:gd name="textAreaLeft" fmla="*/ 0 w 712800"/>
              <a:gd name="textAreaRight" fmla="*/ 713160 w 712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3"/>
          <p:cNvSpPr/>
          <p:nvPr/>
        </p:nvSpPr>
        <p:spPr>
          <a:xfrm>
            <a:off x="6573960" y="1093680"/>
            <a:ext cx="514080" cy="657360"/>
          </a:xfrm>
          <a:custGeom>
            <a:avLst/>
            <a:gdLst>
              <a:gd name="textAreaLeft" fmla="*/ 0 w 514080"/>
              <a:gd name="textAreaRight" fmla="*/ 514440 w 5140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4"/>
          <p:cNvSpPr/>
          <p:nvPr/>
        </p:nvSpPr>
        <p:spPr>
          <a:xfrm>
            <a:off x="7216920" y="1612800"/>
            <a:ext cx="312480" cy="657360"/>
          </a:xfrm>
          <a:custGeom>
            <a:avLst/>
            <a:gdLst>
              <a:gd name="textAreaLeft" fmla="*/ 0 w 312480"/>
              <a:gd name="textAreaRight" fmla="*/ 312840 w 3124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7437600" y="2747880"/>
            <a:ext cx="261720" cy="816120"/>
          </a:xfrm>
          <a:custGeom>
            <a:avLst/>
            <a:gdLst>
              <a:gd name="textAreaLeft" fmla="*/ 0 w 261720"/>
              <a:gd name="textAreaRight" fmla="*/ 262080 w 26172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6908760" y="3086280"/>
            <a:ext cx="461880" cy="826920"/>
          </a:xfrm>
          <a:custGeom>
            <a:avLst/>
            <a:gdLst>
              <a:gd name="textAreaLeft" fmla="*/ 0 w 461880"/>
              <a:gd name="textAreaRight" fmla="*/ 462240 w 4618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7"/>
          <p:cNvSpPr/>
          <p:nvPr/>
        </p:nvSpPr>
        <p:spPr>
          <a:xfrm>
            <a:off x="6148440" y="3389400"/>
            <a:ext cx="682560" cy="774720"/>
          </a:xfrm>
          <a:custGeom>
            <a:avLst/>
            <a:gdLst>
              <a:gd name="textAreaLeft" fmla="*/ 0 w 682560"/>
              <a:gd name="textAreaRight" fmla="*/ 682920 w 682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8"/>
          <p:cNvSpPr/>
          <p:nvPr/>
        </p:nvSpPr>
        <p:spPr>
          <a:xfrm>
            <a:off x="5224320" y="3564000"/>
            <a:ext cx="785880" cy="760320"/>
          </a:xfrm>
          <a:custGeom>
            <a:avLst/>
            <a:gdLst>
              <a:gd name="textAreaLeft" fmla="*/ 0 w 785880"/>
              <a:gd name="textAreaRight" fmla="*/ 786240 w 78588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9"/>
          <p:cNvSpPr/>
          <p:nvPr/>
        </p:nvSpPr>
        <p:spPr>
          <a:xfrm>
            <a:off x="4135320" y="3676680"/>
            <a:ext cx="889200" cy="682560"/>
          </a:xfrm>
          <a:custGeom>
            <a:avLst/>
            <a:gdLst>
              <a:gd name="textAreaLeft" fmla="*/ 0 w 889200"/>
              <a:gd name="textAreaRight" fmla="*/ 889560 w 8892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3149640" y="3605040"/>
            <a:ext cx="815760" cy="719280"/>
          </a:xfrm>
          <a:custGeom>
            <a:avLst/>
            <a:gdLst>
              <a:gd name="textAreaLeft" fmla="*/ 0 w 815760"/>
              <a:gd name="textAreaRight" fmla="*/ 816120 w 8157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1"/>
          <p:cNvSpPr/>
          <p:nvPr/>
        </p:nvSpPr>
        <p:spPr>
          <a:xfrm>
            <a:off x="2359080" y="3389400"/>
            <a:ext cx="657000" cy="774720"/>
          </a:xfrm>
          <a:custGeom>
            <a:avLst/>
            <a:gdLst>
              <a:gd name="textAreaLeft" fmla="*/ 0 w 657000"/>
              <a:gd name="textAreaRight" fmla="*/ 657360 w 65700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2"/>
          <p:cNvSpPr/>
          <p:nvPr/>
        </p:nvSpPr>
        <p:spPr>
          <a:xfrm>
            <a:off x="1768320" y="3086280"/>
            <a:ext cx="466920" cy="780840"/>
          </a:xfrm>
          <a:custGeom>
            <a:avLst/>
            <a:gdLst>
              <a:gd name="textAreaLeft" fmla="*/ 0 w 466920"/>
              <a:gd name="textAreaRight" fmla="*/ 467280 w 46692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1444680" y="2681280"/>
            <a:ext cx="252360" cy="795240"/>
          </a:xfrm>
          <a:custGeom>
            <a:avLst/>
            <a:gdLst>
              <a:gd name="textAreaLeft" fmla="*/ 0 w 252360"/>
              <a:gd name="textAreaRight" fmla="*/ 252720 w 25236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67040" y="861840"/>
            <a:ext cx="5209920" cy="3170520"/>
            <a:chOff x="1967040" y="861840"/>
            <a:chExt cx="5209920" cy="3170520"/>
          </a:xfrm>
        </p:grpSpPr>
        <p:sp>
          <p:nvSpPr>
            <p:cNvPr id="128" name="Freeform 7"/>
            <p:cNvSpPr/>
            <p:nvPr/>
          </p:nvSpPr>
          <p:spPr>
            <a:xfrm>
              <a:off x="2125080" y="1602000"/>
              <a:ext cx="303480" cy="5774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42" h="270">
                  <a:moveTo>
                    <a:pt x="0" y="162"/>
                  </a:moveTo>
                  <a:lnTo>
                    <a:pt x="142" y="0"/>
                  </a:lnTo>
                  <a:lnTo>
                    <a:pt x="34" y="27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2531520" y="1242360"/>
              <a:ext cx="461880" cy="5475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16" h="256">
                  <a:moveTo>
                    <a:pt x="0" y="130"/>
                  </a:moveTo>
                  <a:lnTo>
                    <a:pt x="216" y="0"/>
                  </a:lnTo>
                  <a:lnTo>
                    <a:pt x="66" y="25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3121920" y="938520"/>
              <a:ext cx="607320" cy="50472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84" h="236">
                  <a:moveTo>
                    <a:pt x="0" y="114"/>
                  </a:moveTo>
                  <a:lnTo>
                    <a:pt x="284" y="0"/>
                  </a:lnTo>
                  <a:lnTo>
                    <a:pt x="142" y="23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3879000" y="861840"/>
              <a:ext cx="667080" cy="41076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312" h="192">
                  <a:moveTo>
                    <a:pt x="0" y="36"/>
                  </a:moveTo>
                  <a:lnTo>
                    <a:pt x="312" y="0"/>
                  </a:lnTo>
                  <a:lnTo>
                    <a:pt x="136" y="19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4708800" y="861840"/>
              <a:ext cx="658440" cy="4492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08" h="210">
                  <a:moveTo>
                    <a:pt x="0" y="0"/>
                  </a:moveTo>
                  <a:lnTo>
                    <a:pt x="308" y="36"/>
                  </a:lnTo>
                  <a:lnTo>
                    <a:pt x="154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5500440" y="981360"/>
              <a:ext cx="594360" cy="5346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278" h="250">
                  <a:moveTo>
                    <a:pt x="0" y="0"/>
                  </a:moveTo>
                  <a:lnTo>
                    <a:pt x="278" y="98"/>
                  </a:lnTo>
                  <a:lnTo>
                    <a:pt x="162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6240240" y="1311120"/>
              <a:ext cx="427680" cy="5475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00" h="256">
                  <a:moveTo>
                    <a:pt x="0" y="0"/>
                  </a:moveTo>
                  <a:lnTo>
                    <a:pt x="200" y="136"/>
                  </a:lnTo>
                  <a:lnTo>
                    <a:pt x="130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6775200" y="1743120"/>
              <a:ext cx="260640" cy="5475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22" h="256">
                  <a:moveTo>
                    <a:pt x="0" y="0"/>
                  </a:moveTo>
                  <a:lnTo>
                    <a:pt x="122" y="154"/>
                  </a:lnTo>
                  <a:lnTo>
                    <a:pt x="96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6958800" y="2688840"/>
              <a:ext cx="218160" cy="680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102" h="318">
                  <a:moveTo>
                    <a:pt x="74" y="0"/>
                  </a:moveTo>
                  <a:lnTo>
                    <a:pt x="102" y="188"/>
                  </a:lnTo>
                  <a:lnTo>
                    <a:pt x="0" y="3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6518520" y="2971440"/>
              <a:ext cx="384840" cy="6886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180" h="322">
                  <a:moveTo>
                    <a:pt x="106" y="0"/>
                  </a:moveTo>
                  <a:lnTo>
                    <a:pt x="180" y="202"/>
                  </a:lnTo>
                  <a:lnTo>
                    <a:pt x="0" y="32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5885280" y="3223800"/>
              <a:ext cx="568800" cy="6458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66" h="302">
                  <a:moveTo>
                    <a:pt x="142" y="0"/>
                  </a:moveTo>
                  <a:lnTo>
                    <a:pt x="266" y="204"/>
                  </a:lnTo>
                  <a:lnTo>
                    <a:pt x="0" y="30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5115240" y="3369240"/>
              <a:ext cx="654480" cy="63324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6" h="296">
                  <a:moveTo>
                    <a:pt x="164" y="0"/>
                  </a:moveTo>
                  <a:lnTo>
                    <a:pt x="306" y="252"/>
                  </a:lnTo>
                  <a:lnTo>
                    <a:pt x="0" y="29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4208400" y="3463560"/>
              <a:ext cx="739800" cy="5688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346" h="266">
                  <a:moveTo>
                    <a:pt x="178" y="0"/>
                  </a:moveTo>
                  <a:lnTo>
                    <a:pt x="346" y="266"/>
                  </a:lnTo>
                  <a:lnTo>
                    <a:pt x="0" y="266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3387240" y="3403440"/>
              <a:ext cx="680040" cy="59904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318" h="280">
                  <a:moveTo>
                    <a:pt x="146" y="0"/>
                  </a:moveTo>
                  <a:lnTo>
                    <a:pt x="318" y="280"/>
                  </a:lnTo>
                  <a:lnTo>
                    <a:pt x="0" y="23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2728440" y="3223800"/>
              <a:ext cx="547200" cy="64584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56" h="302">
                  <a:moveTo>
                    <a:pt x="124" y="0"/>
                  </a:moveTo>
                  <a:lnTo>
                    <a:pt x="256" y="302"/>
                  </a:lnTo>
                  <a:lnTo>
                    <a:pt x="0" y="2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2236320" y="2971440"/>
              <a:ext cx="389160" cy="65016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182" h="304">
                  <a:moveTo>
                    <a:pt x="66" y="0"/>
                  </a:moveTo>
                  <a:lnTo>
                    <a:pt x="182" y="304"/>
                  </a:lnTo>
                  <a:lnTo>
                    <a:pt x="0" y="18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1967040" y="2633400"/>
              <a:ext cx="209520" cy="6631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98" h="310">
                  <a:moveTo>
                    <a:pt x="24" y="0"/>
                  </a:moveTo>
                  <a:lnTo>
                    <a:pt x="98" y="310"/>
                  </a:lnTo>
                  <a:lnTo>
                    <a:pt x="0" y="18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8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47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49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93"/>
              <p:cNvSpPr/>
              <p:nvPr/>
            </p:nvSpPr>
            <p:spPr>
              <a:xfrm>
                <a:off x="343116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0988E-006 L -1.38889E-006 -0.12902 E">
                                      <p:cBhvr>
                                        <p:cTn id="159" dur="1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3.61111E-006 -0.20926 E">
                                      <p:cBhvr>
                                        <p:cTn id="161" dur="1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3.61111E-006 -0.25926 E">
                                      <p:cBhvr>
                                        <p:cTn id="163" dur="1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87654E-007 L -2.5E-006 -0.29259 E">
                                      <p:cBhvr>
                                        <p:cTn id="165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83951E-006 L 1.94444E-006 -0.30555 E">
                                      <p:cBhvr>
                                        <p:cTn id="167" dur="1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3.88889E-006 -0.29074 E">
                                      <p:cBhvr>
                                        <p:cTn id="169" dur="1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-2.22222E-006 -0.25926 E">
                                      <p:cBhvr>
                                        <p:cTn id="171" dur="1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8642E-006 L 8.33333E-007 -0.20741 E">
                                      <p:cBhvr>
                                        <p:cTn id="173" dur="1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46914E-007 L -4.16667E-006 -0.14074 E">
                                      <p:cBhvr>
                                        <p:cTn id="175" dur="1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827E-007 L -4.72222E-006 0.12222 E">
                                      <p:cBhvr>
                                        <p:cTn id="177" dur="1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2716E-006 L 3.61111E-006 0.21667 E">
                                      <p:cBhvr>
                                        <p:cTn id="179" dur="1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5679E-006 L 8.33333E-007 0.29444 E">
                                      <p:cBhvr>
                                        <p:cTn id="181" dur="1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19753E-006 L 2.22222E-006 0.32408 E">
                                      <p:cBhvr>
                                        <p:cTn id="183" dur="1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4.72222E-006 0.31296 E">
                                      <p:cBhvr>
                                        <p:cTn id="185" dur="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-3.88889E-006 0.27592 E">
                                      <p:cBhvr>
                                        <p:cTn id="187" dur="1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20988E-006 L 1.38889E-006 0.19815 E">
                                      <p:cBhvr>
                                        <p:cTn id="189" dur="1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4198E-007 L 0 0.10185 E">
                                      <p:cBhvr>
                                        <p:cTn id="191" dur="1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7"/>
          <p:cNvSpPr/>
          <p:nvPr/>
        </p:nvSpPr>
        <p:spPr>
          <a:xfrm>
            <a:off x="0" y="5143680"/>
            <a:ext cx="914400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1986120" y="5143680"/>
            <a:ext cx="5171760" cy="257148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480"/>
              <a:gd name="textAreaBottom" fmla="*/ 2571840 h 257148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d9d9d9"/>
          </a:solidFill>
          <a:ln w="4752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"/>
          <p:cNvSpPr/>
          <p:nvPr/>
        </p:nvSpPr>
        <p:spPr>
          <a:xfrm rot="180000">
            <a:off x="2963520" y="-2630160"/>
            <a:ext cx="923760" cy="5688000"/>
          </a:xfrm>
          <a:custGeom>
            <a:avLst/>
            <a:gdLst>
              <a:gd name="textAreaLeft" fmla="*/ 0 w 923760"/>
              <a:gd name="textAreaRight" fmla="*/ 924120 w 9237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91" h="1792">
                <a:moveTo>
                  <a:pt x="86" y="88"/>
                </a:moveTo>
                <a:cubicBezTo>
                  <a:pt x="86" y="88"/>
                  <a:pt x="0" y="592"/>
                  <a:pt x="46" y="944"/>
                </a:cubicBezTo>
                <a:cubicBezTo>
                  <a:pt x="92" y="1296"/>
                  <a:pt x="127" y="1608"/>
                  <a:pt x="127" y="1608"/>
                </a:cubicBezTo>
                <a:cubicBezTo>
                  <a:pt x="127" y="1608"/>
                  <a:pt x="291" y="1792"/>
                  <a:pt x="236" y="1408"/>
                </a:cubicBezTo>
                <a:cubicBezTo>
                  <a:pt x="180" y="1024"/>
                  <a:pt x="148" y="688"/>
                  <a:pt x="148" y="688"/>
                </a:cubicBezTo>
                <a:cubicBezTo>
                  <a:pt x="200" y="0"/>
                  <a:pt x="200" y="0"/>
                  <a:pt x="200" y="0"/>
                </a:cubicBezTo>
                <a:lnTo>
                  <a:pt x="86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8"/>
          <p:cNvSpPr/>
          <p:nvPr/>
        </p:nvSpPr>
        <p:spPr>
          <a:xfrm>
            <a:off x="3624120" y="-2519280"/>
            <a:ext cx="831960" cy="5688000"/>
          </a:xfrm>
          <a:custGeom>
            <a:avLst/>
            <a:gdLst>
              <a:gd name="textAreaLeft" fmla="*/ 0 w 831960"/>
              <a:gd name="textAreaRight" fmla="*/ 832320 w 8319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9"/>
          <p:cNvSpPr/>
          <p:nvPr/>
        </p:nvSpPr>
        <p:spPr>
          <a:xfrm>
            <a:off x="4268880" y="-2544840"/>
            <a:ext cx="831600" cy="5688000"/>
          </a:xfrm>
          <a:custGeom>
            <a:avLst/>
            <a:gdLst>
              <a:gd name="textAreaLeft" fmla="*/ 0 w 831600"/>
              <a:gd name="textAreaRight" fmla="*/ 831960 w 8316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4"/>
          <p:cNvSpPr/>
          <p:nvPr/>
        </p:nvSpPr>
        <p:spPr>
          <a:xfrm>
            <a:off x="0" y="0"/>
            <a:ext cx="9144000" cy="18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63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23"/>
              <p:cNvSpPr/>
              <p:nvPr/>
            </p:nvSpPr>
            <p:spPr>
              <a:xfrm>
                <a:off x="343692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Freeform 6"/>
          <p:cNvSpPr/>
          <p:nvPr/>
        </p:nvSpPr>
        <p:spPr>
          <a:xfrm>
            <a:off x="1986120" y="1285920"/>
            <a:ext cx="5171760" cy="257184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ff001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3933000" y="1857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真广标"/>
                <a:ea typeface="汉真广标"/>
              </a:rPr>
              <a:t>哲理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94640" y="3213000"/>
            <a:ext cx="2207880" cy="1930680"/>
            <a:chOff x="6794640" y="3213000"/>
            <a:chExt cx="2207880" cy="1930680"/>
          </a:xfrm>
        </p:grpSpPr>
        <p:sp>
          <p:nvSpPr>
            <p:cNvPr id="175" name="Freeform 6"/>
            <p:cNvSpPr/>
            <p:nvPr/>
          </p:nvSpPr>
          <p:spPr>
            <a:xfrm>
              <a:off x="7800480" y="4227120"/>
              <a:ext cx="1168920" cy="916560"/>
            </a:xfrm>
            <a:custGeom>
              <a:avLst/>
              <a:gdLst>
                <a:gd name="textAreaLeft" fmla="*/ 0 w 1168920"/>
                <a:gd name="textAreaRight" fmla="*/ 1169280 w 1168920"/>
                <a:gd name="textAreaTop" fmla="*/ 0 h 916560"/>
                <a:gd name="textAreaBottom" fmla="*/ 916920 h 916560"/>
              </a:gdLst>
              <a:ahLst/>
              <a:rect l="textAreaLeft" t="textAreaTop" r="textAreaRight" b="textAreaBottom"/>
              <a:pathLst>
                <a:path w="1040" h="816">
                  <a:moveTo>
                    <a:pt x="410" y="592"/>
                  </a:moveTo>
                  <a:lnTo>
                    <a:pt x="96" y="332"/>
                  </a:lnTo>
                  <a:lnTo>
                    <a:pt x="0" y="332"/>
                  </a:lnTo>
                  <a:lnTo>
                    <a:pt x="402" y="744"/>
                  </a:lnTo>
                  <a:lnTo>
                    <a:pt x="402" y="816"/>
                  </a:lnTo>
                  <a:lnTo>
                    <a:pt x="570" y="816"/>
                  </a:lnTo>
                  <a:lnTo>
                    <a:pt x="550" y="516"/>
                  </a:lnTo>
                  <a:lnTo>
                    <a:pt x="1040" y="84"/>
                  </a:lnTo>
                  <a:lnTo>
                    <a:pt x="1040" y="0"/>
                  </a:lnTo>
                  <a:lnTo>
                    <a:pt x="538" y="352"/>
                  </a:lnTo>
                  <a:lnTo>
                    <a:pt x="538" y="212"/>
                  </a:lnTo>
                  <a:lnTo>
                    <a:pt x="430" y="212"/>
                  </a:lnTo>
                  <a:lnTo>
                    <a:pt x="410" y="5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794640" y="3213000"/>
              <a:ext cx="2207880" cy="1345680"/>
              <a:chOff x="6794640" y="3213000"/>
              <a:chExt cx="2207880" cy="1345680"/>
            </a:xfrm>
          </p:grpSpPr>
          <p:sp>
            <p:nvSpPr>
              <p:cNvPr id="177" name="TextBox 37"/>
              <p:cNvSpPr/>
              <p:nvPr/>
            </p:nvSpPr>
            <p:spPr>
              <a:xfrm>
                <a:off x="8164080" y="3213000"/>
                <a:ext cx="7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A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38"/>
              <p:cNvSpPr/>
              <p:nvPr/>
            </p:nvSpPr>
            <p:spPr>
              <a:xfrm>
                <a:off x="6892200" y="3498840"/>
                <a:ext cx="175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Philosoph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39"/>
              <p:cNvSpPr/>
              <p:nvPr/>
            </p:nvSpPr>
            <p:spPr>
              <a:xfrm>
                <a:off x="7749000" y="384156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Scie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0"/>
              <p:cNvSpPr/>
              <p:nvPr/>
            </p:nvSpPr>
            <p:spPr>
              <a:xfrm>
                <a:off x="6794640" y="4098960"/>
                <a:ext cx="134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Reli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11" dur="14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7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7859E-006 L 0.00191 -0.54705 E">
                                      <p:cBhvr>
                                        <p:cTn id="21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-3.971E-006 L -2.77778E-006 0.33632 E">
                                      <p:cBhvr>
                                        <p:cTn id="21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179879">
                                      <p:cBhvr>
                                        <p:cTn id="2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7.34341E-007 L -3.33333E-006 0.32953 E">
                                      <p:cBhvr>
                                        <p:cTn id="22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72222E-006 -4.77322E-006 L 4.72222E-006 0.29096 E">
                                      <p:cBhvr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">
                                      <p:cBhvr>
                                        <p:cTn id="2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61111E-006 0.29096 L 3.61111E-006 0.11509 E">
                                      <p:cBhvr>
                                        <p:cTn id="23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0.32953 L -2.77778E-007 0.10121 E">
                                      <p:cBhvr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6 0.33632 L -2.77778E-006 0.09411 E">
                                      <p:cBhvr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191 -0.54705 L 0.00191 -0.99136 E">
                                      <p:cBhvr>
                                        <p:cTn id="237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-1 E">
                                      <p:cBhvr>
                                        <p:cTn id="23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0.00587 L 0 -0.74977 E">
                                      <p:cBhvr>
                                        <p:cTn id="241" dur="1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7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196" name="矩形 21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1985400" y="1285920"/>
              <a:ext cx="5172840" cy="2571840"/>
            </a:xfrm>
            <a:custGeom>
              <a:avLst/>
              <a:gdLst>
                <a:gd name="textAreaLeft" fmla="*/ 0 w 5172840"/>
                <a:gd name="textAreaRight" fmla="*/ 5172840 w 51728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1408" h="700">
                  <a:moveTo>
                    <a:pt x="1124" y="700"/>
                  </a:moveTo>
                  <a:cubicBezTo>
                    <a:pt x="1269" y="568"/>
                    <a:pt x="1269" y="568"/>
                    <a:pt x="1269" y="568"/>
                  </a:cubicBezTo>
                  <a:cubicBezTo>
                    <a:pt x="1352" y="568"/>
                    <a:pt x="1352" y="568"/>
                    <a:pt x="1352" y="568"/>
                  </a:cubicBezTo>
                  <a:cubicBezTo>
                    <a:pt x="1383" y="568"/>
                    <a:pt x="1408" y="545"/>
                    <a:pt x="1408" y="517"/>
                  </a:cubicBezTo>
                  <a:cubicBezTo>
                    <a:pt x="1408" y="51"/>
                    <a:pt x="1408" y="51"/>
                    <a:pt x="1408" y="51"/>
                  </a:cubicBezTo>
                  <a:cubicBezTo>
                    <a:pt x="1408" y="23"/>
                    <a:pt x="1383" y="0"/>
                    <a:pt x="1352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26" y="0"/>
                    <a:pt x="0" y="23"/>
                    <a:pt x="0" y="51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0" y="545"/>
                    <a:pt x="26" y="568"/>
                    <a:pt x="56" y="568"/>
                  </a:cubicBezTo>
                  <a:cubicBezTo>
                    <a:pt x="1124" y="568"/>
                    <a:pt x="1124" y="568"/>
                    <a:pt x="1124" y="568"/>
                  </a:cubicBezTo>
                  <a:lnTo>
                    <a:pt x="1124" y="700"/>
                  </a:lnTo>
                  <a:close/>
                </a:path>
              </a:pathLst>
            </a:custGeom>
            <a:solidFill>
              <a:srgbClr val="ff001f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3"/>
            <p:cNvSpPr/>
            <p:nvPr/>
          </p:nvSpPr>
          <p:spPr>
            <a:xfrm>
              <a:off x="3933000" y="185724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汉真广标"/>
                  <a:ea typeface="汉真广标"/>
                </a:rPr>
                <a:t>哲理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795720" y="3212640"/>
              <a:ext cx="2207160" cy="1931040"/>
              <a:chOff x="6795720" y="3212640"/>
              <a:chExt cx="2207160" cy="1931040"/>
            </a:xfrm>
          </p:grpSpPr>
          <p:sp>
            <p:nvSpPr>
              <p:cNvPr id="200" name="Freeform 6"/>
              <p:cNvSpPr/>
              <p:nvPr/>
            </p:nvSpPr>
            <p:spPr>
              <a:xfrm>
                <a:off x="7801200" y="4227120"/>
                <a:ext cx="1168200" cy="9165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916560"/>
                  <a:gd name="textAreaBottom" fmla="*/ 916920 h 916560"/>
                </a:gdLst>
                <a:ahLst/>
                <a:rect l="textAreaLeft" t="textAreaTop" r="textAreaRight" b="textAreaBottom"/>
                <a:pathLst>
                  <a:path w="1040" h="816">
                    <a:moveTo>
                      <a:pt x="410" y="592"/>
                    </a:moveTo>
                    <a:lnTo>
                      <a:pt x="96" y="332"/>
                    </a:lnTo>
                    <a:lnTo>
                      <a:pt x="0" y="332"/>
                    </a:lnTo>
                    <a:lnTo>
                      <a:pt x="402" y="744"/>
                    </a:lnTo>
                    <a:lnTo>
                      <a:pt x="402" y="816"/>
                    </a:lnTo>
                    <a:lnTo>
                      <a:pt x="570" y="816"/>
                    </a:lnTo>
                    <a:lnTo>
                      <a:pt x="550" y="516"/>
                    </a:lnTo>
                    <a:lnTo>
                      <a:pt x="1040" y="84"/>
                    </a:lnTo>
                    <a:lnTo>
                      <a:pt x="1040" y="0"/>
                    </a:lnTo>
                    <a:lnTo>
                      <a:pt x="538" y="352"/>
                    </a:lnTo>
                    <a:lnTo>
                      <a:pt x="538" y="212"/>
                    </a:lnTo>
                    <a:lnTo>
                      <a:pt x="430" y="212"/>
                    </a:lnTo>
                    <a:lnTo>
                      <a:pt x="410" y="5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795720" y="3212640"/>
                <a:ext cx="2207160" cy="1345320"/>
                <a:chOff x="6795720" y="3212640"/>
                <a:chExt cx="2207160" cy="1345320"/>
              </a:xfrm>
            </p:grpSpPr>
            <p:sp>
              <p:nvSpPr>
                <p:cNvPr id="202" name="TextBox 27"/>
                <p:cNvSpPr/>
                <p:nvPr/>
              </p:nvSpPr>
              <p:spPr>
                <a:xfrm>
                  <a:off x="8164080" y="3212640"/>
                  <a:ext cx="75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Ar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Box 28"/>
                <p:cNvSpPr/>
                <p:nvPr/>
              </p:nvSpPr>
              <p:spPr>
                <a:xfrm>
                  <a:off x="6892200" y="3498480"/>
                  <a:ext cx="175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Philosoph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Box 29"/>
                <p:cNvSpPr/>
                <p:nvPr/>
              </p:nvSpPr>
              <p:spPr>
                <a:xfrm>
                  <a:off x="7749360" y="3840840"/>
                  <a:ext cx="125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Sci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Box 30"/>
                <p:cNvSpPr/>
                <p:nvPr/>
              </p:nvSpPr>
              <p:spPr>
                <a:xfrm>
                  <a:off x="6795720" y="4098240"/>
                  <a:ext cx="1340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Reli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4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200"/>
                            </p:stCondLst>
                            <p:childTnLst>
                              <p:par>
                                <p:cTn id="317" nodeType="after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38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9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41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2" dur="150" fill="hold"/>
                                        <p:tgtEl>
                                          <p:spTgt spid="19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0"/>
          <a:stretch/>
        </p:blipFill>
        <p:spPr>
          <a:xfrm>
            <a:off x="3143160" y="151128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0"/>
          <p:cNvSpPr/>
          <p:nvPr/>
        </p:nvSpPr>
        <p:spPr>
          <a:xfrm>
            <a:off x="3567240" y="3500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然有些是人命中注定就是亮点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1"/>
          <p:cNvSpPr/>
          <p:nvPr/>
        </p:nvSpPr>
        <p:spPr>
          <a:xfrm flipH="1">
            <a:off x="2999880" y="150012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2"/>
          <p:cNvSpPr/>
          <p:nvPr/>
        </p:nvSpPr>
        <p:spPr>
          <a:xfrm flipH="1">
            <a:off x="2999880" y="317196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3"/>
          <p:cNvSpPr/>
          <p:nvPr/>
        </p:nvSpPr>
        <p:spPr>
          <a:xfrm>
            <a:off x="3071880" y="1504800"/>
            <a:ext cx="0" cy="165600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2834640" y="116208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27" name="组合 33" descr=""/>
            <p:cNvPicPr/>
            <p:nvPr/>
          </p:nvPicPr>
          <p:blipFill>
            <a:blip r:embed="rId11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4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20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72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200"/>
                            </p:stCondLst>
                            <p:childTnLst>
                              <p:par>
                                <p:cTn id="3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3054240" y="2595600"/>
            <a:ext cx="633600" cy="31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8"/>
          <p:cNvSpPr/>
          <p:nvPr/>
        </p:nvSpPr>
        <p:spPr>
          <a:xfrm>
            <a:off x="3247920" y="2617920"/>
            <a:ext cx="231840" cy="91800"/>
          </a:xfrm>
          <a:custGeom>
            <a:avLst/>
            <a:gdLst>
              <a:gd name="textAreaLeft" fmla="*/ 0 w 231840"/>
              <a:gd name="textAreaRight" fmla="*/ 232200 w 2318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6" h="58">
                <a:moveTo>
                  <a:pt x="0" y="0"/>
                </a:moveTo>
                <a:lnTo>
                  <a:pt x="146" y="0"/>
                </a:lnTo>
                <a:lnTo>
                  <a:pt x="146" y="22"/>
                </a:lnTo>
                <a:lnTo>
                  <a:pt x="72" y="58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14" descr="01.png"/>
          <p:cNvPicPr/>
          <p:nvPr/>
        </p:nvPicPr>
        <p:blipFill>
          <a:blip r:embed="rId11"/>
          <a:stretch/>
        </p:blipFill>
        <p:spPr>
          <a:xfrm>
            <a:off x="3222720" y="2322360"/>
            <a:ext cx="277560" cy="184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5"/>
          <p:cNvSpPr/>
          <p:nvPr/>
        </p:nvSpPr>
        <p:spPr>
          <a:xfrm rot="20887800">
            <a:off x="2731680" y="135396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剪纸简体"/>
                <a:ea typeface="方正剪纸简体"/>
              </a:rPr>
              <a:t>变身</a:t>
            </a:r>
            <a:r>
              <a:rPr b="0" lang="en-US" sz="2400" spc="-1" strike="noStrike">
                <a:solidFill>
                  <a:srgbClr val="ff0000"/>
                </a:solidFill>
                <a:latin typeface="Blackadder ITC"/>
                <a:ea typeface="汉真广标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>
            <a:off x="21636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27734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6"/>
          <p:cNvSpPr/>
          <p:nvPr/>
        </p:nvSpPr>
        <p:spPr>
          <a:xfrm>
            <a:off x="39877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987720" y="206064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>
            <a:off x="46022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51973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"/>
          <p:cNvSpPr/>
          <p:nvPr/>
        </p:nvSpPr>
        <p:spPr>
          <a:xfrm>
            <a:off x="58212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641664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703116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328640" y="3500280"/>
            <a:ext cx="4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有些人可以通过装备，变的独一无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30" descr="09.png"/>
          <p:cNvPicPr/>
          <p:nvPr/>
        </p:nvPicPr>
        <p:blipFill>
          <a:blip r:embed="rId12"/>
          <a:stretch/>
        </p:blipFill>
        <p:spPr>
          <a:xfrm rot="1119000">
            <a:off x="5190840" y="5597640"/>
            <a:ext cx="5359320" cy="375732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2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"/>
                            </p:stCondLst>
                            <p:childTnLst>
                              <p:par>
                                <p:cTn id="416" nodeType="after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35 -0.00524 L -0.28785 -0.60185 E">
                                      <p:cBhvr>
                                        <p:cTn id="417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8784 -0.60186 C -0.28524 -0.61575 -0.28454 -0.62254 -0.27743 -0.63519 C -0.27204 -0.64476 -0.26527 -0.65525 -0.26284 -0.66852 C -0.25902 -0.6889 -0.25833 -0.69723 -0.24826 -0.70927 C -0.23854 -0.70803 -0.22829 -0.71112 -0.21909 -0.70556 C -0.21666 -0.70402 -0.22291 -0.69877 -0.22326 -0.69445 C -0.22361 -0.69075 -0.2217 -0.68704 -0.22118 -0.68334 C -0.22031 -0.67593 -0.21996 -0.66852 -0.21909 -0.66112 C -0.21857 -0.65618 -0.2177 -0.65124 -0.21701 -0.6463 C -0.2177 -0.6389 -0.21614 -0.62933 -0.21909 -0.62408 C -0.2217 -0.61945 -0.23211 -0.63334 -0.23368 -0.63519 C -0.24427 -0.66359 -0.23159 -0.63581 -0.23993 -0.63149 C -0.24409 -0.62933 -0.25243 -0.6389 -0.25243 -0.6389 C -0.26267 -0.63272 -0.26927 -0.62902 -0.27326 -0.65001 C -0.27083 -0.66297 -0.27343 -0.67933 -0.26909 -0.69075 C -0.26718 -0.69599 -0.26215 -0.69322 -0.25868 -0.69445 C -0.2552 -0.71328 -0.24965 -0.71081 -0.23993 -0.71667 C -0.23159 -0.71544 -0.22083 -0.72346 -0.21493 -0.71297 C -0.19826 -0.68334 -0.21632 -0.67624 -0.22326 -0.67223 C -0.22743 -0.67346 -0.23159 -0.6747 -0.23576 -0.67593 C -0.23923 -0.67717 -0.24479 -0.67377 -0.24618 -0.67964 C -0.24791 -0.68673 -0.24201 -0.70186 -0.24201 -0.70186 C -0.24687 -0.70464 -0.25364 -0.71081 -0.25868 -0.70186 C -0.2618 -0.6963 -0.26284 -0.67964 -0.26284 -0.67964 C -0.26215 -0.67593 -0.26267 -0.67069 -0.26076 -0.66852 C -0.25781 -0.66513 -0.25382 -0.66636 -0.25034 -0.66482 C -0.24826 -0.6639 -0.24201 -0.66204 -0.24409 -0.66112 C -0.24878 -0.65896 -0.25382 -0.66112 -0.25868 -0.66112 E">
                                      <p:cBhvr>
                                        <p:cTn id="41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2 -0.66297 L 0.13872 0.09598 E">
                                      <p:cBhvr>
                                        <p:cTn id="422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5" repeatCount="3000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39" dur="2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4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4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4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6" descr="10.png"/>
          <p:cNvPicPr/>
          <p:nvPr/>
        </p:nvPicPr>
        <p:blipFill>
          <a:blip r:embed="rId1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2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3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4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2" descr="07.png"/>
          <p:cNvPicPr/>
          <p:nvPr/>
        </p:nvPicPr>
        <p:blipFill>
          <a:blip r:embed="rId11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7"/>
          <p:cNvSpPr/>
          <p:nvPr/>
        </p:nvSpPr>
        <p:spPr>
          <a:xfrm>
            <a:off x="4266720" y="3500280"/>
            <a:ext cx="6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不同的方式、风格将自己的思想、观点明白无误地表达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7" descr="08.png"/>
          <p:cNvPicPr/>
          <p:nvPr/>
        </p:nvPicPr>
        <p:blipFill>
          <a:blip r:embed="rId12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8"/>
          <p:cNvSpPr/>
          <p:nvPr/>
        </p:nvSpPr>
        <p:spPr>
          <a:xfrm rot="21317400">
            <a:off x="1924560" y="844560"/>
            <a:ext cx="35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72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4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505" dur="3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507" dur="3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509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511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13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515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517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519" dur="3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8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6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00"/>
                            </p:stCondLst>
                            <p:childTnLst>
                              <p:par>
                                <p:cTn id="527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1" descr="06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2" descr="06.png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53" descr="06.png"/>
          <p:cNvPicPr/>
          <p:nvPr/>
        </p:nvPicPr>
        <p:blipFill>
          <a:blip r:embed="rId3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4" descr="06.png"/>
          <p:cNvPicPr/>
          <p:nvPr/>
        </p:nvPicPr>
        <p:blipFill>
          <a:blip r:embed="rId4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5" descr="06.png"/>
          <p:cNvPicPr/>
          <p:nvPr/>
        </p:nvPicPr>
        <p:blipFill>
          <a:blip r:embed="rId5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6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7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8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9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"/>
          <p:cNvPicPr/>
          <p:nvPr/>
        </p:nvPicPr>
        <p:blipFill>
          <a:blip r:embed="rId10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11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"/>
          <p:cNvPicPr/>
          <p:nvPr/>
        </p:nvPicPr>
        <p:blipFill>
          <a:blip r:embed="rId12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"/>
          <p:cNvPicPr/>
          <p:nvPr/>
        </p:nvPicPr>
        <p:blipFill>
          <a:blip r:embed="rId13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14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21" descr="04.png"/>
          <p:cNvPicPr/>
          <p:nvPr/>
        </p:nvPicPr>
        <p:blipFill>
          <a:blip r:embed="rId15"/>
          <a:stretch/>
        </p:blipFill>
        <p:spPr>
          <a:xfrm>
            <a:off x="4862520" y="1974960"/>
            <a:ext cx="182520" cy="11937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347000" y="2220840"/>
            <a:ext cx="516600" cy="945720"/>
            <a:chOff x="4347000" y="2220840"/>
            <a:chExt cx="516600" cy="945720"/>
          </a:xfrm>
        </p:grpSpPr>
        <p:pic>
          <p:nvPicPr>
            <p:cNvPr id="291" name="图片 22" descr="05.png"/>
            <p:cNvPicPr/>
            <p:nvPr/>
          </p:nvPicPr>
          <p:blipFill>
            <a:blip r:embed="rId16"/>
            <a:stretch/>
          </p:blipFill>
          <p:spPr>
            <a:xfrm rot="1683600">
              <a:off x="4440600" y="2636640"/>
              <a:ext cx="32940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椭圆 23"/>
            <p:cNvSpPr/>
            <p:nvPr/>
          </p:nvSpPr>
          <p:spPr>
            <a:xfrm rot="2547000">
              <a:off x="4589640" y="2230200"/>
              <a:ext cx="45720" cy="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20" descr="04.png"/>
          <p:cNvPicPr/>
          <p:nvPr/>
        </p:nvPicPr>
        <p:blipFill>
          <a:blip r:embed="rId17"/>
          <a:stretch/>
        </p:blipFill>
        <p:spPr>
          <a:xfrm>
            <a:off x="4479840" y="1974960"/>
            <a:ext cx="184320" cy="1193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25"/>
          <p:cNvSpPr/>
          <p:nvPr/>
        </p:nvSpPr>
        <p:spPr>
          <a:xfrm>
            <a:off x="1468440" y="3500280"/>
            <a:ext cx="620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有压力的情境下，思考、解决问题时能够迅速而灵巧地转移角度、随机应变、触类旁通，做出正确的判断和处理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9"/>
          <p:cNvSpPr/>
          <p:nvPr/>
        </p:nvSpPr>
        <p:spPr>
          <a:xfrm>
            <a:off x="3416400" y="27939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0"/>
          <p:cNvSpPr/>
          <p:nvPr/>
        </p:nvSpPr>
        <p:spPr>
          <a:xfrm>
            <a:off x="3759120" y="256212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1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1"/>
          <p:cNvSpPr/>
          <p:nvPr/>
        </p:nvSpPr>
        <p:spPr>
          <a:xfrm>
            <a:off x="4102200" y="233028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4788000" y="1866960"/>
            <a:ext cx="266760" cy="269640"/>
          </a:xfrm>
          <a:custGeom>
            <a:avLst/>
            <a:gdLst>
              <a:gd name="textAreaLeft" fmla="*/ 0 w 266760"/>
              <a:gd name="textAreaRight" fmla="*/ 267120 w 2667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2" y="5"/>
                  <a:pt x="73" y="22"/>
                </a:cubicBezTo>
                <a:cubicBezTo>
                  <a:pt x="84" y="39"/>
                  <a:pt x="80" y="62"/>
                  <a:pt x="63" y="74"/>
                </a:cubicBezTo>
                <a:cubicBezTo>
                  <a:pt x="46" y="85"/>
                  <a:pt x="23" y="81"/>
                  <a:pt x="11" y="64"/>
                </a:cubicBezTo>
                <a:cubicBezTo>
                  <a:pt x="0" y="47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5130720" y="16383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5473800" y="1406520"/>
            <a:ext cx="269640" cy="266760"/>
          </a:xfrm>
          <a:custGeom>
            <a:avLst/>
            <a:gdLst>
              <a:gd name="textAreaLeft" fmla="*/ 0 w 269640"/>
              <a:gd name="textAreaRight" fmla="*/ 270000 w 269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5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5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816520" y="1174680"/>
            <a:ext cx="270000" cy="270000"/>
          </a:xfrm>
          <a:custGeom>
            <a:avLst/>
            <a:gdLst>
              <a:gd name="textAreaLeft" fmla="*/ 0 w 270000"/>
              <a:gd name="textAreaRight" fmla="*/ 270360 w 2700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1" y="11"/>
                </a:moveTo>
                <a:cubicBezTo>
                  <a:pt x="38" y="0"/>
                  <a:pt x="62" y="4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6159600" y="942840"/>
            <a:ext cx="269640" cy="270000"/>
          </a:xfrm>
          <a:custGeom>
            <a:avLst/>
            <a:gdLst>
              <a:gd name="textAreaLeft" fmla="*/ 0 w 269640"/>
              <a:gd name="textAreaRight" fmla="*/ 270000 w 2696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2" y="12"/>
                </a:moveTo>
                <a:cubicBezTo>
                  <a:pt x="38" y="0"/>
                  <a:pt x="62" y="5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2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4449600" y="2082960"/>
            <a:ext cx="266760" cy="26640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标注 37"/>
          <p:cNvSpPr/>
          <p:nvPr/>
        </p:nvSpPr>
        <p:spPr>
          <a:xfrm>
            <a:off x="5578560" y="1752480"/>
            <a:ext cx="3240000" cy="1632240"/>
          </a:xfrm>
          <a:prstGeom prst="wedgeRoundRectCallout">
            <a:avLst>
              <a:gd name="adj1" fmla="val -74407"/>
              <a:gd name="adj2" fmla="val -425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18320" y="2112840"/>
            <a:ext cx="2747880" cy="925560"/>
            <a:chOff x="5818320" y="2112840"/>
            <a:chExt cx="2747880" cy="925560"/>
          </a:xfrm>
        </p:grpSpPr>
        <p:pic>
          <p:nvPicPr>
            <p:cNvPr id="306" name="Picture 9" descr=""/>
            <p:cNvPicPr/>
            <p:nvPr/>
          </p:nvPicPr>
          <p:blipFill>
            <a:blip r:embed="rId18"/>
            <a:stretch/>
          </p:blipFill>
          <p:spPr>
            <a:xfrm>
              <a:off x="6709680" y="2112840"/>
              <a:ext cx="3394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9" descr=""/>
            <p:cNvPicPr/>
            <p:nvPr/>
          </p:nvPicPr>
          <p:blipFill>
            <a:blip r:embed="rId19"/>
            <a:stretch/>
          </p:blipFill>
          <p:spPr>
            <a:xfrm>
              <a:off x="5818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9" descr=""/>
            <p:cNvPicPr/>
            <p:nvPr/>
          </p:nvPicPr>
          <p:blipFill>
            <a:blip r:embed="rId20"/>
            <a:stretch/>
          </p:blipFill>
          <p:spPr>
            <a:xfrm>
              <a:off x="61192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21"/>
            <a:stretch/>
          </p:blipFill>
          <p:spPr>
            <a:xfrm>
              <a:off x="64202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22"/>
            <a:stretch/>
          </p:blipFill>
          <p:spPr>
            <a:xfrm>
              <a:off x="714996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9" descr=""/>
            <p:cNvPicPr/>
            <p:nvPr/>
          </p:nvPicPr>
          <p:blipFill>
            <a:blip r:embed="rId23"/>
            <a:stretch/>
          </p:blipFill>
          <p:spPr>
            <a:xfrm>
              <a:off x="74509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9" descr=""/>
            <p:cNvPicPr/>
            <p:nvPr/>
          </p:nvPicPr>
          <p:blipFill>
            <a:blip r:embed="rId24"/>
            <a:stretch/>
          </p:blipFill>
          <p:spPr>
            <a:xfrm>
              <a:off x="77518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9" descr=""/>
            <p:cNvPicPr/>
            <p:nvPr/>
          </p:nvPicPr>
          <p:blipFill>
            <a:blip r:embed="rId25"/>
            <a:stretch/>
          </p:blipFill>
          <p:spPr>
            <a:xfrm>
              <a:off x="8041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9" descr=""/>
            <p:cNvPicPr/>
            <p:nvPr/>
          </p:nvPicPr>
          <p:blipFill>
            <a:blip r:embed="rId26"/>
            <a:stretch/>
          </p:blipFill>
          <p:spPr>
            <a:xfrm>
              <a:off x="83426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"/>
          <p:cNvGrpSpPr/>
          <p:nvPr/>
        </p:nvGrpSpPr>
        <p:grpSpPr>
          <a:xfrm>
            <a:off x="1340640" y="1096920"/>
            <a:ext cx="1983600" cy="693360"/>
            <a:chOff x="1340640" y="1096920"/>
            <a:chExt cx="1983600" cy="693360"/>
          </a:xfrm>
        </p:grpSpPr>
        <p:grpSp>
          <p:nvGrpSpPr>
            <p:cNvPr id="316" name=""/>
            <p:cNvGrpSpPr/>
            <p:nvPr/>
          </p:nvGrpSpPr>
          <p:grpSpPr>
            <a:xfrm>
              <a:off x="1340640" y="1096920"/>
              <a:ext cx="1460880" cy="693360"/>
              <a:chOff x="1340640" y="1096920"/>
              <a:chExt cx="1460880" cy="693360"/>
            </a:xfrm>
          </p:grpSpPr>
          <p:sp>
            <p:nvSpPr>
              <p:cNvPr id="317" name="TextBox 56"/>
              <p:cNvSpPr/>
              <p:nvPr/>
            </p:nvSpPr>
            <p:spPr>
              <a:xfrm>
                <a:off x="1340640" y="109692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脱颖而出的关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57"/>
              <p:cNvSpPr/>
              <p:nvPr/>
            </p:nvSpPr>
            <p:spPr>
              <a:xfrm>
                <a:off x="1427760" y="151380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在于找到合适的机会秀出自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7"/>
            <p:cNvSpPr/>
            <p:nvPr/>
          </p:nvSpPr>
          <p:spPr>
            <a:xfrm>
              <a:off x="3206880" y="1129680"/>
              <a:ext cx="117360" cy="380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17" h="379">
                  <a:moveTo>
                    <a:pt x="34" y="304"/>
                  </a:moveTo>
                  <a:cubicBezTo>
                    <a:pt x="42" y="304"/>
                    <a:pt x="48" y="307"/>
                    <a:pt x="54" y="313"/>
                  </a:cubicBezTo>
                  <a:cubicBezTo>
                    <a:pt x="59" y="319"/>
                    <a:pt x="62" y="327"/>
                    <a:pt x="62" y="336"/>
                  </a:cubicBezTo>
                  <a:cubicBezTo>
                    <a:pt x="62" y="349"/>
                    <a:pt x="59" y="360"/>
                    <a:pt x="52" y="367"/>
                  </a:cubicBezTo>
                  <a:cubicBezTo>
                    <a:pt x="46" y="375"/>
                    <a:pt x="38" y="379"/>
                    <a:pt x="28" y="379"/>
                  </a:cubicBezTo>
                  <a:cubicBezTo>
                    <a:pt x="20" y="379"/>
                    <a:pt x="14" y="376"/>
                    <a:pt x="8" y="370"/>
                  </a:cubicBezTo>
                  <a:cubicBezTo>
                    <a:pt x="3" y="365"/>
                    <a:pt x="0" y="357"/>
                    <a:pt x="0" y="348"/>
                  </a:cubicBezTo>
                  <a:cubicBezTo>
                    <a:pt x="0" y="336"/>
                    <a:pt x="4" y="324"/>
                    <a:pt x="12" y="315"/>
                  </a:cubicBezTo>
                  <a:cubicBezTo>
                    <a:pt x="17" y="308"/>
                    <a:pt x="24" y="304"/>
                    <a:pt x="34" y="304"/>
                  </a:cubicBezTo>
                  <a:close/>
                  <a:moveTo>
                    <a:pt x="50" y="269"/>
                  </a:moveTo>
                  <a:cubicBezTo>
                    <a:pt x="32" y="269"/>
                    <a:pt x="32" y="269"/>
                    <a:pt x="32" y="269"/>
                  </a:cubicBezTo>
                  <a:cubicBezTo>
                    <a:pt x="46" y="171"/>
                    <a:pt x="55" y="89"/>
                    <a:pt x="61" y="21"/>
                  </a:cubicBezTo>
                  <a:cubicBezTo>
                    <a:pt x="61" y="17"/>
                    <a:pt x="62" y="15"/>
                    <a:pt x="64" y="13"/>
                  </a:cubicBezTo>
                  <a:cubicBezTo>
                    <a:pt x="67" y="10"/>
                    <a:pt x="73" y="7"/>
                    <a:pt x="81" y="5"/>
                  </a:cubicBezTo>
                  <a:cubicBezTo>
                    <a:pt x="95" y="2"/>
                    <a:pt x="105" y="0"/>
                    <a:pt x="111" y="0"/>
                  </a:cubicBezTo>
                  <a:cubicBezTo>
                    <a:pt x="115" y="0"/>
                    <a:pt x="117" y="2"/>
                    <a:pt x="117" y="6"/>
                  </a:cubicBezTo>
                  <a:cubicBezTo>
                    <a:pt x="117" y="9"/>
                    <a:pt x="116" y="13"/>
                    <a:pt x="115" y="17"/>
                  </a:cubicBezTo>
                  <a:cubicBezTo>
                    <a:pt x="112" y="25"/>
                    <a:pt x="103" y="59"/>
                    <a:pt x="88" y="117"/>
                  </a:cubicBezTo>
                  <a:lnTo>
                    <a:pt x="50" y="2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pull dir="r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0.2658 0 E">
                                      <p:cBhvr>
                                        <p:cTn id="539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209 0 L 0.19948 0 E">
                                      <p:cBhvr>
                                        <p:cTn id="54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52 0 L 0.13299 0 E">
                                      <p:cBhvr>
                                        <p:cTn id="543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45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 L -0.06649 0 E">
                                      <p:cBhvr>
                                        <p:cTn id="547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34 0 L -0.13299 0 E">
                                      <p:cBhvr>
                                        <p:cTn id="549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122 0 L -0.19948 0 E">
                                      <p:cBhvr>
                                        <p:cTn id="551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-0.2651 0 E">
                                      <p:cBhvr>
                                        <p:cTn id="553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"/>
                            </p:stCondLst>
                            <p:childTnLst>
                              <p:par>
                                <p:cTn id="58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4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2699880">
                                      <p:cBhvr>
                                        <p:cTn id="593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400"/>
                            </p:stCondLst>
                            <p:childTnLst>
                              <p:par>
                                <p:cTn id="606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100"/>
                            </p:stCondLst>
                            <p:childTnLst>
                              <p:par>
                                <p:cTn id="649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2.22222E-006 L 0.02187 0.05308 E">
                                      <p:cBhvr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800"/>
                            </p:stCondLst>
                            <p:childTnLst>
                              <p:par>
                                <p:cTn id="652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9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1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9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3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700"/>
                            </p:stCondLst>
                            <p:childTnLst>
                              <p:par>
                                <p:cTn id="684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2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1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5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9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300"/>
                            </p:stCondLst>
                            <p:childTnLst>
                              <p:par>
                                <p:cTn id="700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8700"/>
                            </p:stCondLst>
                            <p:childTnLst>
                              <p:par>
                                <p:cTn id="704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900"/>
                            </p:stCondLst>
                            <p:childTnLst>
                              <p:par>
                                <p:cTn id="709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2560" cy="5145120"/>
            <a:chOff x="0" y="0"/>
            <a:chExt cx="9142560" cy="5145120"/>
          </a:xfrm>
        </p:grpSpPr>
        <p:pic>
          <p:nvPicPr>
            <p:cNvPr id="321" name="图片 4" descr="2.png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2560" cy="51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图片 3" descr="4.pn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800" y="0"/>
              <a:ext cx="9139680" cy="514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TextBox 2" descr=""/>
          <p:cNvPicPr/>
          <p:nvPr/>
        </p:nvPicPr>
        <p:blipFill>
          <a:blip r:embed="rId3"/>
          <a:stretch/>
        </p:blipFill>
        <p:spPr>
          <a:xfrm>
            <a:off x="2249640" y="2090880"/>
            <a:ext cx="4644720" cy="8348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812880" y="1455840"/>
            <a:ext cx="21682080" cy="1901880"/>
            <a:chOff x="812880" y="1455840"/>
            <a:chExt cx="21682080" cy="1901880"/>
          </a:xfrm>
        </p:grpSpPr>
        <p:grpSp>
          <p:nvGrpSpPr>
            <p:cNvPr id="325" name=""/>
            <p:cNvGrpSpPr/>
            <p:nvPr/>
          </p:nvGrpSpPr>
          <p:grpSpPr>
            <a:xfrm>
              <a:off x="8111520" y="2212200"/>
              <a:ext cx="14383440" cy="715320"/>
              <a:chOff x="8111520" y="2212200"/>
              <a:chExt cx="14383440" cy="7153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8111520" y="2212200"/>
                <a:ext cx="747720" cy="715320"/>
                <a:chOff x="8111520" y="2212200"/>
                <a:chExt cx="747720" cy="715320"/>
              </a:xfrm>
            </p:grpSpPr>
            <p:pic>
              <p:nvPicPr>
                <p:cNvPr id="327" name="同心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11520" y="2212200"/>
                  <a:ext cx="747720" cy="71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8233200" y="2329560"/>
                  <a:ext cx="50760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9254880" y="2246760"/>
                <a:ext cx="681120" cy="645840"/>
                <a:chOff x="9254880" y="2246760"/>
                <a:chExt cx="681120" cy="645840"/>
              </a:xfrm>
            </p:grpSpPr>
            <p:pic>
              <p:nvPicPr>
                <p:cNvPr id="330" name="同心圆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54880" y="2246760"/>
                  <a:ext cx="681120" cy="64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1" name=""/>
                <p:cNvSpPr/>
                <p:nvPr/>
              </p:nvSpPr>
              <p:spPr>
                <a:xfrm>
                  <a:off x="9370080" y="2353320"/>
                  <a:ext cx="45720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0331280" y="2281680"/>
                <a:ext cx="608040" cy="576000"/>
                <a:chOff x="10331280" y="2281680"/>
                <a:chExt cx="608040" cy="576000"/>
              </a:xfrm>
            </p:grpSpPr>
            <p:pic>
              <p:nvPicPr>
                <p:cNvPr id="333" name="同心圆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31280" y="2281680"/>
                  <a:ext cx="6080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4" name=""/>
                <p:cNvSpPr/>
                <p:nvPr/>
              </p:nvSpPr>
              <p:spPr>
                <a:xfrm>
                  <a:off x="10434600" y="2377800"/>
                  <a:ext cx="40644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1334600" y="2316600"/>
                <a:ext cx="534960" cy="506160"/>
                <a:chOff x="11334600" y="2316600"/>
                <a:chExt cx="534960" cy="506160"/>
              </a:xfrm>
            </p:grpSpPr>
            <p:pic>
              <p:nvPicPr>
                <p:cNvPr id="336" name="同心圆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34600" y="2316600"/>
                  <a:ext cx="53496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>
                  <a:off x="11427480" y="2401920"/>
                  <a:ext cx="3553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2265200" y="2351520"/>
                <a:ext cx="461880" cy="436320"/>
                <a:chOff x="12265200" y="2351520"/>
                <a:chExt cx="461880" cy="436320"/>
              </a:xfrm>
            </p:grpSpPr>
            <p:pic>
              <p:nvPicPr>
                <p:cNvPr id="339" name="同心圆 1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265200" y="2351520"/>
                  <a:ext cx="46188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12348720" y="2426400"/>
                  <a:ext cx="3045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3128840" y="2380680"/>
                <a:ext cx="389160" cy="372240"/>
                <a:chOff x="13128840" y="2380680"/>
                <a:chExt cx="389160" cy="372240"/>
              </a:xfrm>
            </p:grpSpPr>
            <p:pic>
              <p:nvPicPr>
                <p:cNvPr id="342" name="同心圆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128840" y="2380680"/>
                  <a:ext cx="389160" cy="37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13197960" y="2450880"/>
                  <a:ext cx="25380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3913640" y="2415600"/>
                <a:ext cx="322200" cy="308160"/>
                <a:chOff x="13913640" y="2415600"/>
                <a:chExt cx="322200" cy="308160"/>
              </a:xfrm>
            </p:grpSpPr>
            <p:pic>
              <p:nvPicPr>
                <p:cNvPr id="345" name="同心圆 2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913640" y="2415600"/>
                  <a:ext cx="32220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>
                  <a:off x="13975920" y="2475000"/>
                  <a:ext cx="20304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4631120" y="2450520"/>
                <a:ext cx="249120" cy="238320"/>
                <a:chOff x="14631120" y="2450520"/>
                <a:chExt cx="249120" cy="238320"/>
              </a:xfrm>
            </p:grpSpPr>
            <p:pic>
              <p:nvPicPr>
                <p:cNvPr id="348" name="同心圆 2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4631120" y="2450520"/>
                  <a:ext cx="249120" cy="23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>
                  <a:off x="14681160" y="2499480"/>
                  <a:ext cx="152280" cy="1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5275880" y="2485440"/>
                <a:ext cx="176040" cy="168480"/>
                <a:chOff x="15275880" y="2485440"/>
                <a:chExt cx="176040" cy="168480"/>
              </a:xfrm>
            </p:grpSpPr>
            <p:pic>
              <p:nvPicPr>
                <p:cNvPr id="351" name="椭圆 2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5275880" y="2485440"/>
                  <a:ext cx="17604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>
                  <a:off x="15315120" y="2523600"/>
                  <a:ext cx="101520" cy="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5847560" y="2503080"/>
                <a:ext cx="139680" cy="133560"/>
                <a:chOff x="15847560" y="2503080"/>
                <a:chExt cx="139680" cy="133560"/>
              </a:xfrm>
            </p:grpSpPr>
            <p:pic>
              <p:nvPicPr>
                <p:cNvPr id="354" name="椭圆 2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847560" y="2503080"/>
                  <a:ext cx="139680" cy="13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>
                  <a:off x="15882480" y="2535840"/>
                  <a:ext cx="759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6887600" y="2520360"/>
                <a:ext cx="103320" cy="98640"/>
                <a:chOff x="16887600" y="2520360"/>
                <a:chExt cx="103320" cy="98640"/>
              </a:xfrm>
            </p:grpSpPr>
            <p:pic>
              <p:nvPicPr>
                <p:cNvPr id="357" name="椭圆 2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8876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>
                  <a:off x="169146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16382880" y="2520360"/>
                <a:ext cx="103320" cy="98640"/>
                <a:chOff x="16382880" y="2520360"/>
                <a:chExt cx="103320" cy="98640"/>
              </a:xfrm>
            </p:grpSpPr>
            <p:pic>
              <p:nvPicPr>
                <p:cNvPr id="360" name="椭圆 4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38288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164138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7386200" y="2520360"/>
                <a:ext cx="103320" cy="98640"/>
                <a:chOff x="17386200" y="2520360"/>
                <a:chExt cx="103320" cy="98640"/>
              </a:xfrm>
            </p:grpSpPr>
            <p:pic>
              <p:nvPicPr>
                <p:cNvPr id="363" name="椭圆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862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" name=""/>
                <p:cNvSpPr/>
                <p:nvPr/>
              </p:nvSpPr>
              <p:spPr>
                <a:xfrm>
                  <a:off x="174150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7885160" y="2520360"/>
                <a:ext cx="103320" cy="98640"/>
                <a:chOff x="17885160" y="2520360"/>
                <a:chExt cx="103320" cy="98640"/>
              </a:xfrm>
            </p:grpSpPr>
            <p:pic>
              <p:nvPicPr>
                <p:cNvPr id="366" name="椭圆 4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78851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7" name=""/>
                <p:cNvSpPr/>
                <p:nvPr/>
              </p:nvSpPr>
              <p:spPr>
                <a:xfrm>
                  <a:off x="1791612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8389880" y="2520360"/>
                <a:ext cx="103320" cy="98640"/>
                <a:chOff x="18389880" y="2520360"/>
                <a:chExt cx="103320" cy="98640"/>
              </a:xfrm>
            </p:grpSpPr>
            <p:pic>
              <p:nvPicPr>
                <p:cNvPr id="369" name="椭圆 4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838988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>
                  <a:off x="184168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8888480" y="2520360"/>
                <a:ext cx="103320" cy="98640"/>
                <a:chOff x="18888480" y="2520360"/>
                <a:chExt cx="103320" cy="98640"/>
              </a:xfrm>
            </p:grpSpPr>
            <p:pic>
              <p:nvPicPr>
                <p:cNvPr id="372" name="椭圆 4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88848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"/>
                <p:cNvSpPr/>
                <p:nvPr/>
              </p:nvSpPr>
              <p:spPr>
                <a:xfrm>
                  <a:off x="189172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9387440" y="2520360"/>
                <a:ext cx="103320" cy="98640"/>
                <a:chOff x="19387440" y="2520360"/>
                <a:chExt cx="103320" cy="98640"/>
              </a:xfrm>
            </p:grpSpPr>
            <p:pic>
              <p:nvPicPr>
                <p:cNvPr id="375" name="椭圆 4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93874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>
                  <a:off x="194184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9892160" y="2520360"/>
                <a:ext cx="97200" cy="98640"/>
                <a:chOff x="19892160" y="2520360"/>
                <a:chExt cx="97200" cy="98640"/>
              </a:xfrm>
            </p:grpSpPr>
            <p:pic>
              <p:nvPicPr>
                <p:cNvPr id="378" name="椭圆 4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89216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>
                  <a:off x="199188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0390760" y="2520360"/>
                <a:ext cx="103320" cy="98640"/>
                <a:chOff x="20390760" y="2520360"/>
                <a:chExt cx="103320" cy="98640"/>
              </a:xfrm>
            </p:grpSpPr>
            <p:pic>
              <p:nvPicPr>
                <p:cNvPr id="381" name="椭圆 50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3907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/>
                <p:nvPr/>
              </p:nvSpPr>
              <p:spPr>
                <a:xfrm>
                  <a:off x="204195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0889360" y="2520360"/>
                <a:ext cx="103320" cy="98640"/>
                <a:chOff x="20889360" y="2520360"/>
                <a:chExt cx="103320" cy="98640"/>
              </a:xfrm>
            </p:grpSpPr>
            <p:pic>
              <p:nvPicPr>
                <p:cNvPr id="384" name="椭圆 8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08893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"/>
                <p:cNvSpPr/>
                <p:nvPr/>
              </p:nvSpPr>
              <p:spPr>
                <a:xfrm>
                  <a:off x="209199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1394440" y="2520360"/>
                <a:ext cx="97200" cy="98640"/>
                <a:chOff x="21394440" y="2520360"/>
                <a:chExt cx="97200" cy="98640"/>
              </a:xfrm>
            </p:grpSpPr>
            <p:pic>
              <p:nvPicPr>
                <p:cNvPr id="387" name="椭圆 8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139444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>
                  <a:off x="214210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1893040" y="2520360"/>
                <a:ext cx="103320" cy="98640"/>
                <a:chOff x="21893040" y="2520360"/>
                <a:chExt cx="103320" cy="98640"/>
              </a:xfrm>
            </p:grpSpPr>
            <p:pic>
              <p:nvPicPr>
                <p:cNvPr id="390" name="椭圆 88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18930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>
                  <a:off x="219214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2391640" y="2520360"/>
                <a:ext cx="103320" cy="98640"/>
                <a:chOff x="22391640" y="2520360"/>
                <a:chExt cx="103320" cy="98640"/>
              </a:xfrm>
            </p:grpSpPr>
            <p:pic>
              <p:nvPicPr>
                <p:cNvPr id="393" name="椭圆 89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3916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224222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5" name="图片 33" descr="18.png"/>
            <p:cNvPicPr/>
            <p:nvPr/>
          </p:nvPicPr>
          <p:blipFill>
            <a:blip r:embed="rId27"/>
            <a:stretch/>
          </p:blipFill>
          <p:spPr>
            <a:xfrm>
              <a:off x="812880" y="1455840"/>
              <a:ext cx="773280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4568E-006 L -1.89583 0.00031 E">
                                      <p:cBhvr>
                                        <p:cTn id="71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6:42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11:43:47Z</dcterms:modified>
  <cp:revision>3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