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9BF-C22C-4356-8A9B-E7D7955D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0940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651-FCB4-4663-836D-D36EFB2E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A92-6D58-49E9-913E-FAF8BF65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3BA-1D7E-42CE-BF6A-8A452917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D579-3BB9-4EB7-8EE7-88F399BF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4245-3B81-408F-BFB7-E2A5AA00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5E7B-1B4B-4628-A08D-987D5B80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90E3-1D8D-4209-A1F0-95610856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DC23-69C0-4F70-A094-CC49FDED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80D5-A0D3-4B85-876A-FF4F0AF9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C047-28F6-41B8-95A2-459FA19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DA3-D006-4FBE-B36B-CC1FED4C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12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3EE5-2B4B-4770-AF5D-FF677D42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38E0-89FD-432F-B371-145C8FA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0940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D399-5727-4DD1-9E3A-F1454F3A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12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65B2-7CD5-484E-BD75-34447791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8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6240" y="190476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8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6240" y="4109400"/>
            <a:ext cx="2576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E6E6-0AA5-48BA-B44B-AF42D8AB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3EF-39BC-418A-8695-86824D0B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E70-2011-407B-ADF2-26F944D7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317-B011-4266-9B5A-41F4599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BA2-EADA-40A0-8FFE-C1CBB3BA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1EE-6542-4EAA-AB38-25E1049A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410940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24E-8C64-4935-B11C-306F839B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904760"/>
            <a:ext cx="39042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09400"/>
            <a:ext cx="8001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ACA-874A-470E-970F-34208E89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847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2CF6-5606-4E77-8CC4-EE8E93661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847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C675-1BB4-400A-844C-FA9F88D6F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4956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847e"/>
                </a:solidFill>
                <a:latin typeface="Times New Roman"/>
                <a:ea typeface="宋体"/>
              </a:rPr>
              <a:t>Gutenberg's Text 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3534480" y="328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602440" y="3808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怀旧风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847e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47e"/>
                </a:solidFill>
                <a:latin typeface="Times New Roman"/>
                <a:ea typeface="宋体"/>
              </a:rPr>
              <a:t>使用规范说明</a:t>
            </a:r>
            <a:endParaRPr b="0" lang="en-US" sz="4000" spc="-1" strike="noStrike">
              <a:solidFill>
                <a:srgbClr val="54847e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14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4:17Z</dcterms:modified>
  <cp:revision>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