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24.jpeg" ContentType="image/jpeg"/>
  <Override PartName="/ppt/media/image9.jpeg" ContentType="image/jpeg"/>
  <Override PartName="/ppt/media/image8.jpeg" ContentType="image/jpeg"/>
  <Override PartName="/ppt/media/image7.jpeg" ContentType="image/jpeg"/>
  <Override PartName="/ppt/media/image15.gif" ContentType="image/gif"/>
  <Override PartName="/ppt/media/image6.jpeg" ContentType="image/jpeg"/>
  <Override PartName="/ppt/media/image10.png" ContentType="image/png"/>
  <Override PartName="/ppt/media/image11.gif" ContentType="image/gif"/>
  <Override PartName="/ppt/media/image5.jpeg" ContentType="image/jpeg"/>
  <Override PartName="/ppt/media/image26.jpeg" ContentType="image/jpeg"/>
  <Override PartName="/ppt/media/image13.gif" ContentType="image/gif"/>
  <Override PartName="/ppt/media/image16.jpeg" ContentType="image/jpeg"/>
  <Override PartName="/ppt/media/image21.png" ContentType="image/png"/>
  <Override PartName="/ppt/media/image20.jpeg" ContentType="image/jpeg"/>
  <Override PartName="/ppt/media/image14.gif" ContentType="image/gif"/>
  <Override PartName="/ppt/media/image19.jpeg" ContentType="image/jpeg"/>
  <Override PartName="/ppt/media/image18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15A9-20DE-4F46-BD00-55204F1A8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A2A0-E77C-4E10-80F7-BAA4BC63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60F4-83CA-4CEE-9F8F-000AF6D14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E1C9-9850-4B53-9590-CA7D1D47D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722B-F17D-4417-9655-0AAA0809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C6A7-61C8-4D36-BD14-38A77959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BAD2-CB91-4409-8F19-CD605608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1500-0EDE-4B14-BD44-F430F17B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116F-76AC-47BA-93EE-9FB59D79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B291-CAF9-4C06-AA80-AE72418D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C3FB-03C5-4A98-98EA-0C60E87A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0948-4BEC-4E9F-BF15-CAEF1D8D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9981-693F-4910-A554-550F8F6119F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BE55-63BD-457F-BC84-933C5881766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1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4.gif"/><Relationship Id="rId12" Type="http://schemas.openxmlformats.org/officeDocument/2006/relationships/image" Target="../media/image14.gif"/><Relationship Id="rId13" Type="http://schemas.openxmlformats.org/officeDocument/2006/relationships/image" Target="../media/image14.gif"/><Relationship Id="rId14" Type="http://schemas.openxmlformats.org/officeDocument/2006/relationships/image" Target="../media/image15.gif"/><Relationship Id="rId1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2072880" y="1413000"/>
            <a:ext cx="49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粗活意简体"/>
                <a:ea typeface="方正粗活意简体"/>
              </a:rPr>
              <a:t>画家乡</a:t>
            </a:r>
            <a:r>
              <a:rPr b="1" lang="zh-CN" sz="4000" spc="-1" strike="noStrike">
                <a:solidFill>
                  <a:srgbClr val="000000"/>
                </a:solidFill>
                <a:latin typeface="方正粗活意简体"/>
                <a:ea typeface="方正粗活意简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方正粗活意简体"/>
                <a:ea typeface="方正粗活意简体"/>
              </a:rPr>
              <a:t>课件完整版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山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0" y="4292640"/>
            <a:ext cx="9144000" cy="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山山的家乡在山里。他画的山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那么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，水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那么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清。房前屋后都是又高又大的树。画上的山山，提着小竹篮，正要到树林里去采蘑菇呢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4356000" y="260280"/>
            <a:ext cx="33847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山山提着小竹篮在干什么呢</a:t>
            </a:r>
            <a:r>
              <a:rPr b="1" lang="en-US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284720" y="2133720"/>
            <a:ext cx="3816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从山山表情你知道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948800" y="19080"/>
            <a:ext cx="912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画家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4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02DE-8509-4E68-8109-18A98845B3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草坪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324000" y="0"/>
            <a:ext cx="860400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自由选择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4—6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自然段一段进行自学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</a:rPr>
              <a:t>看图：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这是谁的家乡？他的家乡在哪儿？有  什么景物，他喜欢做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</a:rPr>
              <a:t>读文：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自由拼读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--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听同学朗读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--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找好词好句反复读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--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小组齐声表演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</a:rPr>
              <a:t>介绍：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看图，用自己的语言解说图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7699680" y="115920"/>
            <a:ext cx="912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画家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平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3"/>
          <p:cNvSpPr/>
          <p:nvPr/>
        </p:nvSpPr>
        <p:spPr>
          <a:xfrm>
            <a:off x="250920" y="3213000"/>
            <a:ext cx="8713800" cy="170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平平的家乡在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平原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她画的平原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那么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平坦，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那么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宽广。有金黄的稻子，雪白的棉花，还有一大片一大片碧绿的菜地。屋前有鸡、鸭，午后有翠竹。正在田野上奔跑的小女孩就是平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877080" y="4365720"/>
            <a:ext cx="1800360" cy="360"/>
            <a:chOff x="6877080" y="4365720"/>
            <a:chExt cx="1800360" cy="360"/>
          </a:xfrm>
        </p:grpSpPr>
        <p:sp>
          <p:nvSpPr>
            <p:cNvPr id="156" name="Line 4"/>
            <p:cNvSpPr/>
            <p:nvPr/>
          </p:nvSpPr>
          <p:spPr>
            <a:xfrm>
              <a:off x="6877080" y="4365720"/>
              <a:ext cx="180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6877080" y="4365720"/>
              <a:ext cx="180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79280" y="4869000"/>
            <a:ext cx="1513080" cy="1440"/>
            <a:chOff x="179280" y="4869000"/>
            <a:chExt cx="1513080" cy="1440"/>
          </a:xfrm>
        </p:grpSpPr>
        <p:sp>
          <p:nvSpPr>
            <p:cNvPr id="159" name="Line 5"/>
            <p:cNvSpPr/>
            <p:nvPr/>
          </p:nvSpPr>
          <p:spPr>
            <a:xfrm>
              <a:off x="179280" y="4869000"/>
              <a:ext cx="15130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179280" y="4869000"/>
              <a:ext cx="15130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124000" y="4869000"/>
            <a:ext cx="2808360" cy="1440"/>
            <a:chOff x="2124000" y="4869000"/>
            <a:chExt cx="2808360" cy="1440"/>
          </a:xfrm>
        </p:grpSpPr>
        <p:sp>
          <p:nvSpPr>
            <p:cNvPr id="162" name="Line 6"/>
            <p:cNvSpPr/>
            <p:nvPr/>
          </p:nvSpPr>
          <p:spPr>
            <a:xfrm>
              <a:off x="2124000" y="4869000"/>
              <a:ext cx="280836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2124000" y="4869000"/>
              <a:ext cx="2808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547640" y="5373720"/>
            <a:ext cx="2880000" cy="1440"/>
            <a:chOff x="1547640" y="5373720"/>
            <a:chExt cx="2880000" cy="1440"/>
          </a:xfrm>
        </p:grpSpPr>
        <p:sp>
          <p:nvSpPr>
            <p:cNvPr id="165" name="Line 7"/>
            <p:cNvSpPr/>
            <p:nvPr/>
          </p:nvSpPr>
          <p:spPr>
            <a:xfrm>
              <a:off x="1547640" y="5373720"/>
              <a:ext cx="288000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1547640" y="5373720"/>
              <a:ext cx="2880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8"/>
          <p:cNvSpPr/>
          <p:nvPr/>
        </p:nvSpPr>
        <p:spPr>
          <a:xfrm>
            <a:off x="7948800" y="19080"/>
            <a:ext cx="912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画家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草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3"/>
          <p:cNvSpPr/>
          <p:nvPr/>
        </p:nvSpPr>
        <p:spPr>
          <a:xfrm>
            <a:off x="0" y="4149720"/>
            <a:ext cx="9144000" cy="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青青的家乡在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草原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她画的草原一眼望不到边。草长得又绿又密，羊群在草原上走来走去。一匹骏马从远处奔来，青青正骑在马上赶着羊群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867280" y="5300640"/>
            <a:ext cx="2089440" cy="1440"/>
            <a:chOff x="5867280" y="5300640"/>
            <a:chExt cx="2089440" cy="1440"/>
          </a:xfrm>
        </p:grpSpPr>
        <p:sp>
          <p:nvSpPr>
            <p:cNvPr id="171" name="Line 4"/>
            <p:cNvSpPr/>
            <p:nvPr/>
          </p:nvSpPr>
          <p:spPr>
            <a:xfrm>
              <a:off x="5867280" y="5300640"/>
              <a:ext cx="20894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5867280" y="5300640"/>
              <a:ext cx="2089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564000" y="5805360"/>
            <a:ext cx="2089080" cy="1800"/>
            <a:chOff x="3564000" y="5805360"/>
            <a:chExt cx="2089080" cy="1800"/>
          </a:xfrm>
        </p:grpSpPr>
        <p:sp>
          <p:nvSpPr>
            <p:cNvPr id="174" name="Line 5"/>
            <p:cNvSpPr/>
            <p:nvPr/>
          </p:nvSpPr>
          <p:spPr>
            <a:xfrm>
              <a:off x="3564000" y="5805360"/>
              <a:ext cx="208908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3564000" y="5805360"/>
              <a:ext cx="20890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Rectangle 6"/>
          <p:cNvSpPr/>
          <p:nvPr/>
        </p:nvSpPr>
        <p:spPr>
          <a:xfrm>
            <a:off x="7948800" y="19080"/>
            <a:ext cx="912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画家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城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3"/>
          <p:cNvSpPr/>
          <p:nvPr/>
        </p:nvSpPr>
        <p:spPr>
          <a:xfrm>
            <a:off x="250920" y="4437000"/>
            <a:ext cx="8640720" cy="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京京的家乡在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城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他画的城市那么美。宽宽的街道，高高的楼房，还有一座座街心公园。那个正跑向科技馆的小男孩，就是京京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348000" y="5589720"/>
            <a:ext cx="2376360" cy="1440"/>
            <a:chOff x="3348000" y="5589720"/>
            <a:chExt cx="2376360" cy="1440"/>
          </a:xfrm>
        </p:grpSpPr>
        <p:sp>
          <p:nvSpPr>
            <p:cNvPr id="180" name="Line 4"/>
            <p:cNvSpPr/>
            <p:nvPr/>
          </p:nvSpPr>
          <p:spPr>
            <a:xfrm>
              <a:off x="3348000" y="5589720"/>
              <a:ext cx="237636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3348000" y="5589720"/>
              <a:ext cx="2376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372360" y="5516640"/>
            <a:ext cx="2376360" cy="1440"/>
            <a:chOff x="6372360" y="5516640"/>
            <a:chExt cx="2376360" cy="1440"/>
          </a:xfrm>
        </p:grpSpPr>
        <p:sp>
          <p:nvSpPr>
            <p:cNvPr id="183" name="Line 5"/>
            <p:cNvSpPr/>
            <p:nvPr/>
          </p:nvSpPr>
          <p:spPr>
            <a:xfrm>
              <a:off x="6372360" y="5516640"/>
              <a:ext cx="237636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6372360" y="5516640"/>
              <a:ext cx="2376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0" y="6093000"/>
            <a:ext cx="971640" cy="360"/>
            <a:chOff x="0" y="6093000"/>
            <a:chExt cx="971640" cy="360"/>
          </a:xfrm>
        </p:grpSpPr>
        <p:sp>
          <p:nvSpPr>
            <p:cNvPr id="186" name="Line 6"/>
            <p:cNvSpPr/>
            <p:nvPr/>
          </p:nvSpPr>
          <p:spPr>
            <a:xfrm>
              <a:off x="0" y="6093000"/>
              <a:ext cx="971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0" y="6093000"/>
              <a:ext cx="971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700000" y="6092640"/>
            <a:ext cx="1656000" cy="360"/>
            <a:chOff x="2700000" y="6092640"/>
            <a:chExt cx="1656000" cy="360"/>
          </a:xfrm>
        </p:grpSpPr>
        <p:sp>
          <p:nvSpPr>
            <p:cNvPr id="189" name="Line 7"/>
            <p:cNvSpPr/>
            <p:nvPr/>
          </p:nvSpPr>
          <p:spPr>
            <a:xfrm>
              <a:off x="2700360" y="6093000"/>
              <a:ext cx="1655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 rot="10800000">
              <a:off x="2700000" y="6092640"/>
              <a:ext cx="165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8"/>
          <p:cNvSpPr/>
          <p:nvPr/>
        </p:nvSpPr>
        <p:spPr>
          <a:xfrm>
            <a:off x="7948800" y="19080"/>
            <a:ext cx="912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画家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草坪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2"/>
          <p:cNvSpPr/>
          <p:nvPr/>
        </p:nvSpPr>
        <p:spPr>
          <a:xfrm>
            <a:off x="755640" y="2133720"/>
            <a:ext cx="79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向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家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介绍一下，这个家乡的什么地方把你迷住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79280" y="182520"/>
            <a:ext cx="27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说一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7556760" y="189000"/>
            <a:ext cx="912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画家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2503080" y="1123920"/>
            <a:ext cx="23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喜欢谁的家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9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030" descr="草坪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026"/>
          <p:cNvSpPr/>
          <p:nvPr/>
        </p:nvSpPr>
        <p:spPr>
          <a:xfrm>
            <a:off x="615960" y="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一、读读说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27"/>
          <p:cNvSpPr/>
          <p:nvPr/>
        </p:nvSpPr>
        <p:spPr>
          <a:xfrm>
            <a:off x="4518720" y="549360"/>
            <a:ext cx="403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他画的海那么蓝，那么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他画的山那么高，那么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她画的平原那么平坦，那么宽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28"/>
          <p:cNvSpPr/>
          <p:nvPr/>
        </p:nvSpPr>
        <p:spPr>
          <a:xfrm>
            <a:off x="1290600" y="3213000"/>
            <a:ext cx="68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么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那么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029"/>
          <p:cNvSpPr/>
          <p:nvPr/>
        </p:nvSpPr>
        <p:spPr>
          <a:xfrm>
            <a:off x="7948800" y="19080"/>
            <a:ext cx="912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画家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031"/>
          <p:cNvSpPr/>
          <p:nvPr/>
        </p:nvSpPr>
        <p:spPr>
          <a:xfrm>
            <a:off x="3245400" y="765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032"/>
          <p:cNvSpPr/>
          <p:nvPr/>
        </p:nvSpPr>
        <p:spPr>
          <a:xfrm>
            <a:off x="5045400" y="765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033"/>
          <p:cNvSpPr/>
          <p:nvPr/>
        </p:nvSpPr>
        <p:spPr>
          <a:xfrm>
            <a:off x="3245400" y="1628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34"/>
          <p:cNvSpPr/>
          <p:nvPr/>
        </p:nvSpPr>
        <p:spPr>
          <a:xfrm>
            <a:off x="5045400" y="1628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35"/>
          <p:cNvSpPr/>
          <p:nvPr/>
        </p:nvSpPr>
        <p:spPr>
          <a:xfrm>
            <a:off x="3678480" y="2421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36"/>
          <p:cNvSpPr/>
          <p:nvPr/>
        </p:nvSpPr>
        <p:spPr>
          <a:xfrm>
            <a:off x="5982120" y="2421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37"/>
          <p:cNvSpPr/>
          <p:nvPr/>
        </p:nvSpPr>
        <p:spPr>
          <a:xfrm>
            <a:off x="755640" y="314172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这些苹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38"/>
          <p:cNvSpPr/>
          <p:nvPr/>
        </p:nvSpPr>
        <p:spPr>
          <a:xfrm>
            <a:off x="3851280" y="3141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39"/>
          <p:cNvSpPr/>
          <p:nvPr/>
        </p:nvSpPr>
        <p:spPr>
          <a:xfrm>
            <a:off x="6588000" y="3068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草坪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3"/>
          <p:cNvSpPr/>
          <p:nvPr/>
        </p:nvSpPr>
        <p:spPr>
          <a:xfrm>
            <a:off x="0" y="189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读一读，记一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她的眼睛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么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圆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么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明亮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他玩得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么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开心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么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快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松果是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么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香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么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可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我们的学校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么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宽广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么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美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这个西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么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圆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么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0" y="0"/>
            <a:ext cx="102600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二、按课文内容填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Calibri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、涛涛的家乡在（     ），他画的海（      ），（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Calibri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、山山的家乡在（     ），他画的山（      ），水（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Calibri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、平平的家乡在（     ），她画的平原（     ），（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Calibri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、青青的家乡在（         ），她画的草原（ 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Calibri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、京京的家乡在（         ），她画的城市（ 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Calibri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、我喜欢（       ）画的家乡，因为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Calibri"/>
              </a:rPr>
              <a:t>7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、我的家乡在（         ），那里有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 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611280" y="234936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草坪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533520" y="3049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Calibri"/>
                <a:ea typeface="宋体"/>
              </a:rPr>
              <a:t>课文里写了哪几个孩子的家乡？他们的家乡分别在哪里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2209680" y="2076480"/>
            <a:ext cx="4343400" cy="484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宋体"/>
              </a:rPr>
              <a:t>涛涛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Calibri"/>
              </a:rPr>
              <a:t>——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宋体"/>
              </a:rPr>
              <a:t>海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宋体"/>
              </a:rPr>
              <a:t>山山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Calibri"/>
              </a:rPr>
              <a:t>——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宋体"/>
              </a:rPr>
              <a:t>山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宋体"/>
              </a:rPr>
              <a:t>平平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Calibri"/>
              </a:rPr>
              <a:t>——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宋体"/>
              </a:rPr>
              <a:t>平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宋体"/>
              </a:rPr>
              <a:t>青青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Calibri"/>
              </a:rPr>
              <a:t>——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宋体"/>
              </a:rPr>
              <a:t>草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宋体"/>
              </a:rPr>
              <a:t>京京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Calibri"/>
              </a:rPr>
              <a:t>——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宋体"/>
              </a:rPr>
              <a:t>城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7948800" y="19080"/>
            <a:ext cx="912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画家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草坪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3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总结课文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通过学习课文，你知道了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395280" y="2349360"/>
            <a:ext cx="8424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通过学习课文，知道祖国的伟大、美丽、可爱。我爱伟大的祖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/>
          <a:srcRect l="0" t="7289" r="0" b="10415"/>
          <a:stretch/>
        </p:blipFill>
        <p:spPr>
          <a:xfrm>
            <a:off x="0" y="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3"/>
          <p:cNvSpPr/>
          <p:nvPr/>
        </p:nvSpPr>
        <p:spPr>
          <a:xfrm>
            <a:off x="0" y="4581360"/>
            <a:ext cx="9144000" cy="2432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实践活动：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画一画自己的家乡，介绍自己的家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5" descr="柑桔"/>
          <p:cNvPicPr/>
          <p:nvPr/>
        </p:nvPicPr>
        <p:blipFill>
          <a:blip r:embed="rId1"/>
          <a:stretch/>
        </p:blipFill>
        <p:spPr>
          <a:xfrm>
            <a:off x="900000" y="0"/>
            <a:ext cx="7344000" cy="42480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6"/>
          <p:cNvSpPr/>
          <p:nvPr/>
        </p:nvSpPr>
        <p:spPr>
          <a:xfrm>
            <a:off x="250920" y="4581360"/>
            <a:ext cx="8893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的家乡在（    ）。我画的（      ）那么（      ），那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那个在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孩子，就是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苹果"/>
          <p:cNvPicPr/>
          <p:nvPr/>
        </p:nvPicPr>
        <p:blipFill>
          <a:blip r:embed="rId1"/>
          <a:stretch/>
        </p:blipFill>
        <p:spPr>
          <a:xfrm>
            <a:off x="762120" y="0"/>
            <a:ext cx="7619760" cy="46530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3"/>
          <p:cNvSpPr/>
          <p:nvPr/>
        </p:nvSpPr>
        <p:spPr>
          <a:xfrm>
            <a:off x="250920" y="4797360"/>
            <a:ext cx="8893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的家乡在（    ）。我画的（      ）那么（      ），那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那个在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孩子，就是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"/>
          <p:cNvSpPr/>
          <p:nvPr/>
        </p:nvSpPr>
        <p:spPr>
          <a:xfrm>
            <a:off x="250920" y="4797360"/>
            <a:ext cx="8893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的家乡在（    ）。我画的（      ）那么（      ），那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那个在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孩子，就是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3"/>
          <p:cNvSpPr/>
          <p:nvPr/>
        </p:nvSpPr>
        <p:spPr>
          <a:xfrm>
            <a:off x="250920" y="4797360"/>
            <a:ext cx="8893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的家乡在（     ）。我画的（      ）那么（      ），那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那个在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孩子，就是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3"/>
          <p:cNvSpPr/>
          <p:nvPr/>
        </p:nvSpPr>
        <p:spPr>
          <a:xfrm>
            <a:off x="250920" y="4797360"/>
            <a:ext cx="8893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的家乡在（    ）。我画的（      ）那么（      ），那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那个在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孩子，就是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59280" y="342900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xyq01"/>
          <p:cNvPicPr/>
          <p:nvPr/>
        </p:nvPicPr>
        <p:blipFill>
          <a:blip r:embed="rId2"/>
          <a:stretch/>
        </p:blipFill>
        <p:spPr>
          <a:xfrm>
            <a:off x="3059280" y="342900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0" y="4221000"/>
            <a:ext cx="601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xyq05"/>
          <p:cNvPicPr/>
          <p:nvPr/>
        </p:nvPicPr>
        <p:blipFill>
          <a:blip r:embed="rId3"/>
          <a:srcRect l="16329" t="10536" r="31572" b="0"/>
          <a:stretch/>
        </p:blipFill>
        <p:spPr>
          <a:xfrm>
            <a:off x="4788000" y="260280"/>
            <a:ext cx="2808360" cy="216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xyq02"/>
          <p:cNvPicPr/>
          <p:nvPr/>
        </p:nvPicPr>
        <p:blipFill>
          <a:blip r:embed="rId4"/>
          <a:srcRect l="10405" t="0" r="46425" b="0"/>
          <a:stretch/>
        </p:blipFill>
        <p:spPr>
          <a:xfrm>
            <a:off x="1332000" y="189000"/>
            <a:ext cx="2663640" cy="223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xyq04"/>
          <p:cNvPicPr/>
          <p:nvPr/>
        </p:nvPicPr>
        <p:blipFill>
          <a:blip r:embed="rId5"/>
          <a:srcRect l="12607" t="2204" r="48024" b="0"/>
          <a:stretch/>
        </p:blipFill>
        <p:spPr>
          <a:xfrm>
            <a:off x="324000" y="3429000"/>
            <a:ext cx="2376360" cy="25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xyq03"/>
          <p:cNvPicPr/>
          <p:nvPr/>
        </p:nvPicPr>
        <p:blipFill>
          <a:blip r:embed="rId6"/>
          <a:srcRect l="21730" t="4390" r="42216" b="0"/>
          <a:stretch/>
        </p:blipFill>
        <p:spPr>
          <a:xfrm>
            <a:off x="6084720" y="3429000"/>
            <a:ext cx="2519640" cy="259236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8"/>
          <p:cNvGrpSpPr/>
          <p:nvPr/>
        </p:nvGrpSpPr>
        <p:grpSpPr>
          <a:xfrm>
            <a:off x="1908000" y="2349360"/>
            <a:ext cx="1511280" cy="764280"/>
            <a:chOff x="1908000" y="2349360"/>
            <a:chExt cx="1511280" cy="764280"/>
          </a:xfrm>
        </p:grpSpPr>
        <p:sp>
          <p:nvSpPr>
            <p:cNvPr id="56" name="Rectangle 9"/>
            <p:cNvSpPr/>
            <p:nvPr/>
          </p:nvSpPr>
          <p:spPr>
            <a:xfrm>
              <a:off x="1908000" y="2420640"/>
              <a:ext cx="1511280" cy="648000"/>
            </a:xfrm>
            <a:prstGeom prst="rect">
              <a:avLst/>
            </a:prstGeom>
            <a:solidFill>
              <a:srgbClr val="ffff0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0"/>
            <p:cNvSpPr/>
            <p:nvPr/>
          </p:nvSpPr>
          <p:spPr>
            <a:xfrm>
              <a:off x="1979280" y="2349360"/>
              <a:ext cx="136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9900"/>
                  </a:solidFill>
                  <a:latin typeface="Arial"/>
                  <a:ea typeface="楷体_GB2312"/>
                </a:rPr>
                <a:t>山山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1"/>
          <p:cNvGrpSpPr/>
          <p:nvPr/>
        </p:nvGrpSpPr>
        <p:grpSpPr>
          <a:xfrm>
            <a:off x="5435640" y="2349360"/>
            <a:ext cx="1511280" cy="764280"/>
            <a:chOff x="5435640" y="2349360"/>
            <a:chExt cx="1511280" cy="764280"/>
          </a:xfrm>
        </p:grpSpPr>
        <p:sp>
          <p:nvSpPr>
            <p:cNvPr id="59" name="Rectangle 12"/>
            <p:cNvSpPr/>
            <p:nvPr/>
          </p:nvSpPr>
          <p:spPr>
            <a:xfrm>
              <a:off x="5435640" y="2420640"/>
              <a:ext cx="1511280" cy="648000"/>
            </a:xfrm>
            <a:prstGeom prst="rect">
              <a:avLst/>
            </a:prstGeom>
            <a:solidFill>
              <a:srgbClr val="ffff0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3"/>
            <p:cNvSpPr/>
            <p:nvPr/>
          </p:nvSpPr>
          <p:spPr>
            <a:xfrm>
              <a:off x="5506920" y="2349360"/>
              <a:ext cx="136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9900"/>
                  </a:solidFill>
                  <a:latin typeface="Arial"/>
                  <a:ea typeface="楷体_GB2312"/>
                </a:rPr>
                <a:t>青青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14"/>
          <p:cNvGrpSpPr/>
          <p:nvPr/>
        </p:nvGrpSpPr>
        <p:grpSpPr>
          <a:xfrm>
            <a:off x="684360" y="5950080"/>
            <a:ext cx="1511280" cy="764280"/>
            <a:chOff x="684360" y="5950080"/>
            <a:chExt cx="1511280" cy="764280"/>
          </a:xfrm>
        </p:grpSpPr>
        <p:sp>
          <p:nvSpPr>
            <p:cNvPr id="62" name="Rectangle 15"/>
            <p:cNvSpPr/>
            <p:nvPr/>
          </p:nvSpPr>
          <p:spPr>
            <a:xfrm>
              <a:off x="684360" y="6021000"/>
              <a:ext cx="1511280" cy="647640"/>
            </a:xfrm>
            <a:prstGeom prst="rect">
              <a:avLst/>
            </a:prstGeom>
            <a:solidFill>
              <a:srgbClr val="ffff0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6"/>
            <p:cNvSpPr/>
            <p:nvPr/>
          </p:nvSpPr>
          <p:spPr>
            <a:xfrm>
              <a:off x="755640" y="5950080"/>
              <a:ext cx="136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9900"/>
                  </a:solidFill>
                  <a:latin typeface="Arial"/>
                  <a:ea typeface="楷体_GB2312"/>
                </a:rPr>
                <a:t>京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7"/>
          <p:cNvGrpSpPr/>
          <p:nvPr/>
        </p:nvGrpSpPr>
        <p:grpSpPr>
          <a:xfrm>
            <a:off x="6588000" y="5948280"/>
            <a:ext cx="1511280" cy="764280"/>
            <a:chOff x="6588000" y="5948280"/>
            <a:chExt cx="1511280" cy="764280"/>
          </a:xfrm>
        </p:grpSpPr>
        <p:sp>
          <p:nvSpPr>
            <p:cNvPr id="65" name="Rectangle 18"/>
            <p:cNvSpPr/>
            <p:nvPr/>
          </p:nvSpPr>
          <p:spPr>
            <a:xfrm>
              <a:off x="6588000" y="6019560"/>
              <a:ext cx="1511280" cy="648000"/>
            </a:xfrm>
            <a:prstGeom prst="rect">
              <a:avLst/>
            </a:prstGeom>
            <a:solidFill>
              <a:srgbClr val="ffff0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19"/>
            <p:cNvSpPr/>
            <p:nvPr/>
          </p:nvSpPr>
          <p:spPr>
            <a:xfrm>
              <a:off x="6659280" y="5948280"/>
              <a:ext cx="136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9900"/>
                  </a:solidFill>
                  <a:latin typeface="Arial"/>
                  <a:ea typeface="楷体_GB2312"/>
                </a:rPr>
                <a:t>平平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20"/>
          <p:cNvGrpSpPr/>
          <p:nvPr/>
        </p:nvGrpSpPr>
        <p:grpSpPr>
          <a:xfrm>
            <a:off x="3564000" y="5445000"/>
            <a:ext cx="1511280" cy="1269000"/>
            <a:chOff x="3564000" y="5445000"/>
            <a:chExt cx="1511280" cy="1269000"/>
          </a:xfrm>
        </p:grpSpPr>
        <p:grpSp>
          <p:nvGrpSpPr>
            <p:cNvPr id="68" name="Group 21"/>
            <p:cNvGrpSpPr/>
            <p:nvPr/>
          </p:nvGrpSpPr>
          <p:grpSpPr>
            <a:xfrm>
              <a:off x="3564000" y="5949720"/>
              <a:ext cx="1511280" cy="764280"/>
              <a:chOff x="3564000" y="5949720"/>
              <a:chExt cx="1511280" cy="764280"/>
            </a:xfrm>
          </p:grpSpPr>
          <p:sp>
            <p:nvSpPr>
              <p:cNvPr id="69" name="Rectangle 22"/>
              <p:cNvSpPr/>
              <p:nvPr/>
            </p:nvSpPr>
            <p:spPr>
              <a:xfrm>
                <a:off x="3564000" y="6021000"/>
                <a:ext cx="1511280" cy="648000"/>
              </a:xfrm>
              <a:prstGeom prst="rect">
                <a:avLst/>
              </a:prstGeom>
              <a:solidFill>
                <a:srgbClr val="ffff00">
                  <a:alpha val="4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Text Box 23"/>
              <p:cNvSpPr/>
              <p:nvPr/>
            </p:nvSpPr>
            <p:spPr>
              <a:xfrm>
                <a:off x="3635280" y="5949720"/>
                <a:ext cx="13687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9900"/>
                    </a:solidFill>
                    <a:latin typeface="Arial"/>
                    <a:ea typeface="楷体_GB2312"/>
                  </a:rPr>
                  <a:t>涛涛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Text Box 24"/>
            <p:cNvSpPr/>
            <p:nvPr/>
          </p:nvSpPr>
          <p:spPr>
            <a:xfrm>
              <a:off x="3635280" y="5445000"/>
              <a:ext cx="107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Arial"/>
                </a:rPr>
                <a:t>t</a:t>
              </a:r>
              <a:r>
                <a:rPr b="1" lang="en-US" sz="4000" spc="-1" strike="noStrike">
                  <a:solidFill>
                    <a:srgbClr val="ff3300"/>
                  </a:solidFill>
                  <a:latin typeface="Arial"/>
                </a:rPr>
                <a:t>ā</a:t>
              </a:r>
              <a:r>
                <a:rPr b="1" lang="en-US" sz="3600" spc="-1" strike="noStrike">
                  <a:solidFill>
                    <a:srgbClr val="ff3300"/>
                  </a:solidFill>
                  <a:latin typeface="Arial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25"/>
          <p:cNvSpPr/>
          <p:nvPr/>
        </p:nvSpPr>
        <p:spPr>
          <a:xfrm>
            <a:off x="0" y="0"/>
            <a:ext cx="971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说说图上分别画了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6"/>
          <p:cNvSpPr/>
          <p:nvPr/>
        </p:nvSpPr>
        <p:spPr>
          <a:xfrm>
            <a:off x="7948800" y="19080"/>
            <a:ext cx="912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画家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2540160" y="1774800"/>
            <a:ext cx="498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58680" y="117360"/>
            <a:ext cx="3505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上画的是什么地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海边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什么景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里的小朋友喜欢做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喜欢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826920" y="5013360"/>
            <a:ext cx="32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（捡贝壳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0" y="2852640"/>
            <a:ext cx="34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（船、海水、鱼、虾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海边"/>
          <p:cNvPicPr/>
          <p:nvPr/>
        </p:nvPicPr>
        <p:blipFill>
          <a:blip r:embed="rId1"/>
          <a:stretch/>
        </p:blipFill>
        <p:spPr>
          <a:xfrm>
            <a:off x="3635280" y="0"/>
            <a:ext cx="550872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0"/>
          <p:cNvSpPr/>
          <p:nvPr/>
        </p:nvSpPr>
        <p:spPr>
          <a:xfrm>
            <a:off x="7948800" y="19080"/>
            <a:ext cx="912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画家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海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2356200" y="3357720"/>
            <a:ext cx="4539240" cy="333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涛涛的家乡在海边。他画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海那么蓝，那么宽。一艘艘船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装满了鱼和虾。那个在海滩上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着脚捡贝壳的孩子，就是涛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7948800" y="19080"/>
            <a:ext cx="912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画家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海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1693440" y="3357720"/>
            <a:ext cx="5842440" cy="333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涛涛的家乡在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海边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他画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海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那么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蓝，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那么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宽。一艘艘船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装满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了鱼和虾。那个在海滩上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着脚捡贝壳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孩子，就是涛涛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7628040" y="115920"/>
            <a:ext cx="912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画家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539640" y="476280"/>
            <a:ext cx="3672000" cy="2087640"/>
          </a:xfrm>
          <a:prstGeom prst="wedgeEllipseCallout">
            <a:avLst>
              <a:gd name="adj1" fmla="val -23106"/>
              <a:gd name="adj2" fmla="val 1236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作者用上了“那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那么”表达了对大海的喜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8"/>
          <p:cNvGrpSpPr/>
          <p:nvPr/>
        </p:nvGrpSpPr>
        <p:grpSpPr>
          <a:xfrm>
            <a:off x="826920" y="4005360"/>
            <a:ext cx="7561440" cy="936000"/>
            <a:chOff x="826920" y="4005360"/>
            <a:chExt cx="7561440" cy="936000"/>
          </a:xfrm>
        </p:grpSpPr>
        <p:grpSp>
          <p:nvGrpSpPr>
            <p:cNvPr id="88" name=""/>
            <p:cNvGrpSpPr/>
            <p:nvPr/>
          </p:nvGrpSpPr>
          <p:grpSpPr>
            <a:xfrm>
              <a:off x="6804000" y="4005360"/>
              <a:ext cx="1584360" cy="1080"/>
              <a:chOff x="6804000" y="4005360"/>
              <a:chExt cx="1584360" cy="1080"/>
            </a:xfrm>
          </p:grpSpPr>
          <p:sp>
            <p:nvSpPr>
              <p:cNvPr id="89" name="Line 6"/>
              <p:cNvSpPr/>
              <p:nvPr/>
            </p:nvSpPr>
            <p:spPr>
              <a:xfrm>
                <a:off x="6804000" y="4005360"/>
                <a:ext cx="1584360" cy="1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 txBox="1"/>
              <p:nvPr/>
            </p:nvSpPr>
            <p:spPr>
              <a:xfrm>
                <a:off x="6804000" y="4005360"/>
                <a:ext cx="158436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826920" y="4940280"/>
              <a:ext cx="4176720" cy="1080"/>
              <a:chOff x="826920" y="4940280"/>
              <a:chExt cx="4176720" cy="1080"/>
            </a:xfrm>
          </p:grpSpPr>
          <p:sp>
            <p:nvSpPr>
              <p:cNvPr id="92" name="Line 7"/>
              <p:cNvSpPr/>
              <p:nvPr/>
            </p:nvSpPr>
            <p:spPr>
              <a:xfrm>
                <a:off x="826920" y="4940280"/>
                <a:ext cx="4176720" cy="1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>
                <a:off x="826920" y="4940280"/>
                <a:ext cx="41767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170E-FBF4-4876-A17A-FBF1DCCBBF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026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27" descr="船"/>
          <p:cNvPicPr/>
          <p:nvPr/>
        </p:nvPicPr>
        <p:blipFill>
          <a:blip r:embed="rId2"/>
          <a:stretch/>
        </p:blipFill>
        <p:spPr>
          <a:xfrm>
            <a:off x="5867280" y="4869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28" descr="船"/>
          <p:cNvPicPr/>
          <p:nvPr/>
        </p:nvPicPr>
        <p:blipFill>
          <a:blip r:embed="rId3"/>
          <a:stretch/>
        </p:blipFill>
        <p:spPr>
          <a:xfrm>
            <a:off x="2124000" y="479736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29" descr="船"/>
          <p:cNvPicPr/>
          <p:nvPr/>
        </p:nvPicPr>
        <p:blipFill>
          <a:blip r:embed="rId4"/>
          <a:stretch/>
        </p:blipFill>
        <p:spPr>
          <a:xfrm>
            <a:off x="7451640" y="494172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30" descr="船1"/>
          <p:cNvPicPr/>
          <p:nvPr/>
        </p:nvPicPr>
        <p:blipFill>
          <a:blip r:embed="rId5"/>
          <a:stretch/>
        </p:blipFill>
        <p:spPr>
          <a:xfrm>
            <a:off x="8667720" y="5127480"/>
            <a:ext cx="476280" cy="533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31" descr="船1"/>
          <p:cNvPicPr/>
          <p:nvPr/>
        </p:nvPicPr>
        <p:blipFill>
          <a:blip r:embed="rId6"/>
          <a:stretch/>
        </p:blipFill>
        <p:spPr>
          <a:xfrm>
            <a:off x="4427640" y="5084640"/>
            <a:ext cx="476280" cy="533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32" descr="船"/>
          <p:cNvPicPr/>
          <p:nvPr/>
        </p:nvPicPr>
        <p:blipFill>
          <a:blip r:embed="rId7"/>
          <a:stretch/>
        </p:blipFill>
        <p:spPr>
          <a:xfrm>
            <a:off x="8381880" y="522936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33"/>
          <p:cNvSpPr/>
          <p:nvPr/>
        </p:nvSpPr>
        <p:spPr>
          <a:xfrm>
            <a:off x="792000" y="1197000"/>
            <a:ext cx="835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他画的海那么蓝，那么宽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34" descr="fish17"/>
          <p:cNvPicPr/>
          <p:nvPr/>
        </p:nvPicPr>
        <p:blipFill>
          <a:blip r:embed="rId8"/>
          <a:stretch/>
        </p:blipFill>
        <p:spPr>
          <a:xfrm>
            <a:off x="5580000" y="6524640"/>
            <a:ext cx="504720" cy="92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35" descr="fish17"/>
          <p:cNvPicPr/>
          <p:nvPr/>
        </p:nvPicPr>
        <p:blipFill>
          <a:blip r:embed="rId9"/>
          <a:stretch/>
        </p:blipFill>
        <p:spPr>
          <a:xfrm>
            <a:off x="6300720" y="6361200"/>
            <a:ext cx="358920" cy="129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36" descr="fish17"/>
          <p:cNvPicPr/>
          <p:nvPr/>
        </p:nvPicPr>
        <p:blipFill>
          <a:blip r:embed="rId10"/>
          <a:stretch/>
        </p:blipFill>
        <p:spPr>
          <a:xfrm>
            <a:off x="6732720" y="5497560"/>
            <a:ext cx="360360" cy="129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37" descr="b1"/>
          <p:cNvPicPr/>
          <p:nvPr/>
        </p:nvPicPr>
        <p:blipFill>
          <a:blip r:embed="rId11"/>
          <a:stretch/>
        </p:blipFill>
        <p:spPr>
          <a:xfrm>
            <a:off x="250920" y="6292800"/>
            <a:ext cx="360360" cy="276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38" descr="b1"/>
          <p:cNvPicPr/>
          <p:nvPr/>
        </p:nvPicPr>
        <p:blipFill>
          <a:blip r:embed="rId12"/>
          <a:stretch/>
        </p:blipFill>
        <p:spPr>
          <a:xfrm>
            <a:off x="2916360" y="5157720"/>
            <a:ext cx="320400" cy="405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39" descr="b1"/>
          <p:cNvPicPr/>
          <p:nvPr/>
        </p:nvPicPr>
        <p:blipFill>
          <a:blip r:embed="rId13"/>
          <a:stretch/>
        </p:blipFill>
        <p:spPr>
          <a:xfrm>
            <a:off x="1116000" y="6093000"/>
            <a:ext cx="441360" cy="6206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040"/>
          <p:cNvSpPr/>
          <p:nvPr/>
        </p:nvSpPr>
        <p:spPr>
          <a:xfrm>
            <a:off x="826920" y="2349360"/>
            <a:ext cx="7921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一艘艘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船上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装满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了鱼和虾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41"/>
          <p:cNvSpPr/>
          <p:nvPr/>
        </p:nvSpPr>
        <p:spPr>
          <a:xfrm>
            <a:off x="3205080" y="1197000"/>
            <a:ext cx="1871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那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42" descr="anniu"/>
          <p:cNvPicPr/>
          <p:nvPr/>
        </p:nvPicPr>
        <p:blipFill>
          <a:blip r:embed="rId14"/>
          <a:stretch/>
        </p:blipFill>
        <p:spPr>
          <a:xfrm>
            <a:off x="0" y="0"/>
            <a:ext cx="1187280" cy="5493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043"/>
          <p:cNvSpPr/>
          <p:nvPr/>
        </p:nvSpPr>
        <p:spPr>
          <a:xfrm>
            <a:off x="5651640" y="1197000"/>
            <a:ext cx="1871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那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44"/>
          <p:cNvSpPr/>
          <p:nvPr/>
        </p:nvSpPr>
        <p:spPr>
          <a:xfrm>
            <a:off x="2124000" y="371628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cc"/>
                </a:solidFill>
                <a:latin typeface="Arial"/>
                <a:ea typeface="黑体"/>
              </a:rPr>
              <a:t>那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45"/>
          <p:cNvSpPr/>
          <p:nvPr/>
        </p:nvSpPr>
        <p:spPr>
          <a:xfrm>
            <a:off x="4427640" y="3716280"/>
            <a:ext cx="24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，</a:t>
            </a:r>
            <a:r>
              <a:rPr b="0" lang="zh-CN" sz="4800" spc="-1" strike="noStrike">
                <a:solidFill>
                  <a:srgbClr val="6600cc"/>
                </a:solidFill>
                <a:latin typeface="Arial"/>
                <a:ea typeface="黑体"/>
              </a:rPr>
              <a:t>那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042920" y="4365720"/>
            <a:ext cx="1081080" cy="360"/>
            <a:chOff x="1042920" y="4365720"/>
            <a:chExt cx="1081080" cy="360"/>
          </a:xfrm>
        </p:grpSpPr>
        <p:sp>
          <p:nvSpPr>
            <p:cNvPr id="115" name="Line 1046"/>
            <p:cNvSpPr/>
            <p:nvPr/>
          </p:nvSpPr>
          <p:spPr>
            <a:xfrm>
              <a:off x="1042920" y="4365720"/>
              <a:ext cx="10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>
              <a:off x="1042920" y="4365720"/>
              <a:ext cx="108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564000" y="4365720"/>
            <a:ext cx="1079280" cy="360"/>
            <a:chOff x="3564000" y="4365720"/>
            <a:chExt cx="1079280" cy="360"/>
          </a:xfrm>
        </p:grpSpPr>
        <p:sp>
          <p:nvSpPr>
            <p:cNvPr id="118" name="Line 1047"/>
            <p:cNvSpPr/>
            <p:nvPr/>
          </p:nvSpPr>
          <p:spPr>
            <a:xfrm flipH="1">
              <a:off x="3564000" y="4365720"/>
              <a:ext cx="107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3564000" y="4365720"/>
              <a:ext cx="107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443640" y="4365720"/>
            <a:ext cx="1152720" cy="360"/>
            <a:chOff x="6443640" y="4365720"/>
            <a:chExt cx="1152720" cy="360"/>
          </a:xfrm>
        </p:grpSpPr>
        <p:sp>
          <p:nvSpPr>
            <p:cNvPr id="121" name="Line 1048"/>
            <p:cNvSpPr/>
            <p:nvPr/>
          </p:nvSpPr>
          <p:spPr>
            <a:xfrm>
              <a:off x="6443640" y="4365720"/>
              <a:ext cx="115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6443640" y="4365720"/>
              <a:ext cx="115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 Box 1049"/>
          <p:cNvSpPr/>
          <p:nvPr/>
        </p:nvSpPr>
        <p:spPr>
          <a:xfrm>
            <a:off x="7667640" y="3716280"/>
            <a:ext cx="3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50"/>
          <p:cNvSpPr/>
          <p:nvPr/>
        </p:nvSpPr>
        <p:spPr>
          <a:xfrm>
            <a:off x="7948800" y="19080"/>
            <a:ext cx="912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画家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草坪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1692360" y="404640"/>
            <a:ext cx="444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总结学习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755640" y="206064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看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5076720" y="2205000"/>
            <a:ext cx="12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读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4427640" y="3789360"/>
            <a:ext cx="24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抓住关键字词看图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468360" y="364500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再读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2771640" y="2349360"/>
            <a:ext cx="1225800" cy="362160"/>
          </a:xfrm>
          <a:custGeom>
            <a:avLst/>
            <a:gdLst>
              <a:gd name="textAreaLeft" fmla="*/ 153000 w 1225800"/>
              <a:gd name="textAreaRight" fmla="*/ 1072800 w 1225800"/>
              <a:gd name="textAreaTop" fmla="*/ 90360 h 362160"/>
              <a:gd name="textAreaBottom" fmla="*/ 271800 h 362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1" y="5400"/>
                </a:ln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16201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7020000" y="2924280"/>
            <a:ext cx="503280" cy="1152360"/>
          </a:xfrm>
          <a:custGeom>
            <a:avLst/>
            <a:gdLst>
              <a:gd name="textAreaLeft" fmla="*/ 67320 w 503280"/>
              <a:gd name="textAreaRight" fmla="*/ 435960 w 503280"/>
              <a:gd name="textAreaTop" fmla="*/ 201600 h 1152360"/>
              <a:gd name="textAreaBottom" fmla="*/ 8355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58" stAng="-5400000" swAng="5400000"/>
                <a:lnTo>
                  <a:pt x="21600" y="11880"/>
                </a:lnTo>
                <a:arcTo wR="21600" hR="7558" stAng="0" swAng="2682451"/>
                <a:lnTo>
                  <a:pt x="7199" y="21168"/>
                </a:lnTo>
                <a:lnTo>
                  <a:pt x="0" y="17277"/>
                </a:lnTo>
                <a:lnTo>
                  <a:pt x="7199" y="12522"/>
                </a:lnTo>
                <a:lnTo>
                  <a:pt x="7199" y="14684"/>
                </a:lnTo>
                <a:arcTo wR="21600" hR="7558" stAng="2682451" swAng="-2324829"/>
                <a:lnTo>
                  <a:pt x="20698" y="9719"/>
                </a:lnTo>
                <a:arcTo wR="21600" hR="7558" stAng="-357622" swAng="-5042378"/>
                <a:close/>
              </a:path>
              <a:path fill="darkenLess" w="21600" h="21600">
                <a:moveTo>
                  <a:pt x="0" y="0"/>
                </a:moveTo>
                <a:arcTo wR="21600" hR="7558" stAng="-5400000" swAng="5400000"/>
                <a:lnTo>
                  <a:pt x="21600" y="11880"/>
                </a:lnTo>
                <a:arcTo wR="21600" hR="7558" stAng="0" swAng="-357622"/>
                <a:lnTo>
                  <a:pt x="20698" y="9719"/>
                </a:lnTo>
                <a:arcTo wR="21600" hR="7558" stAng="-357622" swAng="-5042378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0"/>
          <p:cNvSpPr/>
          <p:nvPr/>
        </p:nvSpPr>
        <p:spPr>
          <a:xfrm flipH="1" flipV="1">
            <a:off x="2771640" y="3859920"/>
            <a:ext cx="1224000" cy="36036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97" y="5400"/>
                </a:lnTo>
                <a:lnTo>
                  <a:pt x="16197" y="0"/>
                </a:lnTo>
                <a:lnTo>
                  <a:pt x="21600" y="10800"/>
                </a:lnTo>
                <a:lnTo>
                  <a:pt x="16197" y="21600"/>
                </a:lnTo>
                <a:lnTo>
                  <a:pt x="16197" y="16200"/>
                </a:lnTo>
                <a:lnTo>
                  <a:pt x="0" y="16200"/>
                </a:lnTo>
                <a:lnTo>
                  <a:pt x="270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7948800" y="19080"/>
            <a:ext cx="912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画家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78C6-BE26-4F4C-817B-76D088D2ECAD}" type="slidenum">
              <a:t>8</a:t>
            </a:fld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122480" y="666720"/>
            <a:ext cx="150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0" y="1628640"/>
            <a:ext cx="428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i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看图：            （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这是谁的家乡？  （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他的家乡在哪里？有什么事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他喜欢做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读文：自由读、听同学读、找好词好句反复读、小组齐声表演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用自己的话说说图上的意思？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95280" y="836640"/>
            <a:ext cx="26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宋体"/>
              </a:rPr>
              <a:t>学习要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pic_253021"/>
          <p:cNvPicPr/>
          <p:nvPr/>
        </p:nvPicPr>
        <p:blipFill>
          <a:blip r:embed="rId1"/>
          <a:srcRect l="2000" t="5114" r="2000" b="5027"/>
          <a:stretch/>
        </p:blipFill>
        <p:spPr>
          <a:xfrm>
            <a:off x="385128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8"/>
          <p:cNvSpPr/>
          <p:nvPr/>
        </p:nvSpPr>
        <p:spPr>
          <a:xfrm>
            <a:off x="7948800" y="19080"/>
            <a:ext cx="912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画家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0" y="189000"/>
            <a:ext cx="70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Calibri"/>
                <a:ea typeface="宋体"/>
              </a:rPr>
              <a:t>小组合作学习第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  <a:ea typeface="Calibri"/>
              </a:rPr>
              <a:t>3</a:t>
            </a:r>
            <a:r>
              <a:rPr b="1" lang="zh-CN" sz="4000" spc="-1" strike="noStrike">
                <a:solidFill>
                  <a:srgbClr val="ff0066"/>
                </a:solidFill>
                <a:latin typeface="Calibri"/>
                <a:ea typeface="宋体"/>
              </a:rPr>
              <a:t>自然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77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6" dur="770" fill="hold"/>
                                        <p:tgtEl>
                                          <p:spTgt spid="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8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0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77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" dur="770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5T03:36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7:45:03Z</dcterms:modified>
  <cp:revision>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