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40A-6FE1-4B19-ABC2-DE466D3F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35D-9B5D-4439-981B-23E9BBD9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0B76-35E5-4EEA-B786-AEBB7995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64F-7B12-49C5-812A-4E8140BF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AFC-9C78-41BA-9492-71AB13BB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984-6D83-49E5-A60D-BE0AC5E1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5D0-7AD5-422E-BE20-390EDA54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F7C-5E0C-4236-8D82-EFB9BCA8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23F-622A-455A-A9BF-728855F2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7F0-54D1-4C4E-9C39-19411446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BB4-9B11-4537-95FE-2525F8DE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215-5FAC-4AF0-94EA-B4B6F227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ECD2-1855-413C-AD81-E2025686EB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2"/>
          <a:stretch/>
        </p:blipFill>
        <p:spPr>
          <a:xfrm>
            <a:off x="652320" y="1225440"/>
            <a:ext cx="3486240" cy="12733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3"/>
          <a:stretch/>
        </p:blipFill>
        <p:spPr>
          <a:xfrm>
            <a:off x="5559480" y="5229360"/>
            <a:ext cx="3584520" cy="126828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4"/>
          <a:stretch/>
        </p:blipFill>
        <p:spPr>
          <a:xfrm>
            <a:off x="395280" y="2492280"/>
            <a:ext cx="6357960" cy="280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986200" y="333360"/>
            <a:ext cx="24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婚礼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7" descr=""/>
          <p:cNvPicPr/>
          <p:nvPr/>
        </p:nvPicPr>
        <p:blipFill>
          <a:blip r:embed="rId1"/>
          <a:stretch/>
        </p:blipFill>
        <p:spPr>
          <a:xfrm>
            <a:off x="743040" y="652320"/>
            <a:ext cx="3975120" cy="17560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8" descr=""/>
          <p:cNvPicPr/>
          <p:nvPr/>
        </p:nvPicPr>
        <p:blipFill>
          <a:blip r:embed="rId2"/>
          <a:stretch/>
        </p:blipFill>
        <p:spPr>
          <a:xfrm>
            <a:off x="1255680" y="3236760"/>
            <a:ext cx="2646360" cy="116388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9" descr=""/>
          <p:cNvPicPr/>
          <p:nvPr/>
        </p:nvPicPr>
        <p:blipFill>
          <a:blip r:embed="rId3"/>
          <a:stretch/>
        </p:blipFill>
        <p:spPr>
          <a:xfrm>
            <a:off x="1255680" y="2548080"/>
            <a:ext cx="2646360" cy="117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508644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1" descr=""/>
          <p:cNvPicPr/>
          <p:nvPr/>
        </p:nvPicPr>
        <p:blipFill>
          <a:blip r:embed="rId1"/>
          <a:stretch/>
        </p:blipFill>
        <p:spPr>
          <a:xfrm>
            <a:off x="30240" y="371520"/>
            <a:ext cx="63640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E61-AD64-4502-8E08-317DCA53A0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11:28:3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31:34Z</dcterms:modified>
  <cp:revision>1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