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9CEF-CD03-4F66-8AA8-E83AFD4B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E6D-37E5-43AE-8F62-29A40972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6D3-290B-4808-B2A4-02CFC031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8FE2-789C-474D-9A26-749C217A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71CD-1AE1-4B4C-9398-36F3E8E6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4DB3-12D7-4F28-8620-81A84E71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BE7C-1D72-4A08-BF01-03FBEF72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3F01-53E4-4F60-A10F-D8C0BE0A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4B31-DFA9-4277-8045-E99CDCBB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1FCB-9D1D-4312-8355-D0719DE4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2E23-C01F-46B7-B6CE-674E7C12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5DF-B544-400B-BD5B-98D197DF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0E57-6833-44E2-AC2C-C5D060D1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DFB2-757D-4252-A6EA-1ABA3F05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BC00-75F4-4627-B5C6-6C3900F0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5278-B1E5-4D13-BBBF-EE3C33E7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94EC-5004-49D8-8977-7DF612EA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8ED2-C238-4CA8-B164-2471A969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3647-F894-4EF3-9DC2-4FF0A9A0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979-F735-40A3-8758-F969DEB7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3659-7346-464A-874C-DBA4E85D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E1F8-E2DA-4A32-8708-F136040D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FB9D-D515-4A91-9732-0417E1E3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D43-852C-48EA-A873-77CCD0FD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400"/>
            <a:ext cx="1525680" cy="1227240"/>
            <a:chOff x="152280" y="374400"/>
            <a:chExt cx="1525680" cy="1227240"/>
          </a:xfrm>
        </p:grpSpPr>
        <p:sp>
          <p:nvSpPr>
            <p:cNvPr id="2" name="Freeform 4"/>
            <p:cNvSpPr/>
            <p:nvPr/>
          </p:nvSpPr>
          <p:spPr>
            <a:xfrm>
              <a:off x="1171440" y="785520"/>
              <a:ext cx="506520" cy="50616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520"/>
              <a:ext cx="506520" cy="50616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400"/>
              <a:ext cx="1307160" cy="1227240"/>
              <a:chOff x="240480" y="374400"/>
              <a:chExt cx="1307160" cy="122724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400"/>
                <a:ext cx="1305000" cy="12250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52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2440"/>
            </a:xfrm>
            <a:prstGeom prst="rect">
              <a:avLst/>
            </a:prstGeom>
            <a:gradFill rotWithShape="0">
              <a:gsLst>
                <a:gs pos="0">
                  <a:srgbClr val="71bb96"/>
                </a:gs>
                <a:gs pos="50000">
                  <a:srgbClr val="000000"/>
                </a:gs>
                <a:gs pos="100000">
                  <a:srgbClr val="71bb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3F25-EC6C-48BE-8FFC-F62CA2C16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3b"/>
            </a:gs>
            <a:gs pos="50000">
              <a:srgbClr val="000000"/>
            </a:gs>
            <a:gs pos="100000">
              <a:srgbClr val="00763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60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720" y="473040"/>
                <a:ext cx="209052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71bb96"/>
                </a:gs>
                <a:gs pos="50000">
                  <a:srgbClr val="000000"/>
                </a:gs>
                <a:gs pos="100000">
                  <a:srgbClr val="71bb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EE45-AC8A-4272-A335-D1278FC4729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3b"/>
            </a:gs>
            <a:gs pos="50000">
              <a:srgbClr val="000000"/>
            </a:gs>
            <a:gs pos="100000">
              <a:srgbClr val="00763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evelopment  of Biomass in Three Gorges Zon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aea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eaeaea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40280" y="4191120"/>
            <a:ext cx="284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楷体"/>
                <a:ea typeface="楷体"/>
              </a:rPr>
              <a:t>灰绿色</a:t>
            </a:r>
            <a:r>
              <a:rPr b="0" lang="en-US" sz="4000" spc="-1" strike="noStrike">
                <a:solidFill>
                  <a:srgbClr val="eaeaea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eaeaea"/>
                </a:solidFill>
                <a:latin typeface="楷体"/>
                <a:ea typeface="楷体"/>
              </a:rPr>
              <a:t>模板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23623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ntent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09320" y="1905120"/>
            <a:ext cx="6224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.  Introdu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.  Our local biomass and develop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.  Perspec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.  Current proble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6248520" y="4343400"/>
            <a:ext cx="236196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iquid  Produc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809880" y="609480"/>
            <a:ext cx="1524240" cy="609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Biomas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Line 5"/>
          <p:cNvSpPr/>
          <p:nvPr/>
        </p:nvSpPr>
        <p:spPr>
          <a:xfrm flipH="1">
            <a:off x="2285640" y="1219320"/>
            <a:ext cx="1523880" cy="1066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4495680" y="1219320"/>
            <a:ext cx="0" cy="12189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5334120" y="1219320"/>
            <a:ext cx="152388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143000" y="2362320"/>
            <a:ext cx="1676520" cy="99036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hysical metho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429000" y="2438280"/>
            <a:ext cx="198108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hemical method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6095880" y="2438280"/>
            <a:ext cx="221004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Bioengineering metho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1981080" y="3352680"/>
            <a:ext cx="0" cy="76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1143000" y="4191120"/>
            <a:ext cx="175248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olid fuel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4419720" y="3352680"/>
            <a:ext cx="2895480" cy="990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7391520" y="3352680"/>
            <a:ext cx="0" cy="990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3429000" y="4267080"/>
            <a:ext cx="21337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Gas  Produc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4419720" y="335268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Line 19"/>
          <p:cNvSpPr/>
          <p:nvPr/>
        </p:nvSpPr>
        <p:spPr>
          <a:xfrm flipH="1">
            <a:off x="4495680" y="3352680"/>
            <a:ext cx="2895840" cy="83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Rectangle 20"/>
          <p:cNvSpPr/>
          <p:nvPr/>
        </p:nvSpPr>
        <p:spPr>
          <a:xfrm>
            <a:off x="3200400" y="5638680"/>
            <a:ext cx="2514600" cy="76212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4419720" y="5181480"/>
            <a:ext cx="0" cy="3812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Line 22"/>
          <p:cNvSpPr/>
          <p:nvPr/>
        </p:nvSpPr>
        <p:spPr>
          <a:xfrm>
            <a:off x="7467480" y="51814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6172200" y="5715000"/>
            <a:ext cx="274320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actic acid</a:t>
            </a:r>
            <a:r>
              <a:rPr b="0" lang="zh-CN" sz="18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Fuel ethanol</a:t>
            </a:r>
            <a:r>
              <a:rPr b="0" lang="zh-CN" sz="1800" spc="-1" strike="noStrike">
                <a:solidFill>
                  <a:srgbClr val="eaeaea"/>
                </a:solidFill>
                <a:latin typeface="Times New Roman"/>
              </a:rPr>
              <a:t>、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ethanol</a:t>
            </a:r>
            <a:r>
              <a:rPr b="0" lang="zh-CN" sz="18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biodies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hemical transformation of biomass (cellulose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934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igh temperature gasificati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yrolysi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taly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h/CeO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Rh/CeO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/SiO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advantage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formation of tar (complex liquid mixture of oxygenates and higher hydrocarbons), and char (the carbonaceous solid) and the tough conditions of the gasification reacti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hemical transformation of biomass (cellulose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66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taly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h/CeO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nd Rh/CeO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/SiO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w temperatures (823K-923K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w impurity conten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elcome  Pro.Alan G.M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o give us your advice!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ank you very much!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1BE9-9C24-4801-9B86-554B01182F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12:39:4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50:31Z</dcterms:modified>
  <cp:revision>5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