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A39-3036-4723-898A-3EA0BBC5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EDE-FE23-48ED-9C47-C09D9754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166-E420-4E12-88CC-8FE48D80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A63-A0FF-499B-87EF-A9E0EE86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9D2E-BD87-4C42-A719-3803ACFE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20BE-35BD-4295-B5CE-7B474B7C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E53D-83C2-45CA-95EF-532FE8F5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E07D-75B7-4D82-A116-07CFDCEF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1B9B-717D-43FC-93B7-08B49AF3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7267-D80A-4BF5-99D0-7E72F143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F56A-89EA-4B82-B328-B44594A3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96D-2F66-4E5A-B740-3FBBEF7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C6F5-BDB1-48C3-8A42-95933948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0543-5A8A-45FC-A455-BD7ACC2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6B28-B910-4F65-9FD8-35D4E652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86BB-4FAC-404D-99BE-C95C72CD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6841-D35D-46AD-80EB-05AB92B2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AD5-B06F-4D04-9760-198616ED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173-C3BE-4142-A81A-ABC7EEE0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E3F-9814-420E-AEF0-58226E6D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4B6-567F-4163-BBE5-B9C7FA02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847-878F-45A4-B43A-B673B1CD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E49-46FF-429E-81EA-DFB89F7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839-4595-4EF5-8431-98F40D6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FM底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2" descr="FM底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1052-6032-46C9-824C-28DB4F32BEFB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FM底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CCE8-D8D5-4DDC-B427-2054A2791C9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4191120" y="6303960"/>
            <a:ext cx="3924360" cy="557280"/>
            <a:chOff x="4191120" y="6303960"/>
            <a:chExt cx="3924360" cy="557280"/>
          </a:xfrm>
        </p:grpSpPr>
        <p:sp>
          <p:nvSpPr>
            <p:cNvPr id="84" name="Freeform 1205"/>
            <p:cNvSpPr/>
            <p:nvPr/>
          </p:nvSpPr>
          <p:spPr>
            <a:xfrm>
              <a:off x="5505120" y="6358320"/>
              <a:ext cx="1294200" cy="502920"/>
            </a:xfrm>
            <a:prstGeom prst="pi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07"/>
            <p:cNvSpPr/>
            <p:nvPr/>
          </p:nvSpPr>
          <p:spPr>
            <a:xfrm>
              <a:off x="5258520" y="6366960"/>
              <a:ext cx="1357560" cy="494280"/>
            </a:xfrm>
            <a:prstGeom prst="pi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08"/>
            <p:cNvSpPr/>
            <p:nvPr/>
          </p:nvSpPr>
          <p:spPr>
            <a:xfrm>
              <a:off x="4645800" y="6370560"/>
              <a:ext cx="1760040" cy="490680"/>
            </a:xfrm>
            <a:prstGeom prst="pi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11"/>
            <p:cNvSpPr/>
            <p:nvPr/>
          </p:nvSpPr>
          <p:spPr>
            <a:xfrm>
              <a:off x="4196160" y="6380280"/>
              <a:ext cx="1917360" cy="480960"/>
            </a:xfrm>
            <a:prstGeom prst="pi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212"/>
            <p:cNvSpPr/>
            <p:nvPr/>
          </p:nvSpPr>
          <p:spPr>
            <a:xfrm>
              <a:off x="4191120" y="6373800"/>
              <a:ext cx="1746360" cy="271440"/>
            </a:xfrm>
            <a:prstGeom prst="pie">
              <a:avLst/>
            </a:prstGeom>
            <a:gradFill rotWithShape="0">
              <a:gsLst>
                <a:gs pos="0">
                  <a:srgbClr val="a6a6a6">
                    <a:alpha val="5098"/>
                  </a:srgbClr>
                </a:gs>
                <a:gs pos="100000">
                  <a:srgbClr val="ffffff">
                    <a:alpha val="28235"/>
                  </a:srgbClr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13"/>
            <p:cNvSpPr/>
            <p:nvPr/>
          </p:nvSpPr>
          <p:spPr>
            <a:xfrm>
              <a:off x="4191120" y="6383160"/>
              <a:ext cx="1422360" cy="182520"/>
            </a:xfrm>
            <a:prstGeom prst="pie">
              <a:avLst/>
            </a:prstGeom>
            <a:gradFill rotWithShape="0">
              <a:gsLst>
                <a:gs pos="0">
                  <a:srgbClr val="a6a6a6">
                    <a:alpha val="0"/>
                  </a:srgbClr>
                </a:gs>
                <a:gs pos="100000">
                  <a:srgbClr val="ffffff">
                    <a:alpha val="28235"/>
                  </a:srgbClr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14"/>
            <p:cNvSpPr/>
            <p:nvPr/>
          </p:nvSpPr>
          <p:spPr>
            <a:xfrm>
              <a:off x="6059880" y="6303960"/>
              <a:ext cx="2055600" cy="557280"/>
            </a:xfrm>
            <a:prstGeom prst="pi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328840" y="165240"/>
            <a:ext cx="600120" cy="609480"/>
            <a:chOff x="2328840" y="165240"/>
            <a:chExt cx="600120" cy="609480"/>
          </a:xfrm>
        </p:grpSpPr>
        <p:sp>
          <p:nvSpPr>
            <p:cNvPr id="92" name="Freeform 1276"/>
            <p:cNvSpPr/>
            <p:nvPr/>
          </p:nvSpPr>
          <p:spPr>
            <a:xfrm>
              <a:off x="2328840" y="165240"/>
              <a:ext cx="600120" cy="44820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81"/>
            <p:cNvSpPr/>
            <p:nvPr/>
          </p:nvSpPr>
          <p:spPr>
            <a:xfrm>
              <a:off x="2529720" y="537480"/>
              <a:ext cx="268200" cy="23724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56"/>
          <p:cNvSpPr/>
          <p:nvPr/>
        </p:nvSpPr>
        <p:spPr>
          <a:xfrm flipV="1">
            <a:off x="0" y="839520"/>
            <a:ext cx="5160960" cy="46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00">
                  <a:alpha val="7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7"/>
          <p:cNvSpPr/>
          <p:nvPr/>
        </p:nvSpPr>
        <p:spPr>
          <a:xfrm>
            <a:off x="0" y="920880"/>
            <a:ext cx="9144000" cy="63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00">
                  <a:alpha val="7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1"/>
          <p:cNvSpPr/>
          <p:nvPr/>
        </p:nvSpPr>
        <p:spPr>
          <a:xfrm>
            <a:off x="165240" y="5742000"/>
            <a:ext cx="581040" cy="4381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2"/>
          <p:cNvSpPr/>
          <p:nvPr/>
        </p:nvSpPr>
        <p:spPr>
          <a:xfrm>
            <a:off x="0" y="6081840"/>
            <a:ext cx="766800" cy="331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3"/>
          <p:cNvSpPr/>
          <p:nvPr/>
        </p:nvSpPr>
        <p:spPr>
          <a:xfrm>
            <a:off x="920880" y="5994360"/>
            <a:ext cx="777600" cy="37008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4"/>
          <p:cNvSpPr/>
          <p:nvPr/>
        </p:nvSpPr>
        <p:spPr>
          <a:xfrm>
            <a:off x="909720" y="5686560"/>
            <a:ext cx="515880" cy="438120"/>
          </a:xfrm>
          <a:prstGeom prst="pie">
            <a:avLst/>
          </a:prstGeom>
          <a:gradFill rotWithShape="0">
            <a:gsLst>
              <a:gs pos="0">
                <a:srgbClr val="d15001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5"/>
          <p:cNvSpPr/>
          <p:nvPr/>
        </p:nvSpPr>
        <p:spPr>
          <a:xfrm>
            <a:off x="598320" y="5530680"/>
            <a:ext cx="398520" cy="59400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6"/>
          <p:cNvSpPr/>
          <p:nvPr/>
        </p:nvSpPr>
        <p:spPr>
          <a:xfrm>
            <a:off x="915840" y="5354640"/>
            <a:ext cx="333360" cy="474840"/>
          </a:xfrm>
          <a:prstGeom prst="pie">
            <a:avLst/>
          </a:prstGeom>
          <a:gradFill rotWithShape="0">
            <a:gsLst>
              <a:gs pos="0">
                <a:srgbClr val="d15001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7"/>
          <p:cNvSpPr/>
          <p:nvPr/>
        </p:nvSpPr>
        <p:spPr>
          <a:xfrm>
            <a:off x="598320" y="5191200"/>
            <a:ext cx="344520" cy="3841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8"/>
          <p:cNvSpPr/>
          <p:nvPr/>
        </p:nvSpPr>
        <p:spPr>
          <a:xfrm>
            <a:off x="274680" y="5365800"/>
            <a:ext cx="404640" cy="48564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d15001"/>
              </a:gs>
            </a:gsLst>
            <a:lin ang="5400000"/>
          </a:gradFill>
          <a:ln w="9360">
            <a:solidFill>
              <a:srgbClr val="92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9"/>
          <p:cNvSpPr/>
          <p:nvPr/>
        </p:nvSpPr>
        <p:spPr>
          <a:xfrm>
            <a:off x="852480" y="6291360"/>
            <a:ext cx="417600" cy="58428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0"/>
          <p:cNvSpPr/>
          <p:nvPr/>
        </p:nvSpPr>
        <p:spPr>
          <a:xfrm>
            <a:off x="787320" y="6512040"/>
            <a:ext cx="185760" cy="1857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41"/>
          <p:cNvSpPr/>
          <p:nvPr/>
        </p:nvSpPr>
        <p:spPr>
          <a:xfrm>
            <a:off x="504720" y="6157800"/>
            <a:ext cx="438120" cy="6955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2"/>
          <p:cNvSpPr/>
          <p:nvPr/>
        </p:nvSpPr>
        <p:spPr>
          <a:xfrm>
            <a:off x="1006560" y="6302520"/>
            <a:ext cx="668160" cy="53964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87440" y="64404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97960" y="125892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红色背景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803-6FEF-4E9C-8DCF-84D3E96AE1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2:44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6Z</dcterms:modified>
  <cp:revision>3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