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F86-E0F1-488A-8B23-BCD3A33E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2BA-7C08-4710-9C40-6110E3B6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F3B-3CBA-441D-9F50-597D75C0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AFE-0609-44E8-9A3D-90F709FA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344F-A58A-45F6-BFEB-AA9AF60A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8B2C-A354-4E25-A339-B50343B8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9A0E-01BC-4A24-95CC-EDA2D187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772B-E438-4CA6-B1CF-F9526967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A28C-7992-4074-8917-AF10A831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FFD0-5B99-4AA3-8012-59AD2A50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407A-C476-4A92-A647-852EBB52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314-76CF-41C7-966C-4D7CC93F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6830-8B93-40B9-A412-C3B07C39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A483-85A8-45AA-BBA6-A81FAD1F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5FE4-44BB-4D56-B9C8-E027F51D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8AC6-7153-42C7-A965-00B1C7ED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F350-EF55-449C-8590-3D14DF21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1DB-128D-438B-A2C1-B460A7FE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864-C838-4E47-8E10-5F396431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A26-D880-4168-8498-9C1EB2AC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095-BCCF-4ADC-A1C9-D37AF94E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E58-B087-4FDF-A421-02B4E5E0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81F-EEB9-44EE-AACE-80A6393D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861-BC0D-4480-8895-4493961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A903-0982-4022-8439-DDFD68BD60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3"/>
          <a:srcRect l="0" t="80627" r="0" b="12309"/>
          <a:stretch/>
        </p:blipFill>
        <p:spPr>
          <a:xfrm>
            <a:off x="1440" y="6373800"/>
            <a:ext cx="9144000" cy="484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"/>
          <p:cNvPicPr/>
          <p:nvPr/>
        </p:nvPicPr>
        <p:blipFill>
          <a:blip r:embed="rId4"/>
          <a:srcRect l="0" t="0" r="95087" b="94740"/>
          <a:stretch/>
        </p:blipFill>
        <p:spPr>
          <a:xfrm>
            <a:off x="-31680" y="-25560"/>
            <a:ext cx="446040" cy="3589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5"/>
          <p:cNvGrpSpPr/>
          <p:nvPr/>
        </p:nvGrpSpPr>
        <p:grpSpPr>
          <a:xfrm>
            <a:off x="8518680" y="588960"/>
            <a:ext cx="554040" cy="554040"/>
            <a:chOff x="8518680" y="588960"/>
            <a:chExt cx="554040" cy="554040"/>
          </a:xfrm>
        </p:grpSpPr>
        <p:pic>
          <p:nvPicPr>
            <p:cNvPr id="45" name="图片 10" descr=""/>
            <p:cNvPicPr/>
            <p:nvPr/>
          </p:nvPicPr>
          <p:blipFill>
            <a:blip r:embed="rId5"/>
            <a:stretch/>
          </p:blipFill>
          <p:spPr>
            <a:xfrm>
              <a:off x="8601120" y="671400"/>
              <a:ext cx="3891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1" descr=""/>
            <p:cNvPicPr/>
            <p:nvPr/>
          </p:nvPicPr>
          <p:blipFill>
            <a:blip r:embed="rId6"/>
            <a:stretch/>
          </p:blipFill>
          <p:spPr>
            <a:xfrm>
              <a:off x="8518680" y="588960"/>
              <a:ext cx="55404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oup 8"/>
          <p:cNvGrpSpPr/>
          <p:nvPr/>
        </p:nvGrpSpPr>
        <p:grpSpPr>
          <a:xfrm>
            <a:off x="8663040" y="-200160"/>
            <a:ext cx="725400" cy="723960"/>
            <a:chOff x="8663040" y="-200160"/>
            <a:chExt cx="725400" cy="723960"/>
          </a:xfrm>
        </p:grpSpPr>
        <p:pic>
          <p:nvPicPr>
            <p:cNvPr id="48" name="图片 13" descr=""/>
            <p:cNvPicPr/>
            <p:nvPr/>
          </p:nvPicPr>
          <p:blipFill>
            <a:blip r:embed="rId7"/>
            <a:stretch/>
          </p:blipFill>
          <p:spPr>
            <a:xfrm>
              <a:off x="8800200" y="-65520"/>
              <a:ext cx="450720" cy="4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14" descr=""/>
            <p:cNvPicPr/>
            <p:nvPr/>
          </p:nvPicPr>
          <p:blipFill>
            <a:blip r:embed="rId8"/>
            <a:stretch/>
          </p:blipFill>
          <p:spPr>
            <a:xfrm>
              <a:off x="8663040" y="-200160"/>
              <a:ext cx="72540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11"/>
          <p:cNvGrpSpPr/>
          <p:nvPr/>
        </p:nvGrpSpPr>
        <p:grpSpPr>
          <a:xfrm>
            <a:off x="8055000" y="33480"/>
            <a:ext cx="725400" cy="726840"/>
            <a:chOff x="8055000" y="33480"/>
            <a:chExt cx="725400" cy="726840"/>
          </a:xfrm>
        </p:grpSpPr>
        <p:pic>
          <p:nvPicPr>
            <p:cNvPr id="51" name="图片 16" descr=""/>
            <p:cNvPicPr/>
            <p:nvPr/>
          </p:nvPicPr>
          <p:blipFill>
            <a:blip r:embed="rId9"/>
            <a:stretch/>
          </p:blipFill>
          <p:spPr>
            <a:xfrm>
              <a:off x="8172000" y="147960"/>
              <a:ext cx="491040" cy="49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7" descr=""/>
            <p:cNvPicPr/>
            <p:nvPr/>
          </p:nvPicPr>
          <p:blipFill>
            <a:blip r:embed="rId10"/>
            <a:stretch/>
          </p:blipFill>
          <p:spPr>
            <a:xfrm>
              <a:off x="8055000" y="33480"/>
              <a:ext cx="725400" cy="72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图片 18" descr=""/>
          <p:cNvPicPr/>
          <p:nvPr/>
        </p:nvPicPr>
        <p:blipFill>
          <a:blip r:embed="rId11"/>
          <a:srcRect l="0" t="0" r="0" b="95002"/>
          <a:stretch/>
        </p:blipFill>
        <p:spPr>
          <a:xfrm>
            <a:off x="36360" y="6515280"/>
            <a:ext cx="9144000" cy="3427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9" descr=""/>
          <p:cNvPicPr/>
          <p:nvPr/>
        </p:nvPicPr>
        <p:blipFill>
          <a:blip r:embed="rId12"/>
          <a:srcRect l="4999" t="45430" r="45791" b="37916"/>
          <a:stretch/>
        </p:blipFill>
        <p:spPr>
          <a:xfrm>
            <a:off x="4067280" y="6545160"/>
            <a:ext cx="1234800" cy="312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AC0D-C738-4E26-A28F-7C49E2A277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" descr=""/>
          <p:cNvPicPr/>
          <p:nvPr/>
        </p:nvPicPr>
        <p:blipFill>
          <a:blip r:embed="rId2"/>
          <a:srcRect l="47032" t="53548" r="24847" b="35625"/>
          <a:stretch/>
        </p:blipFill>
        <p:spPr>
          <a:xfrm>
            <a:off x="6262560" y="4179960"/>
            <a:ext cx="1636920" cy="4730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7" descr=""/>
          <p:cNvPicPr/>
          <p:nvPr/>
        </p:nvPicPr>
        <p:blipFill>
          <a:blip r:embed="rId3"/>
          <a:srcRect l="47033" t="44170" r="24843" b="44793"/>
          <a:stretch/>
        </p:blipFill>
        <p:spPr>
          <a:xfrm>
            <a:off x="4211640" y="4175280"/>
            <a:ext cx="163512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8" descr=""/>
          <p:cNvPicPr/>
          <p:nvPr/>
        </p:nvPicPr>
        <p:blipFill>
          <a:blip r:embed="rId4"/>
          <a:srcRect l="4677" t="44948" r="58874" b="37635"/>
          <a:stretch/>
        </p:blipFill>
        <p:spPr>
          <a:xfrm>
            <a:off x="3844800" y="2181240"/>
            <a:ext cx="4687920" cy="16794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7"/>
          <p:cNvGrpSpPr/>
          <p:nvPr/>
        </p:nvGrpSpPr>
        <p:grpSpPr>
          <a:xfrm>
            <a:off x="665280" y="3851280"/>
            <a:ext cx="1234800" cy="1233360"/>
            <a:chOff x="665280" y="3851280"/>
            <a:chExt cx="1234800" cy="1233360"/>
          </a:xfrm>
        </p:grpSpPr>
        <p:pic>
          <p:nvPicPr>
            <p:cNvPr id="102" name="图片 10" descr=""/>
            <p:cNvPicPr/>
            <p:nvPr/>
          </p:nvPicPr>
          <p:blipFill>
            <a:blip r:embed="rId5"/>
            <a:stretch/>
          </p:blipFill>
          <p:spPr>
            <a:xfrm>
              <a:off x="848880" y="4034520"/>
              <a:ext cx="86760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1" descr=""/>
            <p:cNvPicPr/>
            <p:nvPr/>
          </p:nvPicPr>
          <p:blipFill>
            <a:blip r:embed="rId6"/>
            <a:stretch/>
          </p:blipFill>
          <p:spPr>
            <a:xfrm>
              <a:off x="665280" y="3851280"/>
              <a:ext cx="1234800" cy="12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Group 10"/>
          <p:cNvGrpSpPr/>
          <p:nvPr/>
        </p:nvGrpSpPr>
        <p:grpSpPr>
          <a:xfrm>
            <a:off x="1079640" y="2016000"/>
            <a:ext cx="1620720" cy="1619280"/>
            <a:chOff x="1079640" y="2016000"/>
            <a:chExt cx="1620720" cy="1619280"/>
          </a:xfrm>
        </p:grpSpPr>
        <p:pic>
          <p:nvPicPr>
            <p:cNvPr id="105" name="图片 13" descr=""/>
            <p:cNvPicPr/>
            <p:nvPr/>
          </p:nvPicPr>
          <p:blipFill>
            <a:blip r:embed="rId7"/>
            <a:stretch/>
          </p:blipFill>
          <p:spPr>
            <a:xfrm>
              <a:off x="1386360" y="2316960"/>
              <a:ext cx="10069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14" descr=""/>
            <p:cNvPicPr/>
            <p:nvPr/>
          </p:nvPicPr>
          <p:blipFill>
            <a:blip r:embed="rId8"/>
            <a:stretch/>
          </p:blipFill>
          <p:spPr>
            <a:xfrm>
              <a:off x="1079640" y="2016000"/>
              <a:ext cx="1620720" cy="16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3"/>
          <p:cNvGrpSpPr/>
          <p:nvPr/>
        </p:nvGrpSpPr>
        <p:grpSpPr>
          <a:xfrm>
            <a:off x="-334800" y="2597040"/>
            <a:ext cx="1617480" cy="1621080"/>
            <a:chOff x="-334800" y="2597040"/>
            <a:chExt cx="1617480" cy="1621080"/>
          </a:xfrm>
        </p:grpSpPr>
        <p:pic>
          <p:nvPicPr>
            <p:cNvPr id="108" name="图片 16" descr=""/>
            <p:cNvPicPr/>
            <p:nvPr/>
          </p:nvPicPr>
          <p:blipFill>
            <a:blip r:embed="rId9"/>
            <a:stretch/>
          </p:blipFill>
          <p:spPr>
            <a:xfrm>
              <a:off x="-73080" y="2852640"/>
              <a:ext cx="10947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17" descr=""/>
            <p:cNvPicPr/>
            <p:nvPr/>
          </p:nvPicPr>
          <p:blipFill>
            <a:blip r:embed="rId10"/>
            <a:stretch/>
          </p:blipFill>
          <p:spPr>
            <a:xfrm>
              <a:off x="-334800" y="2597040"/>
              <a:ext cx="1617480" cy="16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图片 18" descr=""/>
          <p:cNvPicPr/>
          <p:nvPr/>
        </p:nvPicPr>
        <p:blipFill>
          <a:blip r:embed="rId11"/>
          <a:srcRect l="4677" t="44948" r="58874" b="37635"/>
          <a:stretch/>
        </p:blipFill>
        <p:spPr>
          <a:xfrm>
            <a:off x="3844800" y="2181240"/>
            <a:ext cx="4687920" cy="1679400"/>
          </a:xfrm>
          <a:prstGeom prst="rect">
            <a:avLst/>
          </a:prstGeom>
          <a:ln w="0">
            <a:noFill/>
          </a:ln>
        </p:spPr>
      </p:pic>
      <p:sp>
        <p:nvSpPr>
          <p:cNvPr id="111" name="矩形 1"/>
          <p:cNvSpPr/>
          <p:nvPr/>
        </p:nvSpPr>
        <p:spPr>
          <a:xfrm>
            <a:off x="3047760" y="24120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灰色酷炫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1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1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2" dur="2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4" descr=""/>
          <p:cNvPicPr/>
          <p:nvPr/>
        </p:nvPicPr>
        <p:blipFill>
          <a:blip r:embed="rId1"/>
          <a:stretch/>
        </p:blipFill>
        <p:spPr>
          <a:xfrm>
            <a:off x="1757520" y="1959120"/>
            <a:ext cx="998280" cy="9982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2039760" y="207324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图片 6" descr=""/>
          <p:cNvPicPr/>
          <p:nvPr/>
        </p:nvPicPr>
        <p:blipFill>
          <a:blip r:embed="rId2"/>
          <a:stretch/>
        </p:blipFill>
        <p:spPr>
          <a:xfrm>
            <a:off x="1757520" y="3151080"/>
            <a:ext cx="998280" cy="9986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2039760" y="326556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图片 10" descr=""/>
          <p:cNvPicPr/>
          <p:nvPr/>
        </p:nvPicPr>
        <p:blipFill>
          <a:blip r:embed="rId3"/>
          <a:stretch/>
        </p:blipFill>
        <p:spPr>
          <a:xfrm>
            <a:off x="1773360" y="4302000"/>
            <a:ext cx="998280" cy="998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1"/>
          <p:cNvSpPr/>
          <p:nvPr/>
        </p:nvSpPr>
        <p:spPr>
          <a:xfrm>
            <a:off x="2055960" y="4416480"/>
            <a:ext cx="4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488880" y="217440"/>
            <a:ext cx="17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2987640" y="2195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2987640" y="33876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6"/>
          <p:cNvSpPr/>
          <p:nvPr/>
        </p:nvSpPr>
        <p:spPr>
          <a:xfrm>
            <a:off x="2987640" y="45385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5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7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5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6" descr=""/>
          <p:cNvPicPr/>
          <p:nvPr/>
        </p:nvPicPr>
        <p:blipFill>
          <a:blip r:embed="rId1"/>
          <a:stretch/>
        </p:blipFill>
        <p:spPr>
          <a:xfrm>
            <a:off x="2044800" y="3068640"/>
            <a:ext cx="1000080" cy="9986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2328840" y="31827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276720" y="33066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9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2343240" y="2239920"/>
            <a:ext cx="48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"/>
          <p:cNvSpPr/>
          <p:nvPr/>
        </p:nvSpPr>
        <p:spPr>
          <a:xfrm>
            <a:off x="3296160" y="3587760"/>
            <a:ext cx="27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.glzy8.com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海量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免费下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3"/>
          <p:cNvSpPr/>
          <p:nvPr/>
        </p:nvSpPr>
        <p:spPr>
          <a:xfrm>
            <a:off x="2700360" y="1903320"/>
            <a:ext cx="3959280" cy="3961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饼形 4"/>
          <p:cNvSpPr/>
          <p:nvPr/>
        </p:nvSpPr>
        <p:spPr>
          <a:xfrm>
            <a:off x="2700360" y="1903320"/>
            <a:ext cx="3959280" cy="3961080"/>
          </a:xfrm>
          <a:custGeom>
            <a:avLst/>
            <a:gdLst/>
            <a:ahLst/>
            <a:rect l="l" t="t" r="r" b="b"/>
            <a:pathLst>
              <a:path w="3960440" h="3960440">
                <a:moveTo>
                  <a:pt x="108517" y="2626748"/>
                </a:moveTo>
                <a:cubicBezTo>
                  <a:pt x="-76475" y="2091194"/>
                  <a:pt x="-23193" y="1502050"/>
                  <a:pt x="254882" y="1008376"/>
                </a:cubicBezTo>
                <a:cubicBezTo>
                  <a:pt x="532957" y="514702"/>
                  <a:pt x="1009185" y="163793"/>
                  <a:pt x="1563075" y="44435"/>
                </a:cubicBezTo>
                <a:lnTo>
                  <a:pt x="1980220" y="1980220"/>
                </a:lnTo>
                <a:lnTo>
                  <a:pt x="108517" y="2626748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742320" y="3164040"/>
            <a:ext cx="140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7151040" y="3164040"/>
            <a:ext cx="140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3" descr=""/>
          <p:cNvPicPr/>
          <p:nvPr/>
        </p:nvPicPr>
        <p:blipFill>
          <a:blip r:embed="rId1"/>
          <a:srcRect l="47502" t="38545" r="45626" b="14167"/>
          <a:stretch/>
        </p:blipFill>
        <p:spPr>
          <a:xfrm>
            <a:off x="4427640" y="2133720"/>
            <a:ext cx="628560" cy="32432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" descr=""/>
          <p:cNvPicPr/>
          <p:nvPr/>
        </p:nvPicPr>
        <p:blipFill>
          <a:blip r:embed="rId2"/>
          <a:srcRect l="47502" t="38545" r="45626" b="14167"/>
          <a:stretch/>
        </p:blipFill>
        <p:spPr>
          <a:xfrm>
            <a:off x="5259240" y="3905280"/>
            <a:ext cx="628920" cy="147168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5" descr=""/>
          <p:cNvPicPr/>
          <p:nvPr/>
        </p:nvPicPr>
        <p:blipFill>
          <a:blip r:embed="rId3"/>
          <a:srcRect l="47502" t="38545" r="45626" b="14167"/>
          <a:stretch/>
        </p:blipFill>
        <p:spPr>
          <a:xfrm>
            <a:off x="6151680" y="2897280"/>
            <a:ext cx="628560" cy="24796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6" descr=""/>
          <p:cNvPicPr/>
          <p:nvPr/>
        </p:nvPicPr>
        <p:blipFill>
          <a:blip r:embed="rId4"/>
          <a:srcRect l="47502" t="38545" r="45626" b="14167"/>
          <a:stretch/>
        </p:blipFill>
        <p:spPr>
          <a:xfrm>
            <a:off x="6932520" y="3618000"/>
            <a:ext cx="628920" cy="17589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" descr=""/>
          <p:cNvPicPr/>
          <p:nvPr/>
        </p:nvPicPr>
        <p:blipFill>
          <a:blip r:embed="rId5"/>
          <a:srcRect l="47502" t="38545" r="45626" b="14167"/>
          <a:stretch/>
        </p:blipFill>
        <p:spPr>
          <a:xfrm>
            <a:off x="7807320" y="3354480"/>
            <a:ext cx="628560" cy="2022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9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1108800" y="305280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665280" y="3851280"/>
            <a:ext cx="1234800" cy="1233360"/>
            <a:chOff x="665280" y="3851280"/>
            <a:chExt cx="1234800" cy="1233360"/>
          </a:xfrm>
        </p:grpSpPr>
        <p:pic>
          <p:nvPicPr>
            <p:cNvPr id="144" name="图片 10" descr=""/>
            <p:cNvPicPr/>
            <p:nvPr/>
          </p:nvPicPr>
          <p:blipFill>
            <a:blip r:embed="rId2"/>
            <a:stretch/>
          </p:blipFill>
          <p:spPr>
            <a:xfrm>
              <a:off x="848880" y="4034520"/>
              <a:ext cx="86760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图片 11" descr=""/>
            <p:cNvPicPr/>
            <p:nvPr/>
          </p:nvPicPr>
          <p:blipFill>
            <a:blip r:embed="rId3"/>
            <a:stretch/>
          </p:blipFill>
          <p:spPr>
            <a:xfrm>
              <a:off x="665280" y="3851280"/>
              <a:ext cx="1234800" cy="12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6"/>
          <p:cNvGrpSpPr/>
          <p:nvPr/>
        </p:nvGrpSpPr>
        <p:grpSpPr>
          <a:xfrm>
            <a:off x="1079640" y="2016000"/>
            <a:ext cx="1620720" cy="1619280"/>
            <a:chOff x="1079640" y="2016000"/>
            <a:chExt cx="1620720" cy="1619280"/>
          </a:xfrm>
        </p:grpSpPr>
        <p:pic>
          <p:nvPicPr>
            <p:cNvPr id="147" name="图片 13" descr=""/>
            <p:cNvPicPr/>
            <p:nvPr/>
          </p:nvPicPr>
          <p:blipFill>
            <a:blip r:embed="rId4"/>
            <a:stretch/>
          </p:blipFill>
          <p:spPr>
            <a:xfrm>
              <a:off x="1386360" y="2316960"/>
              <a:ext cx="10069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图片 14" descr=""/>
            <p:cNvPicPr/>
            <p:nvPr/>
          </p:nvPicPr>
          <p:blipFill>
            <a:blip r:embed="rId5"/>
            <a:stretch/>
          </p:blipFill>
          <p:spPr>
            <a:xfrm>
              <a:off x="1079640" y="2016000"/>
              <a:ext cx="1620720" cy="16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9"/>
          <p:cNvGrpSpPr/>
          <p:nvPr/>
        </p:nvGrpSpPr>
        <p:grpSpPr>
          <a:xfrm>
            <a:off x="-334800" y="2597040"/>
            <a:ext cx="1617480" cy="1621080"/>
            <a:chOff x="-334800" y="2597040"/>
            <a:chExt cx="1617480" cy="1621080"/>
          </a:xfrm>
        </p:grpSpPr>
        <p:pic>
          <p:nvPicPr>
            <p:cNvPr id="150" name="图片 16" descr=""/>
            <p:cNvPicPr/>
            <p:nvPr/>
          </p:nvPicPr>
          <p:blipFill>
            <a:blip r:embed="rId6"/>
            <a:stretch/>
          </p:blipFill>
          <p:spPr>
            <a:xfrm>
              <a:off x="-73080" y="2852640"/>
              <a:ext cx="10947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图片 17" descr=""/>
            <p:cNvPicPr/>
            <p:nvPr/>
          </p:nvPicPr>
          <p:blipFill>
            <a:blip r:embed="rId7"/>
            <a:stretch/>
          </p:blipFill>
          <p:spPr>
            <a:xfrm>
              <a:off x="-334800" y="2597040"/>
              <a:ext cx="1617480" cy="16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图片 1" descr=""/>
          <p:cNvPicPr/>
          <p:nvPr/>
        </p:nvPicPr>
        <p:blipFill>
          <a:blip r:embed="rId8"/>
          <a:srcRect l="5171" t="46592" r="53752" b="38498"/>
          <a:stretch/>
        </p:blipFill>
        <p:spPr>
          <a:xfrm>
            <a:off x="5442120" y="3054240"/>
            <a:ext cx="3395520" cy="102240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8" descr=""/>
          <p:cNvPicPr/>
          <p:nvPr/>
        </p:nvPicPr>
        <p:blipFill>
          <a:blip r:embed="rId9"/>
          <a:srcRect l="5173" t="43578" r="41251" b="38507"/>
          <a:stretch/>
        </p:blipFill>
        <p:spPr>
          <a:xfrm>
            <a:off x="3348000" y="2852640"/>
            <a:ext cx="2082960" cy="5238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9" descr=""/>
          <p:cNvPicPr/>
          <p:nvPr/>
        </p:nvPicPr>
        <p:blipFill>
          <a:blip r:embed="rId10"/>
          <a:srcRect l="5171" t="53014" r="75156" b="31628"/>
          <a:stretch/>
        </p:blipFill>
        <p:spPr>
          <a:xfrm>
            <a:off x="3489480" y="3384720"/>
            <a:ext cx="1800000" cy="83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158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16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24:29Z</dcterms:modified>
  <cp:revision>1</cp:revision>
  <dc:subject>幻灯片之家 http://www.eeppt.com</dc:subject>
  <dc:title>幻灯片之家 http://www.eeppt.com</dc:title>
</cp:coreProperties>
</file>