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5CB-85F4-47F8-A112-01F0283C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8C8-8130-4364-8D21-30E5165A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E5E18-F177-428C-BA80-DCCFC703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A7C2B-BA5D-46DB-8D9D-0548E92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FC1C9-967C-4BD1-AC91-12E602AD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E5B3-E1A6-40EB-A95F-31366E8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51F96-CE74-481B-9BC2-637564B3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EF1C-3A07-4136-9A2D-DBCFC769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99D1D-91A3-483B-BEF0-FD275BF3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0FA6D-12B1-4B88-BFDC-05D74DF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6437A-9742-4FC6-9729-548ED3A0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CFE30-B1B5-4836-91D2-D3BB37EC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BB3-86B8-4526-A9A6-9C1AD497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9A81A-9048-4358-87AC-85FBF58F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1E8F3-557E-4E93-823A-1889E6C7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D8CFE-30FB-494F-AFB6-66987CB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05565-97A8-4C80-B16C-377453B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92B32-AD28-45E8-9EE8-FEF9B55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22787-B937-40D7-B98B-313F570C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A420D-71DF-43C9-9DD1-27BFFB1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61A39-4572-4F83-B1FB-95E10CC5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D8214-6605-4557-8D6C-B078CFE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FB99-98F1-46DC-8CC3-53F346B9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65F-B08A-476A-AE19-ECAD5D91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9F989-AD81-4A5E-8157-0DA76F45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38D4-98C8-4A7D-9208-42910AA6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9D5D0-BB06-4DC3-BA89-859970E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2362-61D2-4B5F-871C-0FFCACD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BDB1A-2AA7-4B56-A9EB-FAA90CD5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40581-4617-4825-9A91-F885DDAB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623EC-5FC0-4250-A5C6-AD9EFB8B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3496B-7C0D-4D37-9E0A-B2BF058F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9BD7B-9CA4-4201-956D-AA489696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BBCCE-346C-4FC6-9334-303A423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FDC0-8734-41BB-82AF-54C213AC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F4113-4FB7-40DF-BA9B-1A5702AC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9884C-2A29-49C8-AA28-B1AB1E83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95DAC-408E-4929-949E-AD5A3203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7CCBB-BAEA-457E-9D99-2F62C15A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9670B-B786-4D54-B715-FCDD2FA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C203D-D0EE-41AF-871F-2AAAE1F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2308E-8030-4698-B48B-CDC43F9D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88D25-A9F1-4001-9A77-BC3EA83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2A925-BA3A-4F98-8020-8FCEFC1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FFA45-E354-4192-87E2-A4C81583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F4DB-071F-4DF7-AEFD-6168E71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77955-60DD-47B2-BD9F-BB66386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464A0-5242-479A-A477-2DC9E96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FA2A9-13BD-4670-A9C1-CC67FFE1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A8154-50FB-4331-981E-BC0B9584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5B2E6-BE12-4741-B0D1-18C572E2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81A-A80D-43C7-A5F8-7CF923E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CFE1-95A2-4442-A494-AAA7630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741D-BC6F-4D3A-8156-9D7BF05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DADF-9A23-4FBA-9B80-8D8F62E7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7A89-AB4B-4981-B971-8B27C8E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1B2-0EED-4A63-9DF4-0872A4E5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97BF-E294-4A99-BA3E-920DB0F1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BEC-DE4A-4BD6-9C0B-7FE2DB2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445-C3E6-4668-A76B-39D937BD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9C1-B675-4D7D-A6FD-2DCA359F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3F8-63ED-44E4-A7DD-B336CEC7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0FDCF-90BE-4A79-8CB1-E6E1CC21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9454-7C4E-46E4-8B5C-50BB9CC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F563-E0C8-48F3-BC4B-1613EA8C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39AB-168F-4A70-81D3-1C1CCA0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4913A-217D-471A-9B61-45107B50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8FA-E08C-4E05-A99F-845E8CCD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B223-6B6D-49DA-A286-B7FFBF3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A3FB-9E22-4184-897C-40373F3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FEB2-29ED-474D-A2D6-6BC1D32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3EF5-8EAB-4D53-BFE1-BA9FB3E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7EEC-F1DB-4D07-B9B7-FBACBA61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FF2D-546D-4341-B99F-EB49402D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B17A0-8650-449E-AE66-6D9A1F3B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B0AB-0ACA-497A-A64F-6BF36F0D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76CE-43EA-41EA-A44C-7EF961E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B2F2-6599-4144-AF85-C4E8EBD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2C8-AF9C-4328-AA34-4C93199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A53C7-F03E-4749-BB99-F3E4FCF4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20BE-9BBC-4CF0-BCCE-9D32E241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F2028-8779-40A4-A9F0-59A91378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9F9D-B319-4F03-AAB9-21143DD6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7B4D-59B8-4369-A35C-BE52DC8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8C51C-5834-4B8E-9725-08A3F260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66E20-5B4D-417C-A54A-F76B83FF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0734-AC71-4F68-A607-62C19123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127F-B519-421E-9835-70870646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21F2-5664-4C13-A666-89611C3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3CD-B0F0-42E9-95D1-253780C1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06814-AE3E-42BA-8105-0B592C0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0E3EC-93CF-4A85-8120-86D2BB96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8D1BD-3082-4246-B322-2E7461B6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F8B93-366C-42CC-BFBF-10C554E8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37E1-90EE-46A1-A4A9-A25F1654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F0216-D134-4DA9-A5F8-8DCF83D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B0567-8AE4-4DA0-9446-31E8971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14CC-0D4C-4829-9D1B-4C5F9F2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7BF7-B0EE-4430-A482-83BCB28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7F527-22EC-4E02-9ABF-2C64A62B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105-C713-462F-9A10-DB9890F1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5ACA-003F-484C-86A2-F5305D30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C312C-0EA6-4B96-AA1E-D9B09639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F843-D14F-4147-84A9-DA3D3435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4118-FD27-452A-92C2-68695B58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9DC24-8C6B-4B0E-9933-7495F05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78B1-38B6-447E-B2DC-7EBBB665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F7B92-0AF8-4811-8F83-F57FB9C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8666-71A9-4156-8A30-27FEDBE9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7EF56-1F61-4351-9451-EAB4DC2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316D9-339C-473A-8585-528DE32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057-316E-4B31-8E8A-CE9CFCF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0487-3902-497C-8420-9D94611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DF0E-445D-4F37-A51B-51848E6D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8C85-FA6A-4FDE-871B-29865DEA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659FE-9E49-4F0B-90E0-C2A0C29F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76B46-EAE9-4BEC-AB60-27582A1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D8D5-1DCF-403B-8FBA-96EA3532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0831F-EF0A-4AB3-A579-B9C3E075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A313-569B-4188-8714-DE94E238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E3CA9-D9FA-4F83-BADD-FEF87B5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BEC23-86ED-43D0-928E-F8BF189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536-2FD1-4445-83DE-90BCDD9E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AA83B-0E8A-4101-BF76-60CADB5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E2B4F-267D-4CFD-B79E-7D3004D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B581B-374A-4F6A-A463-ED9E7CBE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5555-88B6-45EB-8572-82CF0250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E95E-91A6-4931-8241-E9B78110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FD859-E75D-4FA9-B774-8CAF8C69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0E09-F208-4D6B-8E29-C234E72C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F540-DBA3-414D-A94B-E0A7217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FF1D-C871-4C49-AB6B-429AF7C5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0F1FF-202D-4EFB-8E9F-058D440F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B33-45CF-450E-9FBC-8529B13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5567-846A-4CF1-AB32-78C78E9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85CD2-3E8B-463C-8A5E-A5A3CE1D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E5D54-EBBE-40AB-8982-65FD614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6B36C-D24A-4463-9929-54E623B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1A11-5CE5-4AE8-BDEF-39EC1BCF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A4EAB-904D-4E8C-96DC-C0E0282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A3D8F-CD1C-4041-AFF5-6AEF5F80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6559A-E52D-4E26-B0F6-0EF24858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10BE7-D64C-445E-AF04-EFA7D855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68A9-D68C-4FAB-A612-DC6EC28D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AA8C-4602-487F-911B-195998F7938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372-3C0E-49E9-A1A9-F649BB9138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3341-4A4D-46A2-A3FF-F262B25C12A0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3AF3-7483-49F7-A026-21BEEF9B5F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AD9-B6F6-4C6A-B502-EC63C4B64E36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8E2-235B-4B85-9B8C-BFC8404905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3464-E33F-4BB7-99F3-CEEFED386C26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5D41-5F0A-4CE9-93D3-4CD382616A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1B01-454A-4AF2-B0FA-657C56648E4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26E-A16B-4630-A600-63F8FE1881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87F8-2F83-417B-BD28-122445C8CD61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F1E-E18F-401C-85B3-6869D0A6D4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985-024F-4539-AE4D-89C468F4CDD0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C02-B302-4388-8937-C4CA4359EC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04C-E8C0-45A7-8D21-516A65DD51FB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EC10-E337-4CB2-B519-163CCFE858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BC3-BED8-4AE3-A4B8-41FABE8F275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3F26-EFD4-4F72-8378-54A6CB42EE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AE59-267B-4F04-BED4-FF576A1E3AB8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1E44-DD0D-4326-821F-8C6AE0AC21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E774-586F-437E-BF3A-7FEB29EFF6EC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809-9FCB-41F8-A14D-2B52C1C470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8e8"/>
                </a:solidFill>
                <a:latin typeface="나눔명조"/>
              </a:rPr>
              <a:t>Click to edit the title text format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Click to edit the outline text format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1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con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2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Third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3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our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4" marL="343080" indent="-343080">
              <a:spcBef>
                <a:spcPts val="799"/>
              </a:spcBef>
              <a:buClr>
                <a:srgbClr val="e8e8e8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Fif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ix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나눔명조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e8e8"/>
                </a:solidFill>
                <a:latin typeface="나눔명조"/>
              </a:rPr>
              <a:t>Seventh Outline Level</a:t>
            </a:r>
            <a:endParaRPr b="0" lang="en-US" sz="3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4F6-210D-4374-8A86-70F0D36F35EA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C98B-93B4-4DA9-BA38-6548DEB46C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angeul.naver.com/font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그림 4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495" name="矩形 1"/>
          <p:cNvSpPr/>
          <p:nvPr/>
        </p:nvSpPr>
        <p:spPr>
          <a:xfrm>
            <a:off x="2952720" y="8352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婚纱照相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8551-87AF-41B4-B19D-41A5B9DE31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그림 5" descr=""/>
          <p:cNvPicPr/>
          <p:nvPr/>
        </p:nvPicPr>
        <p:blipFill>
          <a:blip r:embed="rId2"/>
          <a:stretch/>
        </p:blipFill>
        <p:spPr>
          <a:xfrm>
            <a:off x="2965320" y="2184480"/>
            <a:ext cx="3876840" cy="2781360"/>
          </a:xfrm>
          <a:prstGeom prst="rect">
            <a:avLst/>
          </a:prstGeom>
          <a:ln w="0">
            <a:noFill/>
          </a:ln>
        </p:spPr>
      </p:pic>
      <p:sp>
        <p:nvSpPr>
          <p:cNvPr id="500" name="TextBox 6"/>
          <p:cNvSpPr/>
          <p:nvPr/>
        </p:nvSpPr>
        <p:spPr>
          <a:xfrm>
            <a:off x="4494240" y="5040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r>
              <a:rPr b="0" lang="en-US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·</a:t>
            </a:r>
            <a:r>
              <a:rPr b="0" lang="zh-CN" sz="1200" spc="-1" strike="noStrike">
                <a:solidFill>
                  <a:srgbClr val="180a02"/>
                </a:solidFill>
                <a:latin typeface="나눔고딕 ExtraBold"/>
                <a:ea typeface="나눔고딕 ExtraBold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그림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그림 4" descr=""/>
          <p:cNvPicPr/>
          <p:nvPr/>
        </p:nvPicPr>
        <p:blipFill>
          <a:blip r:embed="rId2"/>
          <a:stretch/>
        </p:blipFill>
        <p:spPr>
          <a:xfrm>
            <a:off x="1698480" y="1592280"/>
            <a:ext cx="5734080" cy="3683160"/>
          </a:xfrm>
          <a:prstGeom prst="rect">
            <a:avLst/>
          </a:prstGeom>
          <a:ln cap="sq" w="1440">
            <a:solidFill>
              <a:srgbClr val="000000"/>
            </a:solidFill>
            <a:miter/>
          </a:ln>
        </p:spPr>
      </p:pic>
      <p:sp>
        <p:nvSpPr>
          <p:cNvPr id="503" name="TextBox 8"/>
          <p:cNvSpPr/>
          <p:nvPr/>
        </p:nvSpPr>
        <p:spPr>
          <a:xfrm>
            <a:off x="4302000" y="5353200"/>
            <a:ext cx="3240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그림 4" descr=""/>
          <p:cNvPicPr/>
          <p:nvPr/>
        </p:nvPicPr>
        <p:blipFill>
          <a:blip r:embed="rId2"/>
          <a:stretch/>
        </p:blipFill>
        <p:spPr>
          <a:xfrm>
            <a:off x="749160" y="746280"/>
            <a:ext cx="3733920" cy="4457520"/>
          </a:xfrm>
          <a:prstGeom prst="rect">
            <a:avLst/>
          </a:prstGeom>
          <a:ln w="0">
            <a:noFill/>
          </a:ln>
        </p:spPr>
      </p:pic>
      <p:pic>
        <p:nvPicPr>
          <p:cNvPr id="506" name="그림 5" descr=""/>
          <p:cNvPicPr/>
          <p:nvPr/>
        </p:nvPicPr>
        <p:blipFill>
          <a:blip r:embed="rId3"/>
          <a:stretch/>
        </p:blipFill>
        <p:spPr>
          <a:xfrm>
            <a:off x="4657680" y="1554120"/>
            <a:ext cx="3733920" cy="4457880"/>
          </a:xfrm>
          <a:prstGeom prst="rect">
            <a:avLst/>
          </a:prstGeom>
          <a:ln w="0">
            <a:noFill/>
          </a:ln>
        </p:spPr>
      </p:pic>
      <p:sp>
        <p:nvSpPr>
          <p:cNvPr id="507" name="TextBox 6"/>
          <p:cNvSpPr/>
          <p:nvPr/>
        </p:nvSpPr>
        <p:spPr>
          <a:xfrm>
            <a:off x="5257800" y="607860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그림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9" name="그림 4" descr=""/>
          <p:cNvPicPr/>
          <p:nvPr/>
        </p:nvPicPr>
        <p:blipFill>
          <a:blip r:embed="rId2"/>
          <a:stretch/>
        </p:blipFill>
        <p:spPr>
          <a:xfrm>
            <a:off x="727200" y="563400"/>
            <a:ext cx="3352680" cy="2648160"/>
          </a:xfrm>
          <a:prstGeom prst="rect">
            <a:avLst/>
          </a:prstGeom>
          <a:ln w="0">
            <a:noFill/>
          </a:ln>
        </p:spPr>
      </p:pic>
      <p:pic>
        <p:nvPicPr>
          <p:cNvPr id="510" name="그림 5" descr=""/>
          <p:cNvPicPr/>
          <p:nvPr/>
        </p:nvPicPr>
        <p:blipFill>
          <a:blip r:embed="rId3"/>
          <a:stretch/>
        </p:blipFill>
        <p:spPr>
          <a:xfrm>
            <a:off x="4255920" y="577800"/>
            <a:ext cx="4305600" cy="5467320"/>
          </a:xfrm>
          <a:prstGeom prst="rect">
            <a:avLst/>
          </a:prstGeom>
          <a:ln w="0">
            <a:noFill/>
          </a:ln>
        </p:spPr>
      </p:pic>
      <p:pic>
        <p:nvPicPr>
          <p:cNvPr id="511" name="그림 6" descr=""/>
          <p:cNvPicPr/>
          <p:nvPr/>
        </p:nvPicPr>
        <p:blipFill>
          <a:blip r:embed="rId4"/>
          <a:stretch/>
        </p:blipFill>
        <p:spPr>
          <a:xfrm>
            <a:off x="723960" y="3390840"/>
            <a:ext cx="3352680" cy="26481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1"/>
          <p:cNvSpPr/>
          <p:nvPr/>
        </p:nvSpPr>
        <p:spPr>
          <a:xfrm>
            <a:off x="5429160" y="6107040"/>
            <a:ext cx="3241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09090"/>
                </a:solidFill>
                <a:latin typeface="나눔고딕"/>
                <a:ea typeface="나눔고딕"/>
              </a:rPr>
              <a:t>I  LOVE YO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그림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2308320" y="2421000"/>
            <a:ext cx="4527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나눔명조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"/>
          <p:cNvSpPr/>
          <p:nvPr/>
        </p:nvSpPr>
        <p:spPr>
          <a:xfrm>
            <a:off x="2232000" y="3348000"/>
            <a:ext cx="468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이 순간을 영원히 기억하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e9e9e"/>
                </a:solidFill>
                <a:latin typeface="나눔명조"/>
              </a:rPr>
              <a:t>아끼는 마음으로 행복하게 살겠습니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3348000" y="6324480"/>
            <a:ext cx="24480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8e8e8e"/>
                </a:solidFill>
                <a:latin typeface="나눔고딕"/>
                <a:ea typeface="나눔고딕"/>
              </a:rPr>
              <a:t>.  </a:t>
            </a:r>
            <a:r>
              <a:rPr b="0" lang="zh-CN" sz="800" spc="-1" strike="noStrike" u="sng">
                <a:solidFill>
                  <a:srgbClr val="7f7f7f"/>
                </a:solidFill>
                <a:uFillTx/>
                <a:latin typeface="나눔고딕"/>
                <a:ea typeface="나눔고딕"/>
                <a:hlinkClick r:id="rId2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e8e8"/>
                </a:solidFill>
                <a:latin typeface="나눔명조"/>
              </a:rPr>
              <a:t>使用规范说明</a:t>
            </a:r>
            <a:endParaRPr b="0" lang="en-US" sz="44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站点介绍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명조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特别说明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명조"/>
              </a:rPr>
              <a:t>栏目推荐：</a:t>
            </a:r>
            <a:endParaRPr b="0" lang="en-US" sz="14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8e8e8"/>
              </a:solidFill>
              <a:latin typeface="나눔명조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4:2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9:00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