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C6D-6530-4188-A00B-1322DDC3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157-2B27-402E-8FA4-4DAAB8E8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5ED-B857-46D7-9C3F-EAEDD9B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0E8-74F9-451D-916E-DD88C03C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75E-5C2E-4559-830D-BCBF882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B68-4784-462D-AB7C-AE35B2E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DCD-39FE-442A-BF5C-B31249E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F11-D50C-46FC-829E-6545F95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1DC-569E-4CCE-BDA9-27DF1AD6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DAD-BF88-41A0-B5A0-9ADADF8B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695-7BBC-4BDA-BA77-8AD3D63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C08-9E95-4159-AA5D-B5048FE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D536-B140-4439-B8AF-D5951EE25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625480" y="111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建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803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2556000" y="2201760"/>
            <a:ext cx="4895640" cy="684360"/>
            <a:chOff x="2556000" y="2201760"/>
            <a:chExt cx="4895640" cy="684360"/>
          </a:xfrm>
        </p:grpSpPr>
        <p:sp>
          <p:nvSpPr>
            <p:cNvPr id="45" name="任意多边形 5"/>
            <p:cNvSpPr/>
            <p:nvPr/>
          </p:nvSpPr>
          <p:spPr>
            <a:xfrm>
              <a:off x="2556000" y="220176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"/>
            <p:cNvSpPr/>
            <p:nvPr/>
          </p:nvSpPr>
          <p:spPr>
            <a:xfrm>
              <a:off x="2603880" y="221832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"/>
          <p:cNvGrpSpPr/>
          <p:nvPr/>
        </p:nvGrpSpPr>
        <p:grpSpPr>
          <a:xfrm>
            <a:off x="2556000" y="2968560"/>
            <a:ext cx="4895640" cy="682560"/>
            <a:chOff x="2556000" y="2968560"/>
            <a:chExt cx="4895640" cy="682560"/>
          </a:xfrm>
        </p:grpSpPr>
        <p:sp>
          <p:nvSpPr>
            <p:cNvPr id="48" name="任意多边形 8"/>
            <p:cNvSpPr/>
            <p:nvPr/>
          </p:nvSpPr>
          <p:spPr>
            <a:xfrm>
              <a:off x="2556000" y="296856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2603880" y="298512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9"/>
          <p:cNvGrpSpPr/>
          <p:nvPr/>
        </p:nvGrpSpPr>
        <p:grpSpPr>
          <a:xfrm>
            <a:off x="2556000" y="3733920"/>
            <a:ext cx="4895640" cy="684000"/>
            <a:chOff x="2556000" y="3733920"/>
            <a:chExt cx="4895640" cy="684000"/>
          </a:xfrm>
        </p:grpSpPr>
        <p:sp>
          <p:nvSpPr>
            <p:cNvPr id="51" name="任意多边形 11"/>
            <p:cNvSpPr/>
            <p:nvPr/>
          </p:nvSpPr>
          <p:spPr>
            <a:xfrm>
              <a:off x="2556000" y="3733920"/>
              <a:ext cx="489564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2603880" y="3750480"/>
              <a:ext cx="479952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2556000" y="4500720"/>
            <a:ext cx="4895640" cy="682560"/>
            <a:chOff x="2556000" y="4500720"/>
            <a:chExt cx="4895640" cy="682560"/>
          </a:xfrm>
        </p:grpSpPr>
        <p:sp>
          <p:nvSpPr>
            <p:cNvPr id="54" name="任意多边形 14"/>
            <p:cNvSpPr/>
            <p:nvPr/>
          </p:nvSpPr>
          <p:spPr>
            <a:xfrm>
              <a:off x="2556000" y="450072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2603880" y="451728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2556000" y="5265720"/>
            <a:ext cx="4895640" cy="684360"/>
            <a:chOff x="2556000" y="5265720"/>
            <a:chExt cx="4895640" cy="684360"/>
          </a:xfrm>
        </p:grpSpPr>
        <p:sp>
          <p:nvSpPr>
            <p:cNvPr id="57" name="任意多边形 17"/>
            <p:cNvSpPr/>
            <p:nvPr/>
          </p:nvSpPr>
          <p:spPr>
            <a:xfrm>
              <a:off x="2556000" y="526572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2603880" y="528228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1619280" y="1395360"/>
            <a:ext cx="5832360" cy="684360"/>
            <a:chOff x="1619280" y="1395360"/>
            <a:chExt cx="5832360" cy="684360"/>
          </a:xfrm>
        </p:grpSpPr>
        <p:sp>
          <p:nvSpPr>
            <p:cNvPr id="60" name="任意多边形 23"/>
            <p:cNvSpPr/>
            <p:nvPr/>
          </p:nvSpPr>
          <p:spPr>
            <a:xfrm>
              <a:off x="1619280" y="1395360"/>
              <a:ext cx="583236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round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654560" y="1408680"/>
              <a:ext cx="5759640" cy="659160"/>
              <a:chOff x="1654560" y="1408680"/>
              <a:chExt cx="5759640" cy="659160"/>
            </a:xfrm>
          </p:grpSpPr>
          <p:pic>
            <p:nvPicPr>
              <p:cNvPr id="6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4560" y="1408680"/>
                <a:ext cx="575964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22"/>
              <p:cNvSpPr/>
              <p:nvPr/>
            </p:nvSpPr>
            <p:spPr>
              <a:xfrm>
                <a:off x="1666080" y="1411560"/>
                <a:ext cx="573804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23"/>
          <p:cNvGrpSpPr/>
          <p:nvPr/>
        </p:nvGrpSpPr>
        <p:grpSpPr>
          <a:xfrm>
            <a:off x="1620720" y="2201760"/>
            <a:ext cx="719280" cy="684360"/>
            <a:chOff x="1620720" y="2201760"/>
            <a:chExt cx="719280" cy="684360"/>
          </a:xfrm>
        </p:grpSpPr>
        <p:sp>
          <p:nvSpPr>
            <p:cNvPr id="65" name="圆角矩形 26"/>
            <p:cNvSpPr/>
            <p:nvPr/>
          </p:nvSpPr>
          <p:spPr>
            <a:xfrm>
              <a:off x="1620720" y="220176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1649880" y="2212920"/>
              <a:ext cx="659160" cy="665280"/>
              <a:chOff x="1649880" y="2212920"/>
              <a:chExt cx="659160" cy="665280"/>
            </a:xfrm>
          </p:grpSpPr>
          <p:pic>
            <p:nvPicPr>
              <p:cNvPr id="6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880" y="221292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7"/>
              <p:cNvSpPr/>
              <p:nvPr/>
            </p:nvSpPr>
            <p:spPr>
              <a:xfrm>
                <a:off x="1686960" y="22500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28"/>
          <p:cNvGrpSpPr/>
          <p:nvPr/>
        </p:nvGrpSpPr>
        <p:grpSpPr>
          <a:xfrm>
            <a:off x="1620720" y="2968560"/>
            <a:ext cx="719280" cy="682560"/>
            <a:chOff x="1620720" y="2968560"/>
            <a:chExt cx="719280" cy="682560"/>
          </a:xfrm>
        </p:grpSpPr>
        <p:sp>
          <p:nvSpPr>
            <p:cNvPr id="70" name="圆角矩形 29"/>
            <p:cNvSpPr/>
            <p:nvPr/>
          </p:nvSpPr>
          <p:spPr>
            <a:xfrm>
              <a:off x="1620720" y="296856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649880" y="2981880"/>
              <a:ext cx="659160" cy="657360"/>
              <a:chOff x="1649880" y="2981880"/>
              <a:chExt cx="659160" cy="657360"/>
            </a:xfrm>
          </p:grpSpPr>
          <p:pic>
            <p:nvPicPr>
              <p:cNvPr id="7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9880" y="2981880"/>
                <a:ext cx="65916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32"/>
              <p:cNvSpPr/>
              <p:nvPr/>
            </p:nvSpPr>
            <p:spPr>
              <a:xfrm>
                <a:off x="1686960" y="30164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33"/>
          <p:cNvGrpSpPr/>
          <p:nvPr/>
        </p:nvGrpSpPr>
        <p:grpSpPr>
          <a:xfrm>
            <a:off x="1620720" y="3733920"/>
            <a:ext cx="719280" cy="684000"/>
            <a:chOff x="1620720" y="3733920"/>
            <a:chExt cx="719280" cy="684000"/>
          </a:xfrm>
        </p:grpSpPr>
        <p:sp>
          <p:nvSpPr>
            <p:cNvPr id="75" name="圆角矩形 32"/>
            <p:cNvSpPr/>
            <p:nvPr/>
          </p:nvSpPr>
          <p:spPr>
            <a:xfrm>
              <a:off x="1620720" y="3733920"/>
              <a:ext cx="71928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5"/>
            <p:cNvGrpSpPr/>
            <p:nvPr/>
          </p:nvGrpSpPr>
          <p:grpSpPr>
            <a:xfrm>
              <a:off x="1649880" y="3743280"/>
              <a:ext cx="659160" cy="664920"/>
              <a:chOff x="1649880" y="3743280"/>
              <a:chExt cx="659160" cy="664920"/>
            </a:xfrm>
          </p:grpSpPr>
          <p:pic>
            <p:nvPicPr>
              <p:cNvPr id="7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880" y="3743280"/>
                <a:ext cx="65916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37"/>
              <p:cNvSpPr/>
              <p:nvPr/>
            </p:nvSpPr>
            <p:spPr>
              <a:xfrm>
                <a:off x="1686960" y="378216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38"/>
          <p:cNvGrpSpPr/>
          <p:nvPr/>
        </p:nvGrpSpPr>
        <p:grpSpPr>
          <a:xfrm>
            <a:off x="1620720" y="4500720"/>
            <a:ext cx="719280" cy="682560"/>
            <a:chOff x="1620720" y="4500720"/>
            <a:chExt cx="719280" cy="682560"/>
          </a:xfrm>
        </p:grpSpPr>
        <p:sp>
          <p:nvSpPr>
            <p:cNvPr id="80" name="圆角矩形 35"/>
            <p:cNvSpPr/>
            <p:nvPr/>
          </p:nvSpPr>
          <p:spPr>
            <a:xfrm>
              <a:off x="1620720" y="450072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0"/>
            <p:cNvGrpSpPr/>
            <p:nvPr/>
          </p:nvGrpSpPr>
          <p:grpSpPr>
            <a:xfrm>
              <a:off x="1649880" y="4512240"/>
              <a:ext cx="659160" cy="663480"/>
              <a:chOff x="1649880" y="4512240"/>
              <a:chExt cx="659160" cy="663480"/>
            </a:xfrm>
          </p:grpSpPr>
          <p:pic>
            <p:nvPicPr>
              <p:cNvPr id="8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49880" y="4512240"/>
                <a:ext cx="65916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2"/>
              <p:cNvSpPr/>
              <p:nvPr/>
            </p:nvSpPr>
            <p:spPr>
              <a:xfrm>
                <a:off x="1686960" y="454860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43"/>
          <p:cNvGrpSpPr/>
          <p:nvPr/>
        </p:nvGrpSpPr>
        <p:grpSpPr>
          <a:xfrm>
            <a:off x="1620720" y="5265720"/>
            <a:ext cx="719280" cy="684360"/>
            <a:chOff x="1620720" y="5265720"/>
            <a:chExt cx="719280" cy="684360"/>
          </a:xfrm>
        </p:grpSpPr>
        <p:sp>
          <p:nvSpPr>
            <p:cNvPr id="85" name="圆角矩形 38"/>
            <p:cNvSpPr/>
            <p:nvPr/>
          </p:nvSpPr>
          <p:spPr>
            <a:xfrm>
              <a:off x="1620720" y="526572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5"/>
            <p:cNvGrpSpPr/>
            <p:nvPr/>
          </p:nvGrpSpPr>
          <p:grpSpPr>
            <a:xfrm>
              <a:off x="1649880" y="5273280"/>
              <a:ext cx="659160" cy="665280"/>
              <a:chOff x="1649880" y="5273280"/>
              <a:chExt cx="659160" cy="665280"/>
            </a:xfrm>
          </p:grpSpPr>
          <p:pic>
            <p:nvPicPr>
              <p:cNvPr id="8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649880" y="527328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7"/>
              <p:cNvSpPr/>
              <p:nvPr/>
            </p:nvSpPr>
            <p:spPr>
              <a:xfrm>
                <a:off x="1686960" y="53136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4"/>
          <a:stretch/>
        </p:blipFill>
        <p:spPr>
          <a:xfrm>
            <a:off x="11160" y="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1" descr=""/>
          <p:cNvPicPr/>
          <p:nvPr/>
        </p:nvPicPr>
        <p:blipFill>
          <a:blip r:embed="rId15"/>
          <a:stretch/>
        </p:blipFill>
        <p:spPr>
          <a:xfrm>
            <a:off x="1695600" y="1712880"/>
            <a:ext cx="63324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00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0:2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