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jpeg" ContentType="image/jpeg"/>
  <Override PartName="/ppt/media/image44.png" ContentType="image/png"/>
  <Override PartName="/ppt/media/image42.png" ContentType="image/png"/>
  <Override PartName="/ppt/media/image43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jpeg" ContentType="image/jpeg"/>
  <Override PartName="/ppt/media/image48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9113-8000-4278-98D6-FAAF3C13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2A27-FA02-43EC-8DC8-170C0A39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9A46-A7C3-4AAA-880D-3C4BF96B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1A57-B445-48C9-B264-25156EF2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B4D-60DD-4892-8943-A822018F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6722-C503-4ED3-8917-5D644B0A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6D3-D6B1-4B32-86DC-B1D1F49C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986-0AE1-4D67-A46C-16FCD226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6F6-4C37-4CF8-809B-A12257BF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F33-417E-4ACC-A3BC-EE4A2516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1AF-68E4-4412-B66A-7DFB4786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F13A-23A1-4A5A-A11D-47D2FF89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0C4C-105E-4D20-B7D9-863F96CEE60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53D8-8FA1-48CC-A156-59A9A41EED5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5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9.png"/><Relationship Id="rId38" Type="http://schemas.openxmlformats.org/officeDocument/2006/relationships/image" Target="../media/image10.png"/><Relationship Id="rId39" Type="http://schemas.openxmlformats.org/officeDocument/2006/relationships/image" Target="../media/image11.png"/><Relationship Id="rId40" Type="http://schemas.openxmlformats.org/officeDocument/2006/relationships/image" Target="../media/image12.png"/><Relationship Id="rId41" Type="http://schemas.openxmlformats.org/officeDocument/2006/relationships/image" Target="../media/image13.png"/><Relationship Id="rId42" Type="http://schemas.openxmlformats.org/officeDocument/2006/relationships/image" Target="../media/image14.png"/><Relationship Id="rId4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32.png"/><Relationship Id="rId22" Type="http://schemas.openxmlformats.org/officeDocument/2006/relationships/image" Target="../media/image34.png"/><Relationship Id="rId23" Type="http://schemas.openxmlformats.org/officeDocument/2006/relationships/image" Target="../media/image34.png"/><Relationship Id="rId24" Type="http://schemas.openxmlformats.org/officeDocument/2006/relationships/image" Target="../media/image35.png"/><Relationship Id="rId25" Type="http://schemas.openxmlformats.org/officeDocument/2006/relationships/image" Target="../media/image36.png"/><Relationship Id="rId26" Type="http://schemas.openxmlformats.org/officeDocument/2006/relationships/image" Target="../media/image37.png"/><Relationship Id="rId27" Type="http://schemas.openxmlformats.org/officeDocument/2006/relationships/image" Target="../media/image38.png"/><Relationship Id="rId28" Type="http://schemas.openxmlformats.org/officeDocument/2006/relationships/image" Target="../media/image39.pn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42.png"/><Relationship Id="rId13" Type="http://schemas.openxmlformats.org/officeDocument/2006/relationships/image" Target="../media/image42.png"/><Relationship Id="rId14" Type="http://schemas.openxmlformats.org/officeDocument/2006/relationships/image" Target="../media/image42.png"/><Relationship Id="rId15" Type="http://schemas.openxmlformats.org/officeDocument/2006/relationships/image" Target="../media/image42.png"/><Relationship Id="rId16" Type="http://schemas.openxmlformats.org/officeDocument/2006/relationships/image" Target="../media/image42.png"/><Relationship Id="rId17" Type="http://schemas.openxmlformats.org/officeDocument/2006/relationships/image" Target="../media/image42.png"/><Relationship Id="rId18" Type="http://schemas.openxmlformats.org/officeDocument/2006/relationships/image" Target="../media/image42.png"/><Relationship Id="rId19" Type="http://schemas.openxmlformats.org/officeDocument/2006/relationships/image" Target="../media/image42.png"/><Relationship Id="rId20" Type="http://schemas.openxmlformats.org/officeDocument/2006/relationships/image" Target="../media/image42.png"/><Relationship Id="rId21" Type="http://schemas.openxmlformats.org/officeDocument/2006/relationships/image" Target="../media/image42.png"/><Relationship Id="rId22" Type="http://schemas.openxmlformats.org/officeDocument/2006/relationships/image" Target="../media/image42.png"/><Relationship Id="rId23" Type="http://schemas.openxmlformats.org/officeDocument/2006/relationships/image" Target="../media/image42.png"/><Relationship Id="rId24" Type="http://schemas.openxmlformats.org/officeDocument/2006/relationships/image" Target="../media/image42.png"/><Relationship Id="rId25" Type="http://schemas.openxmlformats.org/officeDocument/2006/relationships/image" Target="../media/image42.png"/><Relationship Id="rId26" Type="http://schemas.openxmlformats.org/officeDocument/2006/relationships/image" Target="../media/image42.png"/><Relationship Id="rId27" Type="http://schemas.openxmlformats.org/officeDocument/2006/relationships/image" Target="../media/image42.png"/><Relationship Id="rId28" Type="http://schemas.openxmlformats.org/officeDocument/2006/relationships/image" Target="../media/image42.png"/><Relationship Id="rId29" Type="http://schemas.openxmlformats.org/officeDocument/2006/relationships/image" Target="../media/image42.png"/><Relationship Id="rId30" Type="http://schemas.openxmlformats.org/officeDocument/2006/relationships/image" Target="../media/image42.png"/><Relationship Id="rId31" Type="http://schemas.openxmlformats.org/officeDocument/2006/relationships/image" Target="../media/image42.png"/><Relationship Id="rId32" Type="http://schemas.openxmlformats.org/officeDocument/2006/relationships/image" Target="../media/image42.png"/><Relationship Id="rId33" Type="http://schemas.openxmlformats.org/officeDocument/2006/relationships/image" Target="../media/image42.png"/><Relationship Id="rId34" Type="http://schemas.openxmlformats.org/officeDocument/2006/relationships/image" Target="../media/image42.png"/><Relationship Id="rId35" Type="http://schemas.openxmlformats.org/officeDocument/2006/relationships/image" Target="../media/image42.png"/><Relationship Id="rId36" Type="http://schemas.openxmlformats.org/officeDocument/2006/relationships/image" Target="../media/image42.png"/><Relationship Id="rId37" Type="http://schemas.openxmlformats.org/officeDocument/2006/relationships/image" Target="../media/image42.png"/><Relationship Id="rId38" Type="http://schemas.openxmlformats.org/officeDocument/2006/relationships/image" Target="../media/image42.png"/><Relationship Id="rId39" Type="http://schemas.openxmlformats.org/officeDocument/2006/relationships/image" Target="../media/image42.png"/><Relationship Id="rId40" Type="http://schemas.openxmlformats.org/officeDocument/2006/relationships/image" Target="../media/image42.png"/><Relationship Id="rId41" Type="http://schemas.openxmlformats.org/officeDocument/2006/relationships/image" Target="../media/image42.png"/><Relationship Id="rId42" Type="http://schemas.openxmlformats.org/officeDocument/2006/relationships/image" Target="../media/image42.png"/><Relationship Id="rId43" Type="http://schemas.openxmlformats.org/officeDocument/2006/relationships/image" Target="../media/image42.png"/><Relationship Id="rId44" Type="http://schemas.openxmlformats.org/officeDocument/2006/relationships/image" Target="../media/image42.png"/><Relationship Id="rId45" Type="http://schemas.openxmlformats.org/officeDocument/2006/relationships/image" Target="../media/image42.png"/><Relationship Id="rId46" Type="http://schemas.openxmlformats.org/officeDocument/2006/relationships/image" Target="../media/image42.png"/><Relationship Id="rId47" Type="http://schemas.openxmlformats.org/officeDocument/2006/relationships/image" Target="../media/image42.png"/><Relationship Id="rId48" Type="http://schemas.openxmlformats.org/officeDocument/2006/relationships/image" Target="../media/image42.png"/><Relationship Id="rId49" Type="http://schemas.openxmlformats.org/officeDocument/2006/relationships/image" Target="../media/image42.png"/><Relationship Id="rId50" Type="http://schemas.openxmlformats.org/officeDocument/2006/relationships/image" Target="../media/image42.png"/><Relationship Id="rId51" Type="http://schemas.openxmlformats.org/officeDocument/2006/relationships/image" Target="../media/image42.png"/><Relationship Id="rId52" Type="http://schemas.openxmlformats.org/officeDocument/2006/relationships/image" Target="../media/image42.png"/><Relationship Id="rId53" Type="http://schemas.openxmlformats.org/officeDocument/2006/relationships/image" Target="../media/image42.png"/><Relationship Id="rId54" Type="http://schemas.openxmlformats.org/officeDocument/2006/relationships/image" Target="../media/image42.png"/><Relationship Id="rId55" Type="http://schemas.openxmlformats.org/officeDocument/2006/relationships/image" Target="../media/image42.png"/><Relationship Id="rId56" Type="http://schemas.openxmlformats.org/officeDocument/2006/relationships/image" Target="../media/image41.png"/><Relationship Id="rId57" Type="http://schemas.openxmlformats.org/officeDocument/2006/relationships/image" Target="../media/image42.png"/><Relationship Id="rId58" Type="http://schemas.openxmlformats.org/officeDocument/2006/relationships/image" Target="../media/image42.png"/><Relationship Id="rId59" Type="http://schemas.openxmlformats.org/officeDocument/2006/relationships/image" Target="../media/image42.png"/><Relationship Id="rId60" Type="http://schemas.openxmlformats.org/officeDocument/2006/relationships/image" Target="../media/image42.png"/><Relationship Id="rId61" Type="http://schemas.openxmlformats.org/officeDocument/2006/relationships/image" Target="../media/image42.png"/><Relationship Id="rId62" Type="http://schemas.openxmlformats.org/officeDocument/2006/relationships/image" Target="../media/image42.png"/><Relationship Id="rId63" Type="http://schemas.openxmlformats.org/officeDocument/2006/relationships/image" Target="../media/image42.png"/><Relationship Id="rId64" Type="http://schemas.openxmlformats.org/officeDocument/2006/relationships/image" Target="../media/image42.png"/><Relationship Id="rId65" Type="http://schemas.openxmlformats.org/officeDocument/2006/relationships/image" Target="../media/image42.png"/><Relationship Id="rId66" Type="http://schemas.openxmlformats.org/officeDocument/2006/relationships/image" Target="../media/image42.png"/><Relationship Id="rId67" Type="http://schemas.openxmlformats.org/officeDocument/2006/relationships/image" Target="../media/image42.png"/><Relationship Id="rId68" Type="http://schemas.openxmlformats.org/officeDocument/2006/relationships/image" Target="../media/image42.png"/><Relationship Id="rId69" Type="http://schemas.openxmlformats.org/officeDocument/2006/relationships/image" Target="../media/image42.png"/><Relationship Id="rId70" Type="http://schemas.openxmlformats.org/officeDocument/2006/relationships/image" Target="../media/image42.png"/><Relationship Id="rId71" Type="http://schemas.openxmlformats.org/officeDocument/2006/relationships/image" Target="../media/image42.png"/><Relationship Id="rId72" Type="http://schemas.openxmlformats.org/officeDocument/2006/relationships/image" Target="../media/image42.png"/><Relationship Id="rId73" Type="http://schemas.openxmlformats.org/officeDocument/2006/relationships/image" Target="../media/image42.png"/><Relationship Id="rId74" Type="http://schemas.openxmlformats.org/officeDocument/2006/relationships/image" Target="../media/image42.png"/><Relationship Id="rId75" Type="http://schemas.openxmlformats.org/officeDocument/2006/relationships/image" Target="../media/image42.png"/><Relationship Id="rId76" Type="http://schemas.openxmlformats.org/officeDocument/2006/relationships/image" Target="../media/image42.png"/><Relationship Id="rId77" Type="http://schemas.openxmlformats.org/officeDocument/2006/relationships/image" Target="../media/image42.png"/><Relationship Id="rId78" Type="http://schemas.openxmlformats.org/officeDocument/2006/relationships/image" Target="../media/image42.png"/><Relationship Id="rId79" Type="http://schemas.openxmlformats.org/officeDocument/2006/relationships/image" Target="../media/image42.png"/><Relationship Id="rId80" Type="http://schemas.openxmlformats.org/officeDocument/2006/relationships/image" Target="../media/image42.png"/><Relationship Id="rId81" Type="http://schemas.openxmlformats.org/officeDocument/2006/relationships/image" Target="../media/image42.png"/><Relationship Id="rId82" Type="http://schemas.openxmlformats.org/officeDocument/2006/relationships/image" Target="../media/image42.png"/><Relationship Id="rId83" Type="http://schemas.openxmlformats.org/officeDocument/2006/relationships/image" Target="../media/image42.png"/><Relationship Id="rId84" Type="http://schemas.openxmlformats.org/officeDocument/2006/relationships/image" Target="../media/image42.png"/><Relationship Id="rId85" Type="http://schemas.openxmlformats.org/officeDocument/2006/relationships/image" Target="../media/image42.png"/><Relationship Id="rId86" Type="http://schemas.openxmlformats.org/officeDocument/2006/relationships/image" Target="../media/image42.png"/><Relationship Id="rId87" Type="http://schemas.openxmlformats.org/officeDocument/2006/relationships/image" Target="../media/image42.png"/><Relationship Id="rId88" Type="http://schemas.openxmlformats.org/officeDocument/2006/relationships/image" Target="../media/image42.png"/><Relationship Id="rId89" Type="http://schemas.openxmlformats.org/officeDocument/2006/relationships/image" Target="../media/image42.png"/><Relationship Id="rId90" Type="http://schemas.openxmlformats.org/officeDocument/2006/relationships/image" Target="../media/image42.png"/><Relationship Id="rId91" Type="http://schemas.openxmlformats.org/officeDocument/2006/relationships/image" Target="../media/image42.png"/><Relationship Id="rId92" Type="http://schemas.openxmlformats.org/officeDocument/2006/relationships/image" Target="../media/image42.png"/><Relationship Id="rId93" Type="http://schemas.openxmlformats.org/officeDocument/2006/relationships/image" Target="../media/image42.png"/><Relationship Id="rId94" Type="http://schemas.openxmlformats.org/officeDocument/2006/relationships/image" Target="../media/image42.png"/><Relationship Id="rId95" Type="http://schemas.openxmlformats.org/officeDocument/2006/relationships/image" Target="../media/image42.png"/><Relationship Id="rId96" Type="http://schemas.openxmlformats.org/officeDocument/2006/relationships/image" Target="../media/image42.png"/><Relationship Id="rId97" Type="http://schemas.openxmlformats.org/officeDocument/2006/relationships/image" Target="../media/image42.png"/><Relationship Id="rId98" Type="http://schemas.openxmlformats.org/officeDocument/2006/relationships/image" Target="../media/image42.png"/><Relationship Id="rId99" Type="http://schemas.openxmlformats.org/officeDocument/2006/relationships/image" Target="../media/image42.png"/><Relationship Id="rId100" Type="http://schemas.openxmlformats.org/officeDocument/2006/relationships/image" Target="../media/image42.png"/><Relationship Id="rId101" Type="http://schemas.openxmlformats.org/officeDocument/2006/relationships/image" Target="../media/image42.png"/><Relationship Id="rId102" Type="http://schemas.openxmlformats.org/officeDocument/2006/relationships/image" Target="../media/image42.png"/><Relationship Id="rId103" Type="http://schemas.openxmlformats.org/officeDocument/2006/relationships/image" Target="../media/image42.png"/><Relationship Id="rId104" Type="http://schemas.openxmlformats.org/officeDocument/2006/relationships/image" Target="../media/image42.png"/><Relationship Id="rId105" Type="http://schemas.openxmlformats.org/officeDocument/2006/relationships/image" Target="../media/image42.png"/><Relationship Id="rId106" Type="http://schemas.openxmlformats.org/officeDocument/2006/relationships/image" Target="../media/image42.png"/><Relationship Id="rId107" Type="http://schemas.openxmlformats.org/officeDocument/2006/relationships/image" Target="../media/image42.png"/><Relationship Id="rId108" Type="http://schemas.openxmlformats.org/officeDocument/2006/relationships/image" Target="../media/image42.png"/><Relationship Id="rId109" Type="http://schemas.openxmlformats.org/officeDocument/2006/relationships/image" Target="../media/image42.png"/><Relationship Id="rId110" Type="http://schemas.openxmlformats.org/officeDocument/2006/relationships/image" Target="../media/image41.png"/><Relationship Id="rId111" Type="http://schemas.openxmlformats.org/officeDocument/2006/relationships/image" Target="../media/image42.png"/><Relationship Id="rId112" Type="http://schemas.openxmlformats.org/officeDocument/2006/relationships/image" Target="../media/image42.png"/><Relationship Id="rId113" Type="http://schemas.openxmlformats.org/officeDocument/2006/relationships/image" Target="../media/image42.png"/><Relationship Id="rId114" Type="http://schemas.openxmlformats.org/officeDocument/2006/relationships/image" Target="../media/image42.png"/><Relationship Id="rId115" Type="http://schemas.openxmlformats.org/officeDocument/2006/relationships/image" Target="../media/image42.png"/><Relationship Id="rId116" Type="http://schemas.openxmlformats.org/officeDocument/2006/relationships/image" Target="../media/image42.png"/><Relationship Id="rId117" Type="http://schemas.openxmlformats.org/officeDocument/2006/relationships/image" Target="../media/image42.png"/><Relationship Id="rId118" Type="http://schemas.openxmlformats.org/officeDocument/2006/relationships/image" Target="../media/image42.png"/><Relationship Id="rId119" Type="http://schemas.openxmlformats.org/officeDocument/2006/relationships/image" Target="../media/image42.png"/><Relationship Id="rId120" Type="http://schemas.openxmlformats.org/officeDocument/2006/relationships/image" Target="../media/image42.png"/><Relationship Id="rId121" Type="http://schemas.openxmlformats.org/officeDocument/2006/relationships/image" Target="../media/image42.png"/><Relationship Id="rId122" Type="http://schemas.openxmlformats.org/officeDocument/2006/relationships/image" Target="../media/image42.png"/><Relationship Id="rId123" Type="http://schemas.openxmlformats.org/officeDocument/2006/relationships/image" Target="../media/image42.png"/><Relationship Id="rId124" Type="http://schemas.openxmlformats.org/officeDocument/2006/relationships/image" Target="../media/image42.png"/><Relationship Id="rId125" Type="http://schemas.openxmlformats.org/officeDocument/2006/relationships/image" Target="../media/image42.png"/><Relationship Id="rId126" Type="http://schemas.openxmlformats.org/officeDocument/2006/relationships/image" Target="../media/image42.png"/><Relationship Id="rId127" Type="http://schemas.openxmlformats.org/officeDocument/2006/relationships/image" Target="../media/image42.png"/><Relationship Id="rId128" Type="http://schemas.openxmlformats.org/officeDocument/2006/relationships/image" Target="../media/image42.png"/><Relationship Id="rId129" Type="http://schemas.openxmlformats.org/officeDocument/2006/relationships/image" Target="../media/image42.png"/><Relationship Id="rId130" Type="http://schemas.openxmlformats.org/officeDocument/2006/relationships/image" Target="../media/image42.png"/><Relationship Id="rId131" Type="http://schemas.openxmlformats.org/officeDocument/2006/relationships/image" Target="../media/image42.png"/><Relationship Id="rId132" Type="http://schemas.openxmlformats.org/officeDocument/2006/relationships/image" Target="../media/image42.png"/><Relationship Id="rId133" Type="http://schemas.openxmlformats.org/officeDocument/2006/relationships/image" Target="../media/image42.png"/><Relationship Id="rId134" Type="http://schemas.openxmlformats.org/officeDocument/2006/relationships/image" Target="../media/image42.png"/><Relationship Id="rId135" Type="http://schemas.openxmlformats.org/officeDocument/2006/relationships/image" Target="../media/image42.png"/><Relationship Id="rId136" Type="http://schemas.openxmlformats.org/officeDocument/2006/relationships/image" Target="../media/image42.png"/><Relationship Id="rId137" Type="http://schemas.openxmlformats.org/officeDocument/2006/relationships/image" Target="../media/image42.png"/><Relationship Id="rId138" Type="http://schemas.openxmlformats.org/officeDocument/2006/relationships/image" Target="../media/image42.png"/><Relationship Id="rId139" Type="http://schemas.openxmlformats.org/officeDocument/2006/relationships/image" Target="../media/image42.png"/><Relationship Id="rId140" Type="http://schemas.openxmlformats.org/officeDocument/2006/relationships/image" Target="../media/image42.png"/><Relationship Id="rId141" Type="http://schemas.openxmlformats.org/officeDocument/2006/relationships/image" Target="../media/image42.png"/><Relationship Id="rId142" Type="http://schemas.openxmlformats.org/officeDocument/2006/relationships/image" Target="../media/image42.png"/><Relationship Id="rId143" Type="http://schemas.openxmlformats.org/officeDocument/2006/relationships/image" Target="../media/image42.png"/><Relationship Id="rId144" Type="http://schemas.openxmlformats.org/officeDocument/2006/relationships/image" Target="../media/image42.png"/><Relationship Id="rId145" Type="http://schemas.openxmlformats.org/officeDocument/2006/relationships/image" Target="../media/image42.png"/><Relationship Id="rId146" Type="http://schemas.openxmlformats.org/officeDocument/2006/relationships/image" Target="../media/image42.png"/><Relationship Id="rId147" Type="http://schemas.openxmlformats.org/officeDocument/2006/relationships/image" Target="../media/image42.png"/><Relationship Id="rId148" Type="http://schemas.openxmlformats.org/officeDocument/2006/relationships/image" Target="../media/image42.png"/><Relationship Id="rId149" Type="http://schemas.openxmlformats.org/officeDocument/2006/relationships/image" Target="../media/image42.png"/><Relationship Id="rId150" Type="http://schemas.openxmlformats.org/officeDocument/2006/relationships/image" Target="../media/image42.png"/><Relationship Id="rId151" Type="http://schemas.openxmlformats.org/officeDocument/2006/relationships/image" Target="../media/image42.png"/><Relationship Id="rId152" Type="http://schemas.openxmlformats.org/officeDocument/2006/relationships/image" Target="../media/image42.png"/><Relationship Id="rId153" Type="http://schemas.openxmlformats.org/officeDocument/2006/relationships/image" Target="../media/image42.png"/><Relationship Id="rId154" Type="http://schemas.openxmlformats.org/officeDocument/2006/relationships/image" Target="../media/image42.png"/><Relationship Id="rId155" Type="http://schemas.openxmlformats.org/officeDocument/2006/relationships/image" Target="../media/image42.png"/><Relationship Id="rId156" Type="http://schemas.openxmlformats.org/officeDocument/2006/relationships/image" Target="../media/image42.png"/><Relationship Id="rId157" Type="http://schemas.openxmlformats.org/officeDocument/2006/relationships/image" Target="../media/image42.png"/><Relationship Id="rId158" Type="http://schemas.openxmlformats.org/officeDocument/2006/relationships/image" Target="../media/image42.png"/><Relationship Id="rId159" Type="http://schemas.openxmlformats.org/officeDocument/2006/relationships/image" Target="../media/image42.png"/><Relationship Id="rId160" Type="http://schemas.openxmlformats.org/officeDocument/2006/relationships/image" Target="../media/image42.png"/><Relationship Id="rId161" Type="http://schemas.openxmlformats.org/officeDocument/2006/relationships/image" Target="../media/image42.png"/><Relationship Id="rId162" Type="http://schemas.openxmlformats.org/officeDocument/2006/relationships/image" Target="../media/image42.png"/><Relationship Id="rId163" Type="http://schemas.openxmlformats.org/officeDocument/2006/relationships/image" Target="../media/image42.png"/><Relationship Id="rId164" Type="http://schemas.openxmlformats.org/officeDocument/2006/relationships/image" Target="../media/image41.png"/><Relationship Id="rId165" Type="http://schemas.openxmlformats.org/officeDocument/2006/relationships/image" Target="../media/image42.png"/><Relationship Id="rId166" Type="http://schemas.openxmlformats.org/officeDocument/2006/relationships/image" Target="../media/image42.png"/><Relationship Id="rId167" Type="http://schemas.openxmlformats.org/officeDocument/2006/relationships/image" Target="../media/image42.png"/><Relationship Id="rId168" Type="http://schemas.openxmlformats.org/officeDocument/2006/relationships/image" Target="../media/image42.png"/><Relationship Id="rId169" Type="http://schemas.openxmlformats.org/officeDocument/2006/relationships/image" Target="../media/image42.png"/><Relationship Id="rId170" Type="http://schemas.openxmlformats.org/officeDocument/2006/relationships/image" Target="../media/image42.png"/><Relationship Id="rId171" Type="http://schemas.openxmlformats.org/officeDocument/2006/relationships/image" Target="../media/image42.png"/><Relationship Id="rId172" Type="http://schemas.openxmlformats.org/officeDocument/2006/relationships/image" Target="../media/image42.png"/><Relationship Id="rId173" Type="http://schemas.openxmlformats.org/officeDocument/2006/relationships/image" Target="../media/image42.png"/><Relationship Id="rId174" Type="http://schemas.openxmlformats.org/officeDocument/2006/relationships/image" Target="../media/image42.png"/><Relationship Id="rId175" Type="http://schemas.openxmlformats.org/officeDocument/2006/relationships/image" Target="../media/image42.png"/><Relationship Id="rId176" Type="http://schemas.openxmlformats.org/officeDocument/2006/relationships/image" Target="../media/image42.png"/><Relationship Id="rId177" Type="http://schemas.openxmlformats.org/officeDocument/2006/relationships/image" Target="../media/image42.png"/><Relationship Id="rId178" Type="http://schemas.openxmlformats.org/officeDocument/2006/relationships/image" Target="../media/image42.png"/><Relationship Id="rId179" Type="http://schemas.openxmlformats.org/officeDocument/2006/relationships/image" Target="../media/image42.png"/><Relationship Id="rId180" Type="http://schemas.openxmlformats.org/officeDocument/2006/relationships/image" Target="../media/image42.png"/><Relationship Id="rId181" Type="http://schemas.openxmlformats.org/officeDocument/2006/relationships/image" Target="../media/image42.png"/><Relationship Id="rId182" Type="http://schemas.openxmlformats.org/officeDocument/2006/relationships/image" Target="../media/image42.png"/><Relationship Id="rId183" Type="http://schemas.openxmlformats.org/officeDocument/2006/relationships/image" Target="../media/image42.png"/><Relationship Id="rId184" Type="http://schemas.openxmlformats.org/officeDocument/2006/relationships/image" Target="../media/image42.png"/><Relationship Id="rId185" Type="http://schemas.openxmlformats.org/officeDocument/2006/relationships/image" Target="../media/image42.png"/><Relationship Id="rId186" Type="http://schemas.openxmlformats.org/officeDocument/2006/relationships/image" Target="../media/image42.png"/><Relationship Id="rId187" Type="http://schemas.openxmlformats.org/officeDocument/2006/relationships/image" Target="../media/image42.png"/><Relationship Id="rId188" Type="http://schemas.openxmlformats.org/officeDocument/2006/relationships/image" Target="../media/image42.png"/><Relationship Id="rId189" Type="http://schemas.openxmlformats.org/officeDocument/2006/relationships/image" Target="../media/image42.png"/><Relationship Id="rId190" Type="http://schemas.openxmlformats.org/officeDocument/2006/relationships/image" Target="../media/image42.png"/><Relationship Id="rId191" Type="http://schemas.openxmlformats.org/officeDocument/2006/relationships/image" Target="../media/image42.png"/><Relationship Id="rId192" Type="http://schemas.openxmlformats.org/officeDocument/2006/relationships/image" Target="../media/image42.png"/><Relationship Id="rId193" Type="http://schemas.openxmlformats.org/officeDocument/2006/relationships/image" Target="../media/image42.png"/><Relationship Id="rId194" Type="http://schemas.openxmlformats.org/officeDocument/2006/relationships/image" Target="../media/image42.png"/><Relationship Id="rId195" Type="http://schemas.openxmlformats.org/officeDocument/2006/relationships/image" Target="../media/image42.png"/><Relationship Id="rId196" Type="http://schemas.openxmlformats.org/officeDocument/2006/relationships/image" Target="../media/image42.png"/><Relationship Id="rId197" Type="http://schemas.openxmlformats.org/officeDocument/2006/relationships/image" Target="../media/image42.png"/><Relationship Id="rId198" Type="http://schemas.openxmlformats.org/officeDocument/2006/relationships/image" Target="../media/image42.png"/><Relationship Id="rId199" Type="http://schemas.openxmlformats.org/officeDocument/2006/relationships/image" Target="../media/image42.png"/><Relationship Id="rId200" Type="http://schemas.openxmlformats.org/officeDocument/2006/relationships/image" Target="../media/image42.png"/><Relationship Id="rId201" Type="http://schemas.openxmlformats.org/officeDocument/2006/relationships/image" Target="../media/image42.png"/><Relationship Id="rId202" Type="http://schemas.openxmlformats.org/officeDocument/2006/relationships/image" Target="../media/image42.png"/><Relationship Id="rId203" Type="http://schemas.openxmlformats.org/officeDocument/2006/relationships/image" Target="../media/image42.png"/><Relationship Id="rId204" Type="http://schemas.openxmlformats.org/officeDocument/2006/relationships/image" Target="../media/image42.png"/><Relationship Id="rId205" Type="http://schemas.openxmlformats.org/officeDocument/2006/relationships/image" Target="../media/image42.png"/><Relationship Id="rId206" Type="http://schemas.openxmlformats.org/officeDocument/2006/relationships/image" Target="../media/image42.png"/><Relationship Id="rId207" Type="http://schemas.openxmlformats.org/officeDocument/2006/relationships/image" Target="../media/image42.png"/><Relationship Id="rId208" Type="http://schemas.openxmlformats.org/officeDocument/2006/relationships/image" Target="../media/image42.png"/><Relationship Id="rId209" Type="http://schemas.openxmlformats.org/officeDocument/2006/relationships/image" Target="../media/image42.png"/><Relationship Id="rId210" Type="http://schemas.openxmlformats.org/officeDocument/2006/relationships/image" Target="../media/image42.png"/><Relationship Id="rId211" Type="http://schemas.openxmlformats.org/officeDocument/2006/relationships/image" Target="../media/image42.png"/><Relationship Id="rId212" Type="http://schemas.openxmlformats.org/officeDocument/2006/relationships/image" Target="../media/image42.png"/><Relationship Id="rId213" Type="http://schemas.openxmlformats.org/officeDocument/2006/relationships/image" Target="../media/image42.png"/><Relationship Id="rId214" Type="http://schemas.openxmlformats.org/officeDocument/2006/relationships/image" Target="../media/image42.png"/><Relationship Id="rId215" Type="http://schemas.openxmlformats.org/officeDocument/2006/relationships/image" Target="../media/image42.png"/><Relationship Id="rId216" Type="http://schemas.openxmlformats.org/officeDocument/2006/relationships/image" Target="../media/image42.png"/><Relationship Id="rId217" Type="http://schemas.openxmlformats.org/officeDocument/2006/relationships/image" Target="../media/image42.png"/><Relationship Id="rId218" Type="http://schemas.openxmlformats.org/officeDocument/2006/relationships/image" Target="../media/image5.png"/><Relationship Id="rId219" Type="http://schemas.openxmlformats.org/officeDocument/2006/relationships/image" Target="../media/image5.png"/><Relationship Id="rId220" Type="http://schemas.openxmlformats.org/officeDocument/2006/relationships/image" Target="../media/image5.png"/><Relationship Id="rId221" Type="http://schemas.openxmlformats.org/officeDocument/2006/relationships/image" Target="../media/image16.png"/><Relationship Id="rId222" Type="http://schemas.openxmlformats.org/officeDocument/2006/relationships/image" Target="../media/image17.png"/><Relationship Id="rId223" Type="http://schemas.openxmlformats.org/officeDocument/2006/relationships/image" Target="../media/image17.png"/><Relationship Id="rId224" Type="http://schemas.openxmlformats.org/officeDocument/2006/relationships/image" Target="../media/image17.png"/><Relationship Id="rId225" Type="http://schemas.openxmlformats.org/officeDocument/2006/relationships/image" Target="../media/image18.png"/><Relationship Id="rId226" Type="http://schemas.openxmlformats.org/officeDocument/2006/relationships/image" Target="../media/image19.png"/><Relationship Id="rId227" Type="http://schemas.openxmlformats.org/officeDocument/2006/relationships/image" Target="../media/image19.png"/><Relationship Id="rId228" Type="http://schemas.openxmlformats.org/officeDocument/2006/relationships/image" Target="../media/image19.png"/><Relationship Id="rId229" Type="http://schemas.openxmlformats.org/officeDocument/2006/relationships/image" Target="../media/image19.png"/><Relationship Id="rId230" Type="http://schemas.openxmlformats.org/officeDocument/2006/relationships/image" Target="../media/image19.png"/><Relationship Id="rId231" Type="http://schemas.openxmlformats.org/officeDocument/2006/relationships/image" Target="../media/image18.png"/><Relationship Id="rId232" Type="http://schemas.openxmlformats.org/officeDocument/2006/relationships/image" Target="../media/image19.png"/><Relationship Id="rId233" Type="http://schemas.openxmlformats.org/officeDocument/2006/relationships/image" Target="../media/image18.png"/><Relationship Id="rId234" Type="http://schemas.openxmlformats.org/officeDocument/2006/relationships/image" Target="../media/image18.png"/><Relationship Id="rId2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-60480"/>
            <a:ext cx="9144000" cy="692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endParaRPr b="0" lang="en-US" sz="4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-60480"/>
            <a:ext cx="9144000" cy="692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</a:t>
            </a:r>
            <a:endParaRPr b="0" lang="en-US" sz="4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0" y="-60480"/>
            <a:ext cx="9144000" cy="692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</a:t>
            </a:r>
            <a:endParaRPr b="0" lang="en-US" sz="4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0" y="-60480"/>
            <a:ext cx="9144000" cy="692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4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0" y="-60480"/>
            <a:ext cx="9144000" cy="692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4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NULL" descr=""/>
          <p:cNvPicPr/>
          <p:nvPr/>
        </p:nvPicPr>
        <p:blipFill>
          <a:blip r:embed="rId1"/>
          <a:stretch/>
        </p:blipFill>
        <p:spPr>
          <a:xfrm>
            <a:off x="946800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7" name="矩形 1"/>
          <p:cNvSpPr/>
          <p:nvPr/>
        </p:nvSpPr>
        <p:spPr>
          <a:xfrm>
            <a:off x="2952360" y="2588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结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 repeatCount="6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3" presetSubtype="32" repeatCount="6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3" presetSubtype="32" repeatCount="6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0" nodeType="afterEffect" fill="hold" presetClass="entr" presetID="23" presetSubtype="32" repeatCount="6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5" nodeType="afterEffect" fill="hold" presetClass="entr" presetID="23" presetSubtype="32" repeatCount="8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85760" y="-63360"/>
            <a:ext cx="8894880" cy="6459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" descr=""/>
          <p:cNvPicPr/>
          <p:nvPr/>
        </p:nvPicPr>
        <p:blipFill>
          <a:blip r:embed="rId3"/>
          <a:stretch/>
        </p:blipFill>
        <p:spPr>
          <a:xfrm>
            <a:off x="5735520" y="-352440"/>
            <a:ext cx="354240" cy="3524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7" descr=""/>
          <p:cNvPicPr/>
          <p:nvPr/>
        </p:nvPicPr>
        <p:blipFill>
          <a:blip r:embed="rId4"/>
          <a:stretch/>
        </p:blipFill>
        <p:spPr>
          <a:xfrm>
            <a:off x="3878280" y="-43020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0" descr=""/>
          <p:cNvPicPr/>
          <p:nvPr/>
        </p:nvPicPr>
        <p:blipFill>
          <a:blip r:embed="rId5"/>
          <a:stretch/>
        </p:blipFill>
        <p:spPr>
          <a:xfrm>
            <a:off x="3021120" y="-56988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" descr=""/>
          <p:cNvPicPr/>
          <p:nvPr/>
        </p:nvPicPr>
        <p:blipFill>
          <a:blip r:embed="rId6"/>
          <a:stretch/>
        </p:blipFill>
        <p:spPr>
          <a:xfrm>
            <a:off x="3235320" y="-209520"/>
            <a:ext cx="211320" cy="2095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6" descr=""/>
          <p:cNvPicPr/>
          <p:nvPr/>
        </p:nvPicPr>
        <p:blipFill>
          <a:blip r:embed="rId7"/>
          <a:stretch/>
        </p:blipFill>
        <p:spPr>
          <a:xfrm>
            <a:off x="6021360" y="-6415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40" descr=""/>
          <p:cNvPicPr/>
          <p:nvPr/>
        </p:nvPicPr>
        <p:blipFill>
          <a:blip r:embed="rId8"/>
          <a:stretch/>
        </p:blipFill>
        <p:spPr>
          <a:xfrm>
            <a:off x="5592600" y="-2840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8" descr=""/>
          <p:cNvPicPr/>
          <p:nvPr/>
        </p:nvPicPr>
        <p:blipFill>
          <a:blip r:embed="rId9"/>
          <a:stretch/>
        </p:blipFill>
        <p:spPr>
          <a:xfrm>
            <a:off x="5102280" y="-417600"/>
            <a:ext cx="353880" cy="3542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9" descr=""/>
          <p:cNvPicPr/>
          <p:nvPr/>
        </p:nvPicPr>
        <p:blipFill>
          <a:blip r:embed="rId10"/>
          <a:stretch/>
        </p:blipFill>
        <p:spPr>
          <a:xfrm>
            <a:off x="4164120" y="-855720"/>
            <a:ext cx="353880" cy="3542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0" descr=""/>
          <p:cNvPicPr/>
          <p:nvPr/>
        </p:nvPicPr>
        <p:blipFill>
          <a:blip r:embed="rId11"/>
          <a:stretch/>
        </p:blipFill>
        <p:spPr>
          <a:xfrm>
            <a:off x="4452840" y="-641520"/>
            <a:ext cx="354240" cy="3542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1" descr=""/>
          <p:cNvPicPr/>
          <p:nvPr/>
        </p:nvPicPr>
        <p:blipFill>
          <a:blip r:embed="rId12"/>
          <a:stretch/>
        </p:blipFill>
        <p:spPr>
          <a:xfrm>
            <a:off x="4807080" y="-712800"/>
            <a:ext cx="353880" cy="3538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2" descr=""/>
          <p:cNvPicPr/>
          <p:nvPr/>
        </p:nvPicPr>
        <p:blipFill>
          <a:blip r:embed="rId13"/>
          <a:stretch/>
        </p:blipFill>
        <p:spPr>
          <a:xfrm>
            <a:off x="3306600" y="-569880"/>
            <a:ext cx="354240" cy="3538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3" descr=""/>
          <p:cNvPicPr/>
          <p:nvPr/>
        </p:nvPicPr>
        <p:blipFill>
          <a:blip r:embed="rId14"/>
          <a:stretch/>
        </p:blipFill>
        <p:spPr>
          <a:xfrm>
            <a:off x="6378480" y="-352440"/>
            <a:ext cx="354240" cy="3524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4" descr=""/>
          <p:cNvPicPr/>
          <p:nvPr/>
        </p:nvPicPr>
        <p:blipFill>
          <a:blip r:embed="rId15"/>
          <a:stretch/>
        </p:blipFill>
        <p:spPr>
          <a:xfrm>
            <a:off x="5307120" y="-352440"/>
            <a:ext cx="353880" cy="3524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5" descr=""/>
          <p:cNvPicPr/>
          <p:nvPr/>
        </p:nvPicPr>
        <p:blipFill>
          <a:blip r:embed="rId16"/>
          <a:stretch/>
        </p:blipFill>
        <p:spPr>
          <a:xfrm>
            <a:off x="6021360" y="-209520"/>
            <a:ext cx="211320" cy="2095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6" descr=""/>
          <p:cNvPicPr/>
          <p:nvPr/>
        </p:nvPicPr>
        <p:blipFill>
          <a:blip r:embed="rId17"/>
          <a:stretch/>
        </p:blipFill>
        <p:spPr>
          <a:xfrm>
            <a:off x="4164120" y="-42696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7" descr=""/>
          <p:cNvPicPr/>
          <p:nvPr/>
        </p:nvPicPr>
        <p:blipFill>
          <a:blip r:embed="rId18"/>
          <a:stretch/>
        </p:blipFill>
        <p:spPr>
          <a:xfrm>
            <a:off x="3807000" y="-209520"/>
            <a:ext cx="210960" cy="2095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8" descr=""/>
          <p:cNvPicPr/>
          <p:nvPr/>
        </p:nvPicPr>
        <p:blipFill>
          <a:blip r:embed="rId19"/>
          <a:stretch/>
        </p:blipFill>
        <p:spPr>
          <a:xfrm>
            <a:off x="3664080" y="-498600"/>
            <a:ext cx="210960" cy="2113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9" descr=""/>
          <p:cNvPicPr/>
          <p:nvPr/>
        </p:nvPicPr>
        <p:blipFill>
          <a:blip r:embed="rId20"/>
          <a:stretch/>
        </p:blipFill>
        <p:spPr>
          <a:xfrm>
            <a:off x="5450040" y="-56988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0" descr=""/>
          <p:cNvPicPr/>
          <p:nvPr/>
        </p:nvPicPr>
        <p:blipFill>
          <a:blip r:embed="rId21"/>
          <a:stretch/>
        </p:blipFill>
        <p:spPr>
          <a:xfrm>
            <a:off x="4950000" y="-42696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1" descr=""/>
          <p:cNvPicPr/>
          <p:nvPr/>
        </p:nvPicPr>
        <p:blipFill>
          <a:blip r:embed="rId22"/>
          <a:stretch/>
        </p:blipFill>
        <p:spPr>
          <a:xfrm>
            <a:off x="5735520" y="-209520"/>
            <a:ext cx="211320" cy="2095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2" descr=""/>
          <p:cNvPicPr/>
          <p:nvPr/>
        </p:nvPicPr>
        <p:blipFill>
          <a:blip r:embed="rId23"/>
          <a:stretch/>
        </p:blipFill>
        <p:spPr>
          <a:xfrm>
            <a:off x="2592360" y="-209520"/>
            <a:ext cx="211320" cy="2095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3" descr=""/>
          <p:cNvPicPr/>
          <p:nvPr/>
        </p:nvPicPr>
        <p:blipFill>
          <a:blip r:embed="rId24"/>
          <a:stretch/>
        </p:blipFill>
        <p:spPr>
          <a:xfrm>
            <a:off x="2735280" y="-641520"/>
            <a:ext cx="353880" cy="35424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4" descr=""/>
          <p:cNvPicPr/>
          <p:nvPr/>
        </p:nvPicPr>
        <p:blipFill>
          <a:blip r:embed="rId25"/>
          <a:stretch/>
        </p:blipFill>
        <p:spPr>
          <a:xfrm>
            <a:off x="4521240" y="-2840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25" descr=""/>
          <p:cNvPicPr/>
          <p:nvPr/>
        </p:nvPicPr>
        <p:blipFill>
          <a:blip r:embed="rId26"/>
          <a:stretch/>
        </p:blipFill>
        <p:spPr>
          <a:xfrm>
            <a:off x="3592440" y="-141120"/>
            <a:ext cx="142920" cy="1411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6" descr=""/>
          <p:cNvPicPr/>
          <p:nvPr/>
        </p:nvPicPr>
        <p:blipFill>
          <a:blip r:embed="rId27"/>
          <a:stretch/>
        </p:blipFill>
        <p:spPr>
          <a:xfrm>
            <a:off x="3664080" y="-712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7" descr=""/>
          <p:cNvPicPr/>
          <p:nvPr/>
        </p:nvPicPr>
        <p:blipFill>
          <a:blip r:embed="rId28"/>
          <a:stretch/>
        </p:blipFill>
        <p:spPr>
          <a:xfrm>
            <a:off x="5235480" y="-712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8" descr=""/>
          <p:cNvPicPr/>
          <p:nvPr/>
        </p:nvPicPr>
        <p:blipFill>
          <a:blip r:embed="rId29"/>
          <a:stretch/>
        </p:blipFill>
        <p:spPr>
          <a:xfrm>
            <a:off x="6235560" y="-3556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29" descr=""/>
          <p:cNvPicPr/>
          <p:nvPr/>
        </p:nvPicPr>
        <p:blipFill>
          <a:blip r:embed="rId30"/>
          <a:stretch/>
        </p:blipFill>
        <p:spPr>
          <a:xfrm>
            <a:off x="2878200" y="-141120"/>
            <a:ext cx="142920" cy="1411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32" descr=""/>
          <p:cNvPicPr/>
          <p:nvPr/>
        </p:nvPicPr>
        <p:blipFill>
          <a:blip r:embed="rId31"/>
          <a:stretch/>
        </p:blipFill>
        <p:spPr>
          <a:xfrm>
            <a:off x="6137280" y="431496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80" name="图片 33" descr=""/>
          <p:cNvPicPr/>
          <p:nvPr/>
        </p:nvPicPr>
        <p:blipFill>
          <a:blip r:embed="rId32"/>
          <a:stretch/>
        </p:blipFill>
        <p:spPr>
          <a:xfrm>
            <a:off x="5032440" y="77148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34" descr=""/>
          <p:cNvPicPr/>
          <p:nvPr/>
        </p:nvPicPr>
        <p:blipFill>
          <a:blip r:embed="rId33"/>
          <a:stretch/>
        </p:blipFill>
        <p:spPr>
          <a:xfrm>
            <a:off x="6827760" y="479124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5" descr=""/>
          <p:cNvPicPr/>
          <p:nvPr/>
        </p:nvPicPr>
        <p:blipFill>
          <a:blip r:embed="rId34"/>
          <a:stretch/>
        </p:blipFill>
        <p:spPr>
          <a:xfrm>
            <a:off x="8321760" y="5843520"/>
            <a:ext cx="352440" cy="3542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6" descr=""/>
          <p:cNvPicPr/>
          <p:nvPr/>
        </p:nvPicPr>
        <p:blipFill>
          <a:blip r:embed="rId35"/>
          <a:stretch/>
        </p:blipFill>
        <p:spPr>
          <a:xfrm>
            <a:off x="4680000" y="335448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7" descr=""/>
          <p:cNvPicPr/>
          <p:nvPr/>
        </p:nvPicPr>
        <p:blipFill>
          <a:blip r:embed="rId36"/>
          <a:stretch/>
        </p:blipFill>
        <p:spPr>
          <a:xfrm>
            <a:off x="8272440" y="479124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7"/>
          <a:stretch/>
        </p:blipFill>
        <p:spPr>
          <a:xfrm>
            <a:off x="2417760" y="4221000"/>
            <a:ext cx="4314960" cy="19972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8" descr=""/>
          <p:cNvPicPr/>
          <p:nvPr/>
        </p:nvPicPr>
        <p:blipFill>
          <a:blip r:embed="rId38"/>
          <a:stretch/>
        </p:blipFill>
        <p:spPr>
          <a:xfrm>
            <a:off x="5994360" y="5589720"/>
            <a:ext cx="285840" cy="28728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40"/>
          <p:cNvGrpSpPr/>
          <p:nvPr/>
        </p:nvGrpSpPr>
        <p:grpSpPr>
          <a:xfrm>
            <a:off x="-1301760" y="2492280"/>
            <a:ext cx="11202840" cy="1556280"/>
            <a:chOff x="-1301760" y="2492280"/>
            <a:chExt cx="11202840" cy="1556280"/>
          </a:xfrm>
        </p:grpSpPr>
        <p:sp>
          <p:nvSpPr>
            <p:cNvPr id="88" name="TextBox 40"/>
            <p:cNvSpPr/>
            <p:nvPr/>
          </p:nvSpPr>
          <p:spPr>
            <a:xfrm>
              <a:off x="-1301760" y="2893680"/>
              <a:ext cx="11202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欢迎您参加             新婚庆典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41"/>
            <p:cNvSpPr/>
            <p:nvPr/>
          </p:nvSpPr>
          <p:spPr>
            <a:xfrm>
              <a:off x="3528720" y="2492280"/>
              <a:ext cx="2196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梁山伯祝英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43"/>
          <p:cNvGrpSpPr/>
          <p:nvPr/>
        </p:nvGrpSpPr>
        <p:grpSpPr>
          <a:xfrm>
            <a:off x="6215040" y="0"/>
            <a:ext cx="2714760" cy="1714680"/>
            <a:chOff x="6215040" y="0"/>
            <a:chExt cx="2714760" cy="1714680"/>
          </a:xfrm>
        </p:grpSpPr>
        <p:pic>
          <p:nvPicPr>
            <p:cNvPr id="91" name="图片 14" descr=""/>
            <p:cNvPicPr/>
            <p:nvPr/>
          </p:nvPicPr>
          <p:blipFill>
            <a:blip r:embed="rId39"/>
            <a:stretch/>
          </p:blipFill>
          <p:spPr>
            <a:xfrm>
              <a:off x="6215040" y="0"/>
              <a:ext cx="271476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图片 15" descr=""/>
            <p:cNvPicPr/>
            <p:nvPr/>
          </p:nvPicPr>
          <p:blipFill>
            <a:blip r:embed="rId40"/>
            <a:stretch/>
          </p:blipFill>
          <p:spPr>
            <a:xfrm>
              <a:off x="6715080" y="214200"/>
              <a:ext cx="928800" cy="12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图片 16" descr=""/>
            <p:cNvPicPr/>
            <p:nvPr/>
          </p:nvPicPr>
          <p:blipFill>
            <a:blip r:embed="rId41"/>
            <a:stretch/>
          </p:blipFill>
          <p:spPr>
            <a:xfrm>
              <a:off x="7500960" y="285480"/>
              <a:ext cx="1000080" cy="121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Picture 2" descr=""/>
          <p:cNvPicPr/>
          <p:nvPr/>
        </p:nvPicPr>
        <p:blipFill>
          <a:blip r:embed="rId42"/>
          <a:stretch/>
        </p:blipFill>
        <p:spPr>
          <a:xfrm>
            <a:off x="6183360" y="4824360"/>
            <a:ext cx="2778120" cy="12286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split dir="out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416 3.33333E-006 C -0.01458 0.015 -0.01961 0.035 -0.0243 0.05472 C -0.02639 0.06361 -0.02934 0.08111 -0.02934 0.08139 C -0.02795 0.18305 -0.03281 0.1825 -0.02257 0.24111 C -0.02187 0.28166 -0.03211 0.32805 -0.01597 0.36305 C -0.01319 0.37916 -0.00781 0.39055 -0.00086 0.40361 C 0.00191 0.41527 0.00695 0.42583 0.01094 0.43722 C 0.01059 0.46527 0.02014 0.59333 -0.00416 0.645 C -0.00573 0.65805 -0.00677 0.67333 -0.01093 0.68555 C -0.01961 0.71083 -0.0342 0.72805 -0.0342 0.7575 E">
                                      <p:cBhvr>
                                        <p:cTn id="40" dur="1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5.27778E-006 2.22222E-006 C -0.00869 0.01389 -0.01286 0.03278 -0.01668 0.05111 C -0.01841 0.05917 -0.02084 0.07555 -0.02084 0.07555 C -0.0198 0.17028 -0.02379 0.16972 -0.01529 0.22444 C -0.01477 0.26194 -0.02327 0.30528 -0.00973 0.33778 C -0.00747 0.35278 -0.00296 0.36333 0.00277 0.37555 C 0.00503 0.38639 0.00919 0.39611 0.01249 0.40667 C 0.01232 0.43278 0.02013 0.55194 -5.27778E-006 0.6 C -0.00121 0.61222 -0.00209 0.62639 -0.00556 0.63778 C -0.01286 0.66111 -0.02501 0.67722 -0.02501 0.70444 E">
                                      <p:cBhvr>
                                        <p:cTn id="45" dur="1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5.27778E-006 2.22222E-006 C -0.00869 0.01389 -0.01286 0.03278 -0.01668 0.05111 C -0.01841 0.05917 -0.02084 0.07555 -0.02084 0.07555 C -0.0198 0.17028 -0.02379 0.16972 -0.01529 0.22444 C -0.01477 0.26194 -0.02327 0.30528 -0.00973 0.33778 C -0.00747 0.35278 -0.00296 0.36333 0.00277 0.37555 C 0.00503 0.38639 0.00919 0.39611 0.01249 0.40667 C 0.01232 0.43278 0.02013 0.55194 -5.27778E-006 0.6 C -0.00121 0.61222 -0.00209 0.62639 -0.00556 0.63778 C -0.01286 0.66111 -0.02501 0.67722 -0.02501 0.70444 E">
                                      <p:cBhvr>
                                        <p:cTn id="50" dur="1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" dur="9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44444E-006 -1.11111E-006 C -0.00868 0.01639 -0.01285 0.03833 -0.01667 0.05972 C -0.01841 0.06917 -0.02084 0.08778 -0.02084 0.08833 C -0.0198 0.19833 -0.02379 0.1975 -0.01528 0.26139 C -0.01476 0.305 -0.02327 0.35556 -0.00973 0.39333 C -0.00747 0.41083 -0.00296 0.42333 0.00277 0.4375 C 0.00503 0.45 0.0092 0.46139 0.0125 0.47361 C 0.01232 0.50417 0.02013 0.64306 4.44444E-006 0.69889 C -0.00122 0.71333 -0.00209 0.72972 -0.00556 0.74306 C -0.01285 0.77028 -0.025 0.78889 -0.025 0.82083 E">
                                      <p:cBhvr>
                                        <p:cTn id="55" dur="1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1.11022E-016 2.22222E-006 C -0.00434 0.01778 -0.00642 0.04166 -0.00833 0.065 C -0.0092 0.07528 -0.01042 0.09583 -0.01042 0.09611 C -0.0099 0.21611 -0.01198 0.21555 -0.00764 0.285 C -0.00747 0.33222 -0.01163 0.3875 -0.00486 0.42889 C -0.00382 0.44805 -0.00156 0.46139 0.00139 0.47694 C 0.00243 0.49028 0.00451 0.5025 0.00625 0.51639 C 0.00608 0.54916 0.01007 0.70083 -1.11022E-016 0.76194 C -0.00069 0.7775 -0.00104 0.79555 -0.00278 0.81 C -0.00642 0.83944 -0.0125 0.86 -0.0125 0.89472 E">
                                      <p:cBhvr>
                                        <p:cTn id="60" dur="1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01389 -1.11111E-006 C 0.01545 0.01778 0.01632 0.04139 0.01701 0.06445 C 0.01736 0.07417 0.01788 0.09445 0.01788 0.09472 C 0.01771 0.21333 0.0184 0.21278 0.01684 0.28139 C 0.01667 0.32806 0.0184 0.38278 0.0158 0.42361 C 0.01528 0.4425 0.01441 0.45556 0.01337 0.47111 C 0.01285 0.48417 0.01215 0.49639 0.01146 0.51 C 0.01146 0.5425 0.01007 0.69222 0.01389 0.7525 C 0.01406 0.76806 0.01423 0.78583 0.01493 0.8 C 0.01632 0.82917 0.01875 0.84945 0.01875 0.88389 E">
                                      <p:cBhvr>
                                        <p:cTn id="65" dur="1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" dur="9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8.33333E-007 3.33333E-006 C -0.01129 0.01777 -0.01684 0.04083 -0.02188 0.06389 C -0.02413 0.07389 -0.02743 0.09416 -0.02743 0.09472 C -0.02604 0.21333 -0.0316 0.2125 -0.02014 0.28111 C -0.01962 0.32805 -0.03056 0.38222 -0.01267 0.42305 C -0.01007 0.44222 -0.00399 0.45527 0.00382 0.47055 C 0.00642 0.48416 0.01198 0.49611 0.01649 0.50944 C 0.01615 0.54194 0.02674 0.69194 8.33333E-007 0.75222 C -0.00174 0.76777 -0.0026 0.78555 -0.00729 0.79972 C -0.01684 0.82889 -0.03281 0.84916 -0.03281 0.88333 E">
                                      <p:cBhvr>
                                        <p:cTn id="70" dur="1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7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1667 3.33333E-006 C -0.02796 0.01777 -0.03351 0.04111 -0.03855 0.06416 C -0.0408 0.07416 -0.0441 0.09444 -0.0441 0.09472 C -0.04271 0.21333 -0.04827 0.21277 -0.03681 0.28139 C -0.03629 0.32805 -0.04723 0.3825 -0.02934 0.42333 C -0.02674 0.44222 -0.02066 0.45555 -0.01285 0.47083 C -0.01025 0.48416 -0.00469 0.49611 -0.00018 0.50972 C -0.00052 0.54222 0.01007 0.69194 -0.01667 0.75222 C -0.01841 0.76777 -0.01927 0.78555 -0.02396 0.79972 C -0.03351 0.82889 -0.04948 0.84916 -0.04948 0.88361 E">
                                      <p:cBhvr>
                                        <p:cTn id="75" dur="1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" dur="1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3.33333E-006 C -0.00069 0.01027 -0.00156 0.0175 -0.00312 0.02666 C -0.00382 0.03111 -0.0052 0.04 -0.0052 0.04027 C -0.00503 0.055 -0.00798 0.12389 0.00521 0.145 C 0.00747 0.15583 0.00556 0.14889 0.01459 0.16333 C 0.01841 0.16944 0.02118 0.17889 0.025 0.185 C 0.03056 0.19389 0.03733 0.20139 0.04375 0.20833 C 0.05226 0.23083 0.06355 0.25027 0.07292 0.27166 C 0.08438 0.29777 0.09688 0.32333 0.10938 0.34833 C 0.11719 0.36389 0.12223 0.3925 0.12709 0.41166 C 0.1283 0.42416 0.13039 0.43361 0.13125 0.44666 C 0.13212 0.48277 0.13368 0.51722 0.13438 0.55333 C 0.13403 0.57889 0.13386 0.60444 0.13334 0.63 C 0.13299 0.64472 0.12622 0.67527 0.12084 0.68833 C 0.11858 0.69361 0.11493 0.69833 0.1125 0.70333 C 0.10799 0.71277 0.10521 0.725 0.09896 0.73166 C 0.0948 0.74166 0.0908 0.75472 0.08542 0.76333 E">
                                      <p:cBhvr>
                                        <p:cTn id="80" dur="13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9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128 3.33333E-006 C -0.01094 0.01027 -0.01059 0.0175 -0.01007 0.02666 C -0.00972 0.03111 -0.0092 0.04 -0.0092 0.04027 C -0.0092 0.055 -0.00799 0.12389 -0.01337 0.145 C -0.01424 0.15583 -0.01354 0.14889 -0.01719 0.16333 C -0.01875 0.16944 -0.01979 0.17889 -0.02135 0.185 C -0.02361 0.19389 -0.02639 0.20139 -0.02899 0.20833 C -0.03246 0.23083 -0.03698 0.25027 -0.0408 0.27166 C -0.04531 0.29777 -0.05035 0.32333 -0.05538 0.34833 C -0.05868 0.36389 -0.06059 0.3925 -0.06267 0.41166 C -0.06302 0.42416 -0.06389 0.43361 -0.06424 0.44666 C -0.06458 0.48277 -0.06528 0.51722 -0.06545 0.55333 C -0.06545 0.57889 -0.06528 0.60444 -0.0651 0.63 C -0.06493 0.64472 -0.06233 0.67527 -0.06007 0.68833 C -0.0592 0.69361 -0.05764 0.69833 -0.05677 0.70333 C -0.05486 0.71277 -0.05382 0.725 -0.05121 0.73166 C -0.04948 0.74166 -0.04792 0.75472 -0.04583 0.76333 E">
                                      <p:cBhvr>
                                        <p:cTn id="85" dur="13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" dur="9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0.01128 3.33333E-006 C -0.01094 0.01027 -0.01059 0.0175 -0.01007 0.02666 C -0.00972 0.03111 -0.0092 0.04 -0.0092 0.04027 C -0.0092 0.055 -0.00799 0.12389 -0.01337 0.145 C -0.01424 0.15583 -0.01354 0.14889 -0.01719 0.16333 C -0.01875 0.16944 -0.01979 0.17889 -0.02135 0.185 C -0.02361 0.19389 -0.02639 0.20139 -0.02899 0.20833 C -0.03246 0.23083 -0.03698 0.25027 -0.0408 0.27166 C -0.04531 0.29777 -0.05035 0.32333 -0.05538 0.34833 C -0.05868 0.36389 -0.06059 0.3925 -0.06267 0.41166 C -0.06302 0.42416 -0.06389 0.43361 -0.06424 0.44666 C -0.06458 0.48277 -0.06528 0.51722 -0.06545 0.55333 C -0.06545 0.57889 -0.06528 0.60444 -0.0651 0.63 C -0.06493 0.64472 -0.06233 0.67527 -0.06007 0.68833 C -0.0592 0.69361 -0.05764 0.69833 -0.05677 0.70333 C -0.05486 0.71277 -0.05382 0.725 -0.05121 0.73166 C -0.04948 0.74166 -0.04792 0.75472 -0.04583 0.76333 E">
                                      <p:cBhvr>
                                        <p:cTn id="90" dur="13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" dur="9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3.05556E-006 3.33333E-006 C -0.00034 0.01139 -0.00069 0.01916 -0.00139 0.02944 C -0.00173 0.03444 -0.00243 0.04416 -0.00243 0.04444 C -0.00243 0.06083 -0.00364 0.13722 0.00243 0.16055 C 0.00348 0.1725 0.00261 0.16472 0.00677 0.18083 C 0.00851 0.1875 0.0099 0.19805 0.01164 0.20472 C 0.01424 0.21472 0.01736 0.22305 0.02049 0.23083 C 0.02448 0.25555 0.02969 0.27722 0.03403 0.30083 C 0.03941 0.32972 0.04532 0.35805 0.05104 0.38583 C 0.05469 0.40305 0.05712 0.43472 0.05938 0.45611 C 0.0599 0.47 0.06094 0.48027 0.06129 0.49472 C 0.06164 0.53472 0.0625 0.57305 0.06285 0.61305 C 0.06268 0.64139 0.0625 0.66972 0.06233 0.69805 C 0.06216 0.71416 0.05903 0.74805 0.05643 0.7625 C 0.05539 0.76833 0.05365 0.77361 0.05261 0.77916 C 0.05052 0.78972 0.04914 0.80333 0.04618 0.81055 C 0.04427 0.82166 0.04236 0.83611 0.03993 0.84583 E">
                                      <p:cBhvr>
                                        <p:cTn id="95" dur="13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9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66667E-006 -1.11111E-006 C -0.00035 0.0125 -0.0007 0.02111 -0.00139 0.03222 C -0.00174 0.03778 -0.00243 0.04833 -0.00243 0.04861 C -0.00243 0.06639 -0.00365 0.14945 0.00243 0.17472 C 0.00347 0.18778 0.0026 0.17945 0.00677 0.19695 C 0.00851 0.20417 0.00989 0.21556 0.01163 0.22306 C 0.01423 0.23389 0.01736 0.24278 0.02048 0.25139 C 0.02448 0.27833 0.02969 0.30195 0.03403 0.32778 C 0.03941 0.35917 0.04531 0.39 0.05104 0.42028 C 0.05469 0.43917 0.05712 0.47361 0.05937 0.49695 C 0.05989 0.51195 0.06094 0.52333 0.06128 0.53889 C 0.06163 0.5825 0.0625 0.62417 0.06285 0.66778 C 0.06267 0.69889 0.0625 0.72972 0.06232 0.76056 C 0.06215 0.77806 0.05903 0.815 0.05642 0.83083 C 0.05538 0.83695 0.05364 0.84278 0.0526 0.84889 C 0.05052 0.86028 0.04913 0.87528 0.04618 0.88306 C 0.04427 0.89528 0.04236 0.91083 0.03993 0.92167 E">
                                      <p:cBhvr>
                                        <p:cTn id="100" dur="13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00278 -1.11111E-006 C -0.00295 0.01222 -0.00295 0.02028 -0.00312 0.03111 C -0.0033 0.03667 -0.00347 0.04667 -0.00347 0.04695 C -0.00347 0.06389 -0.00364 0.14306 -0.00226 0.16722 C -0.00191 0.17972 -0.00226 0.17195 -0.00121 0.18861 C -0.00069 0.19556 -0.00035 0.20639 -8.33333E-007 0.21361 C 0.0007 0.22389 0.00139 0.23278 0.00226 0.24083 C 0.00313 0.26667 0.00451 0.28945 0.00556 0.31417 C 0.00677 0.34417 0.00833 0.37361 0.00972 0.40278 C 0.01059 0.42083 0.01111 0.45389 0.01181 0.47611 C 0.01181 0.49083 0.01215 0.50167 0.01215 0.51639 C 0.01233 0.55833 0.0125 0.59833 0.01267 0.64028 C 0.0125 0.66972 0.0125 0.69945 0.0125 0.72889 C 0.0125 0.74611 0.01163 0.78139 0.01094 0.79639 C 0.01076 0.8025 0.01024 0.80778 0.01007 0.81389 C 0.00955 0.82472 0.0092 0.83917 0.00851 0.84639 C 0.00799 0.85833 0.00764 0.87333 0.00695 0.88389 E">
                                      <p:cBhvr>
                                        <p:cTn id="105" dur="13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01128 3.33333E-006 C -0.01094 0.01027 -0.01059 0.0175 -0.01007 0.02666 C -0.00972 0.03111 -0.0092 0.04 -0.0092 0.04027 C -0.0092 0.055 -0.00799 0.12389 -0.01337 0.145 C -0.01424 0.15583 -0.01354 0.14889 -0.01719 0.16333 C -0.01875 0.16944 -0.01979 0.17889 -0.02135 0.185 C -0.02361 0.19389 -0.02639 0.20139 -0.02899 0.20833 C -0.03246 0.23083 -0.03698 0.25027 -0.0408 0.27166 C -0.04531 0.29777 -0.05035 0.32333 -0.05538 0.34833 C -0.05868 0.36389 -0.06059 0.3925 -0.06267 0.41166 C -0.06302 0.42416 -0.06389 0.43361 -0.06424 0.44666 C -0.06458 0.48277 -0.06528 0.51722 -0.06545 0.55333 C -0.06545 0.57889 -0.06528 0.60444 -0.0651 0.63 C -0.06493 0.64472 -0.06233 0.67527 -0.06007 0.68833 C -0.0592 0.69361 -0.05764 0.69833 -0.05677 0.70333 C -0.05486 0.71277 -0.05382 0.725 -0.05121 0.73166 C -0.04948 0.74166 -0.04792 0.75472 -0.04583 0.76333 E">
                                      <p:cBhvr>
                                        <p:cTn id="110" dur="13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8.33333E-007 3.33333E-006 C -0.00069 0.01111 -0.00156 0.01861 -0.00312 0.02861 C -0.00382 0.03305 -0.00521 0.04277 -0.00521 0.04305 C -0.00503 0.05889 -0.00799 0.13305 0.00521 0.15583 C 0.00747 0.1675 0.00556 0.16 0.01458 0.17555 C 0.0184 0.18194 0.02118 0.19222 0.025 0.19889 C 0.03056 0.20833 0.03733 0.21639 0.04375 0.22389 C 0.05226 0.24805 0.06354 0.26889 0.07292 0.29194 C 0.08438 0.32 0.09688 0.3475 0.10938 0.37444 C 0.11719 0.39111 0.12222 0.42194 0.12708 0.4425 C 0.1283 0.45611 0.13038 0.46611 0.13125 0.48027 C 0.13212 0.51889 0.13368 0.55611 0.13438 0.595 C 0.13403 0.62222 0.13386 0.64972 0.13333 0.67722 C 0.13299 0.69305 0.12622 0.72611 0.12083 0.74 C 0.11858 0.74583 0.11493 0.75083 0.1125 0.75611 C 0.10799 0.76639 0.10521 0.77944 0.09896 0.78666 C 0.09479 0.7975 0.0908 0.81139 0.08542 0.82083 E">
                                      <p:cBhvr>
                                        <p:cTn id="115" dur="13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9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3.05556E-006 3.33333E-006 C -0.00034 0.01139 -0.00069 0.01916 -0.00139 0.02944 C -0.00173 0.03444 -0.00243 0.04416 -0.00243 0.04444 C -0.00243 0.06083 -0.00364 0.13722 0.00243 0.16055 C 0.00348 0.1725 0.00261 0.16472 0.00677 0.18083 C 0.00851 0.1875 0.0099 0.19805 0.01164 0.20472 C 0.01424 0.21472 0.01736 0.22305 0.02049 0.23083 C 0.02448 0.25555 0.02969 0.27722 0.03403 0.30083 C 0.03941 0.32972 0.04532 0.35805 0.05104 0.38583 C 0.05469 0.40305 0.05712 0.43472 0.05938 0.45611 C 0.0599 0.47 0.06094 0.48027 0.06129 0.49472 C 0.06164 0.53472 0.0625 0.57305 0.06285 0.61305 C 0.06268 0.64139 0.0625 0.66972 0.06233 0.69805 C 0.06216 0.71416 0.05903 0.74805 0.05643 0.7625 C 0.05539 0.76833 0.05365 0.77361 0.05261 0.77916 C 0.05052 0.78972 0.04914 0.80333 0.04618 0.81055 C 0.04427 0.82166 0.04236 0.83611 0.03993 0.84583 E">
                                      <p:cBhvr>
                                        <p:cTn id="120" dur="13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11022E-016 2.22222E-006 C -0.00434 0.01778 -0.00642 0.04166 -0.00833 0.065 C -0.0092 0.07528 -0.01042 0.09583 -0.01042 0.09611 C -0.0099 0.21611 -0.01198 0.21555 -0.00764 0.285 C -0.00747 0.33222 -0.01163 0.3875 -0.00486 0.42889 C -0.00382 0.44805 -0.00156 0.46139 0.00139 0.47694 C 0.00243 0.49028 0.00451 0.5025 0.00625 0.51639 C 0.00608 0.54916 0.01007 0.70083 -1.11022E-016 0.76194 C -0.00069 0.7775 -0.00104 0.79555 -0.00278 0.81 C -0.00642 0.83944 -0.0125 0.86 -0.0125 0.89472 E">
                                      <p:cBhvr>
                                        <p:cTn id="125" dur="1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3333E-006 C -0.00816 0.01973 -0.00468 0.0475 -0.01562 0.06528 C -0.0177 0.07473 -0.02223 0.08195 -0.02604 0.09 C -0.03438 0.10723 -0.0434 0.12334 -0.05209 0.14 C -0.06268 0.16 -0.07119 0.18167 -0.08126 0.20167 C -0.08768 0.22917 -0.09566 0.25584 -0.10209 0.28334 C -0.10331 0.28834 -0.10365 0.29084 -0.10417 0.29667 C -0.10487 0.30445 -0.10626 0.32 -0.10626 0.32 C -0.10608 0.33 -0.11164 0.44445 -0.09895 0.475 C -0.09461 0.5025 -0.08351 0.52723 -0.07605 0.55334 C -0.07274 0.565 -0.07326 0.56084 -0.07083 0.57167 C -0.06944 0.57834 -0.06666 0.59167 -0.06666 0.59167 C -0.06702 0.62278 -0.06008 0.65723 -0.06875 0.685 C -0.07206 0.69556 -0.07586 0.70611 -0.07917 0.71667 C -0.08073 0.72167 -0.08438 0.73167 -0.08438 0.73167 C -0.08593 0.74223 -0.08456 0.73639 -0.08958 0.74834 C -0.09097 0.75167 -0.09375 0.75834 -0.09375 0.75834 C -0.09461 0.76389 -0.09531 0.77417 -0.09791 0.77834 E">
                                      <p:cBhvr>
                                        <p:cTn id="130" dur="12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" dur="9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1.66667E-006 -3.33333E-006 C -0.00816 0.01973 -0.00468 0.0475 -0.01562 0.06528 C -0.0177 0.07473 -0.02223 0.08195 -0.02604 0.09 C -0.03438 0.10723 -0.0434 0.12334 -0.05209 0.14 C -0.06268 0.16 -0.07119 0.18167 -0.08126 0.20167 C -0.08768 0.22917 -0.09566 0.25584 -0.10209 0.28334 C -0.10331 0.28834 -0.10365 0.29084 -0.10417 0.29667 C -0.10487 0.30445 -0.10626 0.32 -0.10626 0.32 C -0.10608 0.33 -0.11164 0.44445 -0.09895 0.475 C -0.09461 0.5025 -0.08351 0.52723 -0.07605 0.55334 C -0.07274 0.565 -0.07326 0.56084 -0.07083 0.57167 C -0.06944 0.57834 -0.06666 0.59167 -0.06666 0.59167 C -0.06702 0.62278 -0.06008 0.65723 -0.06875 0.685 C -0.07206 0.69556 -0.07586 0.70611 -0.07917 0.71667 C -0.08073 0.72167 -0.08438 0.73167 -0.08438 0.73167 C -0.08593 0.74223 -0.08456 0.73639 -0.08958 0.74834 C -0.09097 0.75167 -0.09375 0.75834 -0.09375 0.75834 C -0.09461 0.76389 -0.09531 0.77417 -0.09791 0.77834 E">
                                      <p:cBhvr>
                                        <p:cTn id="135" dur="12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66667E-006 -3.33333E-006 C -0.00816 0.01973 -0.00468 0.0475 -0.01562 0.06528 C -0.0177 0.07473 -0.02223 0.08195 -0.02604 0.09 C -0.03438 0.10723 -0.0434 0.12334 -0.05209 0.14 C -0.06268 0.16 -0.07119 0.18167 -0.08126 0.20167 C -0.08768 0.22917 -0.09566 0.25584 -0.10209 0.28334 C -0.10331 0.28834 -0.10365 0.29084 -0.10417 0.29667 C -0.10487 0.30445 -0.10626 0.32 -0.10626 0.32 C -0.10608 0.33 -0.11164 0.44445 -0.09895 0.475 C -0.09461 0.5025 -0.08351 0.52723 -0.07605 0.55334 C -0.07274 0.565 -0.07326 0.56084 -0.07083 0.57167 C -0.06944 0.57834 -0.06666 0.59167 -0.06666 0.59167 C -0.06702 0.62278 -0.06008 0.65723 -0.06875 0.685 C -0.07206 0.69556 -0.07586 0.70611 -0.07917 0.71667 C -0.08073 0.72167 -0.08438 0.73167 -0.08438 0.73167 C -0.08593 0.74223 -0.08456 0.73639 -0.08958 0.74834 C -0.09097 0.75167 -0.09375 0.75834 -0.09375 0.75834 C -0.09461 0.76389 -0.09531 0.77417 -0.09791 0.77834 E">
                                      <p:cBhvr>
                                        <p:cTn id="140" dur="12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1.66667E-006 -3.33333E-006 C -0.00816 0.01973 -0.00468 0.0475 -0.01562 0.06528 C -0.0177 0.07473 -0.02223 0.08195 -0.02604 0.09 C -0.03438 0.10723 -0.0434 0.12334 -0.05209 0.14 C -0.06268 0.16 -0.07119 0.18167 -0.08126 0.20167 C -0.08768 0.22917 -0.09566 0.25584 -0.10209 0.28334 C -0.10331 0.28834 -0.10365 0.29084 -0.10417 0.29667 C -0.10487 0.30445 -0.10626 0.32 -0.10626 0.32 C -0.10608 0.33 -0.11164 0.44445 -0.09895 0.475 C -0.09461 0.5025 -0.08351 0.52723 -0.07605 0.55334 C -0.07274 0.565 -0.07326 0.56084 -0.07083 0.57167 C -0.06944 0.57834 -0.06666 0.59167 -0.06666 0.59167 C -0.06702 0.62278 -0.06008 0.65723 -0.06875 0.685 C -0.07206 0.69556 -0.07586 0.70611 -0.07917 0.71667 C -0.08073 0.72167 -0.08438 0.73167 -0.08438 0.73167 C -0.08593 0.74223 -0.08456 0.73639 -0.08958 0.74834 C -0.09097 0.75167 -0.09375 0.75834 -0.09375 0.75834 C -0.09461 0.76389 -0.09531 0.77417 -0.09791 0.77834 E">
                                      <p:cBhvr>
                                        <p:cTn id="145" dur="12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1.66667E-006 -3.33333E-006 C -0.00816 0.01973 -0.00468 0.0475 -0.01562 0.06528 C -0.0177 0.07473 -0.02223 0.08195 -0.02604 0.09 C -0.03438 0.10723 -0.0434 0.12334 -0.05209 0.14 C -0.06268 0.16 -0.07119 0.18167 -0.08126 0.20167 C -0.08768 0.22917 -0.09566 0.25584 -0.10209 0.28334 C -0.10331 0.28834 -0.10365 0.29084 -0.10417 0.29667 C -0.10487 0.30445 -0.10626 0.32 -0.10626 0.32 C -0.10608 0.33 -0.11164 0.44445 -0.09895 0.475 C -0.09461 0.5025 -0.08351 0.52723 -0.07605 0.55334 C -0.07274 0.565 -0.07326 0.56084 -0.07083 0.57167 C -0.06944 0.57834 -0.06666 0.59167 -0.06666 0.59167 C -0.06702 0.62278 -0.06008 0.65723 -0.06875 0.685 C -0.07206 0.69556 -0.07586 0.70611 -0.07917 0.71667 C -0.08073 0.72167 -0.08438 0.73167 -0.08438 0.73167 C -0.08593 0.74223 -0.08456 0.73639 -0.08958 0.74834 C -0.09097 0.75167 -0.09375 0.75834 -0.09375 0.75834 C -0.09461 0.76389 -0.09531 0.77417 -0.09791 0.77834 E">
                                      <p:cBhvr>
                                        <p:cTn id="150" dur="12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1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1.66667E-006 -3.33333E-006 C -0.00816 0.01973 -0.00468 0.0475 -0.01562 0.06528 C -0.0177 0.07473 -0.02223 0.08195 -0.02604 0.09 C -0.03438 0.10723 -0.0434 0.12334 -0.05209 0.14 C -0.06268 0.16 -0.07119 0.18167 -0.08126 0.20167 C -0.08768 0.22917 -0.09566 0.25584 -0.10209 0.28334 C -0.10331 0.28834 -0.10365 0.29084 -0.10417 0.29667 C -0.10487 0.30445 -0.10626 0.32 -0.10626 0.32 C -0.10608 0.33 -0.11164 0.44445 -0.09895 0.475 C -0.09461 0.5025 -0.08351 0.52723 -0.07605 0.55334 C -0.07274 0.565 -0.07326 0.56084 -0.07083 0.57167 C -0.06944 0.57834 -0.06666 0.59167 -0.06666 0.59167 C -0.06702 0.62278 -0.06008 0.65723 -0.06875 0.685 C -0.07206 0.69556 -0.07586 0.70611 -0.07917 0.71667 C -0.08073 0.72167 -0.08438 0.73167 -0.08438 0.73167 C -0.08593 0.74223 -0.08456 0.73639 -0.08958 0.74834 C -0.09097 0.75167 -0.09375 0.75834 -0.09375 0.75834 C -0.09461 0.76389 -0.09531 0.77417 -0.09791 0.77834 E">
                                      <p:cBhvr>
                                        <p:cTn id="155" dur="12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66667E-006 -3.33333E-006 C -0.00816 0.01973 -0.00468 0.0475 -0.01562 0.06528 C -0.0177 0.07473 -0.02223 0.08195 -0.02604 0.09 C -0.03438 0.10723 -0.0434 0.12334 -0.05209 0.14 C -0.06268 0.16 -0.07119 0.18167 -0.08126 0.20167 C -0.08768 0.22917 -0.09566 0.25584 -0.10209 0.28334 C -0.10331 0.28834 -0.10365 0.29084 -0.10417 0.29667 C -0.10487 0.30445 -0.10626 0.32 -0.10626 0.32 C -0.10608 0.33 -0.11164 0.44445 -0.09895 0.475 C -0.09461 0.5025 -0.08351 0.52723 -0.07605 0.55334 C -0.07274 0.565 -0.07326 0.56084 -0.07083 0.57167 C -0.06944 0.57834 -0.06666 0.59167 -0.06666 0.59167 C -0.06702 0.62278 -0.06008 0.65723 -0.06875 0.685 C -0.07206 0.69556 -0.07586 0.70611 -0.07917 0.71667 C -0.08073 0.72167 -0.08438 0.73167 -0.08438 0.73167 C -0.08593 0.74223 -0.08456 0.73639 -0.08958 0.74834 C -0.09097 0.75167 -0.09375 0.75834 -0.09375 0.75834 C -0.09461 0.76389 -0.09531 0.77417 -0.09791 0.77834 E">
                                      <p:cBhvr>
                                        <p:cTn id="160" dur="16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9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74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80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86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92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9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04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10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185760" y="0"/>
            <a:ext cx="8894880" cy="6396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6320" y="18684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c000"/>
                </a:solidFill>
                <a:latin typeface="华文琥珀"/>
                <a:ea typeface="华文琥珀"/>
              </a:rPr>
              <a:t>201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6320" y="18684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c000"/>
                </a:solidFill>
                <a:latin typeface="华文琥珀"/>
                <a:ea typeface="华文琥珀"/>
              </a:rPr>
              <a:t>201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76320" y="18684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c000"/>
                </a:solidFill>
                <a:latin typeface="华文琥珀"/>
                <a:ea typeface="华文琥珀"/>
              </a:rPr>
              <a:t>201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76320" y="18684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c000"/>
                </a:solidFill>
                <a:latin typeface="华文琥珀"/>
                <a:ea typeface="华文琥珀"/>
              </a:rPr>
              <a:t>201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76320" y="18684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c000"/>
                </a:solidFill>
                <a:latin typeface="华文琥珀"/>
                <a:ea typeface="华文琥珀"/>
              </a:rPr>
              <a:t>201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320" y="18684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c000"/>
                </a:solidFill>
                <a:latin typeface="华文琥珀"/>
                <a:ea typeface="华文琥珀"/>
              </a:rPr>
              <a:t>201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76320" y="18684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c000"/>
                </a:solidFill>
                <a:latin typeface="华文琥珀"/>
                <a:ea typeface="华文琥珀"/>
              </a:rPr>
              <a:t>201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76320" y="18684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c000"/>
                </a:solidFill>
                <a:latin typeface="华文琥珀"/>
                <a:ea typeface="华文琥珀"/>
              </a:rPr>
              <a:t>201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76320" y="18684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c000"/>
                </a:solidFill>
                <a:latin typeface="华文琥珀"/>
                <a:ea typeface="华文琥珀"/>
              </a:rPr>
              <a:t>201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76320" y="18684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c000"/>
                </a:solidFill>
                <a:latin typeface="华文琥珀"/>
                <a:ea typeface="华文琥珀"/>
              </a:rPr>
              <a:t>201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2417760" y="4221000"/>
            <a:ext cx="4314960" cy="19972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4" descr=""/>
          <p:cNvPicPr/>
          <p:nvPr/>
        </p:nvPicPr>
        <p:blipFill>
          <a:blip r:embed="rId4"/>
          <a:stretch/>
        </p:blipFill>
        <p:spPr>
          <a:xfrm>
            <a:off x="6026040" y="329256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5" descr=""/>
          <p:cNvPicPr/>
          <p:nvPr/>
        </p:nvPicPr>
        <p:blipFill>
          <a:blip r:embed="rId5"/>
          <a:stretch/>
        </p:blipFill>
        <p:spPr>
          <a:xfrm>
            <a:off x="2205000" y="385272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6" descr=""/>
          <p:cNvPicPr/>
          <p:nvPr/>
        </p:nvPicPr>
        <p:blipFill>
          <a:blip r:embed="rId6"/>
          <a:stretch/>
        </p:blipFill>
        <p:spPr>
          <a:xfrm>
            <a:off x="4487760" y="415620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17" descr=""/>
          <p:cNvPicPr/>
          <p:nvPr/>
        </p:nvPicPr>
        <p:blipFill>
          <a:blip r:embed="rId7"/>
          <a:stretch/>
        </p:blipFill>
        <p:spPr>
          <a:xfrm>
            <a:off x="3919680" y="3219480"/>
            <a:ext cx="291960" cy="2937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8" descr=""/>
          <p:cNvPicPr/>
          <p:nvPr/>
        </p:nvPicPr>
        <p:blipFill>
          <a:blip r:embed="rId8"/>
          <a:stretch/>
        </p:blipFill>
        <p:spPr>
          <a:xfrm>
            <a:off x="7413480" y="3152880"/>
            <a:ext cx="276480" cy="27756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9" descr=""/>
          <p:cNvPicPr/>
          <p:nvPr/>
        </p:nvPicPr>
        <p:blipFill>
          <a:blip r:embed="rId9"/>
          <a:stretch/>
        </p:blipFill>
        <p:spPr>
          <a:xfrm>
            <a:off x="7275600" y="4149720"/>
            <a:ext cx="276120" cy="27612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20" descr=""/>
          <p:cNvPicPr/>
          <p:nvPr/>
        </p:nvPicPr>
        <p:blipFill>
          <a:blip r:embed="rId10"/>
          <a:stretch/>
        </p:blipFill>
        <p:spPr>
          <a:xfrm>
            <a:off x="6804000" y="4371840"/>
            <a:ext cx="276120" cy="2779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1" descr=""/>
          <p:cNvPicPr/>
          <p:nvPr/>
        </p:nvPicPr>
        <p:blipFill>
          <a:blip r:embed="rId11"/>
          <a:stretch/>
        </p:blipFill>
        <p:spPr>
          <a:xfrm>
            <a:off x="3029040" y="4051440"/>
            <a:ext cx="203040" cy="2030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22" descr=""/>
          <p:cNvPicPr/>
          <p:nvPr/>
        </p:nvPicPr>
        <p:blipFill>
          <a:blip r:embed="rId12"/>
          <a:stretch/>
        </p:blipFill>
        <p:spPr>
          <a:xfrm>
            <a:off x="3355920" y="3852720"/>
            <a:ext cx="203400" cy="2048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3" descr=""/>
          <p:cNvPicPr/>
          <p:nvPr/>
        </p:nvPicPr>
        <p:blipFill>
          <a:blip r:embed="rId13"/>
          <a:stretch/>
        </p:blipFill>
        <p:spPr>
          <a:xfrm>
            <a:off x="4408560" y="4033800"/>
            <a:ext cx="203040" cy="2048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4" descr=""/>
          <p:cNvPicPr/>
          <p:nvPr/>
        </p:nvPicPr>
        <p:blipFill>
          <a:blip r:embed="rId14"/>
          <a:stretch/>
        </p:blipFill>
        <p:spPr>
          <a:xfrm>
            <a:off x="1628640" y="4314960"/>
            <a:ext cx="203400" cy="20448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5" descr=""/>
          <p:cNvPicPr/>
          <p:nvPr/>
        </p:nvPicPr>
        <p:blipFill>
          <a:blip r:embed="rId15"/>
          <a:stretch/>
        </p:blipFill>
        <p:spPr>
          <a:xfrm>
            <a:off x="2981160" y="3589200"/>
            <a:ext cx="203400" cy="2048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26" descr=""/>
          <p:cNvPicPr/>
          <p:nvPr/>
        </p:nvPicPr>
        <p:blipFill>
          <a:blip r:embed="rId16"/>
          <a:stretch/>
        </p:blipFill>
        <p:spPr>
          <a:xfrm>
            <a:off x="6149880" y="3871800"/>
            <a:ext cx="203400" cy="20484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27" descr=""/>
          <p:cNvPicPr/>
          <p:nvPr/>
        </p:nvPicPr>
        <p:blipFill>
          <a:blip r:embed="rId17"/>
          <a:stretch/>
        </p:blipFill>
        <p:spPr>
          <a:xfrm>
            <a:off x="5823000" y="1992240"/>
            <a:ext cx="203040" cy="20340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28" descr=""/>
          <p:cNvPicPr/>
          <p:nvPr/>
        </p:nvPicPr>
        <p:blipFill>
          <a:blip r:embed="rId18"/>
          <a:stretch/>
        </p:blipFill>
        <p:spPr>
          <a:xfrm>
            <a:off x="2600280" y="2193840"/>
            <a:ext cx="203400" cy="20484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29" descr=""/>
          <p:cNvPicPr/>
          <p:nvPr/>
        </p:nvPicPr>
        <p:blipFill>
          <a:blip r:embed="rId19"/>
          <a:stretch/>
        </p:blipFill>
        <p:spPr>
          <a:xfrm>
            <a:off x="1890720" y="2855880"/>
            <a:ext cx="203040" cy="2034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30" descr=""/>
          <p:cNvPicPr/>
          <p:nvPr/>
        </p:nvPicPr>
        <p:blipFill>
          <a:blip r:embed="rId20"/>
          <a:stretch/>
        </p:blipFill>
        <p:spPr>
          <a:xfrm>
            <a:off x="4551480" y="1665360"/>
            <a:ext cx="203040" cy="20304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32"/>
          <p:cNvGrpSpPr/>
          <p:nvPr/>
        </p:nvGrpSpPr>
        <p:grpSpPr>
          <a:xfrm>
            <a:off x="6215040" y="0"/>
            <a:ext cx="2714760" cy="1714680"/>
            <a:chOff x="6215040" y="0"/>
            <a:chExt cx="2714760" cy="1714680"/>
          </a:xfrm>
        </p:grpSpPr>
        <p:pic>
          <p:nvPicPr>
            <p:cNvPr id="126" name="图片 14" descr=""/>
            <p:cNvPicPr/>
            <p:nvPr/>
          </p:nvPicPr>
          <p:blipFill>
            <a:blip r:embed="rId21"/>
            <a:stretch/>
          </p:blipFill>
          <p:spPr>
            <a:xfrm>
              <a:off x="6215040" y="0"/>
              <a:ext cx="271476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图片 15" descr=""/>
            <p:cNvPicPr/>
            <p:nvPr/>
          </p:nvPicPr>
          <p:blipFill>
            <a:blip r:embed="rId22"/>
            <a:stretch/>
          </p:blipFill>
          <p:spPr>
            <a:xfrm>
              <a:off x="6715080" y="214200"/>
              <a:ext cx="928800" cy="12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图片 16" descr=""/>
            <p:cNvPicPr/>
            <p:nvPr/>
          </p:nvPicPr>
          <p:blipFill>
            <a:blip r:embed="rId23"/>
            <a:stretch/>
          </p:blipFill>
          <p:spPr>
            <a:xfrm>
              <a:off x="7500960" y="285480"/>
              <a:ext cx="1000080" cy="1214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4000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9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78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84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90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96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302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308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314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6" dur="1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2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1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4" dur="1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7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0" dur="7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8" dur="1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374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3" descr=""/>
          <p:cNvPicPr/>
          <p:nvPr/>
        </p:nvPicPr>
        <p:blipFill>
          <a:blip r:embed="rId1"/>
          <a:stretch/>
        </p:blipFill>
        <p:spPr>
          <a:xfrm>
            <a:off x="1143000" y="642960"/>
            <a:ext cx="3214800" cy="56437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4" descr=""/>
          <p:cNvPicPr/>
          <p:nvPr/>
        </p:nvPicPr>
        <p:blipFill>
          <a:blip r:embed="rId2"/>
          <a:stretch/>
        </p:blipFill>
        <p:spPr>
          <a:xfrm>
            <a:off x="4357800" y="642960"/>
            <a:ext cx="2857320" cy="56437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5" descr=""/>
          <p:cNvPicPr/>
          <p:nvPr/>
        </p:nvPicPr>
        <p:blipFill>
          <a:blip r:embed="rId3"/>
          <a:stretch/>
        </p:blipFill>
        <p:spPr>
          <a:xfrm>
            <a:off x="5572080" y="4714920"/>
            <a:ext cx="2928960" cy="13572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6" descr=""/>
          <p:cNvPicPr/>
          <p:nvPr/>
        </p:nvPicPr>
        <p:blipFill>
          <a:blip r:embed="rId4"/>
          <a:stretch/>
        </p:blipFill>
        <p:spPr>
          <a:xfrm>
            <a:off x="642960" y="714240"/>
            <a:ext cx="2928960" cy="15717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7" descr=""/>
          <p:cNvPicPr/>
          <p:nvPr/>
        </p:nvPicPr>
        <p:blipFill>
          <a:blip r:embed="rId5"/>
          <a:stretch/>
        </p:blipFill>
        <p:spPr>
          <a:xfrm>
            <a:off x="3143160" y="2357280"/>
            <a:ext cx="2428920" cy="15004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8" descr=""/>
          <p:cNvPicPr/>
          <p:nvPr/>
        </p:nvPicPr>
        <p:blipFill>
          <a:blip r:embed="rId6"/>
          <a:stretch/>
        </p:blipFill>
        <p:spPr>
          <a:xfrm>
            <a:off x="4929120" y="928800"/>
            <a:ext cx="2928960" cy="15714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9" descr=""/>
          <p:cNvPicPr/>
          <p:nvPr/>
        </p:nvPicPr>
        <p:blipFill>
          <a:blip r:embed="rId7"/>
          <a:stretch/>
        </p:blipFill>
        <p:spPr>
          <a:xfrm>
            <a:off x="785880" y="4071960"/>
            <a:ext cx="2928960" cy="157176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0" descr=""/>
          <p:cNvPicPr/>
          <p:nvPr/>
        </p:nvPicPr>
        <p:blipFill>
          <a:blip r:embed="rId8"/>
          <a:stretch/>
        </p:blipFill>
        <p:spPr>
          <a:xfrm>
            <a:off x="6500880" y="2643120"/>
            <a:ext cx="2643120" cy="421488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1" descr=""/>
          <p:cNvPicPr/>
          <p:nvPr/>
        </p:nvPicPr>
        <p:blipFill>
          <a:blip r:embed="rId9"/>
          <a:stretch/>
        </p:blipFill>
        <p:spPr>
          <a:xfrm>
            <a:off x="0" y="0"/>
            <a:ext cx="3071880" cy="442908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2" descr=""/>
          <p:cNvPicPr/>
          <p:nvPr/>
        </p:nvPicPr>
        <p:blipFill>
          <a:blip r:embed="rId10"/>
          <a:srcRect l="21094" t="0" r="0" b="37502"/>
          <a:stretch/>
        </p:blipFill>
        <p:spPr>
          <a:xfrm>
            <a:off x="1928880" y="0"/>
            <a:ext cx="7215120" cy="42861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3" descr=""/>
          <p:cNvPicPr/>
          <p:nvPr/>
        </p:nvPicPr>
        <p:blipFill>
          <a:blip r:embed="rId11"/>
          <a:srcRect l="2345" t="62501" r="24220" b="0"/>
          <a:stretch/>
        </p:blipFill>
        <p:spPr>
          <a:xfrm>
            <a:off x="214200" y="4286160"/>
            <a:ext cx="6715080" cy="25718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8" descr=""/>
          <p:cNvPicPr/>
          <p:nvPr/>
        </p:nvPicPr>
        <p:blipFill>
          <a:blip r:embed="rId12"/>
          <a:stretch/>
        </p:blipFill>
        <p:spPr>
          <a:xfrm>
            <a:off x="2571840" y="2714760"/>
            <a:ext cx="428400" cy="4284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9" descr=""/>
          <p:cNvPicPr/>
          <p:nvPr/>
        </p:nvPicPr>
        <p:blipFill>
          <a:blip r:embed="rId13"/>
          <a:stretch/>
        </p:blipFill>
        <p:spPr>
          <a:xfrm rot="1095000">
            <a:off x="4684320" y="51595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20" descr=""/>
          <p:cNvPicPr/>
          <p:nvPr/>
        </p:nvPicPr>
        <p:blipFill>
          <a:blip r:embed="rId14"/>
          <a:stretch/>
        </p:blipFill>
        <p:spPr>
          <a:xfrm>
            <a:off x="4429080" y="4000680"/>
            <a:ext cx="357120" cy="2854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1" descr=""/>
          <p:cNvPicPr/>
          <p:nvPr/>
        </p:nvPicPr>
        <p:blipFill>
          <a:blip r:embed="rId15"/>
          <a:stretch/>
        </p:blipFill>
        <p:spPr>
          <a:xfrm>
            <a:off x="4357800" y="107172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22" descr=""/>
          <p:cNvPicPr/>
          <p:nvPr/>
        </p:nvPicPr>
        <p:blipFill>
          <a:blip r:embed="rId16"/>
          <a:stretch/>
        </p:blipFill>
        <p:spPr>
          <a:xfrm>
            <a:off x="2643120" y="1071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23" descr=""/>
          <p:cNvPicPr/>
          <p:nvPr/>
        </p:nvPicPr>
        <p:blipFill>
          <a:blip r:embed="rId17"/>
          <a:stretch/>
        </p:blipFill>
        <p:spPr>
          <a:xfrm>
            <a:off x="4786200" y="128592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24" descr=""/>
          <p:cNvPicPr/>
          <p:nvPr/>
        </p:nvPicPr>
        <p:blipFill>
          <a:blip r:embed="rId18"/>
          <a:stretch/>
        </p:blipFill>
        <p:spPr>
          <a:xfrm>
            <a:off x="3473280" y="169236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25" descr=""/>
          <p:cNvPicPr/>
          <p:nvPr/>
        </p:nvPicPr>
        <p:blipFill>
          <a:blip r:embed="rId19"/>
          <a:stretch/>
        </p:blipFill>
        <p:spPr>
          <a:xfrm>
            <a:off x="4205160" y="19224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26" descr=""/>
          <p:cNvPicPr/>
          <p:nvPr/>
        </p:nvPicPr>
        <p:blipFill>
          <a:blip r:embed="rId20"/>
          <a:stretch/>
        </p:blipFill>
        <p:spPr>
          <a:xfrm>
            <a:off x="1638360" y="3780000"/>
            <a:ext cx="269640" cy="2696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27" descr=""/>
          <p:cNvPicPr/>
          <p:nvPr/>
        </p:nvPicPr>
        <p:blipFill>
          <a:blip r:embed="rId21"/>
          <a:stretch/>
        </p:blipFill>
        <p:spPr>
          <a:xfrm>
            <a:off x="6264360" y="452916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150" name="十字星 33"/>
          <p:cNvSpPr/>
          <p:nvPr/>
        </p:nvSpPr>
        <p:spPr>
          <a:xfrm>
            <a:off x="1857240" y="1785960"/>
            <a:ext cx="214560" cy="214200"/>
          </a:xfrm>
          <a:custGeom>
            <a:avLst/>
            <a:gdLst>
              <a:gd name="textAreaLeft" fmla="*/ 90720 w 214560"/>
              <a:gd name="textAreaRight" fmla="*/ 123840 w 214560"/>
              <a:gd name="textAreaTop" fmla="*/ 90720 h 214200"/>
              <a:gd name="textAreaBottom" fmla="*/ 12348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6" y="9136"/>
                </a:lnTo>
                <a:lnTo>
                  <a:pt x="10800" y="0"/>
                </a:lnTo>
                <a:lnTo>
                  <a:pt x="12464" y="9136"/>
                </a:lnTo>
                <a:lnTo>
                  <a:pt x="21600" y="10800"/>
                </a:lnTo>
                <a:lnTo>
                  <a:pt x="12464" y="12464"/>
                </a:lnTo>
                <a:lnTo>
                  <a:pt x="10800" y="21600"/>
                </a:lnTo>
                <a:lnTo>
                  <a:pt x="9136" y="12464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十字星 34"/>
          <p:cNvSpPr/>
          <p:nvPr/>
        </p:nvSpPr>
        <p:spPr>
          <a:xfrm>
            <a:off x="2857680" y="1857240"/>
            <a:ext cx="214200" cy="214560"/>
          </a:xfrm>
          <a:custGeom>
            <a:avLst/>
            <a:gdLst>
              <a:gd name="textAreaLeft" fmla="*/ 90720 w 214200"/>
              <a:gd name="textAreaRight" fmla="*/ 123480 w 214200"/>
              <a:gd name="textAreaTop" fmla="*/ 90720 h 214560"/>
              <a:gd name="textAreaBottom" fmla="*/ 123840 h 21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6" y="9136"/>
                </a:lnTo>
                <a:lnTo>
                  <a:pt x="10800" y="0"/>
                </a:lnTo>
                <a:lnTo>
                  <a:pt x="12464" y="9136"/>
                </a:lnTo>
                <a:lnTo>
                  <a:pt x="21600" y="10800"/>
                </a:lnTo>
                <a:lnTo>
                  <a:pt x="12464" y="12464"/>
                </a:lnTo>
                <a:lnTo>
                  <a:pt x="10800" y="21600"/>
                </a:lnTo>
                <a:lnTo>
                  <a:pt x="9136" y="12464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十字星 35"/>
          <p:cNvSpPr/>
          <p:nvPr/>
        </p:nvSpPr>
        <p:spPr>
          <a:xfrm rot="2580000">
            <a:off x="5302080" y="1368000"/>
            <a:ext cx="252720" cy="250920"/>
          </a:xfrm>
          <a:custGeom>
            <a:avLst/>
            <a:gdLst>
              <a:gd name="textAreaLeft" fmla="*/ 106920 w 252720"/>
              <a:gd name="textAreaRight" fmla="*/ 145800 w 252720"/>
              <a:gd name="textAreaTop" fmla="*/ 106200 h 250920"/>
              <a:gd name="textAreaBottom" fmla="*/ 14472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6" y="9136"/>
                </a:lnTo>
                <a:lnTo>
                  <a:pt x="10800" y="0"/>
                </a:lnTo>
                <a:lnTo>
                  <a:pt x="12464" y="9136"/>
                </a:lnTo>
                <a:lnTo>
                  <a:pt x="21600" y="10800"/>
                </a:lnTo>
                <a:lnTo>
                  <a:pt x="12464" y="12464"/>
                </a:lnTo>
                <a:lnTo>
                  <a:pt x="10800" y="21600"/>
                </a:lnTo>
                <a:lnTo>
                  <a:pt x="9136" y="12464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十字星 36"/>
          <p:cNvSpPr/>
          <p:nvPr/>
        </p:nvSpPr>
        <p:spPr>
          <a:xfrm rot="3240000">
            <a:off x="6048000" y="4873680"/>
            <a:ext cx="214200" cy="214200"/>
          </a:xfrm>
          <a:custGeom>
            <a:avLst/>
            <a:gdLst>
              <a:gd name="textAreaLeft" fmla="*/ 90720 w 214200"/>
              <a:gd name="textAreaRight" fmla="*/ 123480 w 214200"/>
              <a:gd name="textAreaTop" fmla="*/ 90720 h 214200"/>
              <a:gd name="textAreaBottom" fmla="*/ 12348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6" y="9136"/>
                </a:lnTo>
                <a:lnTo>
                  <a:pt x="10800" y="0"/>
                </a:lnTo>
                <a:lnTo>
                  <a:pt x="12464" y="9136"/>
                </a:lnTo>
                <a:lnTo>
                  <a:pt x="21600" y="10800"/>
                </a:lnTo>
                <a:lnTo>
                  <a:pt x="12464" y="12464"/>
                </a:lnTo>
                <a:lnTo>
                  <a:pt x="10800" y="21600"/>
                </a:lnTo>
                <a:lnTo>
                  <a:pt x="9136" y="12464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十字星 37"/>
          <p:cNvSpPr/>
          <p:nvPr/>
        </p:nvSpPr>
        <p:spPr>
          <a:xfrm rot="3240000">
            <a:off x="8072280" y="5286240"/>
            <a:ext cx="214560" cy="214560"/>
          </a:xfrm>
          <a:custGeom>
            <a:avLst/>
            <a:gdLst>
              <a:gd name="textAreaLeft" fmla="*/ 90720 w 214560"/>
              <a:gd name="textAreaRight" fmla="*/ 123840 w 214560"/>
              <a:gd name="textAreaTop" fmla="*/ 90720 h 214560"/>
              <a:gd name="textAreaBottom" fmla="*/ 123840 h 21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6" y="9136"/>
                </a:lnTo>
                <a:lnTo>
                  <a:pt x="10800" y="0"/>
                </a:lnTo>
                <a:lnTo>
                  <a:pt x="12464" y="9136"/>
                </a:lnTo>
                <a:lnTo>
                  <a:pt x="21600" y="10800"/>
                </a:lnTo>
                <a:lnTo>
                  <a:pt x="12464" y="12464"/>
                </a:lnTo>
                <a:lnTo>
                  <a:pt x="10800" y="21600"/>
                </a:lnTo>
                <a:lnTo>
                  <a:pt x="9136" y="12464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十字星 38"/>
          <p:cNvSpPr/>
          <p:nvPr/>
        </p:nvSpPr>
        <p:spPr>
          <a:xfrm rot="20160000">
            <a:off x="3742920" y="2952720"/>
            <a:ext cx="155520" cy="149400"/>
          </a:xfrm>
          <a:custGeom>
            <a:avLst/>
            <a:gdLst>
              <a:gd name="textAreaLeft" fmla="*/ 65880 w 155520"/>
              <a:gd name="textAreaRight" fmla="*/ 89640 w 155520"/>
              <a:gd name="textAreaTop" fmla="*/ 63000 h 149400"/>
              <a:gd name="textAreaBottom" fmla="*/ 86400 h 149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6" y="9136"/>
                </a:lnTo>
                <a:lnTo>
                  <a:pt x="10800" y="0"/>
                </a:lnTo>
                <a:lnTo>
                  <a:pt x="12464" y="9136"/>
                </a:lnTo>
                <a:lnTo>
                  <a:pt x="21600" y="10800"/>
                </a:lnTo>
                <a:lnTo>
                  <a:pt x="12464" y="12464"/>
                </a:lnTo>
                <a:lnTo>
                  <a:pt x="10800" y="21600"/>
                </a:lnTo>
                <a:lnTo>
                  <a:pt x="9136" y="12464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十字星 39"/>
          <p:cNvSpPr/>
          <p:nvPr/>
        </p:nvSpPr>
        <p:spPr>
          <a:xfrm rot="19860000">
            <a:off x="5094000" y="3492000"/>
            <a:ext cx="181080" cy="141480"/>
          </a:xfrm>
          <a:custGeom>
            <a:avLst/>
            <a:gdLst>
              <a:gd name="textAreaLeft" fmla="*/ 76680 w 181080"/>
              <a:gd name="textAreaRight" fmla="*/ 104400 w 181080"/>
              <a:gd name="textAreaTop" fmla="*/ 59760 h 141480"/>
              <a:gd name="textAreaBottom" fmla="*/ 81720 h 14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6" y="9136"/>
                </a:lnTo>
                <a:lnTo>
                  <a:pt x="10800" y="0"/>
                </a:lnTo>
                <a:lnTo>
                  <a:pt x="12464" y="9136"/>
                </a:lnTo>
                <a:lnTo>
                  <a:pt x="21600" y="10800"/>
                </a:lnTo>
                <a:lnTo>
                  <a:pt x="12464" y="12464"/>
                </a:lnTo>
                <a:lnTo>
                  <a:pt x="10800" y="21600"/>
                </a:lnTo>
                <a:lnTo>
                  <a:pt x="9136" y="12464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十字星 40"/>
          <p:cNvSpPr/>
          <p:nvPr/>
        </p:nvSpPr>
        <p:spPr>
          <a:xfrm rot="2520000">
            <a:off x="7195680" y="1838160"/>
            <a:ext cx="250920" cy="250920"/>
          </a:xfrm>
          <a:custGeom>
            <a:avLst/>
            <a:gdLst>
              <a:gd name="textAreaLeft" fmla="*/ 106200 w 250920"/>
              <a:gd name="textAreaRight" fmla="*/ 144720 w 250920"/>
              <a:gd name="textAreaTop" fmla="*/ 106200 h 250920"/>
              <a:gd name="textAreaBottom" fmla="*/ 14472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6" y="9136"/>
                </a:lnTo>
                <a:lnTo>
                  <a:pt x="10800" y="0"/>
                </a:lnTo>
                <a:lnTo>
                  <a:pt x="12464" y="9136"/>
                </a:lnTo>
                <a:lnTo>
                  <a:pt x="21600" y="10800"/>
                </a:lnTo>
                <a:lnTo>
                  <a:pt x="12464" y="12464"/>
                </a:lnTo>
                <a:lnTo>
                  <a:pt x="10800" y="21600"/>
                </a:lnTo>
                <a:lnTo>
                  <a:pt x="9136" y="12464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十字星 41"/>
          <p:cNvSpPr/>
          <p:nvPr/>
        </p:nvSpPr>
        <p:spPr>
          <a:xfrm rot="2580000">
            <a:off x="3041280" y="4966920"/>
            <a:ext cx="252360" cy="252360"/>
          </a:xfrm>
          <a:custGeom>
            <a:avLst/>
            <a:gdLst>
              <a:gd name="textAreaLeft" fmla="*/ 106560 w 252360"/>
              <a:gd name="textAreaRight" fmla="*/ 145800 w 252360"/>
              <a:gd name="textAreaTop" fmla="*/ 106560 h 252360"/>
              <a:gd name="textAreaBottom" fmla="*/ 145800 h 2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6" y="9136"/>
                </a:lnTo>
                <a:lnTo>
                  <a:pt x="10800" y="0"/>
                </a:lnTo>
                <a:lnTo>
                  <a:pt x="12464" y="9136"/>
                </a:lnTo>
                <a:lnTo>
                  <a:pt x="21600" y="10800"/>
                </a:lnTo>
                <a:lnTo>
                  <a:pt x="12464" y="12464"/>
                </a:lnTo>
                <a:lnTo>
                  <a:pt x="10800" y="21600"/>
                </a:lnTo>
                <a:lnTo>
                  <a:pt x="9136" y="12464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十字星 42"/>
          <p:cNvSpPr/>
          <p:nvPr/>
        </p:nvSpPr>
        <p:spPr>
          <a:xfrm rot="2580000">
            <a:off x="1152360" y="4535640"/>
            <a:ext cx="216000" cy="215640"/>
          </a:xfrm>
          <a:custGeom>
            <a:avLst/>
            <a:gdLst>
              <a:gd name="textAreaLeft" fmla="*/ 91440 w 216000"/>
              <a:gd name="textAreaRight" fmla="*/ 124560 w 216000"/>
              <a:gd name="textAreaTop" fmla="*/ 91080 h 215640"/>
              <a:gd name="textAreaBottom" fmla="*/ 1245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6" y="9136"/>
                </a:lnTo>
                <a:lnTo>
                  <a:pt x="10800" y="0"/>
                </a:lnTo>
                <a:lnTo>
                  <a:pt x="12464" y="9136"/>
                </a:lnTo>
                <a:lnTo>
                  <a:pt x="21600" y="10800"/>
                </a:lnTo>
                <a:lnTo>
                  <a:pt x="12464" y="12464"/>
                </a:lnTo>
                <a:lnTo>
                  <a:pt x="10800" y="21600"/>
                </a:lnTo>
                <a:lnTo>
                  <a:pt x="9136" y="12464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3"/>
          <p:cNvSpPr/>
          <p:nvPr/>
        </p:nvSpPr>
        <p:spPr>
          <a:xfrm>
            <a:off x="4316400" y="300996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结婚了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4"/>
          <p:cNvSpPr/>
          <p:nvPr/>
        </p:nvSpPr>
        <p:spPr>
          <a:xfrm>
            <a:off x="2214720" y="1484280"/>
            <a:ext cx="407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我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45" descr=""/>
          <p:cNvPicPr/>
          <p:nvPr/>
        </p:nvPicPr>
        <p:blipFill>
          <a:blip r:embed="rId22"/>
          <a:stretch/>
        </p:blipFill>
        <p:spPr>
          <a:xfrm>
            <a:off x="857160" y="5572080"/>
            <a:ext cx="857520" cy="71460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46" descr=""/>
          <p:cNvPicPr/>
          <p:nvPr/>
        </p:nvPicPr>
        <p:blipFill>
          <a:blip r:embed="rId23"/>
          <a:stretch/>
        </p:blipFill>
        <p:spPr>
          <a:xfrm>
            <a:off x="7199280" y="5572080"/>
            <a:ext cx="857160" cy="7146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28" descr=""/>
          <p:cNvPicPr/>
          <p:nvPr/>
        </p:nvPicPr>
        <p:blipFill>
          <a:blip r:embed="rId24"/>
          <a:stretch/>
        </p:blipFill>
        <p:spPr>
          <a:xfrm>
            <a:off x="1500120" y="5072040"/>
            <a:ext cx="642960" cy="57168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29" descr=""/>
          <p:cNvPicPr/>
          <p:nvPr/>
        </p:nvPicPr>
        <p:blipFill>
          <a:blip r:embed="rId25"/>
          <a:stretch/>
        </p:blipFill>
        <p:spPr>
          <a:xfrm>
            <a:off x="6572160" y="5143680"/>
            <a:ext cx="642960" cy="6426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6"/>
          <a:stretch/>
        </p:blipFill>
        <p:spPr>
          <a:xfrm>
            <a:off x="2500200" y="5540400"/>
            <a:ext cx="324000" cy="38880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27"/>
          <a:stretch/>
        </p:blipFill>
        <p:spPr>
          <a:xfrm>
            <a:off x="5715000" y="4786200"/>
            <a:ext cx="500040" cy="4287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2" descr=""/>
          <p:cNvPicPr/>
          <p:nvPr/>
        </p:nvPicPr>
        <p:blipFill>
          <a:blip r:embed="rId28"/>
          <a:stretch/>
        </p:blipFill>
        <p:spPr>
          <a:xfrm>
            <a:off x="3357720" y="5143680"/>
            <a:ext cx="357120" cy="4284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fad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162 C -0.02066 0.00185 -0.09167 0.01063 -0.12223 0.0222 C -0.15278 0.03376 -0.175 0.05017 -0.18299 0.06751 C -0.19045 0.08462 -0.18143 0.1052 -0.17014 0.12555 C -0.15903 0.14566 -0.12761 0.17665 -0.11615 0.19052 E">
                                      <p:cBhvr>
                                        <p:cTn id="386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5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50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50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500" autoRev="1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3" dur="50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50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50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50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50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500" autoRev="1" fill="hold"/>
                                        <p:tgtEl>
                                          <p:spTgt spid="1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2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24948 -0.18055 C -0.20643 -0.11666 -0.1632 -0.05254 -0.12969 -0.01574 C -0.09618 0.02084 -0.06979 0.03588 -0.04809 0.03843 C -0.02639 0.04098 -0.01302 0.02037 0.00052 -0.00023 E">
                                      <p:cBhvr>
                                        <p:cTn id="50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33872 -0.2125 C -0.29063 -0.14629 -0.24236 -0.07916 -0.19913 -0.04606 C -0.15573 -0.01342 -0.11233 -0.02361 -0.079 -0.01597 C -0.04584 -0.00833 -0.02309 -0.00439 2.5E-006 -3.33333E-006 E">
                                      <p:cBhvr>
                                        <p:cTn id="505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.23282 -0.23171 C 0.18751 -0.1824 0.14237 -0.1331 0.1158 -0.09999 C 0.08924 -0.06689 0.09289 -0.04999 0.07362 -0.03333 C 0.05435 -0.01666 0.02709 -0.00833 6.66667E-006 7.03704E-006 E">
                                      <p:cBhvr>
                                        <p:cTn id="509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37361 -0.27014 C -0.36216 -0.20625 -0.3507 -0.14213 -0.325 -0.10185 C -0.29931 -0.06157 -0.25729 -0.0412 -0.21979 -0.02824 C -0.18195 -0.01528 -0.13525 -0.02917 -0.09879 -0.02454 C -0.06198 -0.01991 -0.03108 -0.00995 2.77778E-006 1.85185E-006 E">
                                      <p:cBhvr>
                                        <p:cTn id="51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64531 -0.3385 C 0.59583 -0.30312 0.41163 -0.1815 0.34861 -0.1237 C 0.28559 -0.0659 0.29375 -0.02035 0.26701 0.00832 C 0.24028 0.03653 0.21042 0.03353 0.18802 0.0467 C 0.16563 0.05965 0.16267 0.08116 0.13281 0.08694 C 0.10295 0.09272 0.05608 0.0874 0.0092 0.08162 E">
                                      <p:cBhvr>
                                        <p:cTn id="517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21600000">
                                      <p:cBhvr>
                                        <p:cTn id="5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4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33421 0.45093 C -0.22588 0.40185 -0.11754 0.35301 -0.07362 0.2912 C -0.02969 0.2294 -0.08334 0.1294 -0.07101 0.08079 C -0.05869 0.03218 -0.01164 0.01366 -5E-006 4.07407E-006 E">
                                      <p:cBhvr>
                                        <p:cTn id="525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2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4816 -0.2912 C 0.46059 -0.1912 0.43958 -0.0912 0.38038 -0.04027 C 0.32118 0.01065 0.18507 0.00047 0.12639 0.01412 C 0.06771 0.02778 0.04878 0.04445 0.02778 0.04213 C 0.00677 0.03982 0.0033 0.01991 4.16667E-006 1.11111E-006 E">
                                      <p:cBhvr>
                                        <p:cTn id="533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53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5026 -0.14376 C 0.47483 -0.10834 0.44705 -0.07269 0.41441 -0.05255 C 0.38177 -0.03241 0.35226 -0.04144 0.3066 -0.02269 C 0.26094 -0.00394 0.19184 0.05601 0.1408 0.05972 C 0.08976 0.06342 0.04479 0.03171 -5.55556E-007 -7.77778E-006 E">
                                      <p:cBhvr>
                                        <p:cTn id="5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72639 0.1 C -0.5875 0.12084 -0.44861 0.1419 -0.35538 0.14908 C -0.26215 0.15625 -0.22639 0.16852 -0.16736 0.14375 C -0.10798 0.11898 -0.05399 0.05949 1.38889E-006 -3.33333E-006 E">
                                      <p:cBhvr>
                                        <p:cTn id="545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76 -0.59629 C -0.14149 -0.55115 -0.15538 -0.50601 -0.14218 -0.45764 C -0.12899 -0.40926 -0.06388 -0.35324 -0.04878 -0.30671 C -0.03385 -0.26018 -0.0427 -0.21875 -0.0526 -0.17893 C -0.06284 -0.13912 -0.09913 -0.10277 -0.10937 -0.06828 C -0.11927 -0.03379 -0.11805 0.01158 -0.11319 0.02824 C -0.1085 0.04491 -0.09947 0.03635 -0.08038 0.03172 C -0.06145 0.02709 -0.0309 0.01366 -8.33333E-007 -3.7037E-007 E">
                                      <p:cBhvr>
                                        <p:cTn id="549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23455 0.11621 C -0.21111 0.08565 -0.18768 0.05509 -0.15903 0.04445 C -0.13004 0.0338 -0.08802 0.06019 -0.06146 0.05278 C -0.03507 0.04537 -0.01754 0.02269 3.61111E-006 -2.22222E-006 E">
                                      <p:cBhvr>
                                        <p:cTn id="554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3342 0.07732 C -0.30538 0.04399 -0.27639 0.01089 -0.24201 5.55556E-006 C -0.20764 -0.01087 -0.1566 0.01042 -0.1276 0.01227 C -0.09861 0.01413 -0.08958 0.01274 -0.0684 0.01065 C -0.04722 0.00857 -0.02361 0.00417 -3.88889E-006 5.55556E-006 E">
                                      <p:cBhvr>
                                        <p:cTn id="558" dur="15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0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42882 0.12639 C -0.39844 0.09491 -0.36788 0.06366 -0.33542 0.0544 C -0.30295 0.04514 -0.26615 0.07384 -0.2342 0.07014 C -0.20243 0.06644 -0.17118 0.03496 -0.1434 0.03148 C -0.11563 0.02801 -0.09115 0.0544 -0.06701 0.04908 C -0.04306 0.04375 -0.0217 0.02176 2.22222E-006 -1.48148E-006 E">
                                      <p:cBhvr>
                                        <p:cTn id="562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36319 -0.32107 C 0.33281 -0.26852 0.3026 -0.21574 0.271 -0.18588 C 0.23941 -0.15602 0.20191 -0.16435 0.17378 -0.14213 C 0.14566 -0.11991 0.13159 -0.07616 0.1026 -0.05255 C 0.07361 -0.02894 0.0368 -0.01459 1.38889E-006 -1.11111E-006 E">
                                      <p:cBhvr>
                                        <p:cTn id="566" dur="15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25798 -0.37546 C 0.22309 -0.31227 0.18819 -0.24884 0.16718 -0.2 C 0.14618 -0.15115 0.14791 -0.11412 0.13159 -0.08264 C 0.11527 -0.05115 0.09166 -0.0243 0.06979 -0.01064 C 0.04791 0.00301 0.02395 0.00139 3.88889E-006 -4.07407E-006 E">
                                      <p:cBhvr>
                                        <p:cTn id="570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2" descr=""/>
          <p:cNvPicPr/>
          <p:nvPr/>
        </p:nvPicPr>
        <p:blipFill>
          <a:blip r:embed="rId2"/>
          <a:stretch/>
        </p:blipFill>
        <p:spPr>
          <a:xfrm rot="8761200">
            <a:off x="6605280" y="6908040"/>
            <a:ext cx="484200" cy="46836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3" descr=""/>
          <p:cNvPicPr/>
          <p:nvPr/>
        </p:nvPicPr>
        <p:blipFill>
          <a:blip r:embed="rId3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4" descr=""/>
          <p:cNvPicPr/>
          <p:nvPr/>
        </p:nvPicPr>
        <p:blipFill>
          <a:blip r:embed="rId4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5" descr=""/>
          <p:cNvPicPr/>
          <p:nvPr/>
        </p:nvPicPr>
        <p:blipFill>
          <a:blip r:embed="rId5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6" descr=""/>
          <p:cNvPicPr/>
          <p:nvPr/>
        </p:nvPicPr>
        <p:blipFill>
          <a:blip r:embed="rId6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7" descr=""/>
          <p:cNvPicPr/>
          <p:nvPr/>
        </p:nvPicPr>
        <p:blipFill>
          <a:blip r:embed="rId7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8" descr=""/>
          <p:cNvPicPr/>
          <p:nvPr/>
        </p:nvPicPr>
        <p:blipFill>
          <a:blip r:embed="rId8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9" descr=""/>
          <p:cNvPicPr/>
          <p:nvPr/>
        </p:nvPicPr>
        <p:blipFill>
          <a:blip r:embed="rId9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0" descr=""/>
          <p:cNvPicPr/>
          <p:nvPr/>
        </p:nvPicPr>
        <p:blipFill>
          <a:blip r:embed="rId10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1" descr=""/>
          <p:cNvPicPr/>
          <p:nvPr/>
        </p:nvPicPr>
        <p:blipFill>
          <a:blip r:embed="rId11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2" descr=""/>
          <p:cNvPicPr/>
          <p:nvPr/>
        </p:nvPicPr>
        <p:blipFill>
          <a:blip r:embed="rId12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3" descr=""/>
          <p:cNvPicPr/>
          <p:nvPr/>
        </p:nvPicPr>
        <p:blipFill>
          <a:blip r:embed="rId13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4" descr=""/>
          <p:cNvPicPr/>
          <p:nvPr/>
        </p:nvPicPr>
        <p:blipFill>
          <a:blip r:embed="rId14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5" descr=""/>
          <p:cNvPicPr/>
          <p:nvPr/>
        </p:nvPicPr>
        <p:blipFill>
          <a:blip r:embed="rId15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6" descr=""/>
          <p:cNvPicPr/>
          <p:nvPr/>
        </p:nvPicPr>
        <p:blipFill>
          <a:blip r:embed="rId16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7" descr=""/>
          <p:cNvPicPr/>
          <p:nvPr/>
        </p:nvPicPr>
        <p:blipFill>
          <a:blip r:embed="rId17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8" descr=""/>
          <p:cNvPicPr/>
          <p:nvPr/>
        </p:nvPicPr>
        <p:blipFill>
          <a:blip r:embed="rId18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19" descr=""/>
          <p:cNvPicPr/>
          <p:nvPr/>
        </p:nvPicPr>
        <p:blipFill>
          <a:blip r:embed="rId19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20" descr=""/>
          <p:cNvPicPr/>
          <p:nvPr/>
        </p:nvPicPr>
        <p:blipFill>
          <a:blip r:embed="rId20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21" descr=""/>
          <p:cNvPicPr/>
          <p:nvPr/>
        </p:nvPicPr>
        <p:blipFill>
          <a:blip r:embed="rId21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22" descr=""/>
          <p:cNvPicPr/>
          <p:nvPr/>
        </p:nvPicPr>
        <p:blipFill>
          <a:blip r:embed="rId22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23" descr=""/>
          <p:cNvPicPr/>
          <p:nvPr/>
        </p:nvPicPr>
        <p:blipFill>
          <a:blip r:embed="rId23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24" descr=""/>
          <p:cNvPicPr/>
          <p:nvPr/>
        </p:nvPicPr>
        <p:blipFill>
          <a:blip r:embed="rId24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25" descr=""/>
          <p:cNvPicPr/>
          <p:nvPr/>
        </p:nvPicPr>
        <p:blipFill>
          <a:blip r:embed="rId25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26" descr=""/>
          <p:cNvPicPr/>
          <p:nvPr/>
        </p:nvPicPr>
        <p:blipFill>
          <a:blip r:embed="rId26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27" descr=""/>
          <p:cNvPicPr/>
          <p:nvPr/>
        </p:nvPicPr>
        <p:blipFill>
          <a:blip r:embed="rId27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28" descr=""/>
          <p:cNvPicPr/>
          <p:nvPr/>
        </p:nvPicPr>
        <p:blipFill>
          <a:blip r:embed="rId28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29" descr=""/>
          <p:cNvPicPr/>
          <p:nvPr/>
        </p:nvPicPr>
        <p:blipFill>
          <a:blip r:embed="rId29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30" descr=""/>
          <p:cNvPicPr/>
          <p:nvPr/>
        </p:nvPicPr>
        <p:blipFill>
          <a:blip r:embed="rId30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31" descr=""/>
          <p:cNvPicPr/>
          <p:nvPr/>
        </p:nvPicPr>
        <p:blipFill>
          <a:blip r:embed="rId31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32" descr=""/>
          <p:cNvPicPr/>
          <p:nvPr/>
        </p:nvPicPr>
        <p:blipFill>
          <a:blip r:embed="rId32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33" descr=""/>
          <p:cNvPicPr/>
          <p:nvPr/>
        </p:nvPicPr>
        <p:blipFill>
          <a:blip r:embed="rId33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4" descr=""/>
          <p:cNvPicPr/>
          <p:nvPr/>
        </p:nvPicPr>
        <p:blipFill>
          <a:blip r:embed="rId34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35" descr=""/>
          <p:cNvPicPr/>
          <p:nvPr/>
        </p:nvPicPr>
        <p:blipFill>
          <a:blip r:embed="rId35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36" descr=""/>
          <p:cNvPicPr/>
          <p:nvPr/>
        </p:nvPicPr>
        <p:blipFill>
          <a:blip r:embed="rId36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37" descr=""/>
          <p:cNvPicPr/>
          <p:nvPr/>
        </p:nvPicPr>
        <p:blipFill>
          <a:blip r:embed="rId37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38" descr=""/>
          <p:cNvPicPr/>
          <p:nvPr/>
        </p:nvPicPr>
        <p:blipFill>
          <a:blip r:embed="rId38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39" descr=""/>
          <p:cNvPicPr/>
          <p:nvPr/>
        </p:nvPicPr>
        <p:blipFill>
          <a:blip r:embed="rId39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40" descr=""/>
          <p:cNvPicPr/>
          <p:nvPr/>
        </p:nvPicPr>
        <p:blipFill>
          <a:blip r:embed="rId40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41" descr=""/>
          <p:cNvPicPr/>
          <p:nvPr/>
        </p:nvPicPr>
        <p:blipFill>
          <a:blip r:embed="rId41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42" descr=""/>
          <p:cNvPicPr/>
          <p:nvPr/>
        </p:nvPicPr>
        <p:blipFill>
          <a:blip r:embed="rId42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43" descr=""/>
          <p:cNvPicPr/>
          <p:nvPr/>
        </p:nvPicPr>
        <p:blipFill>
          <a:blip r:embed="rId43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4" descr=""/>
          <p:cNvPicPr/>
          <p:nvPr/>
        </p:nvPicPr>
        <p:blipFill>
          <a:blip r:embed="rId44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45" descr=""/>
          <p:cNvPicPr/>
          <p:nvPr/>
        </p:nvPicPr>
        <p:blipFill>
          <a:blip r:embed="rId45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46" descr=""/>
          <p:cNvPicPr/>
          <p:nvPr/>
        </p:nvPicPr>
        <p:blipFill>
          <a:blip r:embed="rId46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47" descr=""/>
          <p:cNvPicPr/>
          <p:nvPr/>
        </p:nvPicPr>
        <p:blipFill>
          <a:blip r:embed="rId47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48" descr=""/>
          <p:cNvPicPr/>
          <p:nvPr/>
        </p:nvPicPr>
        <p:blipFill>
          <a:blip r:embed="rId48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49" descr=""/>
          <p:cNvPicPr/>
          <p:nvPr/>
        </p:nvPicPr>
        <p:blipFill>
          <a:blip r:embed="rId49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50" descr=""/>
          <p:cNvPicPr/>
          <p:nvPr/>
        </p:nvPicPr>
        <p:blipFill>
          <a:blip r:embed="rId50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51" descr=""/>
          <p:cNvPicPr/>
          <p:nvPr/>
        </p:nvPicPr>
        <p:blipFill>
          <a:blip r:embed="rId51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52" descr=""/>
          <p:cNvPicPr/>
          <p:nvPr/>
        </p:nvPicPr>
        <p:blipFill>
          <a:blip r:embed="rId52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53" descr=""/>
          <p:cNvPicPr/>
          <p:nvPr/>
        </p:nvPicPr>
        <p:blipFill>
          <a:blip r:embed="rId53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54" descr=""/>
          <p:cNvPicPr/>
          <p:nvPr/>
        </p:nvPicPr>
        <p:blipFill>
          <a:blip r:embed="rId54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55" descr=""/>
          <p:cNvPicPr/>
          <p:nvPr/>
        </p:nvPicPr>
        <p:blipFill>
          <a:blip r:embed="rId55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56" descr=""/>
          <p:cNvPicPr/>
          <p:nvPr/>
        </p:nvPicPr>
        <p:blipFill>
          <a:blip r:embed="rId56"/>
          <a:stretch/>
        </p:blipFill>
        <p:spPr>
          <a:xfrm rot="8761200">
            <a:off x="1622160" y="6908040"/>
            <a:ext cx="484200" cy="46836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57" descr=""/>
          <p:cNvPicPr/>
          <p:nvPr/>
        </p:nvPicPr>
        <p:blipFill>
          <a:blip r:embed="rId57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58" descr=""/>
          <p:cNvPicPr/>
          <p:nvPr/>
        </p:nvPicPr>
        <p:blipFill>
          <a:blip r:embed="rId58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59" descr=""/>
          <p:cNvPicPr/>
          <p:nvPr/>
        </p:nvPicPr>
        <p:blipFill>
          <a:blip r:embed="rId59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60" descr=""/>
          <p:cNvPicPr/>
          <p:nvPr/>
        </p:nvPicPr>
        <p:blipFill>
          <a:blip r:embed="rId60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61" descr=""/>
          <p:cNvPicPr/>
          <p:nvPr/>
        </p:nvPicPr>
        <p:blipFill>
          <a:blip r:embed="rId61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62" descr=""/>
          <p:cNvPicPr/>
          <p:nvPr/>
        </p:nvPicPr>
        <p:blipFill>
          <a:blip r:embed="rId62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63" descr=""/>
          <p:cNvPicPr/>
          <p:nvPr/>
        </p:nvPicPr>
        <p:blipFill>
          <a:blip r:embed="rId63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64" descr=""/>
          <p:cNvPicPr/>
          <p:nvPr/>
        </p:nvPicPr>
        <p:blipFill>
          <a:blip r:embed="rId64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65" descr=""/>
          <p:cNvPicPr/>
          <p:nvPr/>
        </p:nvPicPr>
        <p:blipFill>
          <a:blip r:embed="rId65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66" descr=""/>
          <p:cNvPicPr/>
          <p:nvPr/>
        </p:nvPicPr>
        <p:blipFill>
          <a:blip r:embed="rId66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67" descr=""/>
          <p:cNvPicPr/>
          <p:nvPr/>
        </p:nvPicPr>
        <p:blipFill>
          <a:blip r:embed="rId67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68" descr=""/>
          <p:cNvPicPr/>
          <p:nvPr/>
        </p:nvPicPr>
        <p:blipFill>
          <a:blip r:embed="rId68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69" descr=""/>
          <p:cNvPicPr/>
          <p:nvPr/>
        </p:nvPicPr>
        <p:blipFill>
          <a:blip r:embed="rId69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70" descr=""/>
          <p:cNvPicPr/>
          <p:nvPr/>
        </p:nvPicPr>
        <p:blipFill>
          <a:blip r:embed="rId70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71" descr=""/>
          <p:cNvPicPr/>
          <p:nvPr/>
        </p:nvPicPr>
        <p:blipFill>
          <a:blip r:embed="rId71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72" descr=""/>
          <p:cNvPicPr/>
          <p:nvPr/>
        </p:nvPicPr>
        <p:blipFill>
          <a:blip r:embed="rId72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73" descr=""/>
          <p:cNvPicPr/>
          <p:nvPr/>
        </p:nvPicPr>
        <p:blipFill>
          <a:blip r:embed="rId73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74" descr=""/>
          <p:cNvPicPr/>
          <p:nvPr/>
        </p:nvPicPr>
        <p:blipFill>
          <a:blip r:embed="rId74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75" descr=""/>
          <p:cNvPicPr/>
          <p:nvPr/>
        </p:nvPicPr>
        <p:blipFill>
          <a:blip r:embed="rId75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76" descr=""/>
          <p:cNvPicPr/>
          <p:nvPr/>
        </p:nvPicPr>
        <p:blipFill>
          <a:blip r:embed="rId76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77" descr=""/>
          <p:cNvPicPr/>
          <p:nvPr/>
        </p:nvPicPr>
        <p:blipFill>
          <a:blip r:embed="rId77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78" descr=""/>
          <p:cNvPicPr/>
          <p:nvPr/>
        </p:nvPicPr>
        <p:blipFill>
          <a:blip r:embed="rId78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79" descr=""/>
          <p:cNvPicPr/>
          <p:nvPr/>
        </p:nvPicPr>
        <p:blipFill>
          <a:blip r:embed="rId79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80" descr=""/>
          <p:cNvPicPr/>
          <p:nvPr/>
        </p:nvPicPr>
        <p:blipFill>
          <a:blip r:embed="rId80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81" descr=""/>
          <p:cNvPicPr/>
          <p:nvPr/>
        </p:nvPicPr>
        <p:blipFill>
          <a:blip r:embed="rId81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82" descr=""/>
          <p:cNvPicPr/>
          <p:nvPr/>
        </p:nvPicPr>
        <p:blipFill>
          <a:blip r:embed="rId82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83" descr=""/>
          <p:cNvPicPr/>
          <p:nvPr/>
        </p:nvPicPr>
        <p:blipFill>
          <a:blip r:embed="rId83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84" descr=""/>
          <p:cNvPicPr/>
          <p:nvPr/>
        </p:nvPicPr>
        <p:blipFill>
          <a:blip r:embed="rId84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85" descr=""/>
          <p:cNvPicPr/>
          <p:nvPr/>
        </p:nvPicPr>
        <p:blipFill>
          <a:blip r:embed="rId85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86" descr=""/>
          <p:cNvPicPr/>
          <p:nvPr/>
        </p:nvPicPr>
        <p:blipFill>
          <a:blip r:embed="rId86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87" descr=""/>
          <p:cNvPicPr/>
          <p:nvPr/>
        </p:nvPicPr>
        <p:blipFill>
          <a:blip r:embed="rId87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88" descr=""/>
          <p:cNvPicPr/>
          <p:nvPr/>
        </p:nvPicPr>
        <p:blipFill>
          <a:blip r:embed="rId88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89" descr=""/>
          <p:cNvPicPr/>
          <p:nvPr/>
        </p:nvPicPr>
        <p:blipFill>
          <a:blip r:embed="rId89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90" descr=""/>
          <p:cNvPicPr/>
          <p:nvPr/>
        </p:nvPicPr>
        <p:blipFill>
          <a:blip r:embed="rId90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91" descr=""/>
          <p:cNvPicPr/>
          <p:nvPr/>
        </p:nvPicPr>
        <p:blipFill>
          <a:blip r:embed="rId91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92" descr=""/>
          <p:cNvPicPr/>
          <p:nvPr/>
        </p:nvPicPr>
        <p:blipFill>
          <a:blip r:embed="rId92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93" descr=""/>
          <p:cNvPicPr/>
          <p:nvPr/>
        </p:nvPicPr>
        <p:blipFill>
          <a:blip r:embed="rId93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94" descr=""/>
          <p:cNvPicPr/>
          <p:nvPr/>
        </p:nvPicPr>
        <p:blipFill>
          <a:blip r:embed="rId94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95" descr=""/>
          <p:cNvPicPr/>
          <p:nvPr/>
        </p:nvPicPr>
        <p:blipFill>
          <a:blip r:embed="rId95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96" descr=""/>
          <p:cNvPicPr/>
          <p:nvPr/>
        </p:nvPicPr>
        <p:blipFill>
          <a:blip r:embed="rId96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97" descr=""/>
          <p:cNvPicPr/>
          <p:nvPr/>
        </p:nvPicPr>
        <p:blipFill>
          <a:blip r:embed="rId97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98" descr=""/>
          <p:cNvPicPr/>
          <p:nvPr/>
        </p:nvPicPr>
        <p:blipFill>
          <a:blip r:embed="rId98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99" descr=""/>
          <p:cNvPicPr/>
          <p:nvPr/>
        </p:nvPicPr>
        <p:blipFill>
          <a:blip r:embed="rId99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100" descr=""/>
          <p:cNvPicPr/>
          <p:nvPr/>
        </p:nvPicPr>
        <p:blipFill>
          <a:blip r:embed="rId100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101" descr=""/>
          <p:cNvPicPr/>
          <p:nvPr/>
        </p:nvPicPr>
        <p:blipFill>
          <a:blip r:embed="rId101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102" descr=""/>
          <p:cNvPicPr/>
          <p:nvPr/>
        </p:nvPicPr>
        <p:blipFill>
          <a:blip r:embed="rId102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103" descr=""/>
          <p:cNvPicPr/>
          <p:nvPr/>
        </p:nvPicPr>
        <p:blipFill>
          <a:blip r:embed="rId103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104" descr=""/>
          <p:cNvPicPr/>
          <p:nvPr/>
        </p:nvPicPr>
        <p:blipFill>
          <a:blip r:embed="rId104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105" descr=""/>
          <p:cNvPicPr/>
          <p:nvPr/>
        </p:nvPicPr>
        <p:blipFill>
          <a:blip r:embed="rId105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106" descr=""/>
          <p:cNvPicPr/>
          <p:nvPr/>
        </p:nvPicPr>
        <p:blipFill>
          <a:blip r:embed="rId106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107" descr=""/>
          <p:cNvPicPr/>
          <p:nvPr/>
        </p:nvPicPr>
        <p:blipFill>
          <a:blip r:embed="rId107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108" descr=""/>
          <p:cNvPicPr/>
          <p:nvPr/>
        </p:nvPicPr>
        <p:blipFill>
          <a:blip r:embed="rId108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109" descr=""/>
          <p:cNvPicPr/>
          <p:nvPr/>
        </p:nvPicPr>
        <p:blipFill>
          <a:blip r:embed="rId109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114" descr=""/>
          <p:cNvPicPr/>
          <p:nvPr/>
        </p:nvPicPr>
        <p:blipFill>
          <a:blip r:embed="rId110"/>
          <a:stretch/>
        </p:blipFill>
        <p:spPr>
          <a:xfrm rot="8761200">
            <a:off x="4862160" y="6908040"/>
            <a:ext cx="484200" cy="46836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115" descr=""/>
          <p:cNvPicPr/>
          <p:nvPr/>
        </p:nvPicPr>
        <p:blipFill>
          <a:blip r:embed="rId111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116" descr=""/>
          <p:cNvPicPr/>
          <p:nvPr/>
        </p:nvPicPr>
        <p:blipFill>
          <a:blip r:embed="rId112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117" descr=""/>
          <p:cNvPicPr/>
          <p:nvPr/>
        </p:nvPicPr>
        <p:blipFill>
          <a:blip r:embed="rId113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118" descr=""/>
          <p:cNvPicPr/>
          <p:nvPr/>
        </p:nvPicPr>
        <p:blipFill>
          <a:blip r:embed="rId114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119" descr=""/>
          <p:cNvPicPr/>
          <p:nvPr/>
        </p:nvPicPr>
        <p:blipFill>
          <a:blip r:embed="rId115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120" descr=""/>
          <p:cNvPicPr/>
          <p:nvPr/>
        </p:nvPicPr>
        <p:blipFill>
          <a:blip r:embed="rId116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121" descr=""/>
          <p:cNvPicPr/>
          <p:nvPr/>
        </p:nvPicPr>
        <p:blipFill>
          <a:blip r:embed="rId117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122" descr=""/>
          <p:cNvPicPr/>
          <p:nvPr/>
        </p:nvPicPr>
        <p:blipFill>
          <a:blip r:embed="rId118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123" descr=""/>
          <p:cNvPicPr/>
          <p:nvPr/>
        </p:nvPicPr>
        <p:blipFill>
          <a:blip r:embed="rId119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124" descr=""/>
          <p:cNvPicPr/>
          <p:nvPr/>
        </p:nvPicPr>
        <p:blipFill>
          <a:blip r:embed="rId120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125" descr=""/>
          <p:cNvPicPr/>
          <p:nvPr/>
        </p:nvPicPr>
        <p:blipFill>
          <a:blip r:embed="rId121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126" descr=""/>
          <p:cNvPicPr/>
          <p:nvPr/>
        </p:nvPicPr>
        <p:blipFill>
          <a:blip r:embed="rId122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127" descr=""/>
          <p:cNvPicPr/>
          <p:nvPr/>
        </p:nvPicPr>
        <p:blipFill>
          <a:blip r:embed="rId123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128" descr=""/>
          <p:cNvPicPr/>
          <p:nvPr/>
        </p:nvPicPr>
        <p:blipFill>
          <a:blip r:embed="rId124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129" descr=""/>
          <p:cNvPicPr/>
          <p:nvPr/>
        </p:nvPicPr>
        <p:blipFill>
          <a:blip r:embed="rId125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130" descr=""/>
          <p:cNvPicPr/>
          <p:nvPr/>
        </p:nvPicPr>
        <p:blipFill>
          <a:blip r:embed="rId126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131" descr=""/>
          <p:cNvPicPr/>
          <p:nvPr/>
        </p:nvPicPr>
        <p:blipFill>
          <a:blip r:embed="rId127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132" descr=""/>
          <p:cNvPicPr/>
          <p:nvPr/>
        </p:nvPicPr>
        <p:blipFill>
          <a:blip r:embed="rId128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133" descr=""/>
          <p:cNvPicPr/>
          <p:nvPr/>
        </p:nvPicPr>
        <p:blipFill>
          <a:blip r:embed="rId129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134" descr=""/>
          <p:cNvPicPr/>
          <p:nvPr/>
        </p:nvPicPr>
        <p:blipFill>
          <a:blip r:embed="rId130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135" descr=""/>
          <p:cNvPicPr/>
          <p:nvPr/>
        </p:nvPicPr>
        <p:blipFill>
          <a:blip r:embed="rId131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36" descr=""/>
          <p:cNvPicPr/>
          <p:nvPr/>
        </p:nvPicPr>
        <p:blipFill>
          <a:blip r:embed="rId132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37" descr=""/>
          <p:cNvPicPr/>
          <p:nvPr/>
        </p:nvPicPr>
        <p:blipFill>
          <a:blip r:embed="rId133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138" descr=""/>
          <p:cNvPicPr/>
          <p:nvPr/>
        </p:nvPicPr>
        <p:blipFill>
          <a:blip r:embed="rId134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139" descr=""/>
          <p:cNvPicPr/>
          <p:nvPr/>
        </p:nvPicPr>
        <p:blipFill>
          <a:blip r:embed="rId135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140" descr=""/>
          <p:cNvPicPr/>
          <p:nvPr/>
        </p:nvPicPr>
        <p:blipFill>
          <a:blip r:embed="rId136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41" descr=""/>
          <p:cNvPicPr/>
          <p:nvPr/>
        </p:nvPicPr>
        <p:blipFill>
          <a:blip r:embed="rId137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42" descr=""/>
          <p:cNvPicPr/>
          <p:nvPr/>
        </p:nvPicPr>
        <p:blipFill>
          <a:blip r:embed="rId138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143" descr=""/>
          <p:cNvPicPr/>
          <p:nvPr/>
        </p:nvPicPr>
        <p:blipFill>
          <a:blip r:embed="rId139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44" descr=""/>
          <p:cNvPicPr/>
          <p:nvPr/>
        </p:nvPicPr>
        <p:blipFill>
          <a:blip r:embed="rId140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145" descr=""/>
          <p:cNvPicPr/>
          <p:nvPr/>
        </p:nvPicPr>
        <p:blipFill>
          <a:blip r:embed="rId141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146" descr=""/>
          <p:cNvPicPr/>
          <p:nvPr/>
        </p:nvPicPr>
        <p:blipFill>
          <a:blip r:embed="rId142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147" descr=""/>
          <p:cNvPicPr/>
          <p:nvPr/>
        </p:nvPicPr>
        <p:blipFill>
          <a:blip r:embed="rId143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148" descr=""/>
          <p:cNvPicPr/>
          <p:nvPr/>
        </p:nvPicPr>
        <p:blipFill>
          <a:blip r:embed="rId144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149" descr=""/>
          <p:cNvPicPr/>
          <p:nvPr/>
        </p:nvPicPr>
        <p:blipFill>
          <a:blip r:embed="rId145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150" descr=""/>
          <p:cNvPicPr/>
          <p:nvPr/>
        </p:nvPicPr>
        <p:blipFill>
          <a:blip r:embed="rId146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15" name="图片 151" descr=""/>
          <p:cNvPicPr/>
          <p:nvPr/>
        </p:nvPicPr>
        <p:blipFill>
          <a:blip r:embed="rId147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152" descr=""/>
          <p:cNvPicPr/>
          <p:nvPr/>
        </p:nvPicPr>
        <p:blipFill>
          <a:blip r:embed="rId148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153" descr=""/>
          <p:cNvPicPr/>
          <p:nvPr/>
        </p:nvPicPr>
        <p:blipFill>
          <a:blip r:embed="rId149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154" descr=""/>
          <p:cNvPicPr/>
          <p:nvPr/>
        </p:nvPicPr>
        <p:blipFill>
          <a:blip r:embed="rId150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19" name="图片 155" descr=""/>
          <p:cNvPicPr/>
          <p:nvPr/>
        </p:nvPicPr>
        <p:blipFill>
          <a:blip r:embed="rId151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156" descr=""/>
          <p:cNvPicPr/>
          <p:nvPr/>
        </p:nvPicPr>
        <p:blipFill>
          <a:blip r:embed="rId152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21" name="图片 157" descr=""/>
          <p:cNvPicPr/>
          <p:nvPr/>
        </p:nvPicPr>
        <p:blipFill>
          <a:blip r:embed="rId153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22" name="图片 158" descr=""/>
          <p:cNvPicPr/>
          <p:nvPr/>
        </p:nvPicPr>
        <p:blipFill>
          <a:blip r:embed="rId154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23" name="图片 159" descr=""/>
          <p:cNvPicPr/>
          <p:nvPr/>
        </p:nvPicPr>
        <p:blipFill>
          <a:blip r:embed="rId155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160" descr=""/>
          <p:cNvPicPr/>
          <p:nvPr/>
        </p:nvPicPr>
        <p:blipFill>
          <a:blip r:embed="rId156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161" descr=""/>
          <p:cNvPicPr/>
          <p:nvPr/>
        </p:nvPicPr>
        <p:blipFill>
          <a:blip r:embed="rId157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162" descr=""/>
          <p:cNvPicPr/>
          <p:nvPr/>
        </p:nvPicPr>
        <p:blipFill>
          <a:blip r:embed="rId158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163" descr=""/>
          <p:cNvPicPr/>
          <p:nvPr/>
        </p:nvPicPr>
        <p:blipFill>
          <a:blip r:embed="rId159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64" descr=""/>
          <p:cNvPicPr/>
          <p:nvPr/>
        </p:nvPicPr>
        <p:blipFill>
          <a:blip r:embed="rId160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165" descr=""/>
          <p:cNvPicPr/>
          <p:nvPr/>
        </p:nvPicPr>
        <p:blipFill>
          <a:blip r:embed="rId161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6" descr=""/>
          <p:cNvPicPr/>
          <p:nvPr/>
        </p:nvPicPr>
        <p:blipFill>
          <a:blip r:embed="rId162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67" descr=""/>
          <p:cNvPicPr/>
          <p:nvPr/>
        </p:nvPicPr>
        <p:blipFill>
          <a:blip r:embed="rId163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68" descr=""/>
          <p:cNvPicPr/>
          <p:nvPr/>
        </p:nvPicPr>
        <p:blipFill>
          <a:blip r:embed="rId164"/>
          <a:stretch/>
        </p:blipFill>
        <p:spPr>
          <a:xfrm rot="8761200">
            <a:off x="2990520" y="6908040"/>
            <a:ext cx="484200" cy="46836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169" descr=""/>
          <p:cNvPicPr/>
          <p:nvPr/>
        </p:nvPicPr>
        <p:blipFill>
          <a:blip r:embed="rId165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170" descr=""/>
          <p:cNvPicPr/>
          <p:nvPr/>
        </p:nvPicPr>
        <p:blipFill>
          <a:blip r:embed="rId166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171" descr=""/>
          <p:cNvPicPr/>
          <p:nvPr/>
        </p:nvPicPr>
        <p:blipFill>
          <a:blip r:embed="rId167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172" descr=""/>
          <p:cNvPicPr/>
          <p:nvPr/>
        </p:nvPicPr>
        <p:blipFill>
          <a:blip r:embed="rId168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173" descr=""/>
          <p:cNvPicPr/>
          <p:nvPr/>
        </p:nvPicPr>
        <p:blipFill>
          <a:blip r:embed="rId169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38" name="图片 174" descr=""/>
          <p:cNvPicPr/>
          <p:nvPr/>
        </p:nvPicPr>
        <p:blipFill>
          <a:blip r:embed="rId170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175" descr=""/>
          <p:cNvPicPr/>
          <p:nvPr/>
        </p:nvPicPr>
        <p:blipFill>
          <a:blip r:embed="rId171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40" name="图片 176" descr=""/>
          <p:cNvPicPr/>
          <p:nvPr/>
        </p:nvPicPr>
        <p:blipFill>
          <a:blip r:embed="rId172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41" name="图片 177" descr=""/>
          <p:cNvPicPr/>
          <p:nvPr/>
        </p:nvPicPr>
        <p:blipFill>
          <a:blip r:embed="rId173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42" name="图片 178" descr=""/>
          <p:cNvPicPr/>
          <p:nvPr/>
        </p:nvPicPr>
        <p:blipFill>
          <a:blip r:embed="rId174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179" descr=""/>
          <p:cNvPicPr/>
          <p:nvPr/>
        </p:nvPicPr>
        <p:blipFill>
          <a:blip r:embed="rId175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180" descr=""/>
          <p:cNvPicPr/>
          <p:nvPr/>
        </p:nvPicPr>
        <p:blipFill>
          <a:blip r:embed="rId176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81" descr=""/>
          <p:cNvPicPr/>
          <p:nvPr/>
        </p:nvPicPr>
        <p:blipFill>
          <a:blip r:embed="rId177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82" descr=""/>
          <p:cNvPicPr/>
          <p:nvPr/>
        </p:nvPicPr>
        <p:blipFill>
          <a:blip r:embed="rId178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47" name="图片 183" descr=""/>
          <p:cNvPicPr/>
          <p:nvPr/>
        </p:nvPicPr>
        <p:blipFill>
          <a:blip r:embed="rId179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48" name="图片 184" descr=""/>
          <p:cNvPicPr/>
          <p:nvPr/>
        </p:nvPicPr>
        <p:blipFill>
          <a:blip r:embed="rId180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185" descr=""/>
          <p:cNvPicPr/>
          <p:nvPr/>
        </p:nvPicPr>
        <p:blipFill>
          <a:blip r:embed="rId181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186" descr=""/>
          <p:cNvPicPr/>
          <p:nvPr/>
        </p:nvPicPr>
        <p:blipFill>
          <a:blip r:embed="rId182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187" descr=""/>
          <p:cNvPicPr/>
          <p:nvPr/>
        </p:nvPicPr>
        <p:blipFill>
          <a:blip r:embed="rId183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188" descr=""/>
          <p:cNvPicPr/>
          <p:nvPr/>
        </p:nvPicPr>
        <p:blipFill>
          <a:blip r:embed="rId184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89" descr=""/>
          <p:cNvPicPr/>
          <p:nvPr/>
        </p:nvPicPr>
        <p:blipFill>
          <a:blip r:embed="rId185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190" descr=""/>
          <p:cNvPicPr/>
          <p:nvPr/>
        </p:nvPicPr>
        <p:blipFill>
          <a:blip r:embed="rId186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191" descr=""/>
          <p:cNvPicPr/>
          <p:nvPr/>
        </p:nvPicPr>
        <p:blipFill>
          <a:blip r:embed="rId187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56" name="图片 192" descr=""/>
          <p:cNvPicPr/>
          <p:nvPr/>
        </p:nvPicPr>
        <p:blipFill>
          <a:blip r:embed="rId188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193" descr=""/>
          <p:cNvPicPr/>
          <p:nvPr/>
        </p:nvPicPr>
        <p:blipFill>
          <a:blip r:embed="rId189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194" descr=""/>
          <p:cNvPicPr/>
          <p:nvPr/>
        </p:nvPicPr>
        <p:blipFill>
          <a:blip r:embed="rId190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195" descr=""/>
          <p:cNvPicPr/>
          <p:nvPr/>
        </p:nvPicPr>
        <p:blipFill>
          <a:blip r:embed="rId191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196" descr=""/>
          <p:cNvPicPr/>
          <p:nvPr/>
        </p:nvPicPr>
        <p:blipFill>
          <a:blip r:embed="rId192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197" descr=""/>
          <p:cNvPicPr/>
          <p:nvPr/>
        </p:nvPicPr>
        <p:blipFill>
          <a:blip r:embed="rId193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62" name="图片 198" descr=""/>
          <p:cNvPicPr/>
          <p:nvPr/>
        </p:nvPicPr>
        <p:blipFill>
          <a:blip r:embed="rId194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199" descr=""/>
          <p:cNvPicPr/>
          <p:nvPr/>
        </p:nvPicPr>
        <p:blipFill>
          <a:blip r:embed="rId195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200" descr=""/>
          <p:cNvPicPr/>
          <p:nvPr/>
        </p:nvPicPr>
        <p:blipFill>
          <a:blip r:embed="rId196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201" descr=""/>
          <p:cNvPicPr/>
          <p:nvPr/>
        </p:nvPicPr>
        <p:blipFill>
          <a:blip r:embed="rId197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202" descr=""/>
          <p:cNvPicPr/>
          <p:nvPr/>
        </p:nvPicPr>
        <p:blipFill>
          <a:blip r:embed="rId198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203" descr=""/>
          <p:cNvPicPr/>
          <p:nvPr/>
        </p:nvPicPr>
        <p:blipFill>
          <a:blip r:embed="rId199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204" descr=""/>
          <p:cNvPicPr/>
          <p:nvPr/>
        </p:nvPicPr>
        <p:blipFill>
          <a:blip r:embed="rId200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205" descr=""/>
          <p:cNvPicPr/>
          <p:nvPr/>
        </p:nvPicPr>
        <p:blipFill>
          <a:blip r:embed="rId201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206" descr=""/>
          <p:cNvPicPr/>
          <p:nvPr/>
        </p:nvPicPr>
        <p:blipFill>
          <a:blip r:embed="rId202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207" descr=""/>
          <p:cNvPicPr/>
          <p:nvPr/>
        </p:nvPicPr>
        <p:blipFill>
          <a:blip r:embed="rId203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208" descr=""/>
          <p:cNvPicPr/>
          <p:nvPr/>
        </p:nvPicPr>
        <p:blipFill>
          <a:blip r:embed="rId204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209" descr=""/>
          <p:cNvPicPr/>
          <p:nvPr/>
        </p:nvPicPr>
        <p:blipFill>
          <a:blip r:embed="rId205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210" descr=""/>
          <p:cNvPicPr/>
          <p:nvPr/>
        </p:nvPicPr>
        <p:blipFill>
          <a:blip r:embed="rId206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75" name="图片 211" descr=""/>
          <p:cNvPicPr/>
          <p:nvPr/>
        </p:nvPicPr>
        <p:blipFill>
          <a:blip r:embed="rId207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212" descr=""/>
          <p:cNvPicPr/>
          <p:nvPr/>
        </p:nvPicPr>
        <p:blipFill>
          <a:blip r:embed="rId208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213" descr=""/>
          <p:cNvPicPr/>
          <p:nvPr/>
        </p:nvPicPr>
        <p:blipFill>
          <a:blip r:embed="rId209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214" descr=""/>
          <p:cNvPicPr/>
          <p:nvPr/>
        </p:nvPicPr>
        <p:blipFill>
          <a:blip r:embed="rId210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215" descr=""/>
          <p:cNvPicPr/>
          <p:nvPr/>
        </p:nvPicPr>
        <p:blipFill>
          <a:blip r:embed="rId211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216" descr=""/>
          <p:cNvPicPr/>
          <p:nvPr/>
        </p:nvPicPr>
        <p:blipFill>
          <a:blip r:embed="rId212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217" descr=""/>
          <p:cNvPicPr/>
          <p:nvPr/>
        </p:nvPicPr>
        <p:blipFill>
          <a:blip r:embed="rId213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18" descr=""/>
          <p:cNvPicPr/>
          <p:nvPr/>
        </p:nvPicPr>
        <p:blipFill>
          <a:blip r:embed="rId214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83" name="图片 219" descr=""/>
          <p:cNvPicPr/>
          <p:nvPr/>
        </p:nvPicPr>
        <p:blipFill>
          <a:blip r:embed="rId215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84" name="图片 220" descr=""/>
          <p:cNvPicPr/>
          <p:nvPr/>
        </p:nvPicPr>
        <p:blipFill>
          <a:blip r:embed="rId216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85" name="图片 221" descr=""/>
          <p:cNvPicPr/>
          <p:nvPr/>
        </p:nvPicPr>
        <p:blipFill>
          <a:blip r:embed="rId217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222" descr=""/>
          <p:cNvPicPr/>
          <p:nvPr/>
        </p:nvPicPr>
        <p:blipFill>
          <a:blip r:embed="rId218"/>
          <a:stretch/>
        </p:blipFill>
        <p:spPr>
          <a:xfrm>
            <a:off x="6026040" y="329256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223" descr=""/>
          <p:cNvPicPr/>
          <p:nvPr/>
        </p:nvPicPr>
        <p:blipFill>
          <a:blip r:embed="rId219"/>
          <a:stretch/>
        </p:blipFill>
        <p:spPr>
          <a:xfrm>
            <a:off x="2205000" y="385272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224" descr=""/>
          <p:cNvPicPr/>
          <p:nvPr/>
        </p:nvPicPr>
        <p:blipFill>
          <a:blip r:embed="rId220"/>
          <a:stretch/>
        </p:blipFill>
        <p:spPr>
          <a:xfrm>
            <a:off x="4487760" y="415620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389" name="图片 225" descr=""/>
          <p:cNvPicPr/>
          <p:nvPr/>
        </p:nvPicPr>
        <p:blipFill>
          <a:blip r:embed="rId221"/>
          <a:stretch/>
        </p:blipFill>
        <p:spPr>
          <a:xfrm>
            <a:off x="3919680" y="3219480"/>
            <a:ext cx="291960" cy="293760"/>
          </a:xfrm>
          <a:prstGeom prst="rect">
            <a:avLst/>
          </a:prstGeom>
          <a:ln w="0">
            <a:noFill/>
          </a:ln>
        </p:spPr>
      </p:pic>
      <p:pic>
        <p:nvPicPr>
          <p:cNvPr id="390" name="图片 226" descr=""/>
          <p:cNvPicPr/>
          <p:nvPr/>
        </p:nvPicPr>
        <p:blipFill>
          <a:blip r:embed="rId222"/>
          <a:stretch/>
        </p:blipFill>
        <p:spPr>
          <a:xfrm>
            <a:off x="8726400" y="4152960"/>
            <a:ext cx="276480" cy="277920"/>
          </a:xfrm>
          <a:prstGeom prst="rect">
            <a:avLst/>
          </a:prstGeom>
          <a:ln w="0">
            <a:noFill/>
          </a:ln>
        </p:spPr>
      </p:pic>
      <p:pic>
        <p:nvPicPr>
          <p:cNvPr id="391" name="图片 227" descr=""/>
          <p:cNvPicPr/>
          <p:nvPr/>
        </p:nvPicPr>
        <p:blipFill>
          <a:blip r:embed="rId223"/>
          <a:stretch/>
        </p:blipFill>
        <p:spPr>
          <a:xfrm>
            <a:off x="7707240" y="4167360"/>
            <a:ext cx="276120" cy="276120"/>
          </a:xfrm>
          <a:prstGeom prst="rect">
            <a:avLst/>
          </a:prstGeom>
          <a:ln w="0">
            <a:noFill/>
          </a:ln>
        </p:spPr>
      </p:pic>
      <p:pic>
        <p:nvPicPr>
          <p:cNvPr id="392" name="图片 228" descr=""/>
          <p:cNvPicPr/>
          <p:nvPr/>
        </p:nvPicPr>
        <p:blipFill>
          <a:blip r:embed="rId224"/>
          <a:stretch/>
        </p:blipFill>
        <p:spPr>
          <a:xfrm>
            <a:off x="7236000" y="4371840"/>
            <a:ext cx="276120" cy="277920"/>
          </a:xfrm>
          <a:prstGeom prst="rect">
            <a:avLst/>
          </a:prstGeom>
          <a:ln w="0">
            <a:noFill/>
          </a:ln>
        </p:spPr>
      </p:pic>
      <p:pic>
        <p:nvPicPr>
          <p:cNvPr id="393" name="图片 229" descr=""/>
          <p:cNvPicPr/>
          <p:nvPr/>
        </p:nvPicPr>
        <p:blipFill>
          <a:blip r:embed="rId225"/>
          <a:stretch/>
        </p:blipFill>
        <p:spPr>
          <a:xfrm>
            <a:off x="3029040" y="4051440"/>
            <a:ext cx="203040" cy="203040"/>
          </a:xfrm>
          <a:prstGeom prst="rect">
            <a:avLst/>
          </a:prstGeom>
          <a:ln w="0">
            <a:noFill/>
          </a:ln>
        </p:spPr>
      </p:pic>
      <p:pic>
        <p:nvPicPr>
          <p:cNvPr id="394" name="图片 230" descr=""/>
          <p:cNvPicPr/>
          <p:nvPr/>
        </p:nvPicPr>
        <p:blipFill>
          <a:blip r:embed="rId226"/>
          <a:stretch/>
        </p:blipFill>
        <p:spPr>
          <a:xfrm>
            <a:off x="3355920" y="3852720"/>
            <a:ext cx="203400" cy="204840"/>
          </a:xfrm>
          <a:prstGeom prst="rect">
            <a:avLst/>
          </a:prstGeom>
          <a:ln w="0">
            <a:noFill/>
          </a:ln>
        </p:spPr>
      </p:pic>
      <p:pic>
        <p:nvPicPr>
          <p:cNvPr id="395" name="图片 231" descr=""/>
          <p:cNvPicPr/>
          <p:nvPr/>
        </p:nvPicPr>
        <p:blipFill>
          <a:blip r:embed="rId227"/>
          <a:stretch/>
        </p:blipFill>
        <p:spPr>
          <a:xfrm>
            <a:off x="4408560" y="4033800"/>
            <a:ext cx="203040" cy="204840"/>
          </a:xfrm>
          <a:prstGeom prst="rect">
            <a:avLst/>
          </a:prstGeom>
          <a:ln w="0">
            <a:noFill/>
          </a:ln>
        </p:spPr>
      </p:pic>
      <p:pic>
        <p:nvPicPr>
          <p:cNvPr id="396" name="图片 232" descr=""/>
          <p:cNvPicPr/>
          <p:nvPr/>
        </p:nvPicPr>
        <p:blipFill>
          <a:blip r:embed="rId228"/>
          <a:stretch/>
        </p:blipFill>
        <p:spPr>
          <a:xfrm>
            <a:off x="1628640" y="4314960"/>
            <a:ext cx="203400" cy="20448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233" descr=""/>
          <p:cNvPicPr/>
          <p:nvPr/>
        </p:nvPicPr>
        <p:blipFill>
          <a:blip r:embed="rId229"/>
          <a:stretch/>
        </p:blipFill>
        <p:spPr>
          <a:xfrm>
            <a:off x="2981160" y="3589200"/>
            <a:ext cx="203400" cy="204840"/>
          </a:xfrm>
          <a:prstGeom prst="rect">
            <a:avLst/>
          </a:prstGeom>
          <a:ln w="0">
            <a:noFill/>
          </a:ln>
        </p:spPr>
      </p:pic>
      <p:pic>
        <p:nvPicPr>
          <p:cNvPr id="398" name="图片 234" descr=""/>
          <p:cNvPicPr/>
          <p:nvPr/>
        </p:nvPicPr>
        <p:blipFill>
          <a:blip r:embed="rId230"/>
          <a:stretch/>
        </p:blipFill>
        <p:spPr>
          <a:xfrm>
            <a:off x="6149880" y="3871800"/>
            <a:ext cx="203400" cy="204840"/>
          </a:xfrm>
          <a:prstGeom prst="rect">
            <a:avLst/>
          </a:prstGeom>
          <a:ln w="0">
            <a:noFill/>
          </a:ln>
        </p:spPr>
      </p:pic>
      <p:pic>
        <p:nvPicPr>
          <p:cNvPr id="399" name="图片 235" descr=""/>
          <p:cNvPicPr/>
          <p:nvPr/>
        </p:nvPicPr>
        <p:blipFill>
          <a:blip r:embed="rId231"/>
          <a:stretch/>
        </p:blipFill>
        <p:spPr>
          <a:xfrm>
            <a:off x="6707160" y="1357200"/>
            <a:ext cx="203400" cy="20340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236" descr=""/>
          <p:cNvPicPr/>
          <p:nvPr/>
        </p:nvPicPr>
        <p:blipFill>
          <a:blip r:embed="rId232"/>
          <a:stretch/>
        </p:blipFill>
        <p:spPr>
          <a:xfrm>
            <a:off x="2600280" y="2193840"/>
            <a:ext cx="203400" cy="20484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237" descr=""/>
          <p:cNvPicPr/>
          <p:nvPr/>
        </p:nvPicPr>
        <p:blipFill>
          <a:blip r:embed="rId233"/>
          <a:stretch/>
        </p:blipFill>
        <p:spPr>
          <a:xfrm>
            <a:off x="1890720" y="2855880"/>
            <a:ext cx="203040" cy="20340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238" descr=""/>
          <p:cNvPicPr/>
          <p:nvPr/>
        </p:nvPicPr>
        <p:blipFill>
          <a:blip r:embed="rId234"/>
          <a:stretch/>
        </p:blipFill>
        <p:spPr>
          <a:xfrm>
            <a:off x="5521320" y="79380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push dir="u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83951E-006 L 0.00695 -0.97469 E">
                                      <p:cBhvr>
                                        <p:cTn id="576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8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72222E-006 1.23457E-007 L -0.10329 -0.49105 E">
                                      <p:cBhvr>
                                        <p:cTn id="583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1.23457E-006 L -0.12327 -0.92099 E">
                                      <p:cBhvr>
                                        <p:cTn id="585" dur="1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4.72222E-006 2.83951E-006 L 0.16441 -0.70895 E">
                                      <p:cBhvr>
                                        <p:cTn id="587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4.72222E-006 1.23457E-007 L 0.01476 -0.54722 E">
                                      <p:cBhvr>
                                        <p:cTn id="589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72222E-006 2.83951E-006 L -0.03246 -0.90494 E">
                                      <p:cBhvr>
                                        <p:cTn id="591" dur="1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1.23457E-006 L -0.06025 -0.96296 E">
                                      <p:cBhvr>
                                        <p:cTn id="593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72222E-006 1.23457E-007 L 0.01476 -0.43519 E">
                                      <p:cBhvr>
                                        <p:cTn id="595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1.23457E-006 L 0.19947 -0.80895 E">
                                      <p:cBhvr>
                                        <p:cTn id="597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72222E-006 2.83951E-006 L 0.06216 -0.7929 E">
                                      <p:cBhvr>
                                        <p:cTn id="599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4.44444E-006 1.23457E-006 L 0.02638 -0.93519 E">
                                      <p:cBhvr>
                                        <p:cTn id="601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1.23457E-006 L -0.14688 -0.93519 E">
                                      <p:cBhvr>
                                        <p:cTn id="603" dur="1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72222E-006 1.23457E-007 L 0.00695 -0.36512 E">
                                      <p:cBhvr>
                                        <p:cTn id="605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72222E-006 2.83951E-006 L 0.10139 -0.93272 E">
                                      <p:cBhvr>
                                        <p:cTn id="607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4.44444E-006 1.23457E-006 L -0.16268 -0.87901 E">
                                      <p:cBhvr>
                                        <p:cTn id="609" dur="1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1.23457E-007 L -0.03333 -0.74321 E">
                                      <p:cBhvr>
                                        <p:cTn id="611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53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3.61111E-006 1.23457E-006 L 0.12778 -0.9071 E">
                                      <p:cBhvr>
                                        <p:cTn id="618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53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2.83951E-006 L 0.10052 -0.84877 E">
                                      <p:cBhvr>
                                        <p:cTn id="625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3.61111E-006 1.23457E-006 L 0.2066 -0.725 E">
                                      <p:cBhvr>
                                        <p:cTn id="632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-0.11632 -0.99105 E">
                                      <p:cBhvr>
                                        <p:cTn id="639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1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2.77778E-006 2.83951E-006 L 0.17934 -0.84877 E">
                                      <p:cBhvr>
                                        <p:cTn id="646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53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8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3.61111E-006 1.23457E-006 L 0.14358 -0.93519 E">
                                      <p:cBhvr>
                                        <p:cTn id="653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61111E-006 1.23457E-006 L 0.06476 -0.94908 E">
                                      <p:cBhvr>
                                        <p:cTn id="660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0.175 -0.9071 E">
                                      <p:cBhvr>
                                        <p:cTn id="667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9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61111E-006 1.23457E-006 L -0.04548 -0.99105 E">
                                      <p:cBhvr>
                                        <p:cTn id="674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77778E-006 1.23457E-007 L 0.16354 -0.61728 E">
                                      <p:cBhvr>
                                        <p:cTn id="681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53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3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0.13577 -0.86512 E">
                                      <p:cBhvr>
                                        <p:cTn id="688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0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77778E-006 2.83951E-006 L 0.03768 -0.87685 E">
                                      <p:cBhvr>
                                        <p:cTn id="695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7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61111E-006 1.23457E-006 L 0.03334 -0.99105 E">
                                      <p:cBhvr>
                                        <p:cTn id="702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3.61111E-006 1.23457E-006 L 0.11216 -0.97716 E">
                                      <p:cBhvr>
                                        <p:cTn id="709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53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1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2.83951E-006 L -0.10416 -0.86297 E">
                                      <p:cBhvr>
                                        <p:cTn id="716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8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0.06129 -0.39321 E">
                                      <p:cBhvr>
                                        <p:cTn id="723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2.83951E-006 L 0.03768 -0.65278 E">
                                      <p:cBhvr>
                                        <p:cTn id="730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path" presetID="0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77778E-006 1.23457E-007 L 0.03768 -0.46327 E">
                                      <p:cBhvr>
                                        <p:cTn id="737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9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-0.05694 -0.39321 E">
                                      <p:cBhvr>
                                        <p:cTn id="744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2.83951E-006 L 0.18716 -0.66698 E">
                                      <p:cBhvr>
                                        <p:cTn id="746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7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77778E-006 2.83951E-006 L 0.11632 -0.80679 E">
                                      <p:cBhvr>
                                        <p:cTn id="748" dur="1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9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2.83951E-006 L -0.15139 -0.82068 E">
                                      <p:cBhvr>
                                        <p:cTn id="750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1" nodeType="withEffect" fill="hold" presetClass="path" presetID="0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77778E-006 1.23457E-007 L 0.0849 -0.53333 E">
                                      <p:cBhvr>
                                        <p:cTn id="752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1.23457E-007 L -0.02534 -0.63117 E">
                                      <p:cBhvr>
                                        <p:cTn id="759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path" presetID="0" repeatCount="200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3.61111E-006 1.23457E-006 L -0.0927 -0.92099 E">
                                      <p:cBhvr>
                                        <p:cTn id="761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2" nodeType="withEffect" fill="hold" presetClass="path" presetID="0" repeatCount="200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2.77778E-006 1.23457E-007 L -0.08055 -0.49105 E">
                                      <p:cBhvr>
                                        <p:cTn id="763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4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-0.01389 -0.99105 E">
                                      <p:cBhvr>
                                        <p:cTn id="765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6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1.23457E-007 L -0.02534 -0.50525 E">
                                      <p:cBhvr>
                                        <p:cTn id="767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8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2.83951E-006 L -0.07257 -0.70895 E">
                                      <p:cBhvr>
                                        <p:cTn id="769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0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61111E-006 1.23457E-006 L -0.13211 -0.62716 E">
                                      <p:cBhvr>
                                        <p:cTn id="771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2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61111E-006 1.23457E-006 L -0.14774 -0.725 E">
                                      <p:cBhvr>
                                        <p:cTn id="773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4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2.83951E-006 L -0.07257 -0.82068 E">
                                      <p:cBhvr>
                                        <p:cTn id="775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6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1.23457E-007 L -0.08837 -0.39321 E">
                                      <p:cBhvr>
                                        <p:cTn id="777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8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61111E-006 1.23457E-006 L -0.08472 -0.97716 E">
                                      <p:cBhvr>
                                        <p:cTn id="779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0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61111E-006 1.23457E-006 L -0.00607 -0.89321 E">
                                      <p:cBhvr>
                                        <p:cTn id="781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2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61111E-006 1.23457E-006 L 0.08837 -0.99105 E">
                                      <p:cBhvr>
                                        <p:cTn id="783" dur="1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4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0.15938 -0.89321 E">
                                      <p:cBhvr>
                                        <p:cTn id="785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7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2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7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53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53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2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7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53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7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2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7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53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2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7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53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2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7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53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2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7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53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2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7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53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7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2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53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2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53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7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xit" presetID="53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2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>
                                  <p:stCondLst>
                                    <p:cond delay="4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23457E-006 L 0.00434 -1.00494 E">
                                      <p:cBhvr>
                                        <p:cTn id="950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2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77778E-007 1.23457E-006 L -0.1375 -0.69722 E">
                                      <p:cBhvr>
                                        <p:cTn id="957" dur="1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7 1.23457E-006 L -0.01146 -0.92099 E">
                                      <p:cBhvr>
                                        <p:cTn id="959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0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4.72222E-006 2.83951E-006 L 0.16441 -0.70895 E">
                                      <p:cBhvr>
                                        <p:cTn id="961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2" nodeType="withEffect" fill="hold" presetClass="path" presetID="0" repeatCount="200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4.72222E-006 1.23457E-007 L 0.01476 -0.54722 E">
                                      <p:cBhvr>
                                        <p:cTn id="963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4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72222E-006 2.83951E-006 L -0.03246 -0.90494 E">
                                      <p:cBhvr>
                                        <p:cTn id="965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6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1.23457E-006 L -0.12951 -0.86512 E">
                                      <p:cBhvr>
                                        <p:cTn id="967" dur="1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8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72222E-006 1.23457E-007 L 0.01476 -0.43519 E">
                                      <p:cBhvr>
                                        <p:cTn id="969" dur="1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0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1.23457E-006 L 0.09097 -0.94908 E">
                                      <p:cBhvr>
                                        <p:cTn id="971" dur="1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2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72222E-006 2.83951E-006 L 0.06216 -0.7929 E">
                                      <p:cBhvr>
                                        <p:cTn id="973" dur="1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4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77778E-007 1.23457E-006 L 0.08299 -0.96296 E">
                                      <p:cBhvr>
                                        <p:cTn id="975" dur="1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6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1.23457E-006 L -0.1059 -0.75309 E">
                                      <p:cBhvr>
                                        <p:cTn id="977" dur="1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8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72222E-006 1.23457E-007 L 0.00695 -0.36512 E">
                                      <p:cBhvr>
                                        <p:cTn id="979" dur="1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0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72222E-006 2.83951E-006 L 0.10139 -0.93272 E">
                                      <p:cBhvr>
                                        <p:cTn id="981" dur="1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2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77778E-007 1.23457E-006 L -0.14531 -0.80895 E">
                                      <p:cBhvr>
                                        <p:cTn id="983" dur="1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4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1.23457E-007 L -0.03333 -0.74321 E">
                                      <p:cBhvr>
                                        <p:cTn id="985" dur="1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53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7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2.77778E-006 1.23457E-007 L 0.12431 -0.74321 E">
                                      <p:cBhvr>
                                        <p:cTn id="992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53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2.83951E-006 L 0.10052 -0.84877 E">
                                      <p:cBhvr>
                                        <p:cTn id="999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1.66667E-006 1.23457E-006 L 0.18455 -0.87901 E">
                                      <p:cBhvr>
                                        <p:cTn id="1006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8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23457E-006 L 0.02708 -0.96296 E">
                                      <p:cBhvr>
                                        <p:cTn id="1013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5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1.66667E-006 1.23457E-006 L 0.16875 -0.86512 E">
                                      <p:cBhvr>
                                        <p:cTn id="1020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53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66667E-006 1.23457E-006 L 0.05069 -1.01914 E">
                                      <p:cBhvr>
                                        <p:cTn id="1027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53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9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1.23457E-006 L -0.14618 -0.92099 E">
                                      <p:cBhvr>
                                        <p:cTn id="1034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6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0.10851 -0.37932 E">
                                      <p:cBhvr>
                                        <p:cTn id="1041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3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1.23457E-006 L 0.0743 -0.85124 E">
                                      <p:cBhvr>
                                        <p:cTn id="1048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77778E-006 1.23457E-007 L 0.16354 -0.61728 E">
                                      <p:cBhvr>
                                        <p:cTn id="1055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53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7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23457E-006 L 0.06649 -0.93519 E">
                                      <p:cBhvr>
                                        <p:cTn id="1062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66667E-006 1.23457E-006 L 0.0191 -0.92099 E">
                                      <p:cBhvr>
                                        <p:cTn id="1069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1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1.23457E-006 L 0.11371 -0.89321 E">
                                      <p:cBhvr>
                                        <p:cTn id="1076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8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1.66667E-006 1.23457E-006 L 0.16094 -0.9071 E">
                                      <p:cBhvr>
                                        <p:cTn id="1083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4" nodeType="withEffect" fill="hold" presetClass="exit" presetID="53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5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1.66667E-006 1.23457E-006 L -0.11476 -0.94908 E">
                                      <p:cBhvr>
                                        <p:cTn id="1090" dur="1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2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0.06129 -0.39321 E">
                                      <p:cBhvr>
                                        <p:cTn id="1097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9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66667E-006 1.23457E-006 L 0.02708 -0.9071 E">
                                      <p:cBhvr>
                                        <p:cTn id="1104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path" presetID="0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66667E-006 1.23457E-006 L 0.04288 -0.92099 E">
                                      <p:cBhvr>
                                        <p:cTn id="1111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-0.05694 -0.39321 E">
                                      <p:cBhvr>
                                        <p:cTn id="1118" dur="1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9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2.83951E-006 L 0.18716 -0.66698 E">
                                      <p:cBhvr>
                                        <p:cTn id="1120" dur="1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1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77778E-006 2.83951E-006 L 0.11632 -0.80679 E">
                                      <p:cBhvr>
                                        <p:cTn id="1122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3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1.66667E-006 1.23457E-006 L -0.11476 -0.92099 E">
                                      <p:cBhvr>
                                        <p:cTn id="1124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5" nodeType="withEffect" fill="hold" presetClass="path" presetID="0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77778E-006 1.23457E-007 L 0.0849 -0.53333 E">
                                      <p:cBhvr>
                                        <p:cTn id="1126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8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1.23457E-007 L -0.02534 -0.63117 E">
                                      <p:cBhvr>
                                        <p:cTn id="1133" dur="1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0" repeatCount="200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1.66667E-006 1.23457E-006 L -0.04375 -0.99105 E">
                                      <p:cBhvr>
                                        <p:cTn id="1135" dur="1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0" repeatCount="200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1.66667E-006 1.23457E-006 L -0.09896 -1.00494 E">
                                      <p:cBhvr>
                                        <p:cTn id="1137" dur="1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8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23457E-006 L -0.02813 -0.94908 E">
                                      <p:cBhvr>
                                        <p:cTn id="1139" dur="1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0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1.23457E-007 L -0.02534 -0.50525 E">
                                      <p:cBhvr>
                                        <p:cTn id="1141" dur="1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2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2.83951E-006 L -0.07257 -0.70895 E">
                                      <p:cBhvr>
                                        <p:cTn id="1143" dur="1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4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1.23457E-006 L -0.07535 -0.97716 E">
                                      <p:cBhvr>
                                        <p:cTn id="1145" dur="1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6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1.23457E-006 L -0.05955 -0.94908 E">
                                      <p:cBhvr>
                                        <p:cTn id="1147" dur="1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8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2.83951E-006 L -0.07257 -0.82068 E">
                                      <p:cBhvr>
                                        <p:cTn id="1149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0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1.66667E-006 1.23457E-006 L -0.13837 -0.64105 E">
                                      <p:cBhvr>
                                        <p:cTn id="1151" dur="1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2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1.23457E-006 L -0.05174 -0.87901 E">
                                      <p:cBhvr>
                                        <p:cTn id="1153" dur="1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4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77778E-006 1.23457E-007 L -0.02534 -0.43519 E">
                                      <p:cBhvr>
                                        <p:cTn id="1155" dur="1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6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1.66667E-006 1.23457E-006 L 0.05069 -0.87901 E">
                                      <p:cBhvr>
                                        <p:cTn id="1157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8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83951E-006 L 0.11632 -0.63889 E">
                                      <p:cBhvr>
                                        <p:cTn id="1159" dur="1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6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xit" presetID="53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6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5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1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53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1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1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6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1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53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6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6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1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53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6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6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1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53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6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1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6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1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1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6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xit" presetID="53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6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1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53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1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53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6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1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83951E-006 L 0.00695 -0.97469 E">
                                      <p:cBhvr>
                                        <p:cTn id="1324" dur="1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6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2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72222E-006 1.23457E-007 L -0.10329 -0.49105 E">
                                      <p:cBhvr>
                                        <p:cTn id="1331" dur="1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2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1.23457E-006 L -0.12327 -0.92099 E">
                                      <p:cBhvr>
                                        <p:cTn id="1333" dur="1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4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4.72222E-006 2.83951E-006 L 0.16441 -0.70895 E">
                                      <p:cBhvr>
                                        <p:cTn id="1335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6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4.72222E-006 1.23457E-007 L 0.01476 -0.54722 E">
                                      <p:cBhvr>
                                        <p:cTn id="1337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8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72222E-006 2.83951E-006 L -0.03246 -0.90494 E">
                                      <p:cBhvr>
                                        <p:cTn id="1339" dur="1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0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1.23457E-006 L -0.06025 -0.96296 E">
                                      <p:cBhvr>
                                        <p:cTn id="1341" dur="1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2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72222E-006 1.23457E-007 L 0.01476 -0.43519 E">
                                      <p:cBhvr>
                                        <p:cTn id="1343" dur="1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4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1.23457E-006 L 0.19947 -0.80895 E">
                                      <p:cBhvr>
                                        <p:cTn id="1345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6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72222E-006 2.83951E-006 L 0.06216 -0.7929 E">
                                      <p:cBhvr>
                                        <p:cTn id="1347" dur="1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8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4.44444E-006 1.23457E-006 L 0.02638 -0.93519 E">
                                      <p:cBhvr>
                                        <p:cTn id="1349" dur="1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0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1.23457E-006 L -0.14688 -0.93519 E">
                                      <p:cBhvr>
                                        <p:cTn id="1351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2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72222E-006 1.23457E-007 L 0.00695 -0.36512 E">
                                      <p:cBhvr>
                                        <p:cTn id="1353" dur="1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4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72222E-006 2.83951E-006 L 0.10139 -0.93272 E">
                                      <p:cBhvr>
                                        <p:cTn id="1355" dur="1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6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4.44444E-006 1.23457E-006 L -0.16268 -0.87901 E">
                                      <p:cBhvr>
                                        <p:cTn id="1357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8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1.23457E-007 L -0.03333 -0.74321 E">
                                      <p:cBhvr>
                                        <p:cTn id="1359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53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1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6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3.61111E-006 1.23457E-006 L 0.12778 -0.9071 E">
                                      <p:cBhvr>
                                        <p:cTn id="1366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7" nodeType="withEffect" fill="hold" presetClass="exit" presetID="53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8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2.83951E-006 L 0.10052 -0.84877 E">
                                      <p:cBhvr>
                                        <p:cTn id="1373" dur="1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4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5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3.61111E-006 1.23457E-006 L 0.2066 -0.725 E">
                                      <p:cBhvr>
                                        <p:cTn id="1380" dur="1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2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-0.11632 -0.99105 E">
                                      <p:cBhvr>
                                        <p:cTn id="1387" dur="1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9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2.77778E-006 2.83951E-006 L 0.17934 -0.84877 E">
                                      <p:cBhvr>
                                        <p:cTn id="1394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53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6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3.61111E-006 1.23457E-006 L 0.14358 -0.93519 E">
                                      <p:cBhvr>
                                        <p:cTn id="1401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3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61111E-006 1.23457E-006 L 0.06476 -0.94908 E">
                                      <p:cBhvr>
                                        <p:cTn id="1408" dur="1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0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0.175 -0.9071 E">
                                      <p:cBhvr>
                                        <p:cTn id="1415" dur="1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7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61111E-006 1.23457E-006 L -0.04548 -0.99105 E">
                                      <p:cBhvr>
                                        <p:cTn id="1422" dur="1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4" dur="1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77778E-006 1.23457E-007 L 0.16354 -0.61728 E">
                                      <p:cBhvr>
                                        <p:cTn id="1429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0" nodeType="withEffect" fill="hold" presetClass="exit" presetID="53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1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0.13577 -0.86512 E">
                                      <p:cBhvr>
                                        <p:cTn id="1436" dur="1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8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4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77778E-006 2.83951E-006 L 0.03768 -0.87685 E">
                                      <p:cBhvr>
                                        <p:cTn id="1443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5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4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61111E-006 1.23457E-006 L 0.03334 -0.99105 E">
                                      <p:cBhvr>
                                        <p:cTn id="1450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1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3.61111E-006 1.23457E-006 L 0.11216 -0.97716 E">
                                      <p:cBhvr>
                                        <p:cTn id="1457" dur="1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8" nodeType="withEffect" fill="hold" presetClass="exit" presetID="53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9" dur="1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2.83951E-006 L -0.10416 -0.86297 E">
                                      <p:cBhvr>
                                        <p:cTn id="1464" dur="1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6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0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0.06129 -0.39321 E">
                                      <p:cBhvr>
                                        <p:cTn id="1471" dur="1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3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7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2.83951E-006 L 0.03768 -0.65278 E">
                                      <p:cBhvr>
                                        <p:cTn id="1478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0" dur="1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path" presetID="0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77778E-006 1.23457E-007 L 0.03768 -0.46327 E">
                                      <p:cBhvr>
                                        <p:cTn id="1485" dur="1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6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7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1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-0.05694 -0.39321 E">
                                      <p:cBhvr>
                                        <p:cTn id="1492" dur="1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3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2.83951E-006 L 0.18716 -0.66698 E">
                                      <p:cBhvr>
                                        <p:cTn id="1494" dur="1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5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77778E-006 2.83951E-006 L 0.11632 -0.80679 E">
                                      <p:cBhvr>
                                        <p:cTn id="1496" dur="1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7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2.83951E-006 L -0.15139 -0.82068 E">
                                      <p:cBhvr>
                                        <p:cTn id="1498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9" nodeType="withEffect" fill="hold" presetClass="path" presetID="0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77778E-006 1.23457E-007 L 0.0849 -0.53333 E">
                                      <p:cBhvr>
                                        <p:cTn id="1500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2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1.23457E-007 L -0.02534 -0.63117 E">
                                      <p:cBhvr>
                                        <p:cTn id="1507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8" nodeType="withEffect" fill="hold" presetClass="path" presetID="0" repeatCount="200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3.61111E-006 1.23457E-006 L -0.0927 -0.92099 E">
                                      <p:cBhvr>
                                        <p:cTn id="1509" dur="1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0" nodeType="withEffect" fill="hold" presetClass="path" presetID="0" repeatCount="200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2.77778E-006 1.23457E-007 L -0.08055 -0.49105 E">
                                      <p:cBhvr>
                                        <p:cTn id="1511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2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-0.01389 -0.99105 E">
                                      <p:cBhvr>
                                        <p:cTn id="1513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4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1.23457E-007 L -0.02534 -0.50525 E">
                                      <p:cBhvr>
                                        <p:cTn id="1515" dur="1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6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2.83951E-006 L -0.07257 -0.70895 E">
                                      <p:cBhvr>
                                        <p:cTn id="1517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8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61111E-006 1.23457E-006 L -0.13211 -0.62716 E">
                                      <p:cBhvr>
                                        <p:cTn id="1519" dur="1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0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61111E-006 1.23457E-006 L -0.14774 -0.725 E">
                                      <p:cBhvr>
                                        <p:cTn id="1521" dur="1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2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2.83951E-006 L -0.07257 -0.82068 E">
                                      <p:cBhvr>
                                        <p:cTn id="1523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4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1.23457E-007 L -0.08837 -0.39321 E">
                                      <p:cBhvr>
                                        <p:cTn id="1525" dur="1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6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61111E-006 1.23457E-006 L -0.08472 -0.97716 E">
                                      <p:cBhvr>
                                        <p:cTn id="1527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8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61111E-006 1.23457E-006 L -0.00607 -0.89321 E">
                                      <p:cBhvr>
                                        <p:cTn id="1529" dur="1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0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61111E-006 1.23457E-006 L 0.08837 -0.99105 E">
                                      <p:cBhvr>
                                        <p:cTn id="1531" dur="1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2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0.15938 -0.89321 E">
                                      <p:cBhvr>
                                        <p:cTn id="1533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4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5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3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0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5" dur="1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53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0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5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xit" presetID="53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0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0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xit" presetID="53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5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0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5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0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5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53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0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4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5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0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1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1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xit" presetID="53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0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2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5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2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53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0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5" dur="1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xit" presetID="53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0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5" dur="1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0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5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0" dur="1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1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6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53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5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6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0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53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5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0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8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53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5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8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53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0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0">
                                  <p:stCondLst>
                                    <p:cond delay="4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23457E-006 L 0.00434 -1.00494 E">
                                      <p:cBhvr>
                                        <p:cTn id="1698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0" dur="1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1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77778E-007 1.23457E-006 L -0.1375 -0.69722 E">
                                      <p:cBhvr>
                                        <p:cTn id="1705" dur="1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6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7 1.23457E-006 L -0.01146 -0.92099 E">
                                      <p:cBhvr>
                                        <p:cTn id="1707" dur="1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8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4.72222E-006 2.83951E-006 L 0.16441 -0.70895 E">
                                      <p:cBhvr>
                                        <p:cTn id="1709" dur="1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0" nodeType="withEffect" fill="hold" presetClass="path" presetID="0" repeatCount="200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4.72222E-006 1.23457E-007 L 0.01476 -0.54722 E">
                                      <p:cBhvr>
                                        <p:cTn id="1711" dur="1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2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72222E-006 2.83951E-006 L -0.03246 -0.90494 E">
                                      <p:cBhvr>
                                        <p:cTn id="1713" dur="1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4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1.23457E-006 L -0.12951 -0.86512 E">
                                      <p:cBhvr>
                                        <p:cTn id="1715" dur="1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6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72222E-006 1.23457E-007 L 0.01476 -0.43519 E">
                                      <p:cBhvr>
                                        <p:cTn id="1717" dur="1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8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1.23457E-006 L 0.09097 -0.94908 E">
                                      <p:cBhvr>
                                        <p:cTn id="1719" dur="1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0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72222E-006 2.83951E-006 L 0.06216 -0.7929 E">
                                      <p:cBhvr>
                                        <p:cTn id="1721" dur="1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2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77778E-007 1.23457E-006 L 0.08299 -0.96296 E">
                                      <p:cBhvr>
                                        <p:cTn id="1723" dur="1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4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1.23457E-006 L -0.1059 -0.75309 E">
                                      <p:cBhvr>
                                        <p:cTn id="1725" dur="1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6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72222E-006 1.23457E-007 L 0.00695 -0.36512 E">
                                      <p:cBhvr>
                                        <p:cTn id="1727" dur="1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8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72222E-006 2.83951E-006 L 0.10139 -0.93272 E">
                                      <p:cBhvr>
                                        <p:cTn id="1729" dur="1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0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77778E-007 1.23457E-006 L -0.14531 -0.80895 E">
                                      <p:cBhvr>
                                        <p:cTn id="1731" dur="1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2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1.23457E-007 L -0.03333 -0.74321 E">
                                      <p:cBhvr>
                                        <p:cTn id="1733" dur="1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53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5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2.77778E-006 1.23457E-007 L 0.12431 -0.74321 E">
                                      <p:cBhvr>
                                        <p:cTn id="1740" dur="1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1" nodeType="withEffect" fill="hold" presetClass="exit" presetID="53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2" dur="1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2.83951E-006 L 0.10052 -0.84877 E">
                                      <p:cBhvr>
                                        <p:cTn id="1747" dur="1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8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9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1.66667E-006 1.23457E-006 L 0.18455 -0.87901 E">
                                      <p:cBhvr>
                                        <p:cTn id="1754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5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6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23457E-006 L 0.02708 -0.96296 E">
                                      <p:cBhvr>
                                        <p:cTn id="1761" dur="1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3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6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1.66667E-006 1.23457E-006 L 0.16875 -0.86512 E">
                                      <p:cBhvr>
                                        <p:cTn id="1768" dur="1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9" nodeType="withEffect" fill="hold" presetClass="exit" presetID="53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0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4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66667E-006 1.23457E-006 L 0.05069 -1.01914 E">
                                      <p:cBhvr>
                                        <p:cTn id="1775" dur="1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6" nodeType="withEffect" fill="hold" presetClass="exit" presetID="53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7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1.23457E-006 L -0.14618 -0.92099 E">
                                      <p:cBhvr>
                                        <p:cTn id="1782" dur="1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8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0.10851 -0.37932 E">
                                      <p:cBhvr>
                                        <p:cTn id="1789" dur="1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0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1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9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1.23457E-006 L 0.0743 -0.85124 E">
                                      <p:cBhvr>
                                        <p:cTn id="1796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7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8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0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77778E-006 1.23457E-007 L 0.16354 -0.61728 E">
                                      <p:cBhvr>
                                        <p:cTn id="1803" dur="1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4" nodeType="withEffect" fill="hold" presetClass="exit" presetID="53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5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0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23457E-006 L 0.06649 -0.93519 E">
                                      <p:cBhvr>
                                        <p:cTn id="1810" dur="1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1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2" dur="1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1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6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66667E-006 1.23457E-006 L 0.0191 -0.92099 E">
                                      <p:cBhvr>
                                        <p:cTn id="1817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8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9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3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1.23457E-006 L 0.11371 -0.89321 E">
                                      <p:cBhvr>
                                        <p:cTn id="1824" dur="1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5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6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0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1.66667E-006 1.23457E-006 L 0.16094 -0.9071 E">
                                      <p:cBhvr>
                                        <p:cTn id="1831" dur="1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2" nodeType="withEffect" fill="hold" presetClass="exit" presetID="53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3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3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1.66667E-006 1.23457E-006 L -0.11476 -0.94908 E">
                                      <p:cBhvr>
                                        <p:cTn id="1838" dur="1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4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0.06129 -0.39321 E">
                                      <p:cBhvr>
                                        <p:cTn id="1845" dur="1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7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4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66667E-006 1.23457E-006 L 0.02708 -0.9071 E">
                                      <p:cBhvr>
                                        <p:cTn id="1852" dur="1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3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4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5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nodeType="withEffect" fill="hold" presetClass="path" presetID="0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66667E-006 1.23457E-006 L 0.04288 -0.92099 E">
                                      <p:cBhvr>
                                        <p:cTn id="1859" dur="1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0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1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6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-0.05694 -0.39321 E">
                                      <p:cBhvr>
                                        <p:cTn id="1866" dur="1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7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2.83951E-006 L 0.18716 -0.66698 E">
                                      <p:cBhvr>
                                        <p:cTn id="1868" dur="1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9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77778E-006 2.83951E-006 L 0.11632 -0.80679 E">
                                      <p:cBhvr>
                                        <p:cTn id="1870" dur="1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1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1.66667E-006 1.23457E-006 L -0.11476 -0.92099 E">
                                      <p:cBhvr>
                                        <p:cTn id="1872" dur="1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3" nodeType="withEffect" fill="hold" presetClass="path" presetID="0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77778E-006 1.23457E-007 L 0.0849 -0.53333 E">
                                      <p:cBhvr>
                                        <p:cTn id="1874" dur="1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5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6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7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1.23457E-007 L -0.02534 -0.63117 E">
                                      <p:cBhvr>
                                        <p:cTn id="1881" dur="1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2" nodeType="withEffect" fill="hold" presetClass="path" presetID="0" repeatCount="200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1.66667E-006 1.23457E-006 L -0.04375 -0.99105 E">
                                      <p:cBhvr>
                                        <p:cTn id="1883" dur="1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4" nodeType="withEffect" fill="hold" presetClass="path" presetID="0" repeatCount="200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1.66667E-006 1.23457E-006 L -0.09896 -1.00494 E">
                                      <p:cBhvr>
                                        <p:cTn id="1885" dur="1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6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23457E-006 L -0.02813 -0.94908 E">
                                      <p:cBhvr>
                                        <p:cTn id="1887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8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1.23457E-007 L -0.02534 -0.50525 E">
                                      <p:cBhvr>
                                        <p:cTn id="1889" dur="1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0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2.83951E-006 L -0.07257 -0.70895 E">
                                      <p:cBhvr>
                                        <p:cTn id="1891" dur="1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2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1.23457E-006 L -0.07535 -0.97716 E">
                                      <p:cBhvr>
                                        <p:cTn id="1893" dur="1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4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1.23457E-006 L -0.05955 -0.94908 E">
                                      <p:cBhvr>
                                        <p:cTn id="1895" dur="1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6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2.83951E-006 L -0.07257 -0.82068 E">
                                      <p:cBhvr>
                                        <p:cTn id="1897" dur="1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8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1.66667E-006 1.23457E-006 L -0.13837 -0.64105 E">
                                      <p:cBhvr>
                                        <p:cTn id="1899" dur="1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0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1.23457E-006 L -0.05174 -0.87901 E">
                                      <p:cBhvr>
                                        <p:cTn id="1901" dur="1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2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77778E-006 1.23457E-007 L -0.02534 -0.43519 E">
                                      <p:cBhvr>
                                        <p:cTn id="1903" dur="1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4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1.66667E-006 1.23457E-006 L 0.05069 -0.87901 E">
                                      <p:cBhvr>
                                        <p:cTn id="1905" dur="1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6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83951E-006 L 0.11632 -0.63889 E">
                                      <p:cBhvr>
                                        <p:cTn id="1907" dur="1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8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9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4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8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9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xit" presetID="53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4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xit" presetID="5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9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3" nodeType="withEffect" fill="hold" presetClass="exit" presetID="53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4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9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4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4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4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9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4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9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6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exit" presetID="53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4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6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4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9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xit" presetID="53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4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9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9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4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9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8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9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0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xit" presetID="53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4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0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9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1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4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8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9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4" dur="1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8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9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4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6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8" nodeType="withEffect" fill="hold" presetClass="exit" presetID="53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9" dur="1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1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4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9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5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3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4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5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53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9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6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nodeType="withEffect" fill="hold" presetClass="exit" presetID="53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4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6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8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3" dur="8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075" dur="8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9" dur="8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081" dur="8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5" dur="8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6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087" dur="8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1" dur="8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exit" presetID="10" repeatCount="indefinite">
                                  <p:stCondLst>
                                    <p:cond delay="3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093" dur="8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5" nodeType="withEffect" fill="hold" presetClass="entr" presetID="10" repeatCount="indefinite">
                                  <p:stCondLst>
                                    <p:cond delay="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7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8" nodeType="withEffect" fill="hold" presetClass="exit" presetID="10" repeatCount="indefinite">
                                  <p:stCondLst>
                                    <p:cond delay="2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099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10" repeatCount="indefinite">
                                  <p:stCondLst>
                                    <p:cond delay="1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3" dur="8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4" nodeType="withEffect" fill="hold" presetClass="exit" presetID="10" repeatCount="indefinite">
                                  <p:stCondLst>
                                    <p:cond delay="3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105" dur="8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7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9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0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111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1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1" dur="12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23" dur="12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7" dur="75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29" dur="75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9" dur="125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41" dur="125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5" dur="7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47" dur="7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5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125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65" dur="125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9" dur="8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0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171" dur="8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图片 4" descr=""/>
          <p:cNvPicPr/>
          <p:nvPr/>
        </p:nvPicPr>
        <p:blipFill>
          <a:blip r:embed="rId1"/>
          <a:stretch/>
        </p:blipFill>
        <p:spPr>
          <a:xfrm>
            <a:off x="-34920" y="6313320"/>
            <a:ext cx="9142560" cy="571680"/>
          </a:xfrm>
          <a:prstGeom prst="rect">
            <a:avLst/>
          </a:prstGeom>
          <a:ln w="0">
            <a:noFill/>
          </a:ln>
        </p:spPr>
      </p:pic>
      <p:pic>
        <p:nvPicPr>
          <p:cNvPr id="404" name="图片 6" descr=""/>
          <p:cNvPicPr/>
          <p:nvPr/>
        </p:nvPicPr>
        <p:blipFill>
          <a:blip r:embed="rId2"/>
          <a:stretch/>
        </p:blipFill>
        <p:spPr>
          <a:xfrm>
            <a:off x="36360" y="-25560"/>
            <a:ext cx="9144000" cy="49860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7" descr=""/>
          <p:cNvPicPr/>
          <p:nvPr/>
        </p:nvPicPr>
        <p:blipFill>
          <a:blip r:embed="rId3"/>
          <a:stretch/>
        </p:blipFill>
        <p:spPr>
          <a:xfrm>
            <a:off x="8609040" y="-25560"/>
            <a:ext cx="571320" cy="6883560"/>
          </a:xfrm>
          <a:prstGeom prst="rect">
            <a:avLst/>
          </a:prstGeom>
          <a:ln w="0">
            <a:noFill/>
          </a:ln>
        </p:spPr>
      </p:pic>
      <p:pic>
        <p:nvPicPr>
          <p:cNvPr id="406" name="图片 8" descr=""/>
          <p:cNvPicPr/>
          <p:nvPr/>
        </p:nvPicPr>
        <p:blipFill>
          <a:blip r:embed="rId4"/>
          <a:stretch/>
        </p:blipFill>
        <p:spPr>
          <a:xfrm>
            <a:off x="-34920" y="-25560"/>
            <a:ext cx="569880" cy="688356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5"/>
          <p:cNvSpPr/>
          <p:nvPr/>
        </p:nvSpPr>
        <p:spPr>
          <a:xfrm>
            <a:off x="749160" y="533520"/>
            <a:ext cx="1200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Calibri"/>
                <a:ea typeface="隶书"/>
              </a:rPr>
              <a:t>梁府花烛映栋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2019240" y="533520"/>
            <a:ext cx="1200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Calibri"/>
                <a:ea typeface="隶书"/>
              </a:rPr>
              <a:t>祝女轻扇掩红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3290760" y="533520"/>
            <a:ext cx="1200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Calibri"/>
                <a:ea typeface="隶书"/>
              </a:rPr>
              <a:t>新人好似比翼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4562640" y="533520"/>
            <a:ext cx="1199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Calibri"/>
                <a:ea typeface="隶书"/>
              </a:rPr>
              <a:t>婚结连理永作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5834160" y="533520"/>
            <a:ext cx="1199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Calibri"/>
                <a:ea typeface="隶书"/>
              </a:rPr>
              <a:t>大宴宾朋共分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7105680" y="533520"/>
            <a:ext cx="1200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Calibri"/>
                <a:ea typeface="隶书"/>
              </a:rPr>
              <a:t>喜气盈门耀四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3"/>
          <p:cNvSpPr/>
          <p:nvPr/>
        </p:nvSpPr>
        <p:spPr>
          <a:xfrm>
            <a:off x="811080" y="476280"/>
            <a:ext cx="815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Calibri"/>
                <a:ea typeface="隶书"/>
              </a:rPr>
              <a:t>梁  祝  新</a:t>
            </a:r>
            <a:r>
              <a:rPr b="0" lang="zh-CN" sz="6000" spc="-1" strike="noStrike">
                <a:solidFill>
                  <a:srgbClr val="ff0000"/>
                </a:solidFill>
                <a:latin typeface="Calibri"/>
                <a:ea typeface="隶书"/>
              </a:rPr>
              <a:t>   </a:t>
            </a:r>
            <a:r>
              <a:rPr b="0" lang="zh-CN" sz="6600" spc="-1" strike="noStrike">
                <a:solidFill>
                  <a:srgbClr val="ff0000"/>
                </a:solidFill>
                <a:latin typeface="Calibri"/>
                <a:ea typeface="隶书"/>
              </a:rPr>
              <a:t>婚</a:t>
            </a:r>
            <a:r>
              <a:rPr b="0" lang="zh-CN" sz="6000" spc="-1" strike="noStrike">
                <a:solidFill>
                  <a:srgbClr val="ff0000"/>
                </a:solidFill>
                <a:latin typeface="Calibri"/>
                <a:ea typeface="隶书"/>
              </a:rPr>
              <a:t>   </a:t>
            </a:r>
            <a:r>
              <a:rPr b="0" lang="zh-CN" sz="6600" spc="-1" strike="noStrike">
                <a:solidFill>
                  <a:srgbClr val="ff0000"/>
                </a:solidFill>
                <a:latin typeface="Calibri"/>
                <a:ea typeface="隶书"/>
              </a:rPr>
              <a:t>大</a:t>
            </a:r>
            <a:r>
              <a:rPr b="0" lang="zh-CN" sz="6000" spc="-1" strike="noStrike">
                <a:solidFill>
                  <a:srgbClr val="ff0000"/>
                </a:solidFill>
                <a:latin typeface="Calibri"/>
                <a:ea typeface="隶书"/>
              </a:rPr>
              <a:t>  </a:t>
            </a:r>
            <a:r>
              <a:rPr b="0" lang="zh-CN" sz="6600" spc="-1" strike="noStrike">
                <a:solidFill>
                  <a:srgbClr val="ff0000"/>
                </a:solidFill>
                <a:latin typeface="Calibri"/>
                <a:ea typeface="隶书"/>
              </a:rPr>
              <a:t>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nodeType="clickEffect" fill="hold">
                      <p:stCondLst>
                        <p:cond delay="0"/>
                      </p:stCondLst>
                      <p:childTnLst>
                        <p:par>
                          <p:cTn id="2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2" dur="1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6" dur="1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0" dur="1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4" dur="1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8" dur="1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2" dur="1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9804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19"/>
          <p:cNvSpPr/>
          <p:nvPr/>
        </p:nvSpPr>
        <p:spPr>
          <a:xfrm>
            <a:off x="395280" y="170028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ff0000"/>
                </a:solidFill>
                <a:latin typeface="Calibri"/>
                <a:ea typeface="隶书"/>
              </a:rPr>
              <a:t>梁  祝  新  婚  大  喜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图片 4" descr=""/>
          <p:cNvPicPr/>
          <p:nvPr/>
        </p:nvPicPr>
        <p:blipFill>
          <a:blip r:embed="rId2"/>
          <a:stretch/>
        </p:blipFill>
        <p:spPr>
          <a:xfrm>
            <a:off x="-34920" y="6313320"/>
            <a:ext cx="9142560" cy="571680"/>
          </a:xfrm>
          <a:prstGeom prst="rect">
            <a:avLst/>
          </a:prstGeom>
          <a:ln w="0">
            <a:noFill/>
          </a:ln>
        </p:spPr>
      </p:pic>
      <p:pic>
        <p:nvPicPr>
          <p:cNvPr id="417" name="图片 5" descr=""/>
          <p:cNvPicPr/>
          <p:nvPr/>
        </p:nvPicPr>
        <p:blipFill>
          <a:blip r:embed="rId3"/>
          <a:stretch/>
        </p:blipFill>
        <p:spPr>
          <a:xfrm>
            <a:off x="36360" y="-25560"/>
            <a:ext cx="9144000" cy="498600"/>
          </a:xfrm>
          <a:prstGeom prst="rect">
            <a:avLst/>
          </a:prstGeom>
          <a:ln w="0">
            <a:noFill/>
          </a:ln>
        </p:spPr>
      </p:pic>
      <p:pic>
        <p:nvPicPr>
          <p:cNvPr id="418" name="图片 6" descr=""/>
          <p:cNvPicPr/>
          <p:nvPr/>
        </p:nvPicPr>
        <p:blipFill>
          <a:blip r:embed="rId4"/>
          <a:stretch/>
        </p:blipFill>
        <p:spPr>
          <a:xfrm>
            <a:off x="8609040" y="-25560"/>
            <a:ext cx="571320" cy="6883560"/>
          </a:xfrm>
          <a:prstGeom prst="rect">
            <a:avLst/>
          </a:prstGeom>
          <a:ln w="0">
            <a:noFill/>
          </a:ln>
        </p:spPr>
      </p:pic>
      <p:pic>
        <p:nvPicPr>
          <p:cNvPr id="419" name="图片 7" descr=""/>
          <p:cNvPicPr/>
          <p:nvPr/>
        </p:nvPicPr>
        <p:blipFill>
          <a:blip r:embed="rId5"/>
          <a:stretch/>
        </p:blipFill>
        <p:spPr>
          <a:xfrm>
            <a:off x="-34920" y="-25560"/>
            <a:ext cx="569880" cy="688356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13"/>
          <p:cNvSpPr/>
          <p:nvPr/>
        </p:nvSpPr>
        <p:spPr>
          <a:xfrm>
            <a:off x="811080" y="476280"/>
            <a:ext cx="815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Calibri"/>
                <a:ea typeface="隶书"/>
              </a:rPr>
              <a:t>梁  祝  新</a:t>
            </a:r>
            <a:r>
              <a:rPr b="0" lang="zh-CN" sz="6000" spc="-1" strike="noStrike">
                <a:solidFill>
                  <a:srgbClr val="ff0000"/>
                </a:solidFill>
                <a:latin typeface="Calibri"/>
                <a:ea typeface="隶书"/>
              </a:rPr>
              <a:t>   </a:t>
            </a:r>
            <a:r>
              <a:rPr b="0" lang="zh-CN" sz="6600" spc="-1" strike="noStrike">
                <a:solidFill>
                  <a:srgbClr val="ff0000"/>
                </a:solidFill>
                <a:latin typeface="Calibri"/>
                <a:ea typeface="隶书"/>
              </a:rPr>
              <a:t>婚</a:t>
            </a:r>
            <a:r>
              <a:rPr b="0" lang="zh-CN" sz="6000" spc="-1" strike="noStrike">
                <a:solidFill>
                  <a:srgbClr val="ff0000"/>
                </a:solidFill>
                <a:latin typeface="Calibri"/>
                <a:ea typeface="隶书"/>
              </a:rPr>
              <a:t>   </a:t>
            </a:r>
            <a:r>
              <a:rPr b="0" lang="zh-CN" sz="6600" spc="-1" strike="noStrike">
                <a:solidFill>
                  <a:srgbClr val="ff0000"/>
                </a:solidFill>
                <a:latin typeface="Calibri"/>
                <a:ea typeface="隶书"/>
              </a:rPr>
              <a:t>大</a:t>
            </a:r>
            <a:r>
              <a:rPr b="0" lang="zh-CN" sz="6000" spc="-1" strike="noStrike">
                <a:solidFill>
                  <a:srgbClr val="ff0000"/>
                </a:solidFill>
                <a:latin typeface="Calibri"/>
                <a:ea typeface="隶书"/>
              </a:rPr>
              <a:t>  </a:t>
            </a:r>
            <a:r>
              <a:rPr b="0" lang="zh-CN" sz="6600" spc="-1" strike="noStrike">
                <a:solidFill>
                  <a:srgbClr val="ff0000"/>
                </a:solidFill>
                <a:latin typeface="Calibri"/>
                <a:ea typeface="隶书"/>
              </a:rPr>
              <a:t>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6"/>
          <a:stretch/>
        </p:blipFill>
        <p:spPr>
          <a:xfrm>
            <a:off x="4888080" y="2727360"/>
            <a:ext cx="3456000" cy="34542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/>
  </p:transition>
  <p:timing>
    <p:tnLst>
      <p:par>
        <p:cTn id="2236" dur="indefinite" restart="never" nodeType="tmRoot">
          <p:childTnLst>
            <p:seq>
              <p:cTn id="2237" dur="indefinite" nodeType="mainSeq">
                <p:childTnLst>
                  <p:par>
                    <p:cTn id="2238" nodeType="clickEffect" fill="hold">
                      <p:stCondLst>
                        <p:cond delay="0"/>
                      </p:stCondLst>
                      <p:childTnLst>
                        <p:par>
                          <p:cTn id="2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16185E-006 L 1.38889E-006 0.19284 E">
                                      <p:cBhvr>
                                        <p:cTn id="2241" dur="1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3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5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6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7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225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7:52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12:22Z</dcterms:modified>
  <cp:revision>3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