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8A3-0440-459E-A6CE-050C963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DAC-E8E6-4434-A9F4-4A61E04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6CB-4277-4C71-A5D4-D1282D52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09C-F77E-4BA8-84C5-35AB6B2A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A02-9290-4F10-AFD8-85DADFBE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705-5F96-47BD-A061-7AED599B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526-D72B-4B2F-BD66-0D16201C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EE6-B40D-436F-A3B3-989B542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60E-2A68-49F5-ABBB-6A10221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BDE-711E-4625-8B9E-5FDECEB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15B-4757-400A-A5D3-A319671E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5D3-5246-4F47-B808-2C7FEF0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18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18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2520" y="6370560"/>
            <a:ext cx="15480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CDA-B52D-4E70-921A-8B08402BDE3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360" y="6370560"/>
            <a:ext cx="5954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77AC-F616-42FD-A635-DE954B2A698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440" y="4724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18ab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522440" y="1599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5e5e5e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3733560" y="7398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胶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5867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5"/>
          <p:cNvSpPr/>
          <p:nvPr/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11B6-9D7E-4900-BFD1-260B6604957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1001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Century Gothic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182520">
              <a:lnSpc>
                <a:spcPct val="90000"/>
              </a:lnSpc>
              <a:spcBef>
                <a:spcPts val="601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itle and Content Layout with Lis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itle and Content Layout with Char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356000" y="642132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59e00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8761320" y="63705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09D-4751-4C05-84AC-CDFABED6112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46360" y="18284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440" y="1828800"/>
          <a:ext cx="4419720" cy="208296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2056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84600" rIns="84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4600" rIns="84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600" marR="84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wo Content Layout with Table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396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6b727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0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59e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59e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71244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46720" y="1828800"/>
            <a:ext cx="4419720" cy="4419720"/>
            <a:chOff x="6246720" y="1828800"/>
            <a:chExt cx="4419720" cy="4419720"/>
          </a:xfrm>
        </p:grpSpPr>
        <p:sp>
          <p:nvSpPr>
            <p:cNvPr id="58" name="AutoShape 3"/>
            <p:cNvSpPr/>
            <p:nvPr/>
          </p:nvSpPr>
          <p:spPr>
            <a:xfrm>
              <a:off x="6246720" y="1828800"/>
              <a:ext cx="2811240" cy="4419720"/>
            </a:xfrm>
            <a:custGeom>
              <a:avLst/>
              <a:gdLst>
                <a:gd name="textAreaLeft" fmla="*/ 0 w 2811240"/>
                <a:gd name="textAreaRight" fmla="*/ 2811240 w 2811240"/>
                <a:gd name="textAreaTop" fmla="*/ 0 h 4419720"/>
                <a:gd name="textAreaBottom" fmla="*/ 160308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381" y="3218"/>
                  </a:moveTo>
                  <a:cubicBezTo>
                    <a:pt x="16370" y="1207"/>
                    <a:pt x="13643" y="78"/>
                    <a:pt x="10799" y="78"/>
                  </a:cubicBezTo>
                  <a:cubicBezTo>
                    <a:pt x="7956" y="78"/>
                    <a:pt x="5229" y="1207"/>
                    <a:pt x="3218" y="3218"/>
                  </a:cubicBezTo>
                  <a:lnTo>
                    <a:pt x="3163" y="3163"/>
                  </a:lnTo>
                  <a:cubicBezTo>
                    <a:pt x="5188" y="1137"/>
                    <a:pt x="7935" y="0"/>
                    <a:pt x="10800" y="0"/>
                  </a:cubicBezTo>
                  <a:cubicBezTo>
                    <a:pt x="13664" y="0"/>
                    <a:pt x="16411" y="1137"/>
                    <a:pt x="18436" y="3163"/>
                  </a:cubicBezTo>
                  <a:lnTo>
                    <a:pt x="18381" y="3218"/>
                  </a:lnTo>
                  <a:close/>
                </a:path>
              </a:pathLst>
            </a:custGeom>
            <a:noFill/>
            <a:ln w="12600">
              <a:solidFill>
                <a:srgbClr val="a6b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8897040" y="2725560"/>
              <a:ext cx="1769400" cy="656280"/>
            </a:xfrm>
            <a:prstGeom prst="rect">
              <a:avLst/>
            </a:prstGeom>
            <a:solidFill>
              <a:srgbClr val="a6b7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8897040" y="2725560"/>
              <a:ext cx="176940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636040" y="264348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6b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9048960" y="3710520"/>
              <a:ext cx="1617480" cy="656280"/>
            </a:xfrm>
            <a:prstGeom prst="rect">
              <a:avLst/>
            </a:prstGeom>
            <a:solidFill>
              <a:srgbClr val="f692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9048960" y="3710520"/>
              <a:ext cx="161748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787960" y="362844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69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>
              <a:off x="8897040" y="4695120"/>
              <a:ext cx="1769400" cy="656280"/>
            </a:xfrm>
            <a:prstGeom prst="rect">
              <a:avLst/>
            </a:prstGeom>
            <a:solidFill>
              <a:srgbClr val="83838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8897040" y="4695120"/>
              <a:ext cx="176940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1640" rIns="48240" tIns="48240" bIns="4824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 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sk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636040" y="4613040"/>
              <a:ext cx="522000" cy="82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1522080" y="18284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3920">
              <a:lnSpc>
                <a:spcPct val="90000"/>
              </a:lnSpc>
              <a:spcBef>
                <a:spcPts val="1800"/>
              </a:spcBef>
              <a:buClr>
                <a:srgbClr val="fec30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bullet poi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b727"/>
                </a:solidFill>
                <a:latin typeface="Arial"/>
              </a:rPr>
              <a:t>Two Content Layout with SmartArt</a:t>
            </a:r>
            <a:endParaRPr b="0" lang="en-US" sz="3600" spc="-1" strike="noStrike">
              <a:solidFill>
                <a:srgbClr val="a6b727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275480" y="4653000"/>
            <a:ext cx="250920" cy="3988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6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3:5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34605389991</vt:lpwstr>
  </property>
</Properties>
</file>