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余数的除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76" name="Picture 6" descr="6"/>
          <p:cNvPicPr/>
          <p:nvPr/>
        </p:nvPicPr>
        <p:blipFill>
          <a:blip r:embed="rId2"/>
          <a:stretch/>
        </p:blipFill>
        <p:spPr>
          <a:xfrm>
            <a:off x="214200" y="69228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79280" y="198900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解决问题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课件在线下载 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9" name=""/>
          <p:cNvSpPr/>
          <p:nvPr/>
        </p:nvSpPr>
        <p:spPr>
          <a:xfrm>
            <a:off x="34920" y="6381720"/>
            <a:ext cx="50799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交流理解，提升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55640" y="45774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一读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552680" y="5632920"/>
            <a:ext cx="61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自己解决问题吗？动笔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1835280" y="509652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“最多”是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审读题意，独立尝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332000" y="36925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丽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钱，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一个的面包，最多能买几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2" name="Picture 12" descr="未标题-015"/>
          <p:cNvPicPr/>
          <p:nvPr/>
        </p:nvPicPr>
        <p:blipFill>
          <a:blip r:embed="rId2"/>
          <a:stretch/>
        </p:blipFill>
        <p:spPr>
          <a:xfrm>
            <a:off x="1187280" y="2230560"/>
            <a:ext cx="6409080" cy="1376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1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交流理解，提升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755640" y="45817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最多能买几个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533600" y="50875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还余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元呢，应该再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面包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二）交流想法，体会舍余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533600" y="55947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这些钱能买几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元的面包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332000" y="36925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丽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钱，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一个的面包，最多能买几个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41" name="Picture 12" descr="未标题-015"/>
          <p:cNvPicPr/>
          <p:nvPr/>
        </p:nvPicPr>
        <p:blipFill>
          <a:blip r:embed="rId2"/>
          <a:stretch/>
        </p:blipFill>
        <p:spPr>
          <a:xfrm>
            <a:off x="1187280" y="2230560"/>
            <a:ext cx="6409080" cy="1376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交流理解，提升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79280" y="41979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问题和刚才解决划船的问题哪儿相同？哪儿不同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971640" y="47487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刚才余下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”就要增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条船，现在余下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元”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怎么不增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面包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三）对比感悟，提升认识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3924360" y="2276640"/>
            <a:ext cx="4895640" cy="136836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971640" y="56620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想一想今天研究的问题，你有什么想对大家说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3995640" y="3187800"/>
            <a:ext cx="5184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小丽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元钱，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元一个的面包，最多能买几个？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矩形 9"/>
          <p:cNvSpPr/>
          <p:nvPr/>
        </p:nvSpPr>
        <p:spPr>
          <a:xfrm>
            <a:off x="438120" y="2276640"/>
            <a:ext cx="3362400" cy="136836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个学生去划船，每条船最多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坐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人。他们至少要租多少条船？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1" name="Picture 16" descr="未标题-015"/>
          <p:cNvPicPr/>
          <p:nvPr/>
        </p:nvPicPr>
        <p:blipFill>
          <a:blip r:embed="rId2"/>
          <a:stretch/>
        </p:blipFill>
        <p:spPr>
          <a:xfrm>
            <a:off x="4408560" y="2349360"/>
            <a:ext cx="3943440" cy="8146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3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900000" y="2924280"/>
            <a:ext cx="7561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1"/>
          <p:cNvSpPr/>
          <p:nvPr/>
        </p:nvSpPr>
        <p:spPr>
          <a:xfrm>
            <a:off x="839880" y="1773360"/>
            <a:ext cx="7548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个学生去划船，每条船最多坐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。他们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至少要租多少条船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审读题意，交流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784520" y="4415400"/>
            <a:ext cx="68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追问：“最多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”你怎么理解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556000" y="4940640"/>
            <a:ext cx="56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至少”是什么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55640" y="3859560"/>
            <a:ext cx="68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都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椭圆 8"/>
          <p:cNvSpPr/>
          <p:nvPr/>
        </p:nvSpPr>
        <p:spPr>
          <a:xfrm>
            <a:off x="5373720" y="1776240"/>
            <a:ext cx="1460520" cy="61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椭圆 9"/>
          <p:cNvSpPr/>
          <p:nvPr/>
        </p:nvSpPr>
        <p:spPr>
          <a:xfrm>
            <a:off x="884160" y="2262240"/>
            <a:ext cx="720720" cy="61128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46200" y="5753520"/>
            <a:ext cx="60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谁能完整地说一说这道题的意思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讨论辨析，理解进一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755640" y="420192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他们至少要租多少条船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自己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一）独立尝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755640" y="51534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提示：可以写一写，算一算，画一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839880" y="2349360"/>
            <a:ext cx="7548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个学生去划船，每条船最多坐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。他们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至少要租多少条船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468360" y="148428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二）交流想法，体会进一法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55640" y="41958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至少要租几条船呢？这里有几位同学的想法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们一起看一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讨论辨析，理解进一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839880" y="2349360"/>
            <a:ext cx="7548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个学生去划船，每条船最多坐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。他们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至少要租多少条船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347760" y="260280"/>
            <a:ext cx="8400960" cy="6286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0200" y="6369120"/>
            <a:ext cx="337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68360" y="1482840"/>
            <a:ext cx="8229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（三）讨论辨析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66560" y="48942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有的同学认为至少需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条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还有的同学认为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至少需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条船，你觉得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2" name="图片 6" descr="学生独立解决图3.JPG"/>
          <p:cNvPicPr/>
          <p:nvPr/>
        </p:nvPicPr>
        <p:blipFill>
          <a:blip r:embed="rId2"/>
          <a:stretch/>
        </p:blipFill>
        <p:spPr>
          <a:xfrm>
            <a:off x="5364000" y="3375000"/>
            <a:ext cx="2497320" cy="11336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7" descr="学生独立解决图1.JPG"/>
          <p:cNvPicPr/>
          <p:nvPr/>
        </p:nvPicPr>
        <p:blipFill>
          <a:blip r:embed="rId3"/>
          <a:stretch/>
        </p:blipFill>
        <p:spPr>
          <a:xfrm>
            <a:off x="1403280" y="3375000"/>
            <a:ext cx="1015920" cy="11336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0" descr="学生独立解决图2.JPG"/>
          <p:cNvPicPr/>
          <p:nvPr/>
        </p:nvPicPr>
        <p:blipFill>
          <a:blip r:embed="rId4"/>
          <a:srcRect l="0" t="0" r="0" b="15165"/>
          <a:stretch/>
        </p:blipFill>
        <p:spPr>
          <a:xfrm>
            <a:off x="2662200" y="3375000"/>
            <a:ext cx="2459160" cy="1133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258920" y="5777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看来余下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人是关键，应该怎样安排他们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57200" y="417600"/>
            <a:ext cx="821844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讨论辨析，理解进一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9880" y="2208240"/>
            <a:ext cx="7548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个学生去划船，每条船最多坐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。他们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至少要租多少条船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结果检验，梳理强化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39640" y="428976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检验：他们至少需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条船，解答正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1297080" y="4883040"/>
            <a:ext cx="752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梳理：解决同一个问题，大家用了不同的方法。在研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位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同学的想法时大家发现，解决问题要注意考虑实际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情况，即使坐不满，剩余的人也要再租一条船，这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样才能满足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个学生都去划船的要求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4" name="图片 6" descr="学生独立解决图3.JPG"/>
          <p:cNvPicPr/>
          <p:nvPr/>
        </p:nvPicPr>
        <p:blipFill>
          <a:blip r:embed="rId2"/>
          <a:stretch/>
        </p:blipFill>
        <p:spPr>
          <a:xfrm>
            <a:off x="5364000" y="2871720"/>
            <a:ext cx="2497320" cy="11336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7" descr="学生独立解决图1.JPG"/>
          <p:cNvPicPr/>
          <p:nvPr/>
        </p:nvPicPr>
        <p:blipFill>
          <a:blip r:embed="rId3"/>
          <a:stretch/>
        </p:blipFill>
        <p:spPr>
          <a:xfrm>
            <a:off x="1403280" y="2871720"/>
            <a:ext cx="1015920" cy="1133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0" descr="学生独立解决图2.JPG"/>
          <p:cNvPicPr/>
          <p:nvPr/>
        </p:nvPicPr>
        <p:blipFill>
          <a:blip r:embed="rId4"/>
          <a:srcRect l="0" t="0" r="0" b="15165"/>
          <a:stretch/>
        </p:blipFill>
        <p:spPr>
          <a:xfrm>
            <a:off x="2662200" y="2871720"/>
            <a:ext cx="2459160" cy="1133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839880" y="1703520"/>
            <a:ext cx="7548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个学生去划船，每条船最多坐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。他们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至少要租多少条船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结果检验，梳理强化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11280" y="34992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一读，你知道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403280" y="41058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能自己解决问题吗？动笔试一试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403280" y="47120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至少要运多少次啊？你是怎么想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53186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监控：为什么要“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755640" y="1919160"/>
            <a:ext cx="8064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7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箱菠萝，王叔叔每次最多能运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箱。至少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要运多少次才能运完这些菠萝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3:56Z</dcterms:modified>
  <cp:revision>40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