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人教logo"/>
          <p:cNvPicPr/>
          <p:nvPr/>
        </p:nvPicPr>
        <p:blipFill>
          <a:blip r:embed="rId3"/>
          <a:stretch/>
        </p:blipFill>
        <p:spPr>
          <a:xfrm>
            <a:off x="468360" y="6093000"/>
            <a:ext cx="3168720" cy="347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1692360" y="865080"/>
            <a:ext cx="528300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余数的除法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76" name="Picture 6" descr="6"/>
          <p:cNvPicPr/>
          <p:nvPr/>
        </p:nvPicPr>
        <p:blipFill>
          <a:blip r:embed="rId2"/>
          <a:stretch/>
        </p:blipFill>
        <p:spPr>
          <a:xfrm>
            <a:off x="214200" y="692280"/>
            <a:ext cx="1905120" cy="1428480"/>
          </a:xfrm>
          <a:prstGeom prst="rect">
            <a:avLst/>
          </a:prstGeom>
          <a:ln w="0">
            <a:noFill/>
          </a:ln>
        </p:spPr>
      </p:pic>
      <p:sp>
        <p:nvSpPr>
          <p:cNvPr id="77" name="TextBox 3"/>
          <p:cNvSpPr/>
          <p:nvPr/>
        </p:nvSpPr>
        <p:spPr>
          <a:xfrm>
            <a:off x="971640" y="1965240"/>
            <a:ext cx="511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解决问题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数学课件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-24120" y="5661000"/>
            <a:ext cx="87408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、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fydaxue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9" name=""/>
          <p:cNvSpPr/>
          <p:nvPr/>
        </p:nvSpPr>
        <p:spPr>
          <a:xfrm>
            <a:off x="108000" y="6453360"/>
            <a:ext cx="50799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417600"/>
            <a:ext cx="8218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巩固练习，积累经验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0" y="1603080"/>
            <a:ext cx="8209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1" lang="en-US" sz="2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582480" y="5014440"/>
            <a:ext cx="69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要求：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）独立解决问题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582480" y="5506560"/>
            <a:ext cx="74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）你是怎样做的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582480" y="5998680"/>
            <a:ext cx="74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）你还能提出其他数学问题并解答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1379520" y="4064040"/>
            <a:ext cx="59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盆应该摆什么颜色的花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45" name="Picture 12" descr=""/>
          <p:cNvPicPr/>
          <p:nvPr/>
        </p:nvPicPr>
        <p:blipFill>
          <a:blip r:embed="rId2"/>
          <a:stretch/>
        </p:blipFill>
        <p:spPr>
          <a:xfrm>
            <a:off x="1379520" y="1741320"/>
            <a:ext cx="6000840" cy="224028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1"/>
          <p:cNvSpPr/>
          <p:nvPr/>
        </p:nvSpPr>
        <p:spPr>
          <a:xfrm>
            <a:off x="-24120" y="5661000"/>
            <a:ext cx="87408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、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fydaxue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四、课堂作业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314280" y="504864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完成建议 ：第一问独立完成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1692360" y="5516640"/>
            <a:ext cx="712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第二问指导找关键信息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天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天，体会商和余数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与这个问题的关系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971640" y="1628640"/>
            <a:ext cx="3887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个星期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天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六月份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天，有几个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星期？还多几天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如果六月份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星期六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和星期日，那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是星期几？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52" name="Picture 10" descr="未标题-022"/>
          <p:cNvPicPr/>
          <p:nvPr/>
        </p:nvPicPr>
        <p:blipFill>
          <a:blip r:embed="rId2"/>
          <a:stretch/>
        </p:blipFill>
        <p:spPr>
          <a:xfrm>
            <a:off x="4859280" y="1636560"/>
            <a:ext cx="3384720" cy="284652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10"/>
          <p:cNvSpPr/>
          <p:nvPr/>
        </p:nvSpPr>
        <p:spPr>
          <a:xfrm>
            <a:off x="-24120" y="5661000"/>
            <a:ext cx="87408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、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fydaxue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回顾规律，引出新问题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68360" y="3715200"/>
            <a:ext cx="684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横线上画什么？你是怎么想的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468360" y="443556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引出：如果按照这样的规律接着摆下去，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个图案是什么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个呢？今天我们继续来研究这样的问题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83" name="Group 25"/>
          <p:cNvGrpSpPr/>
          <p:nvPr/>
        </p:nvGrpSpPr>
        <p:grpSpPr>
          <a:xfrm>
            <a:off x="1332000" y="2286000"/>
            <a:ext cx="5516640" cy="552600"/>
            <a:chOff x="1332000" y="2286000"/>
            <a:chExt cx="5516640" cy="552600"/>
          </a:xfrm>
        </p:grpSpPr>
        <p:sp>
          <p:nvSpPr>
            <p:cNvPr id="84" name="Line 15"/>
            <p:cNvSpPr/>
            <p:nvPr/>
          </p:nvSpPr>
          <p:spPr>
            <a:xfrm>
              <a:off x="6107040" y="2838600"/>
              <a:ext cx="74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85" name="Picture 17" descr="u6jx04-2"/>
            <p:cNvPicPr/>
            <p:nvPr/>
          </p:nvPicPr>
          <p:blipFill>
            <a:blip r:embed="rId2"/>
            <a:stretch/>
          </p:blipFill>
          <p:spPr>
            <a:xfrm>
              <a:off x="1920960" y="2286000"/>
              <a:ext cx="498600" cy="5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18" descr="u6jx04-2-1"/>
            <p:cNvPicPr/>
            <p:nvPr/>
          </p:nvPicPr>
          <p:blipFill>
            <a:blip r:embed="rId3"/>
            <a:stretch/>
          </p:blipFill>
          <p:spPr>
            <a:xfrm>
              <a:off x="1332000" y="2341440"/>
              <a:ext cx="503280" cy="39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19" descr="u6jx04-2"/>
            <p:cNvPicPr/>
            <p:nvPr/>
          </p:nvPicPr>
          <p:blipFill>
            <a:blip r:embed="rId4"/>
            <a:stretch/>
          </p:blipFill>
          <p:spPr>
            <a:xfrm>
              <a:off x="3094200" y="228600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20" descr="u6jx04-2-1"/>
            <p:cNvPicPr/>
            <p:nvPr/>
          </p:nvPicPr>
          <p:blipFill>
            <a:blip r:embed="rId5"/>
            <a:stretch/>
          </p:blipFill>
          <p:spPr>
            <a:xfrm>
              <a:off x="2505240" y="2341440"/>
              <a:ext cx="503280" cy="39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21" descr="u6jx04-2"/>
            <p:cNvPicPr/>
            <p:nvPr/>
          </p:nvPicPr>
          <p:blipFill>
            <a:blip r:embed="rId6"/>
            <a:stretch/>
          </p:blipFill>
          <p:spPr>
            <a:xfrm>
              <a:off x="4268880" y="2286000"/>
              <a:ext cx="498600" cy="5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22" descr="u6jx04-2-1"/>
            <p:cNvPicPr/>
            <p:nvPr/>
          </p:nvPicPr>
          <p:blipFill>
            <a:blip r:embed="rId7"/>
            <a:stretch/>
          </p:blipFill>
          <p:spPr>
            <a:xfrm>
              <a:off x="3679920" y="2341440"/>
              <a:ext cx="503280" cy="39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23" descr="u6jx04-2"/>
            <p:cNvPicPr/>
            <p:nvPr/>
          </p:nvPicPr>
          <p:blipFill>
            <a:blip r:embed="rId8"/>
            <a:stretch/>
          </p:blipFill>
          <p:spPr>
            <a:xfrm>
              <a:off x="5442120" y="228600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24" descr="u6jx04-2-1"/>
            <p:cNvPicPr/>
            <p:nvPr/>
          </p:nvPicPr>
          <p:blipFill>
            <a:blip r:embed="rId9"/>
            <a:stretch/>
          </p:blipFill>
          <p:spPr>
            <a:xfrm>
              <a:off x="4853160" y="2341440"/>
              <a:ext cx="503280" cy="39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Rectangle 16"/>
          <p:cNvSpPr/>
          <p:nvPr/>
        </p:nvSpPr>
        <p:spPr>
          <a:xfrm>
            <a:off x="-24120" y="5661000"/>
            <a:ext cx="87408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、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fydaxue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3"/>
          <p:cNvSpPr/>
          <p:nvPr/>
        </p:nvSpPr>
        <p:spPr>
          <a:xfrm>
            <a:off x="971640" y="4410360"/>
            <a:ext cx="684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读一读，说一说你知道了什么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971640" y="4898160"/>
            <a:ext cx="684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探究：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面小旗应该是什么颜色呢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请你自己试一试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457200" y="417600"/>
            <a:ext cx="8218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方法交流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468360" y="1484280"/>
            <a:ext cx="82296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（一）理解题意，自主尝试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971640" y="5729760"/>
            <a:ext cx="79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提示：可以摆一摆，写一写，画一画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660240" y="2190600"/>
            <a:ext cx="78170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按照下面的规律摆小旗。这样摆下去，第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面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小旗应该是什么颜色？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00" name="Picture 12" descr="未标题-24"/>
          <p:cNvPicPr/>
          <p:nvPr/>
        </p:nvPicPr>
        <p:blipFill>
          <a:blip r:embed="rId2"/>
          <a:stretch/>
        </p:blipFill>
        <p:spPr>
          <a:xfrm>
            <a:off x="1120680" y="3287880"/>
            <a:ext cx="6945480" cy="8539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1"/>
          <p:cNvSpPr/>
          <p:nvPr/>
        </p:nvSpPr>
        <p:spPr>
          <a:xfrm>
            <a:off x="-24120" y="5661000"/>
            <a:ext cx="87408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、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fydaxue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457200" y="417600"/>
            <a:ext cx="8218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方法交流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468360" y="1484280"/>
            <a:ext cx="82296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（二）交流方法，初步感受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574560" y="4473720"/>
            <a:ext cx="752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面小旗应该是什么颜色呢？这里有几位同学的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想法，我们一起看一看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660240" y="2190600"/>
            <a:ext cx="78170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按照下面的规律摆小旗。这样摆下去，第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面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小旗应该是什么颜色？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06" name="Picture 12" descr="未标题-24"/>
          <p:cNvPicPr/>
          <p:nvPr/>
        </p:nvPicPr>
        <p:blipFill>
          <a:blip r:embed="rId2"/>
          <a:stretch/>
        </p:blipFill>
        <p:spPr>
          <a:xfrm>
            <a:off x="1120680" y="3287880"/>
            <a:ext cx="6945480" cy="8539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9"/>
          <p:cNvSpPr/>
          <p:nvPr/>
        </p:nvSpPr>
        <p:spPr>
          <a:xfrm>
            <a:off x="-24120" y="5661000"/>
            <a:ext cx="87408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、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fydaxue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8" name=""/>
          <p:cNvSpPr/>
          <p:nvPr/>
        </p:nvSpPr>
        <p:spPr>
          <a:xfrm>
            <a:off x="160200" y="6369120"/>
            <a:ext cx="3376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6" descr=""/>
          <p:cNvPicPr/>
          <p:nvPr/>
        </p:nvPicPr>
        <p:blipFill>
          <a:blip r:embed="rId2"/>
          <a:stretch/>
        </p:blipFill>
        <p:spPr>
          <a:xfrm>
            <a:off x="341280" y="189000"/>
            <a:ext cx="8363160" cy="62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457200" y="417600"/>
            <a:ext cx="8218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方法交流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468360" y="1484280"/>
            <a:ext cx="82296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（三）数据变化，体会方法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539640" y="408168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解决这个问题，大家想到了几种好办法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谁再简单说一说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539640" y="488052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检验：这个问题解答正确吗？我们一起来答题吧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539640" y="531504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变化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如果求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面小旗的颜色，你准备怎样解决问题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试一试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1309680" y="613764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面呢？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面呢？你有什么想告诉大家的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?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660240" y="2190600"/>
            <a:ext cx="78170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按照下面的规律摆小旗。这样摆下去，第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面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小旗应该是什么颜色？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20" name="Picture 12" descr="未标题-24"/>
          <p:cNvPicPr/>
          <p:nvPr/>
        </p:nvPicPr>
        <p:blipFill>
          <a:blip r:embed="rId2"/>
          <a:stretch/>
        </p:blipFill>
        <p:spPr>
          <a:xfrm>
            <a:off x="1120680" y="3287880"/>
            <a:ext cx="6945480" cy="85392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2"/>
          <p:cNvSpPr/>
          <p:nvPr/>
        </p:nvSpPr>
        <p:spPr>
          <a:xfrm>
            <a:off x="-24120" y="5661000"/>
            <a:ext cx="87408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、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fydaxue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457200" y="417600"/>
            <a:ext cx="8218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方法交流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468360" y="1484280"/>
            <a:ext cx="82296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（四）变化练习，完善认识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755640" y="37580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读一读，说一说知道了什么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1552680" y="4317480"/>
            <a:ext cx="72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面小旗应该是什么颜色？自己试一试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1552680" y="4858200"/>
            <a:ext cx="72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有的同学发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没有余数，该怎样判断呢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755640" y="550476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小结：余数是几，答案就是这一组中的第几个；没有余数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说明正好分完，就是每组最后一个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900000" y="2409840"/>
            <a:ext cx="77756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按照例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的规律接着往下摆，第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面小旗应该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是什么颜色？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-24120" y="5661000"/>
            <a:ext cx="87408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、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fydaxue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457200" y="417600"/>
            <a:ext cx="8218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巩固练习，积累经验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468360" y="415548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要求：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）读一读，说一说知道了什么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468360" y="469368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）独立解决问题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0" y="1602720"/>
            <a:ext cx="8209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1" lang="en-US" sz="2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468360" y="521208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）你是怎样做的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1258920" y="2924280"/>
            <a:ext cx="662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按照上面的规律穿一串珠子，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珠子应该是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什么颜色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36" name="Picture 11" descr="未标题-23"/>
          <p:cNvPicPr/>
          <p:nvPr/>
        </p:nvPicPr>
        <p:blipFill>
          <a:blip r:embed="rId2"/>
          <a:stretch/>
        </p:blipFill>
        <p:spPr>
          <a:xfrm>
            <a:off x="1116000" y="1989000"/>
            <a:ext cx="6840720" cy="9763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12"/>
          <p:cNvSpPr/>
          <p:nvPr/>
        </p:nvSpPr>
        <p:spPr>
          <a:xfrm>
            <a:off x="-24120" y="5661000"/>
            <a:ext cx="87408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、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fydaxue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8" name=""/>
          <p:cNvSpPr/>
          <p:nvPr/>
        </p:nvSpPr>
        <p:spPr>
          <a:xfrm>
            <a:off x="160200" y="6369120"/>
            <a:ext cx="3376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4:26:03Z</dcterms:modified>
  <cp:revision>411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