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8322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38322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15235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38322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38322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80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5235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22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5235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5315040"/>
            <a:ext cx="81532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24e0d"/>
                </a:solidFill>
                <a:latin typeface="Microsoft Sans Serif"/>
                <a:ea typeface="汉真广标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6760" y="406440"/>
            <a:ext cx="50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Arial"/>
              </a:rPr>
              <a:t>经济学</a:t>
            </a:r>
            <a:r>
              <a:rPr b="0" lang="zh-CN" sz="4000" spc="-1" strike="noStrike">
                <a:solidFill>
                  <a:srgbClr val="491403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491403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14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3:35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