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D05-8CEC-4494-A7FD-0785C84E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EF1-269C-48F6-A638-4C4C140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DE9-F2CE-4C87-8074-45EDE587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934-66A0-4110-9A38-635D2742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A56-D51D-48A5-8B9C-35BB0BE3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1C4-40D1-4A87-89C6-647779C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FCC-B8E6-4F4D-BE5B-852FA8B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00A-0BA6-41E5-A902-FC554FF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31E-8BFA-4337-9A43-179054D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BDA-B686-4A20-8EEC-8D0E90E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540-9BF3-45C6-A9BF-843F3D0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A3F-C25F-4177-A1E7-E5E489B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A1A-1F21-44CB-B55D-E445E3B477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C6FA-988A-4A66-89E7-562F29FE4B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39"/>
          <p:cNvGrpSpPr/>
          <p:nvPr/>
        </p:nvGrpSpPr>
        <p:grpSpPr>
          <a:xfrm>
            <a:off x="0" y="0"/>
            <a:ext cx="9156600" cy="6860880"/>
            <a:chOff x="0" y="0"/>
            <a:chExt cx="9156600" cy="6860880"/>
          </a:xfrm>
        </p:grpSpPr>
        <p:pic>
          <p:nvPicPr>
            <p:cNvPr id="42" name="矩形 3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6600" cy="68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6480" y="5400"/>
              <a:ext cx="9144000" cy="68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图片 386" descr="图片1.png"/>
          <p:cNvPicPr/>
          <p:nvPr/>
        </p:nvPicPr>
        <p:blipFill>
          <a:blip r:embed="rId2"/>
          <a:stretch/>
        </p:blipFill>
        <p:spPr>
          <a:xfrm>
            <a:off x="7920" y="0"/>
            <a:ext cx="7012080" cy="3467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0" descr="6.png"/>
          <p:cNvPicPr/>
          <p:nvPr/>
        </p:nvPicPr>
        <p:blipFill>
          <a:blip r:embed="rId3"/>
          <a:stretch/>
        </p:blipFill>
        <p:spPr>
          <a:xfrm>
            <a:off x="1355760" y="5313240"/>
            <a:ext cx="3786120" cy="154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1" descr="7.png"/>
          <p:cNvPicPr/>
          <p:nvPr/>
        </p:nvPicPr>
        <p:blipFill>
          <a:blip r:embed="rId4"/>
          <a:stretch/>
        </p:blipFill>
        <p:spPr>
          <a:xfrm>
            <a:off x="1246320" y="5742000"/>
            <a:ext cx="4000320" cy="1114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2" descr="8.png"/>
          <p:cNvPicPr/>
          <p:nvPr/>
        </p:nvPicPr>
        <p:blipFill>
          <a:blip r:embed="rId5"/>
          <a:stretch/>
        </p:blipFill>
        <p:spPr>
          <a:xfrm>
            <a:off x="888840" y="6084720"/>
            <a:ext cx="642960" cy="7718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3" descr="9.png"/>
          <p:cNvPicPr/>
          <p:nvPr/>
        </p:nvPicPr>
        <p:blipFill>
          <a:blip r:embed="rId6"/>
          <a:stretch/>
        </p:blipFill>
        <p:spPr>
          <a:xfrm>
            <a:off x="4960800" y="5087880"/>
            <a:ext cx="928800" cy="1457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4" descr="10.png"/>
          <p:cNvPicPr/>
          <p:nvPr/>
        </p:nvPicPr>
        <p:blipFill>
          <a:blip r:embed="rId7"/>
          <a:stretch/>
        </p:blipFill>
        <p:spPr>
          <a:xfrm>
            <a:off x="5746680" y="5087880"/>
            <a:ext cx="1428840" cy="1457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85" descr="11.png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6746760" y="2046240"/>
            <a:ext cx="12528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86"/>
          <p:cNvGrpSpPr/>
          <p:nvPr/>
        </p:nvGrpSpPr>
        <p:grpSpPr>
          <a:xfrm>
            <a:off x="0" y="5416560"/>
            <a:ext cx="9144000" cy="1251000"/>
            <a:chOff x="0" y="5416560"/>
            <a:chExt cx="9144000" cy="1251000"/>
          </a:xfrm>
        </p:grpSpPr>
        <p:sp>
          <p:nvSpPr>
            <p:cNvPr id="52" name="矩形 76"/>
            <p:cNvSpPr/>
            <p:nvPr/>
          </p:nvSpPr>
          <p:spPr>
            <a:xfrm>
              <a:off x="0" y="5441040"/>
              <a:ext cx="9144000" cy="106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77280" y="5416560"/>
              <a:ext cx="8736480" cy="24480"/>
              <a:chOff x="377280" y="5416560"/>
              <a:chExt cx="8736480" cy="24480"/>
            </a:xfrm>
          </p:grpSpPr>
          <p:sp>
            <p:nvSpPr>
              <p:cNvPr id="54" name="Line 9"/>
              <p:cNvSpPr/>
              <p:nvPr/>
            </p:nvSpPr>
            <p:spPr>
              <a:xfrm flipH="1">
                <a:off x="377280" y="5416560"/>
                <a:ext cx="8736120" cy="24480"/>
              </a:xfrm>
              <a:prstGeom prst="line">
                <a:avLst/>
              </a:prstGeom>
              <a:ln w="12600">
                <a:solidFill>
                  <a:srgbClr val="25221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377640" y="5416560"/>
                <a:ext cx="8736120" cy="2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9520" y="5488920"/>
              <a:ext cx="277920" cy="308520"/>
              <a:chOff x="29520" y="5488920"/>
              <a:chExt cx="277920" cy="308520"/>
            </a:xfrm>
          </p:grpSpPr>
          <p:sp>
            <p:nvSpPr>
              <p:cNvPr id="57" name="Line 12"/>
              <p:cNvSpPr/>
              <p:nvPr/>
            </p:nvSpPr>
            <p:spPr>
              <a:xfrm flipH="1">
                <a:off x="29520" y="5488920"/>
                <a:ext cx="277560" cy="30852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29880" y="5488920"/>
                <a:ext cx="277560" cy="30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0520" y="5429880"/>
              <a:ext cx="544320" cy="666360"/>
              <a:chOff x="20520" y="5429880"/>
              <a:chExt cx="544320" cy="666360"/>
            </a:xfrm>
          </p:grpSpPr>
          <p:sp>
            <p:nvSpPr>
              <p:cNvPr id="60" name="Line 13"/>
              <p:cNvSpPr/>
              <p:nvPr/>
            </p:nvSpPr>
            <p:spPr>
              <a:xfrm flipH="1">
                <a:off x="20520" y="5429880"/>
                <a:ext cx="544320" cy="66636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20520" y="5429880"/>
                <a:ext cx="544320" cy="66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0520" y="5441040"/>
              <a:ext cx="753840" cy="940680"/>
              <a:chOff x="20520" y="5441040"/>
              <a:chExt cx="753840" cy="940680"/>
            </a:xfrm>
          </p:grpSpPr>
          <p:sp>
            <p:nvSpPr>
              <p:cNvPr id="63" name="Line 14"/>
              <p:cNvSpPr/>
              <p:nvPr/>
            </p:nvSpPr>
            <p:spPr>
              <a:xfrm flipH="1">
                <a:off x="20520" y="5441040"/>
                <a:ext cx="753840" cy="94068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20520" y="5441040"/>
                <a:ext cx="753840" cy="94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8840" y="5441040"/>
              <a:ext cx="912960" cy="1226520"/>
              <a:chOff x="78840" y="5441040"/>
              <a:chExt cx="912960" cy="1226520"/>
            </a:xfrm>
          </p:grpSpPr>
          <p:sp>
            <p:nvSpPr>
              <p:cNvPr id="66" name="Line 15"/>
              <p:cNvSpPr/>
              <p:nvPr/>
            </p:nvSpPr>
            <p:spPr>
              <a:xfrm flipH="1">
                <a:off x="78840" y="5441040"/>
                <a:ext cx="912600" cy="122652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79200" y="5441040"/>
                <a:ext cx="912600" cy="122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377280" y="5441040"/>
              <a:ext cx="833760" cy="1215000"/>
              <a:chOff x="377280" y="5441040"/>
              <a:chExt cx="833760" cy="1215000"/>
            </a:xfrm>
          </p:grpSpPr>
          <p:sp>
            <p:nvSpPr>
              <p:cNvPr id="69" name="Line 16"/>
              <p:cNvSpPr/>
              <p:nvPr/>
            </p:nvSpPr>
            <p:spPr>
              <a:xfrm flipH="1">
                <a:off x="377280" y="5441040"/>
                <a:ext cx="8334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377640" y="5441040"/>
                <a:ext cx="8334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64560" y="5441040"/>
              <a:ext cx="765360" cy="1215000"/>
              <a:chOff x="664560" y="5441040"/>
              <a:chExt cx="765360" cy="1215000"/>
            </a:xfrm>
          </p:grpSpPr>
          <p:sp>
            <p:nvSpPr>
              <p:cNvPr id="72" name="Line 17"/>
              <p:cNvSpPr/>
              <p:nvPr/>
            </p:nvSpPr>
            <p:spPr>
              <a:xfrm flipH="1">
                <a:off x="664560" y="5441040"/>
                <a:ext cx="7650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664920" y="5441040"/>
                <a:ext cx="7650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963000" y="5441040"/>
              <a:ext cx="665280" cy="1215000"/>
              <a:chOff x="963000" y="5441040"/>
              <a:chExt cx="665280" cy="1215000"/>
            </a:xfrm>
          </p:grpSpPr>
          <p:sp>
            <p:nvSpPr>
              <p:cNvPr id="75" name="Line 18"/>
              <p:cNvSpPr/>
              <p:nvPr/>
            </p:nvSpPr>
            <p:spPr>
              <a:xfrm flipH="1">
                <a:off x="963000" y="5441040"/>
                <a:ext cx="66492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963360" y="5441040"/>
                <a:ext cx="6649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260360" y="5441040"/>
              <a:ext cx="596880" cy="1215000"/>
              <a:chOff x="1260360" y="5441040"/>
              <a:chExt cx="596880" cy="1215000"/>
            </a:xfrm>
          </p:grpSpPr>
          <p:sp>
            <p:nvSpPr>
              <p:cNvPr id="78" name="Line 19"/>
              <p:cNvSpPr/>
              <p:nvPr/>
            </p:nvSpPr>
            <p:spPr>
              <a:xfrm flipH="1">
                <a:off x="1260360" y="5441040"/>
                <a:ext cx="5968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260360" y="5441040"/>
                <a:ext cx="5968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549080" y="5441040"/>
              <a:ext cx="516240" cy="1215000"/>
              <a:chOff x="1549080" y="5441040"/>
              <a:chExt cx="516240" cy="1215000"/>
            </a:xfrm>
          </p:grpSpPr>
          <p:sp>
            <p:nvSpPr>
              <p:cNvPr id="81" name="Line 20"/>
              <p:cNvSpPr/>
              <p:nvPr/>
            </p:nvSpPr>
            <p:spPr>
              <a:xfrm flipH="1">
                <a:off x="1549080" y="5441040"/>
                <a:ext cx="5158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549440" y="5441040"/>
                <a:ext cx="5158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836360" y="5441040"/>
              <a:ext cx="446400" cy="1215000"/>
              <a:chOff x="1836360" y="5441040"/>
              <a:chExt cx="446400" cy="1215000"/>
            </a:xfrm>
          </p:grpSpPr>
          <p:sp>
            <p:nvSpPr>
              <p:cNvPr id="84" name="Line 21"/>
              <p:cNvSpPr/>
              <p:nvPr/>
            </p:nvSpPr>
            <p:spPr>
              <a:xfrm flipH="1">
                <a:off x="1836360" y="5441040"/>
                <a:ext cx="44604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836720" y="5441040"/>
                <a:ext cx="4460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35160" y="5441040"/>
              <a:ext cx="366480" cy="1215000"/>
              <a:chOff x="2135160" y="5441040"/>
              <a:chExt cx="366480" cy="1215000"/>
            </a:xfrm>
          </p:grpSpPr>
          <p:sp>
            <p:nvSpPr>
              <p:cNvPr id="87" name="Line 22"/>
              <p:cNvSpPr/>
              <p:nvPr/>
            </p:nvSpPr>
            <p:spPr>
              <a:xfrm flipH="1">
                <a:off x="2135160" y="5441040"/>
                <a:ext cx="3664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2135160" y="5441040"/>
                <a:ext cx="3664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431440" y="5441040"/>
              <a:ext cx="277920" cy="1215000"/>
              <a:chOff x="2431440" y="5441040"/>
              <a:chExt cx="277920" cy="1215000"/>
            </a:xfrm>
          </p:grpSpPr>
          <p:sp>
            <p:nvSpPr>
              <p:cNvPr id="90" name="Line 23"/>
              <p:cNvSpPr/>
              <p:nvPr/>
            </p:nvSpPr>
            <p:spPr>
              <a:xfrm flipH="1">
                <a:off x="2431440" y="5441040"/>
                <a:ext cx="2775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2431800" y="5441040"/>
                <a:ext cx="2775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730240" y="5441040"/>
              <a:ext cx="198720" cy="1215000"/>
              <a:chOff x="2730240" y="5441040"/>
              <a:chExt cx="198720" cy="1215000"/>
            </a:xfrm>
          </p:grpSpPr>
          <p:sp>
            <p:nvSpPr>
              <p:cNvPr id="93" name="Line 24"/>
              <p:cNvSpPr/>
              <p:nvPr/>
            </p:nvSpPr>
            <p:spPr>
              <a:xfrm flipH="1">
                <a:off x="2730240" y="5441040"/>
                <a:ext cx="19836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2730600" y="5441040"/>
                <a:ext cx="1983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029040" y="5441040"/>
              <a:ext cx="118800" cy="1215000"/>
              <a:chOff x="3029040" y="5441040"/>
              <a:chExt cx="118800" cy="1215000"/>
            </a:xfrm>
          </p:grpSpPr>
          <p:sp>
            <p:nvSpPr>
              <p:cNvPr id="96" name="Line 25"/>
              <p:cNvSpPr/>
              <p:nvPr/>
            </p:nvSpPr>
            <p:spPr>
              <a:xfrm flipH="1">
                <a:off x="3029040" y="5441040"/>
                <a:ext cx="1188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3029040" y="5441040"/>
                <a:ext cx="1188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316320" y="5441040"/>
              <a:ext cx="48960" cy="1215000"/>
              <a:chOff x="3316320" y="5441040"/>
              <a:chExt cx="48960" cy="1215000"/>
            </a:xfrm>
          </p:grpSpPr>
          <p:sp>
            <p:nvSpPr>
              <p:cNvPr id="99" name="Line 26"/>
              <p:cNvSpPr/>
              <p:nvPr/>
            </p:nvSpPr>
            <p:spPr>
              <a:xfrm flipH="1">
                <a:off x="3316320" y="5441040"/>
                <a:ext cx="489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3316320" y="5441040"/>
                <a:ext cx="489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573360" y="5441040"/>
              <a:ext cx="41040" cy="1215000"/>
              <a:chOff x="3573360" y="5441040"/>
              <a:chExt cx="41040" cy="1215000"/>
            </a:xfrm>
          </p:grpSpPr>
          <p:sp>
            <p:nvSpPr>
              <p:cNvPr id="102" name="Line 27"/>
              <p:cNvSpPr/>
              <p:nvPr/>
            </p:nvSpPr>
            <p:spPr>
              <a:xfrm>
                <a:off x="3573360" y="5441040"/>
                <a:ext cx="4104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3573360" y="5441040"/>
                <a:ext cx="410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792600" y="5441040"/>
              <a:ext cx="118800" cy="1215000"/>
              <a:chOff x="3792600" y="5441040"/>
              <a:chExt cx="118800" cy="1215000"/>
            </a:xfrm>
          </p:grpSpPr>
          <p:sp>
            <p:nvSpPr>
              <p:cNvPr id="105" name="Line 28"/>
              <p:cNvSpPr/>
              <p:nvPr/>
            </p:nvSpPr>
            <p:spPr>
              <a:xfrm>
                <a:off x="3792600" y="5441040"/>
                <a:ext cx="1188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792600" y="5441040"/>
                <a:ext cx="1188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011480" y="5441040"/>
              <a:ext cx="198360" cy="1215000"/>
              <a:chOff x="4011480" y="5441040"/>
              <a:chExt cx="198360" cy="1215000"/>
            </a:xfrm>
          </p:grpSpPr>
          <p:sp>
            <p:nvSpPr>
              <p:cNvPr id="108" name="Line 29"/>
              <p:cNvSpPr/>
              <p:nvPr/>
            </p:nvSpPr>
            <p:spPr>
              <a:xfrm>
                <a:off x="4011480" y="5441040"/>
                <a:ext cx="1983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4011480" y="5441040"/>
                <a:ext cx="1983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219560" y="5441040"/>
              <a:ext cx="287280" cy="1215000"/>
              <a:chOff x="4219560" y="5441040"/>
              <a:chExt cx="287280" cy="1215000"/>
            </a:xfrm>
          </p:grpSpPr>
          <p:sp>
            <p:nvSpPr>
              <p:cNvPr id="111" name="Line 30"/>
              <p:cNvSpPr/>
              <p:nvPr/>
            </p:nvSpPr>
            <p:spPr>
              <a:xfrm>
                <a:off x="4219560" y="5441040"/>
                <a:ext cx="2872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4219560" y="5441040"/>
                <a:ext cx="2872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438800" y="5441040"/>
              <a:ext cx="366480" cy="1215000"/>
              <a:chOff x="4438800" y="5441040"/>
              <a:chExt cx="366480" cy="1215000"/>
            </a:xfrm>
          </p:grpSpPr>
          <p:sp>
            <p:nvSpPr>
              <p:cNvPr id="114" name="Line 31"/>
              <p:cNvSpPr/>
              <p:nvPr/>
            </p:nvSpPr>
            <p:spPr>
              <a:xfrm>
                <a:off x="4438800" y="5441040"/>
                <a:ext cx="3664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438800" y="5441040"/>
                <a:ext cx="3664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56240" y="5441040"/>
              <a:ext cx="447480" cy="1215000"/>
              <a:chOff x="4656240" y="5441040"/>
              <a:chExt cx="447480" cy="1215000"/>
            </a:xfrm>
          </p:grpSpPr>
          <p:sp>
            <p:nvSpPr>
              <p:cNvPr id="117" name="Line 32"/>
              <p:cNvSpPr/>
              <p:nvPr/>
            </p:nvSpPr>
            <p:spPr>
              <a:xfrm>
                <a:off x="4656240" y="5441040"/>
                <a:ext cx="4474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4656240" y="5441040"/>
                <a:ext cx="4474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865760" y="5441040"/>
              <a:ext cx="534960" cy="1215000"/>
              <a:chOff x="4865760" y="5441040"/>
              <a:chExt cx="534960" cy="1215000"/>
            </a:xfrm>
          </p:grpSpPr>
          <p:sp>
            <p:nvSpPr>
              <p:cNvPr id="120" name="Line 33"/>
              <p:cNvSpPr/>
              <p:nvPr/>
            </p:nvSpPr>
            <p:spPr>
              <a:xfrm>
                <a:off x="4865760" y="5441040"/>
                <a:ext cx="53496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4865760" y="5441040"/>
                <a:ext cx="5349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083200" y="5441040"/>
              <a:ext cx="615960" cy="1215000"/>
              <a:chOff x="5083200" y="5441040"/>
              <a:chExt cx="615960" cy="1215000"/>
            </a:xfrm>
          </p:grpSpPr>
          <p:sp>
            <p:nvSpPr>
              <p:cNvPr id="123" name="Line 34"/>
              <p:cNvSpPr/>
              <p:nvPr/>
            </p:nvSpPr>
            <p:spPr>
              <a:xfrm>
                <a:off x="5083200" y="5441040"/>
                <a:ext cx="6159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5083200" y="5441040"/>
                <a:ext cx="6159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291280" y="5441040"/>
              <a:ext cx="706320" cy="1215000"/>
              <a:chOff x="5291280" y="5441040"/>
              <a:chExt cx="706320" cy="1215000"/>
            </a:xfrm>
          </p:grpSpPr>
          <p:sp>
            <p:nvSpPr>
              <p:cNvPr id="126" name="Line 35"/>
              <p:cNvSpPr/>
              <p:nvPr/>
            </p:nvSpPr>
            <p:spPr>
              <a:xfrm>
                <a:off x="5291280" y="5441040"/>
                <a:ext cx="70632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5291280" y="5441040"/>
                <a:ext cx="7063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510160" y="5441040"/>
              <a:ext cx="784080" cy="1215000"/>
              <a:chOff x="5510160" y="5441040"/>
              <a:chExt cx="784080" cy="1215000"/>
            </a:xfrm>
          </p:grpSpPr>
          <p:sp>
            <p:nvSpPr>
              <p:cNvPr id="129" name="Line 36"/>
              <p:cNvSpPr/>
              <p:nvPr/>
            </p:nvSpPr>
            <p:spPr>
              <a:xfrm>
                <a:off x="5510160" y="5441040"/>
                <a:ext cx="7840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5510160" y="5441040"/>
                <a:ext cx="7840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729400" y="5441040"/>
              <a:ext cx="873000" cy="1215000"/>
              <a:chOff x="5729400" y="5441040"/>
              <a:chExt cx="873000" cy="1215000"/>
            </a:xfrm>
          </p:grpSpPr>
          <p:sp>
            <p:nvSpPr>
              <p:cNvPr id="132" name="Line 37"/>
              <p:cNvSpPr/>
              <p:nvPr/>
            </p:nvSpPr>
            <p:spPr>
              <a:xfrm>
                <a:off x="5729400" y="5441040"/>
                <a:ext cx="8730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5729400" y="5441040"/>
                <a:ext cx="8730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937480" y="5441040"/>
              <a:ext cx="952200" cy="1215000"/>
              <a:chOff x="5937480" y="5441040"/>
              <a:chExt cx="952200" cy="1215000"/>
            </a:xfrm>
          </p:grpSpPr>
          <p:sp>
            <p:nvSpPr>
              <p:cNvPr id="135" name="Line 38"/>
              <p:cNvSpPr/>
              <p:nvPr/>
            </p:nvSpPr>
            <p:spPr>
              <a:xfrm>
                <a:off x="5937480" y="5441040"/>
                <a:ext cx="9522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5937480" y="5441040"/>
                <a:ext cx="9522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156360" y="5441040"/>
              <a:ext cx="1041120" cy="1215000"/>
              <a:chOff x="6156360" y="5441040"/>
              <a:chExt cx="1041120" cy="1215000"/>
            </a:xfrm>
          </p:grpSpPr>
          <p:sp>
            <p:nvSpPr>
              <p:cNvPr id="138" name="Line 39"/>
              <p:cNvSpPr/>
              <p:nvPr/>
            </p:nvSpPr>
            <p:spPr>
              <a:xfrm>
                <a:off x="6156360" y="5441040"/>
                <a:ext cx="104112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6156360" y="5441040"/>
                <a:ext cx="10411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373800" y="5441040"/>
              <a:ext cx="1122120" cy="1215000"/>
              <a:chOff x="6373800" y="5441040"/>
              <a:chExt cx="1122120" cy="1215000"/>
            </a:xfrm>
          </p:grpSpPr>
          <p:sp>
            <p:nvSpPr>
              <p:cNvPr id="141" name="Line 40"/>
              <p:cNvSpPr/>
              <p:nvPr/>
            </p:nvSpPr>
            <p:spPr>
              <a:xfrm>
                <a:off x="6373800" y="5441040"/>
                <a:ext cx="112212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6373800" y="5441040"/>
                <a:ext cx="11221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83320" y="5441040"/>
              <a:ext cx="1220760" cy="1215000"/>
              <a:chOff x="6583320" y="5441040"/>
              <a:chExt cx="1220760" cy="1215000"/>
            </a:xfrm>
          </p:grpSpPr>
          <p:sp>
            <p:nvSpPr>
              <p:cNvPr id="144" name="Line 41"/>
              <p:cNvSpPr/>
              <p:nvPr/>
            </p:nvSpPr>
            <p:spPr>
              <a:xfrm>
                <a:off x="6583320" y="5441040"/>
                <a:ext cx="122076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6583320" y="5441040"/>
                <a:ext cx="12207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791400" y="5441040"/>
              <a:ext cx="1320840" cy="1215000"/>
              <a:chOff x="6791400" y="5441040"/>
              <a:chExt cx="1320840" cy="1215000"/>
            </a:xfrm>
          </p:grpSpPr>
          <p:sp>
            <p:nvSpPr>
              <p:cNvPr id="147" name="Line 42"/>
              <p:cNvSpPr/>
              <p:nvPr/>
            </p:nvSpPr>
            <p:spPr>
              <a:xfrm>
                <a:off x="6791400" y="5441040"/>
                <a:ext cx="132084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6791400" y="5441040"/>
                <a:ext cx="13208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20000" y="5441040"/>
              <a:ext cx="1369800" cy="1215000"/>
              <a:chOff x="7020000" y="5441040"/>
              <a:chExt cx="1369800" cy="1215000"/>
            </a:xfrm>
          </p:grpSpPr>
          <p:sp>
            <p:nvSpPr>
              <p:cNvPr id="150" name="Line 43"/>
              <p:cNvSpPr/>
              <p:nvPr/>
            </p:nvSpPr>
            <p:spPr>
              <a:xfrm>
                <a:off x="7020000" y="5441040"/>
                <a:ext cx="13698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7020000" y="5441040"/>
                <a:ext cx="13698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228080" y="5441040"/>
              <a:ext cx="1469880" cy="1215000"/>
              <a:chOff x="7228080" y="5441040"/>
              <a:chExt cx="1469880" cy="1215000"/>
            </a:xfrm>
          </p:grpSpPr>
          <p:sp>
            <p:nvSpPr>
              <p:cNvPr id="153" name="Line 44"/>
              <p:cNvSpPr/>
              <p:nvPr/>
            </p:nvSpPr>
            <p:spPr>
              <a:xfrm>
                <a:off x="7228080" y="5441040"/>
                <a:ext cx="14698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7228080" y="5441040"/>
                <a:ext cx="14698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446960" y="5441040"/>
              <a:ext cx="1547640" cy="1215000"/>
              <a:chOff x="7446960" y="5441040"/>
              <a:chExt cx="1547640" cy="1215000"/>
            </a:xfrm>
          </p:grpSpPr>
          <p:sp>
            <p:nvSpPr>
              <p:cNvPr id="156" name="Line 45"/>
              <p:cNvSpPr/>
              <p:nvPr/>
            </p:nvSpPr>
            <p:spPr>
              <a:xfrm>
                <a:off x="7446960" y="5441040"/>
                <a:ext cx="154764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7446960" y="5441040"/>
                <a:ext cx="15476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674120" y="5441040"/>
              <a:ext cx="1430280" cy="1072080"/>
              <a:chOff x="7674120" y="5441040"/>
              <a:chExt cx="1430280" cy="1072080"/>
            </a:xfrm>
          </p:grpSpPr>
          <p:sp>
            <p:nvSpPr>
              <p:cNvPr id="159" name="Line 46"/>
              <p:cNvSpPr/>
              <p:nvPr/>
            </p:nvSpPr>
            <p:spPr>
              <a:xfrm>
                <a:off x="7674120" y="5441040"/>
                <a:ext cx="1430280" cy="107208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7674120" y="5441040"/>
                <a:ext cx="1430280" cy="107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874280" y="5441040"/>
              <a:ext cx="1250640" cy="881640"/>
              <a:chOff x="7874280" y="5441040"/>
              <a:chExt cx="1250640" cy="881640"/>
            </a:xfrm>
          </p:grpSpPr>
          <p:sp>
            <p:nvSpPr>
              <p:cNvPr id="162" name="Line 47"/>
              <p:cNvSpPr/>
              <p:nvPr/>
            </p:nvSpPr>
            <p:spPr>
              <a:xfrm>
                <a:off x="7874280" y="5441040"/>
                <a:ext cx="1250640" cy="88164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7874280" y="5441040"/>
                <a:ext cx="1250640" cy="88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091720" y="5441040"/>
              <a:ext cx="1012680" cy="691200"/>
              <a:chOff x="8091720" y="5441040"/>
              <a:chExt cx="1012680" cy="691200"/>
            </a:xfrm>
          </p:grpSpPr>
          <p:sp>
            <p:nvSpPr>
              <p:cNvPr id="165" name="Line 48"/>
              <p:cNvSpPr/>
              <p:nvPr/>
            </p:nvSpPr>
            <p:spPr>
              <a:xfrm>
                <a:off x="8091720" y="5441040"/>
                <a:ext cx="1012680" cy="6912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8091720" y="5441040"/>
                <a:ext cx="1012680" cy="69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310600" y="5441040"/>
              <a:ext cx="793440" cy="512280"/>
              <a:chOff x="8310600" y="5441040"/>
              <a:chExt cx="793440" cy="512280"/>
            </a:xfrm>
          </p:grpSpPr>
          <p:sp>
            <p:nvSpPr>
              <p:cNvPr id="168" name="Line 49"/>
              <p:cNvSpPr/>
              <p:nvPr/>
            </p:nvSpPr>
            <p:spPr>
              <a:xfrm>
                <a:off x="8310600" y="5441040"/>
                <a:ext cx="793440" cy="51228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8310600" y="5441040"/>
                <a:ext cx="793440" cy="51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48920" y="5441040"/>
              <a:ext cx="546120" cy="344520"/>
              <a:chOff x="8548920" y="5441040"/>
              <a:chExt cx="546120" cy="344520"/>
            </a:xfrm>
          </p:grpSpPr>
          <p:sp>
            <p:nvSpPr>
              <p:cNvPr id="171" name="Line 50"/>
              <p:cNvSpPr/>
              <p:nvPr/>
            </p:nvSpPr>
            <p:spPr>
              <a:xfrm>
                <a:off x="8548920" y="5441040"/>
                <a:ext cx="546120" cy="34452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8548920" y="5441040"/>
                <a:ext cx="546120" cy="34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756640" y="5441040"/>
              <a:ext cx="347400" cy="201600"/>
              <a:chOff x="8756640" y="5441040"/>
              <a:chExt cx="347400" cy="201600"/>
            </a:xfrm>
          </p:grpSpPr>
          <p:sp>
            <p:nvSpPr>
              <p:cNvPr id="174" name="Line 51"/>
              <p:cNvSpPr/>
              <p:nvPr/>
            </p:nvSpPr>
            <p:spPr>
              <a:xfrm>
                <a:off x="8756640" y="5441040"/>
                <a:ext cx="347400" cy="2016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8756640" y="5441040"/>
                <a:ext cx="347400" cy="2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8975880" y="5441040"/>
              <a:ext cx="128520" cy="70200"/>
              <a:chOff x="8975880" y="5441040"/>
              <a:chExt cx="128520" cy="7020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8975880" y="5441040"/>
                <a:ext cx="128520" cy="702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8975880" y="5441040"/>
                <a:ext cx="128520" cy="7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矩形 69"/>
          <p:cNvSpPr/>
          <p:nvPr/>
        </p:nvSpPr>
        <p:spPr>
          <a:xfrm>
            <a:off x="6075360" y="3193920"/>
            <a:ext cx="30672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6075360" y="2927520"/>
            <a:ext cx="3067200" cy="164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1"/>
          <p:cNvSpPr/>
          <p:nvPr/>
        </p:nvSpPr>
        <p:spPr>
          <a:xfrm>
            <a:off x="0" y="2305080"/>
            <a:ext cx="411120" cy="455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25221e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4"/>
          <p:cNvSpPr/>
          <p:nvPr/>
        </p:nvSpPr>
        <p:spPr>
          <a:xfrm>
            <a:off x="392040" y="3200400"/>
            <a:ext cx="8750520" cy="241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2"/>
          <p:cNvSpPr/>
          <p:nvPr/>
        </p:nvSpPr>
        <p:spPr>
          <a:xfrm>
            <a:off x="6075360" y="3084480"/>
            <a:ext cx="3067200" cy="3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19" descr="0.png"/>
          <p:cNvPicPr/>
          <p:nvPr/>
        </p:nvPicPr>
        <p:blipFill>
          <a:blip r:embed="rId9"/>
          <a:stretch/>
        </p:blipFill>
        <p:spPr>
          <a:xfrm>
            <a:off x="5762520" y="3602160"/>
            <a:ext cx="1293840" cy="20541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0" descr="1.png"/>
          <p:cNvPicPr/>
          <p:nvPr/>
        </p:nvPicPr>
        <p:blipFill>
          <a:blip r:embed="rId10"/>
          <a:stretch/>
        </p:blipFill>
        <p:spPr>
          <a:xfrm>
            <a:off x="6948360" y="2305080"/>
            <a:ext cx="765360" cy="7272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1" descr="2.png"/>
          <p:cNvPicPr/>
          <p:nvPr/>
        </p:nvPicPr>
        <p:blipFill>
          <a:blip r:embed="rId11"/>
          <a:stretch/>
        </p:blipFill>
        <p:spPr>
          <a:xfrm>
            <a:off x="5146560" y="2219400"/>
            <a:ext cx="711360" cy="41148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3" descr="4.png"/>
          <p:cNvPicPr/>
          <p:nvPr/>
        </p:nvPicPr>
        <p:blipFill>
          <a:blip r:embed="rId12"/>
          <a:stretch/>
        </p:blipFill>
        <p:spPr>
          <a:xfrm>
            <a:off x="1082520" y="3282840"/>
            <a:ext cx="4343400" cy="28591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2" descr="3.png"/>
          <p:cNvPicPr/>
          <p:nvPr/>
        </p:nvPicPr>
        <p:blipFill>
          <a:blip r:embed="rId13"/>
          <a:stretch/>
        </p:blipFill>
        <p:spPr>
          <a:xfrm>
            <a:off x="674640" y="4456080"/>
            <a:ext cx="1000080" cy="1886040"/>
          </a:xfrm>
          <a:prstGeom prst="rect">
            <a:avLst/>
          </a:prstGeom>
          <a:ln w="0">
            <a:noFill/>
          </a:ln>
        </p:spPr>
      </p:pic>
      <p:sp>
        <p:nvSpPr>
          <p:cNvPr id="189" name="矩形 134"/>
          <p:cNvSpPr/>
          <p:nvPr/>
        </p:nvSpPr>
        <p:spPr>
          <a:xfrm flipV="1">
            <a:off x="-1080" y="-720"/>
            <a:ext cx="9144000" cy="230508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520"/>
          <p:cNvGrpSpPr/>
          <p:nvPr/>
        </p:nvGrpSpPr>
        <p:grpSpPr>
          <a:xfrm>
            <a:off x="2097000" y="57240"/>
            <a:ext cx="2933640" cy="1593720"/>
            <a:chOff x="2097000" y="57240"/>
            <a:chExt cx="2933640" cy="1593720"/>
          </a:xfrm>
        </p:grpSpPr>
        <p:grpSp>
          <p:nvGrpSpPr>
            <p:cNvPr id="191" name="组合 510"/>
            <p:cNvGrpSpPr/>
            <p:nvPr/>
          </p:nvGrpSpPr>
          <p:grpSpPr>
            <a:xfrm>
              <a:off x="4930200" y="1532880"/>
              <a:ext cx="100440" cy="118080"/>
              <a:chOff x="4930200" y="1532880"/>
              <a:chExt cx="100440" cy="118080"/>
            </a:xfrm>
          </p:grpSpPr>
          <p:sp>
            <p:nvSpPr>
              <p:cNvPr id="192" name="Freeform 311"/>
              <p:cNvSpPr/>
              <p:nvPr/>
            </p:nvSpPr>
            <p:spPr>
              <a:xfrm rot="7914600">
                <a:off x="4956120" y="1544040"/>
                <a:ext cx="4536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12"/>
              <p:cNvSpPr/>
              <p:nvPr/>
            </p:nvSpPr>
            <p:spPr>
              <a:xfrm rot="7914600">
                <a:off x="4966200" y="1561320"/>
                <a:ext cx="1296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13"/>
              <p:cNvSpPr/>
              <p:nvPr/>
            </p:nvSpPr>
            <p:spPr>
              <a:xfrm rot="7914600">
                <a:off x="4969080" y="1569960"/>
                <a:ext cx="360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14"/>
              <p:cNvSpPr/>
              <p:nvPr/>
            </p:nvSpPr>
            <p:spPr>
              <a:xfrm rot="7914600">
                <a:off x="4978080" y="1596600"/>
                <a:ext cx="1692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5"/>
              <p:cNvSpPr/>
              <p:nvPr/>
            </p:nvSpPr>
            <p:spPr>
              <a:xfrm rot="7914600">
                <a:off x="4944600" y="1555920"/>
                <a:ext cx="262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16"/>
              <p:cNvSpPr/>
              <p:nvPr/>
            </p:nvSpPr>
            <p:spPr>
              <a:xfrm rot="7914600">
                <a:off x="4981320" y="1567800"/>
                <a:ext cx="4896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17"/>
              <p:cNvSpPr/>
              <p:nvPr/>
            </p:nvSpPr>
            <p:spPr>
              <a:xfrm rot="7914600">
                <a:off x="4960800" y="1607040"/>
                <a:ext cx="3960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18"/>
              <p:cNvSpPr/>
              <p:nvPr/>
            </p:nvSpPr>
            <p:spPr>
              <a:xfrm rot="7914600">
                <a:off x="4955760" y="1604160"/>
                <a:ext cx="320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19"/>
              <p:cNvSpPr/>
              <p:nvPr/>
            </p:nvSpPr>
            <p:spPr>
              <a:xfrm rot="7914600">
                <a:off x="4929840" y="1591200"/>
                <a:ext cx="4896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20"/>
              <p:cNvSpPr/>
              <p:nvPr/>
            </p:nvSpPr>
            <p:spPr>
              <a:xfrm rot="7914600">
                <a:off x="4950000" y="1581840"/>
                <a:ext cx="226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21"/>
              <p:cNvSpPr/>
              <p:nvPr/>
            </p:nvSpPr>
            <p:spPr>
              <a:xfrm rot="7914600">
                <a:off x="4987800" y="1584000"/>
                <a:ext cx="2628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22"/>
              <p:cNvSpPr/>
              <p:nvPr/>
            </p:nvSpPr>
            <p:spPr>
              <a:xfrm rot="7914600">
                <a:off x="4983840" y="1582200"/>
                <a:ext cx="226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23"/>
              <p:cNvSpPr/>
              <p:nvPr/>
            </p:nvSpPr>
            <p:spPr>
              <a:xfrm rot="7914600">
                <a:off x="4973400" y="1587600"/>
                <a:ext cx="1296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508"/>
            <p:cNvGrpSpPr/>
            <p:nvPr/>
          </p:nvGrpSpPr>
          <p:grpSpPr>
            <a:xfrm>
              <a:off x="3547440" y="1061280"/>
              <a:ext cx="160920" cy="185760"/>
              <a:chOff x="3547440" y="1061280"/>
              <a:chExt cx="160920" cy="185760"/>
            </a:xfrm>
          </p:grpSpPr>
          <p:sp>
            <p:nvSpPr>
              <p:cNvPr id="206" name="Freeform 102"/>
              <p:cNvSpPr/>
              <p:nvPr/>
            </p:nvSpPr>
            <p:spPr>
              <a:xfrm rot="6580200">
                <a:off x="3566520" y="1103040"/>
                <a:ext cx="421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3"/>
              <p:cNvSpPr/>
              <p:nvPr/>
            </p:nvSpPr>
            <p:spPr>
              <a:xfrm rot="6580200">
                <a:off x="3578760" y="1141560"/>
                <a:ext cx="360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04"/>
              <p:cNvSpPr/>
              <p:nvPr/>
            </p:nvSpPr>
            <p:spPr>
              <a:xfrm rot="6580200">
                <a:off x="3588840" y="1107360"/>
                <a:ext cx="360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05"/>
              <p:cNvSpPr/>
              <p:nvPr/>
            </p:nvSpPr>
            <p:spPr>
              <a:xfrm rot="6580200">
                <a:off x="3634200" y="1126800"/>
                <a:ext cx="360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06"/>
              <p:cNvSpPr/>
              <p:nvPr/>
            </p:nvSpPr>
            <p:spPr>
              <a:xfrm rot="6580200">
                <a:off x="3553200" y="1164600"/>
                <a:ext cx="781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07"/>
              <p:cNvSpPr/>
              <p:nvPr/>
            </p:nvSpPr>
            <p:spPr>
              <a:xfrm rot="6580200">
                <a:off x="3573720" y="1079280"/>
                <a:ext cx="72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08"/>
              <p:cNvSpPr/>
              <p:nvPr/>
            </p:nvSpPr>
            <p:spPr>
              <a:xfrm rot="6580200">
                <a:off x="3642840" y="1134000"/>
                <a:ext cx="4824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9"/>
              <p:cNvSpPr/>
              <p:nvPr/>
            </p:nvSpPr>
            <p:spPr>
              <a:xfrm rot="6580200">
                <a:off x="3627720" y="1157760"/>
                <a:ext cx="2988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10"/>
              <p:cNvSpPr/>
              <p:nvPr/>
            </p:nvSpPr>
            <p:spPr>
              <a:xfrm rot="6580200">
                <a:off x="3602160" y="1180800"/>
                <a:ext cx="72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11"/>
              <p:cNvSpPr/>
              <p:nvPr/>
            </p:nvSpPr>
            <p:spPr>
              <a:xfrm rot="6580200">
                <a:off x="3588120" y="1181160"/>
                <a:ext cx="57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12"/>
              <p:cNvSpPr/>
              <p:nvPr/>
            </p:nvSpPr>
            <p:spPr>
              <a:xfrm rot="6580200">
                <a:off x="3624120" y="1098720"/>
                <a:ext cx="781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13"/>
              <p:cNvSpPr/>
              <p:nvPr/>
            </p:nvSpPr>
            <p:spPr>
              <a:xfrm rot="6580200">
                <a:off x="3605040" y="1112760"/>
                <a:ext cx="5724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14"/>
              <p:cNvSpPr/>
              <p:nvPr/>
            </p:nvSpPr>
            <p:spPr>
              <a:xfrm rot="6580200">
                <a:off x="3620160" y="1149120"/>
                <a:ext cx="1188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9" name="组合 501" descr=""/>
            <p:cNvPicPr/>
            <p:nvPr/>
          </p:nvPicPr>
          <p:blipFill>
            <a:blip r:embed="rId14"/>
            <a:stretch/>
          </p:blipFill>
          <p:spPr>
            <a:xfrm>
              <a:off x="2097000" y="57240"/>
              <a:ext cx="26136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组合 519"/>
          <p:cNvGrpSpPr/>
          <p:nvPr/>
        </p:nvGrpSpPr>
        <p:grpSpPr>
          <a:xfrm>
            <a:off x="2712960" y="255600"/>
            <a:ext cx="2577240" cy="1776600"/>
            <a:chOff x="2712960" y="255600"/>
            <a:chExt cx="2577240" cy="1776600"/>
          </a:xfrm>
        </p:grpSpPr>
        <p:grpSp>
          <p:nvGrpSpPr>
            <p:cNvPr id="221" name="组合 509"/>
            <p:cNvGrpSpPr/>
            <p:nvPr/>
          </p:nvGrpSpPr>
          <p:grpSpPr>
            <a:xfrm>
              <a:off x="5111640" y="1368720"/>
              <a:ext cx="178560" cy="187920"/>
              <a:chOff x="5111640" y="1368720"/>
              <a:chExt cx="178560" cy="187920"/>
            </a:xfrm>
          </p:grpSpPr>
          <p:sp>
            <p:nvSpPr>
              <p:cNvPr id="222" name="Freeform 180"/>
              <p:cNvSpPr/>
              <p:nvPr/>
            </p:nvSpPr>
            <p:spPr>
              <a:xfrm rot="7914600">
                <a:off x="5160600" y="1377720"/>
                <a:ext cx="5508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1"/>
              <p:cNvSpPr/>
              <p:nvPr/>
            </p:nvSpPr>
            <p:spPr>
              <a:xfrm rot="7914600">
                <a:off x="5168880" y="1418040"/>
                <a:ext cx="1872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2"/>
              <p:cNvSpPr/>
              <p:nvPr/>
            </p:nvSpPr>
            <p:spPr>
              <a:xfrm rot="7914600">
                <a:off x="5182920" y="1414440"/>
                <a:ext cx="4356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3"/>
              <p:cNvSpPr/>
              <p:nvPr/>
            </p:nvSpPr>
            <p:spPr>
              <a:xfrm rot="7914600">
                <a:off x="5212080" y="1457280"/>
                <a:ext cx="2268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4"/>
              <p:cNvSpPr/>
              <p:nvPr/>
            </p:nvSpPr>
            <p:spPr>
              <a:xfrm rot="7914600">
                <a:off x="5126040" y="1425600"/>
                <a:ext cx="58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5"/>
              <p:cNvSpPr/>
              <p:nvPr/>
            </p:nvSpPr>
            <p:spPr>
              <a:xfrm rot="7914600">
                <a:off x="5181120" y="1403640"/>
                <a:ext cx="8928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6"/>
              <p:cNvSpPr/>
              <p:nvPr/>
            </p:nvSpPr>
            <p:spPr>
              <a:xfrm rot="7914600">
                <a:off x="5185080" y="1480320"/>
                <a:ext cx="5292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7"/>
              <p:cNvSpPr/>
              <p:nvPr/>
            </p:nvSpPr>
            <p:spPr>
              <a:xfrm rot="7914600">
                <a:off x="5171040" y="1480320"/>
                <a:ext cx="4932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8"/>
              <p:cNvSpPr/>
              <p:nvPr/>
            </p:nvSpPr>
            <p:spPr>
              <a:xfrm rot="7914600">
                <a:off x="5128200" y="1485360"/>
                <a:ext cx="910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9"/>
              <p:cNvSpPr/>
              <p:nvPr/>
            </p:nvSpPr>
            <p:spPr>
              <a:xfrm rot="7914600">
                <a:off x="5146920" y="1460520"/>
                <a:ext cx="529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0"/>
              <p:cNvSpPr/>
              <p:nvPr/>
            </p:nvSpPr>
            <p:spPr>
              <a:xfrm rot="7914600">
                <a:off x="5212800" y="1434600"/>
                <a:ext cx="644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1"/>
              <p:cNvSpPr/>
              <p:nvPr/>
            </p:nvSpPr>
            <p:spPr>
              <a:xfrm rot="7914600">
                <a:off x="5202360" y="1437120"/>
                <a:ext cx="4932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2"/>
              <p:cNvSpPr/>
              <p:nvPr/>
            </p:nvSpPr>
            <p:spPr>
              <a:xfrm rot="7914600">
                <a:off x="5188680" y="1455840"/>
                <a:ext cx="226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512"/>
            <p:cNvGrpSpPr/>
            <p:nvPr/>
          </p:nvGrpSpPr>
          <p:grpSpPr>
            <a:xfrm>
              <a:off x="4547520" y="1915920"/>
              <a:ext cx="102600" cy="116280"/>
              <a:chOff x="4547520" y="1915920"/>
              <a:chExt cx="102600" cy="116280"/>
            </a:xfrm>
          </p:grpSpPr>
          <p:sp>
            <p:nvSpPr>
              <p:cNvPr id="236" name="Freeform 285"/>
              <p:cNvSpPr/>
              <p:nvPr/>
            </p:nvSpPr>
            <p:spPr>
              <a:xfrm rot="7914600">
                <a:off x="4576680" y="1926720"/>
                <a:ext cx="4356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6"/>
              <p:cNvSpPr/>
              <p:nvPr/>
            </p:nvSpPr>
            <p:spPr>
              <a:xfrm rot="7914600">
                <a:off x="4584960" y="1940400"/>
                <a:ext cx="1296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87"/>
              <p:cNvSpPr/>
              <p:nvPr/>
            </p:nvSpPr>
            <p:spPr>
              <a:xfrm rot="7914600">
                <a:off x="4588200" y="1949400"/>
                <a:ext cx="360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88"/>
              <p:cNvSpPr/>
              <p:nvPr/>
            </p:nvSpPr>
            <p:spPr>
              <a:xfrm rot="7914600">
                <a:off x="4595040" y="1976400"/>
                <a:ext cx="187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89"/>
              <p:cNvSpPr/>
              <p:nvPr/>
            </p:nvSpPr>
            <p:spPr>
              <a:xfrm rot="7914600">
                <a:off x="4562280" y="1936800"/>
                <a:ext cx="262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90"/>
              <p:cNvSpPr/>
              <p:nvPr/>
            </p:nvSpPr>
            <p:spPr>
              <a:xfrm rot="7914600">
                <a:off x="4600080" y="1948680"/>
                <a:ext cx="493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91"/>
              <p:cNvSpPr/>
              <p:nvPr/>
            </p:nvSpPr>
            <p:spPr>
              <a:xfrm rot="7914600">
                <a:off x="4578480" y="1988280"/>
                <a:ext cx="3960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92"/>
              <p:cNvSpPr/>
              <p:nvPr/>
            </p:nvSpPr>
            <p:spPr>
              <a:xfrm rot="7914600">
                <a:off x="4574880" y="1984680"/>
                <a:ext cx="302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93"/>
              <p:cNvSpPr/>
              <p:nvPr/>
            </p:nvSpPr>
            <p:spPr>
              <a:xfrm rot="7914600">
                <a:off x="4547520" y="1972800"/>
                <a:ext cx="49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94"/>
              <p:cNvSpPr/>
              <p:nvPr/>
            </p:nvSpPr>
            <p:spPr>
              <a:xfrm rot="7914600">
                <a:off x="4569480" y="1962000"/>
                <a:ext cx="20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95"/>
              <p:cNvSpPr/>
              <p:nvPr/>
            </p:nvSpPr>
            <p:spPr>
              <a:xfrm rot="7914600">
                <a:off x="4607640" y="1969560"/>
                <a:ext cx="262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6"/>
              <p:cNvSpPr/>
              <p:nvPr/>
            </p:nvSpPr>
            <p:spPr>
              <a:xfrm rot="7914600">
                <a:off x="4603680" y="1961640"/>
                <a:ext cx="226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97"/>
              <p:cNvSpPr/>
              <p:nvPr/>
            </p:nvSpPr>
            <p:spPr>
              <a:xfrm rot="7914600">
                <a:off x="4591080" y="1968840"/>
                <a:ext cx="1296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组合 504"/>
            <p:cNvGrpSpPr/>
            <p:nvPr/>
          </p:nvGrpSpPr>
          <p:grpSpPr>
            <a:xfrm>
              <a:off x="3358440" y="1495080"/>
              <a:ext cx="218880" cy="251280"/>
              <a:chOff x="3358440" y="1495080"/>
              <a:chExt cx="218880" cy="251280"/>
            </a:xfrm>
          </p:grpSpPr>
          <p:sp>
            <p:nvSpPr>
              <p:cNvPr id="250" name="Freeform 115"/>
              <p:cNvSpPr/>
              <p:nvPr/>
            </p:nvSpPr>
            <p:spPr>
              <a:xfrm rot="6580200">
                <a:off x="3382560" y="1550880"/>
                <a:ext cx="63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6"/>
              <p:cNvSpPr/>
              <p:nvPr/>
            </p:nvSpPr>
            <p:spPr>
              <a:xfrm rot="6580200">
                <a:off x="3412440" y="1606680"/>
                <a:ext cx="4212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7"/>
              <p:cNvSpPr/>
              <p:nvPr/>
            </p:nvSpPr>
            <p:spPr>
              <a:xfrm rot="6580200">
                <a:off x="3426840" y="1558080"/>
                <a:ext cx="4212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8"/>
              <p:cNvSpPr/>
              <p:nvPr/>
            </p:nvSpPr>
            <p:spPr>
              <a:xfrm rot="6580200">
                <a:off x="3488760" y="1584720"/>
                <a:ext cx="4212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9"/>
              <p:cNvSpPr/>
              <p:nvPr/>
            </p:nvSpPr>
            <p:spPr>
              <a:xfrm rot="6580200">
                <a:off x="3369240" y="1633320"/>
                <a:ext cx="10584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0"/>
              <p:cNvSpPr/>
              <p:nvPr/>
            </p:nvSpPr>
            <p:spPr>
              <a:xfrm rot="6580200">
                <a:off x="3405240" y="1522080"/>
                <a:ext cx="9972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21"/>
              <p:cNvSpPr/>
              <p:nvPr/>
            </p:nvSpPr>
            <p:spPr>
              <a:xfrm rot="6580200">
                <a:off x="3493800" y="1593720"/>
                <a:ext cx="5724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22"/>
              <p:cNvSpPr/>
              <p:nvPr/>
            </p:nvSpPr>
            <p:spPr>
              <a:xfrm rot="6580200">
                <a:off x="3477960" y="1630440"/>
                <a:ext cx="3600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3"/>
              <p:cNvSpPr/>
              <p:nvPr/>
            </p:nvSpPr>
            <p:spPr>
              <a:xfrm rot="6580200">
                <a:off x="3437280" y="1655280"/>
                <a:ext cx="99720" cy="6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 rot="6580200">
                <a:off x="3420360" y="1652040"/>
                <a:ext cx="7848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rot="6580200">
                <a:off x="3467520" y="1548360"/>
                <a:ext cx="9972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6"/>
              <p:cNvSpPr/>
              <p:nvPr/>
            </p:nvSpPr>
            <p:spPr>
              <a:xfrm rot="6580200">
                <a:off x="3448800" y="1566720"/>
                <a:ext cx="7236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127"/>
              <p:cNvSpPr/>
              <p:nvPr/>
            </p:nvSpPr>
            <p:spPr>
              <a:xfrm rot="6580200">
                <a:off x="3457440" y="1613160"/>
                <a:ext cx="20880" cy="1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3" name="组合 499" descr=""/>
            <p:cNvPicPr/>
            <p:nvPr/>
          </p:nvPicPr>
          <p:blipFill>
            <a:blip r:embed="rId15"/>
            <a:stretch/>
          </p:blipFill>
          <p:spPr>
            <a:xfrm>
              <a:off x="2712960" y="255600"/>
              <a:ext cx="237600" cy="32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组合 500" descr=""/>
          <p:cNvPicPr/>
          <p:nvPr/>
        </p:nvPicPr>
        <p:blipFill>
          <a:blip r:embed="rId16"/>
          <a:stretch/>
        </p:blipFill>
        <p:spPr>
          <a:xfrm>
            <a:off x="2998800" y="-166680"/>
            <a:ext cx="446040" cy="517680"/>
          </a:xfrm>
          <a:prstGeom prst="rect">
            <a:avLst/>
          </a:prstGeom>
          <a:ln w="0">
            <a:noFill/>
          </a:ln>
        </p:spPr>
      </p:pic>
      <p:grpSp>
        <p:nvGrpSpPr>
          <p:cNvPr id="265" name="组合 517"/>
          <p:cNvGrpSpPr/>
          <p:nvPr/>
        </p:nvGrpSpPr>
        <p:grpSpPr>
          <a:xfrm>
            <a:off x="1486080" y="767880"/>
            <a:ext cx="2568240" cy="1253160"/>
            <a:chOff x="1486080" y="767880"/>
            <a:chExt cx="2568240" cy="1253160"/>
          </a:xfrm>
        </p:grpSpPr>
        <p:pic>
          <p:nvPicPr>
            <p:cNvPr id="266" name="组合 494" descr=""/>
            <p:cNvPicPr/>
            <p:nvPr/>
          </p:nvPicPr>
          <p:blipFill>
            <a:blip r:embed="rId17"/>
            <a:stretch/>
          </p:blipFill>
          <p:spPr>
            <a:xfrm>
              <a:off x="3873240" y="1608480"/>
              <a:ext cx="1810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组合 502" descr=""/>
            <p:cNvPicPr/>
            <p:nvPr/>
          </p:nvPicPr>
          <p:blipFill>
            <a:blip r:embed="rId18"/>
            <a:stretch/>
          </p:blipFill>
          <p:spPr>
            <a:xfrm>
              <a:off x="1486080" y="1695600"/>
              <a:ext cx="2415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组合 513"/>
            <p:cNvGrpSpPr/>
            <p:nvPr/>
          </p:nvGrpSpPr>
          <p:grpSpPr>
            <a:xfrm>
              <a:off x="2888280" y="767880"/>
              <a:ext cx="243720" cy="267840"/>
              <a:chOff x="2888280" y="767880"/>
              <a:chExt cx="243720" cy="267840"/>
            </a:xfrm>
          </p:grpSpPr>
          <p:sp>
            <p:nvSpPr>
              <p:cNvPr id="269" name="Freeform 324"/>
              <p:cNvSpPr/>
              <p:nvPr/>
            </p:nvSpPr>
            <p:spPr>
              <a:xfrm rot="6580200">
                <a:off x="2933280" y="791640"/>
                <a:ext cx="10512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25"/>
              <p:cNvSpPr/>
              <p:nvPr/>
            </p:nvSpPr>
            <p:spPr>
              <a:xfrm rot="6580200">
                <a:off x="2959200" y="838080"/>
                <a:ext cx="417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26"/>
              <p:cNvSpPr/>
              <p:nvPr/>
            </p:nvSpPr>
            <p:spPr>
              <a:xfrm rot="6580200">
                <a:off x="2974320" y="841320"/>
                <a:ext cx="7812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27"/>
              <p:cNvSpPr/>
              <p:nvPr/>
            </p:nvSpPr>
            <p:spPr>
              <a:xfrm rot="6580200">
                <a:off x="3021840" y="905400"/>
                <a:ext cx="3600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28"/>
              <p:cNvSpPr/>
              <p:nvPr/>
            </p:nvSpPr>
            <p:spPr>
              <a:xfrm rot="6580200">
                <a:off x="2915640" y="840960"/>
                <a:ext cx="691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29"/>
              <p:cNvSpPr/>
              <p:nvPr/>
            </p:nvSpPr>
            <p:spPr>
              <a:xfrm rot="6580200">
                <a:off x="2997720" y="822240"/>
                <a:ext cx="11412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30"/>
              <p:cNvSpPr/>
              <p:nvPr/>
            </p:nvSpPr>
            <p:spPr>
              <a:xfrm rot="6580200">
                <a:off x="2986200" y="937080"/>
                <a:ext cx="9900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31"/>
              <p:cNvSpPr/>
              <p:nvPr/>
            </p:nvSpPr>
            <p:spPr>
              <a:xfrm rot="6580200">
                <a:off x="2966400" y="938160"/>
                <a:ext cx="78120" cy="2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32"/>
              <p:cNvSpPr/>
              <p:nvPr/>
            </p:nvSpPr>
            <p:spPr>
              <a:xfrm rot="6580200">
                <a:off x="2906280" y="930960"/>
                <a:ext cx="12024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33"/>
              <p:cNvSpPr/>
              <p:nvPr/>
            </p:nvSpPr>
            <p:spPr>
              <a:xfrm rot="6580200">
                <a:off x="2942280" y="892080"/>
                <a:ext cx="568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34"/>
              <p:cNvSpPr/>
              <p:nvPr/>
            </p:nvSpPr>
            <p:spPr>
              <a:xfrm rot="6580200">
                <a:off x="3036960" y="858600"/>
                <a:ext cx="658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35"/>
              <p:cNvSpPr/>
              <p:nvPr/>
            </p:nvSpPr>
            <p:spPr>
              <a:xfrm rot="6580200">
                <a:off x="3025800" y="860040"/>
                <a:ext cx="478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36"/>
              <p:cNvSpPr/>
              <p:nvPr/>
            </p:nvSpPr>
            <p:spPr>
              <a:xfrm rot="6580200">
                <a:off x="2994480" y="893160"/>
                <a:ext cx="298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518"/>
          <p:cNvGrpSpPr/>
          <p:nvPr/>
        </p:nvGrpSpPr>
        <p:grpSpPr>
          <a:xfrm>
            <a:off x="1714680" y="772920"/>
            <a:ext cx="2678760" cy="1050120"/>
            <a:chOff x="1714680" y="772920"/>
            <a:chExt cx="2678760" cy="1050120"/>
          </a:xfrm>
        </p:grpSpPr>
        <p:grpSp>
          <p:nvGrpSpPr>
            <p:cNvPr id="283" name="组合 511"/>
            <p:cNvGrpSpPr/>
            <p:nvPr/>
          </p:nvGrpSpPr>
          <p:grpSpPr>
            <a:xfrm>
              <a:off x="4266360" y="1672560"/>
              <a:ext cx="127080" cy="150480"/>
              <a:chOff x="4266360" y="1672560"/>
              <a:chExt cx="127080" cy="150480"/>
            </a:xfrm>
          </p:grpSpPr>
          <p:sp>
            <p:nvSpPr>
              <p:cNvPr id="284" name="Freeform 272"/>
              <p:cNvSpPr/>
              <p:nvPr/>
            </p:nvSpPr>
            <p:spPr>
              <a:xfrm rot="7914600">
                <a:off x="4302360" y="1685880"/>
                <a:ext cx="550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73"/>
              <p:cNvSpPr/>
              <p:nvPr/>
            </p:nvSpPr>
            <p:spPr>
              <a:xfrm rot="7914600">
                <a:off x="4309560" y="1706040"/>
                <a:ext cx="226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74"/>
              <p:cNvSpPr/>
              <p:nvPr/>
            </p:nvSpPr>
            <p:spPr>
              <a:xfrm rot="7914600">
                <a:off x="4319640" y="1721160"/>
                <a:ext cx="3996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5"/>
              <p:cNvSpPr/>
              <p:nvPr/>
            </p:nvSpPr>
            <p:spPr>
              <a:xfrm rot="7914600">
                <a:off x="4327560" y="1756080"/>
                <a:ext cx="226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76"/>
              <p:cNvSpPr/>
              <p:nvPr/>
            </p:nvSpPr>
            <p:spPr>
              <a:xfrm rot="7914600">
                <a:off x="4284000" y="1701360"/>
                <a:ext cx="360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77"/>
              <p:cNvSpPr/>
              <p:nvPr/>
            </p:nvSpPr>
            <p:spPr>
              <a:xfrm rot="7914600">
                <a:off x="4330080" y="1719720"/>
                <a:ext cx="626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78"/>
              <p:cNvSpPr/>
              <p:nvPr/>
            </p:nvSpPr>
            <p:spPr>
              <a:xfrm rot="7914600">
                <a:off x="4301280" y="1768680"/>
                <a:ext cx="532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79"/>
              <p:cNvSpPr/>
              <p:nvPr/>
            </p:nvSpPr>
            <p:spPr>
              <a:xfrm rot="7914600">
                <a:off x="4298760" y="1764000"/>
                <a:ext cx="399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80"/>
              <p:cNvSpPr/>
              <p:nvPr/>
            </p:nvSpPr>
            <p:spPr>
              <a:xfrm rot="7914600">
                <a:off x="4267080" y="1749240"/>
                <a:ext cx="626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81"/>
              <p:cNvSpPr/>
              <p:nvPr/>
            </p:nvSpPr>
            <p:spPr>
              <a:xfrm rot="7914600">
                <a:off x="4293000" y="1733760"/>
                <a:ext cx="3240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82"/>
              <p:cNvSpPr/>
              <p:nvPr/>
            </p:nvSpPr>
            <p:spPr>
              <a:xfrm rot="7914600">
                <a:off x="4340880" y="1739520"/>
                <a:ext cx="360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83"/>
              <p:cNvSpPr/>
              <p:nvPr/>
            </p:nvSpPr>
            <p:spPr>
              <a:xfrm rot="7914600">
                <a:off x="4337640" y="1733040"/>
                <a:ext cx="266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84"/>
              <p:cNvSpPr/>
              <p:nvPr/>
            </p:nvSpPr>
            <p:spPr>
              <a:xfrm rot="7914600">
                <a:off x="4319640" y="1741680"/>
                <a:ext cx="1872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组合 505"/>
            <p:cNvGrpSpPr/>
            <p:nvPr/>
          </p:nvGrpSpPr>
          <p:grpSpPr>
            <a:xfrm>
              <a:off x="2986560" y="1105560"/>
              <a:ext cx="176040" cy="200520"/>
              <a:chOff x="2986560" y="1105560"/>
              <a:chExt cx="176040" cy="200520"/>
            </a:xfrm>
          </p:grpSpPr>
          <p:sp>
            <p:nvSpPr>
              <p:cNvPr id="298" name="Freeform 89"/>
              <p:cNvSpPr/>
              <p:nvPr/>
            </p:nvSpPr>
            <p:spPr>
              <a:xfrm rot="6580200">
                <a:off x="3007440" y="1150560"/>
                <a:ext cx="486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0"/>
              <p:cNvSpPr/>
              <p:nvPr/>
            </p:nvSpPr>
            <p:spPr>
              <a:xfrm rot="6580200">
                <a:off x="3027600" y="118836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1"/>
              <p:cNvSpPr/>
              <p:nvPr/>
            </p:nvSpPr>
            <p:spPr>
              <a:xfrm rot="6580200">
                <a:off x="3037680" y="115380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2"/>
              <p:cNvSpPr/>
              <p:nvPr/>
            </p:nvSpPr>
            <p:spPr>
              <a:xfrm rot="6580200">
                <a:off x="3087360" y="1178640"/>
                <a:ext cx="3636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3"/>
              <p:cNvSpPr/>
              <p:nvPr/>
            </p:nvSpPr>
            <p:spPr>
              <a:xfrm rot="6580200">
                <a:off x="2999160" y="121428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4"/>
              <p:cNvSpPr/>
              <p:nvPr/>
            </p:nvSpPr>
            <p:spPr>
              <a:xfrm rot="6580200">
                <a:off x="3021840" y="1124640"/>
                <a:ext cx="788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5"/>
              <p:cNvSpPr/>
              <p:nvPr/>
            </p:nvSpPr>
            <p:spPr>
              <a:xfrm rot="6580200">
                <a:off x="3092400" y="1180800"/>
                <a:ext cx="514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6"/>
              <p:cNvSpPr/>
              <p:nvPr/>
            </p:nvSpPr>
            <p:spPr>
              <a:xfrm rot="6580200">
                <a:off x="3080160" y="121068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7"/>
              <p:cNvSpPr/>
              <p:nvPr/>
            </p:nvSpPr>
            <p:spPr>
              <a:xfrm rot="6580200">
                <a:off x="3051360" y="123696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8"/>
              <p:cNvSpPr/>
              <p:nvPr/>
            </p:nvSpPr>
            <p:spPr>
              <a:xfrm rot="6580200">
                <a:off x="3039120" y="123048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9"/>
              <p:cNvSpPr/>
              <p:nvPr/>
            </p:nvSpPr>
            <p:spPr>
              <a:xfrm rot="6580200">
                <a:off x="3073320" y="1146240"/>
                <a:ext cx="882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0"/>
              <p:cNvSpPr/>
              <p:nvPr/>
            </p:nvSpPr>
            <p:spPr>
              <a:xfrm rot="6580200">
                <a:off x="3058920" y="116460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101"/>
              <p:cNvSpPr/>
              <p:nvPr/>
            </p:nvSpPr>
            <p:spPr>
              <a:xfrm rot="6580200">
                <a:off x="3071160" y="1197360"/>
                <a:ext cx="11880" cy="1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514"/>
            <p:cNvGrpSpPr/>
            <p:nvPr/>
          </p:nvGrpSpPr>
          <p:grpSpPr>
            <a:xfrm>
              <a:off x="3754080" y="810000"/>
              <a:ext cx="161640" cy="173880"/>
              <a:chOff x="3754080" y="810000"/>
              <a:chExt cx="161640" cy="173880"/>
            </a:xfrm>
          </p:grpSpPr>
          <p:grpSp>
            <p:nvGrpSpPr>
              <p:cNvPr id="312" name="组合 507"/>
              <p:cNvGrpSpPr/>
              <p:nvPr/>
            </p:nvGrpSpPr>
            <p:grpSpPr>
              <a:xfrm>
                <a:off x="3780720" y="810000"/>
                <a:ext cx="135000" cy="173880"/>
                <a:chOff x="3780720" y="810000"/>
                <a:chExt cx="135000" cy="173880"/>
              </a:xfrm>
            </p:grpSpPr>
            <p:sp>
              <p:nvSpPr>
                <p:cNvPr id="313" name="Freeform 298"/>
                <p:cNvSpPr/>
                <p:nvPr/>
              </p:nvSpPr>
              <p:spPr>
                <a:xfrm rot="6580200">
                  <a:off x="3781440" y="826560"/>
                  <a:ext cx="72720" cy="5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00"/>
                <p:cNvSpPr/>
                <p:nvPr/>
              </p:nvSpPr>
              <p:spPr>
                <a:xfrm rot="6580200">
                  <a:off x="3812760" y="859320"/>
                  <a:ext cx="48600" cy="10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01"/>
                <p:cNvSpPr/>
                <p:nvPr/>
              </p:nvSpPr>
              <p:spPr>
                <a:xfrm rot="6580200">
                  <a:off x="3841200" y="901800"/>
                  <a:ext cx="27360" cy="4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303"/>
                <p:cNvSpPr/>
                <p:nvPr/>
              </p:nvSpPr>
              <p:spPr>
                <a:xfrm rot="6580200">
                  <a:off x="3823200" y="841680"/>
                  <a:ext cx="7884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04"/>
                <p:cNvSpPr/>
                <p:nvPr/>
              </p:nvSpPr>
              <p:spPr>
                <a:xfrm rot="6580200">
                  <a:off x="3818160" y="923400"/>
                  <a:ext cx="63720" cy="4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08"/>
                <p:cNvSpPr/>
                <p:nvPr/>
              </p:nvSpPr>
              <p:spPr>
                <a:xfrm rot="6580200">
                  <a:off x="3853800" y="871200"/>
                  <a:ext cx="42480" cy="7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09"/>
                <p:cNvSpPr/>
                <p:nvPr/>
              </p:nvSpPr>
              <p:spPr>
                <a:xfrm rot="6580200">
                  <a:off x="3843000" y="873360"/>
                  <a:ext cx="3636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Freeform 299"/>
              <p:cNvSpPr/>
              <p:nvPr/>
            </p:nvSpPr>
            <p:spPr>
              <a:xfrm rot="6580200">
                <a:off x="3799080" y="856080"/>
                <a:ext cx="212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02"/>
              <p:cNvSpPr/>
              <p:nvPr/>
            </p:nvSpPr>
            <p:spPr>
              <a:xfrm rot="6580200">
                <a:off x="3769920" y="862560"/>
                <a:ext cx="4536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05"/>
              <p:cNvSpPr/>
              <p:nvPr/>
            </p:nvSpPr>
            <p:spPr>
              <a:xfrm rot="6580200">
                <a:off x="3805560" y="922680"/>
                <a:ext cx="514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06"/>
              <p:cNvSpPr/>
              <p:nvPr/>
            </p:nvSpPr>
            <p:spPr>
              <a:xfrm rot="6580200">
                <a:off x="3763440" y="916200"/>
                <a:ext cx="7884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07"/>
              <p:cNvSpPr/>
              <p:nvPr/>
            </p:nvSpPr>
            <p:spPr>
              <a:xfrm rot="6580200">
                <a:off x="3790440" y="896040"/>
                <a:ext cx="3636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10"/>
              <p:cNvSpPr/>
              <p:nvPr/>
            </p:nvSpPr>
            <p:spPr>
              <a:xfrm rot="6580200">
                <a:off x="3822480" y="893520"/>
                <a:ext cx="21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组合 515"/>
            <p:cNvGrpSpPr/>
            <p:nvPr/>
          </p:nvGrpSpPr>
          <p:grpSpPr>
            <a:xfrm>
              <a:off x="1714680" y="772920"/>
              <a:ext cx="175320" cy="199440"/>
              <a:chOff x="1714680" y="772920"/>
              <a:chExt cx="175320" cy="199440"/>
            </a:xfrm>
          </p:grpSpPr>
          <p:sp>
            <p:nvSpPr>
              <p:cNvPr id="327" name="Freeform 337"/>
              <p:cNvSpPr/>
              <p:nvPr/>
            </p:nvSpPr>
            <p:spPr>
              <a:xfrm rot="6580200">
                <a:off x="1735560" y="817920"/>
                <a:ext cx="486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38"/>
              <p:cNvSpPr/>
              <p:nvPr/>
            </p:nvSpPr>
            <p:spPr>
              <a:xfrm rot="6580200">
                <a:off x="1755720" y="85572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9"/>
              <p:cNvSpPr/>
              <p:nvPr/>
            </p:nvSpPr>
            <p:spPr>
              <a:xfrm rot="6580200">
                <a:off x="1765800" y="82116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0"/>
              <p:cNvSpPr/>
              <p:nvPr/>
            </p:nvSpPr>
            <p:spPr>
              <a:xfrm rot="6580200">
                <a:off x="1817640" y="841680"/>
                <a:ext cx="302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41"/>
              <p:cNvSpPr/>
              <p:nvPr/>
            </p:nvSpPr>
            <p:spPr>
              <a:xfrm rot="6580200">
                <a:off x="1727280" y="88164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2"/>
              <p:cNvSpPr/>
              <p:nvPr/>
            </p:nvSpPr>
            <p:spPr>
              <a:xfrm rot="6580200">
                <a:off x="1749960" y="792000"/>
                <a:ext cx="788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43"/>
              <p:cNvSpPr/>
              <p:nvPr/>
            </p:nvSpPr>
            <p:spPr>
              <a:xfrm rot="6580200">
                <a:off x="1820520" y="848160"/>
                <a:ext cx="486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44"/>
              <p:cNvSpPr/>
              <p:nvPr/>
            </p:nvSpPr>
            <p:spPr>
              <a:xfrm rot="6580200">
                <a:off x="1803600" y="878760"/>
                <a:ext cx="3636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5"/>
              <p:cNvSpPr/>
              <p:nvPr/>
            </p:nvSpPr>
            <p:spPr>
              <a:xfrm rot="6580200">
                <a:off x="1777320" y="90324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46"/>
              <p:cNvSpPr/>
              <p:nvPr/>
            </p:nvSpPr>
            <p:spPr>
              <a:xfrm rot="6580200">
                <a:off x="1767240" y="89784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47"/>
              <p:cNvSpPr/>
              <p:nvPr/>
            </p:nvSpPr>
            <p:spPr>
              <a:xfrm rot="6580200">
                <a:off x="1798920" y="812520"/>
                <a:ext cx="882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8"/>
              <p:cNvSpPr/>
              <p:nvPr/>
            </p:nvSpPr>
            <p:spPr>
              <a:xfrm rot="6580200">
                <a:off x="1787040" y="83196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49"/>
              <p:cNvSpPr/>
              <p:nvPr/>
            </p:nvSpPr>
            <p:spPr>
              <a:xfrm rot="6580200">
                <a:off x="1799280" y="864720"/>
                <a:ext cx="118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516"/>
          <p:cNvGrpSpPr/>
          <p:nvPr/>
        </p:nvGrpSpPr>
        <p:grpSpPr>
          <a:xfrm>
            <a:off x="529920" y="-497880"/>
            <a:ext cx="5073480" cy="3246840"/>
            <a:chOff x="529920" y="-497880"/>
            <a:chExt cx="5073480" cy="3246840"/>
          </a:xfrm>
        </p:grpSpPr>
        <p:sp>
          <p:nvSpPr>
            <p:cNvPr id="341" name="Freeform 353"/>
            <p:cNvSpPr/>
            <p:nvPr/>
          </p:nvSpPr>
          <p:spPr>
            <a:xfrm rot="7914600">
              <a:off x="4780800" y="886680"/>
              <a:ext cx="626400" cy="54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51"/>
            <p:cNvSpPr/>
            <p:nvPr/>
          </p:nvSpPr>
          <p:spPr>
            <a:xfrm rot="7914600">
              <a:off x="4120560" y="1190520"/>
              <a:ext cx="1178640" cy="134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50"/>
            <p:cNvSpPr/>
            <p:nvPr/>
          </p:nvSpPr>
          <p:spPr>
            <a:xfrm rot="7914600">
              <a:off x="4914720" y="1835280"/>
              <a:ext cx="386280" cy="51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2"/>
            <p:cNvSpPr/>
            <p:nvPr/>
          </p:nvSpPr>
          <p:spPr>
            <a:xfrm rot="7914600">
              <a:off x="4894560" y="1520280"/>
              <a:ext cx="188280" cy="35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5"/>
            <p:cNvSpPr/>
            <p:nvPr/>
          </p:nvSpPr>
          <p:spPr>
            <a:xfrm rot="7914600">
              <a:off x="4575240" y="891720"/>
              <a:ext cx="300600" cy="25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57"/>
            <p:cNvSpPr/>
            <p:nvPr/>
          </p:nvSpPr>
          <p:spPr>
            <a:xfrm rot="7914600">
              <a:off x="4338360" y="1193760"/>
              <a:ext cx="306360" cy="26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8"/>
            <p:cNvSpPr/>
            <p:nvPr/>
          </p:nvSpPr>
          <p:spPr>
            <a:xfrm rot="7914600">
              <a:off x="4186080" y="1752840"/>
              <a:ext cx="32724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9"/>
            <p:cNvSpPr/>
            <p:nvPr/>
          </p:nvSpPr>
          <p:spPr>
            <a:xfrm rot="7914600">
              <a:off x="4198680" y="1337040"/>
              <a:ext cx="33300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60"/>
            <p:cNvSpPr/>
            <p:nvPr/>
          </p:nvSpPr>
          <p:spPr>
            <a:xfrm rot="7914600">
              <a:off x="4105440" y="1533960"/>
              <a:ext cx="23796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5"/>
            <p:cNvSpPr/>
            <p:nvPr/>
          </p:nvSpPr>
          <p:spPr>
            <a:xfrm rot="7914600">
              <a:off x="4536000" y="1365840"/>
              <a:ext cx="26460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6"/>
            <p:cNvSpPr/>
            <p:nvPr/>
          </p:nvSpPr>
          <p:spPr>
            <a:xfrm rot="7914600">
              <a:off x="3528360" y="1040040"/>
              <a:ext cx="531360" cy="64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69"/>
            <p:cNvSpPr/>
            <p:nvPr/>
          </p:nvSpPr>
          <p:spPr>
            <a:xfrm rot="7914600">
              <a:off x="4410000" y="439560"/>
              <a:ext cx="567360" cy="10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4"/>
            <p:cNvSpPr/>
            <p:nvPr/>
          </p:nvSpPr>
          <p:spPr>
            <a:xfrm rot="6580200">
              <a:off x="3098880" y="969840"/>
              <a:ext cx="579960" cy="51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56"/>
            <p:cNvSpPr/>
            <p:nvPr/>
          </p:nvSpPr>
          <p:spPr>
            <a:xfrm rot="6580200">
              <a:off x="1172160" y="418320"/>
              <a:ext cx="415800" cy="38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1"/>
            <p:cNvSpPr/>
            <p:nvPr/>
          </p:nvSpPr>
          <p:spPr>
            <a:xfrm rot="6580200">
              <a:off x="1389240" y="514800"/>
              <a:ext cx="506880" cy="43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2"/>
            <p:cNvSpPr/>
            <p:nvPr/>
          </p:nvSpPr>
          <p:spPr>
            <a:xfrm rot="6580200">
              <a:off x="2134080" y="1503360"/>
              <a:ext cx="352080" cy="34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63"/>
            <p:cNvSpPr/>
            <p:nvPr/>
          </p:nvSpPr>
          <p:spPr>
            <a:xfrm rot="6580200">
              <a:off x="2305800" y="1469160"/>
              <a:ext cx="464400" cy="37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4"/>
            <p:cNvSpPr/>
            <p:nvPr/>
          </p:nvSpPr>
          <p:spPr>
            <a:xfrm rot="6580200">
              <a:off x="1240200" y="-246240"/>
              <a:ext cx="1090080" cy="78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67"/>
            <p:cNvSpPr/>
            <p:nvPr/>
          </p:nvSpPr>
          <p:spPr>
            <a:xfrm rot="6580200">
              <a:off x="1267920" y="990720"/>
              <a:ext cx="1056600" cy="9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8"/>
            <p:cNvSpPr/>
            <p:nvPr/>
          </p:nvSpPr>
          <p:spPr>
            <a:xfrm rot="6580200">
              <a:off x="2075040" y="204480"/>
              <a:ext cx="923040" cy="11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70"/>
            <p:cNvSpPr/>
            <p:nvPr/>
          </p:nvSpPr>
          <p:spPr>
            <a:xfrm rot="6580200">
              <a:off x="2111760" y="-1250640"/>
              <a:ext cx="1305720" cy="428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21"/>
          <p:cNvGrpSpPr/>
          <p:nvPr/>
        </p:nvGrpSpPr>
        <p:grpSpPr>
          <a:xfrm>
            <a:off x="2157120" y="801720"/>
            <a:ext cx="2881440" cy="1349280"/>
            <a:chOff x="2157120" y="801720"/>
            <a:chExt cx="2881440" cy="1349280"/>
          </a:xfrm>
        </p:grpSpPr>
        <p:pic>
          <p:nvPicPr>
            <p:cNvPr id="363" name="组合 495" descr=""/>
            <p:cNvPicPr/>
            <p:nvPr/>
          </p:nvPicPr>
          <p:blipFill>
            <a:blip r:embed="rId19"/>
            <a:stretch/>
          </p:blipFill>
          <p:spPr>
            <a:xfrm>
              <a:off x="4850280" y="826560"/>
              <a:ext cx="188280" cy="2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组合 506"/>
            <p:cNvGrpSpPr/>
            <p:nvPr/>
          </p:nvGrpSpPr>
          <p:grpSpPr>
            <a:xfrm>
              <a:off x="2157120" y="801720"/>
              <a:ext cx="173880" cy="205560"/>
              <a:chOff x="2157120" y="801720"/>
              <a:chExt cx="173880" cy="205560"/>
            </a:xfrm>
          </p:grpSpPr>
          <p:sp>
            <p:nvSpPr>
              <p:cNvPr id="365" name="Freeform 76"/>
              <p:cNvSpPr/>
              <p:nvPr/>
            </p:nvSpPr>
            <p:spPr>
              <a:xfrm rot="6580200">
                <a:off x="2175840" y="848160"/>
                <a:ext cx="5112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77"/>
              <p:cNvSpPr/>
              <p:nvPr/>
            </p:nvSpPr>
            <p:spPr>
              <a:xfrm rot="6580200">
                <a:off x="2196720" y="892080"/>
                <a:ext cx="360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78"/>
              <p:cNvSpPr/>
              <p:nvPr/>
            </p:nvSpPr>
            <p:spPr>
              <a:xfrm rot="6580200">
                <a:off x="2212920" y="853560"/>
                <a:ext cx="270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79"/>
              <p:cNvSpPr/>
              <p:nvPr/>
            </p:nvSpPr>
            <p:spPr>
              <a:xfrm rot="6580200">
                <a:off x="2258280" y="873720"/>
                <a:ext cx="3276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0"/>
              <p:cNvSpPr/>
              <p:nvPr/>
            </p:nvSpPr>
            <p:spPr>
              <a:xfrm rot="6580200">
                <a:off x="2165760" y="914400"/>
                <a:ext cx="8388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81"/>
              <p:cNvSpPr/>
              <p:nvPr/>
            </p:nvSpPr>
            <p:spPr>
              <a:xfrm rot="6580200">
                <a:off x="2189880" y="823320"/>
                <a:ext cx="83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2"/>
              <p:cNvSpPr/>
              <p:nvPr/>
            </p:nvSpPr>
            <p:spPr>
              <a:xfrm rot="6580200">
                <a:off x="2259720" y="882720"/>
                <a:ext cx="5112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83"/>
              <p:cNvSpPr/>
              <p:nvPr/>
            </p:nvSpPr>
            <p:spPr>
              <a:xfrm rot="6580200">
                <a:off x="2249640" y="910440"/>
                <a:ext cx="27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84"/>
              <p:cNvSpPr/>
              <p:nvPr/>
            </p:nvSpPr>
            <p:spPr>
              <a:xfrm rot="6580200">
                <a:off x="2213640" y="932400"/>
                <a:ext cx="83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85"/>
              <p:cNvSpPr/>
              <p:nvPr/>
            </p:nvSpPr>
            <p:spPr>
              <a:xfrm rot="6580200">
                <a:off x="2204640" y="929160"/>
                <a:ext cx="630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86"/>
              <p:cNvSpPr/>
              <p:nvPr/>
            </p:nvSpPr>
            <p:spPr>
              <a:xfrm rot="6580200">
                <a:off x="2239920" y="844560"/>
                <a:ext cx="83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87"/>
              <p:cNvSpPr/>
              <p:nvPr/>
            </p:nvSpPr>
            <p:spPr>
              <a:xfrm rot="6580200">
                <a:off x="2222640" y="857880"/>
                <a:ext cx="6300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88"/>
              <p:cNvSpPr/>
              <p:nvPr/>
            </p:nvSpPr>
            <p:spPr>
              <a:xfrm rot="6580200">
                <a:off x="2232000" y="897120"/>
                <a:ext cx="2088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组合 503" descr=""/>
            <p:cNvPicPr/>
            <p:nvPr/>
          </p:nvPicPr>
          <p:blipFill>
            <a:blip r:embed="rId20"/>
            <a:stretch/>
          </p:blipFill>
          <p:spPr>
            <a:xfrm>
              <a:off x="3215160" y="1948680"/>
              <a:ext cx="163800" cy="20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矩形 141"/>
          <p:cNvSpPr/>
          <p:nvPr/>
        </p:nvSpPr>
        <p:spPr>
          <a:xfrm>
            <a:off x="-1440" y="2219400"/>
            <a:ext cx="9144000" cy="6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39"/>
          <p:cNvSpPr/>
          <p:nvPr/>
        </p:nvSpPr>
        <p:spPr>
          <a:xfrm flipH="1">
            <a:off x="5209560" y="1282680"/>
            <a:ext cx="34920" cy="116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5230800" y="1646280"/>
            <a:ext cx="29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适用于家居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2"/>
          <p:cNvSpPr/>
          <p:nvPr/>
        </p:nvSpPr>
        <p:spPr>
          <a:xfrm>
            <a:off x="9396360" y="5762520"/>
            <a:ext cx="21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36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9861 L 1.66667E-006 1.6763E-006 L 0.00035 -0.12162 L 1.66667E-006 1.6763E-006 E">
                                      <p:cBhvr>
                                        <p:cTn id="8" dur="6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6.11111E-006 -1 L 6.11111E-006 -2.22222E-006 L 6.11111E-006 -0.14166 L 6.11111E-006 -2.22222E-006 E">
                                      <p:cBhvr>
                                        <p:cTn id="12" dur="6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17 -0.98982 L -0.00017 -0.0037 L -0.00017 -0.1037 L -0.00017 -0.00093 E">
                                      <p:cBhvr>
                                        <p:cTn id="16" dur="6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7.5E-006 -1.05278 L -7.5E-006 -7.77778E-006 L -7.5E-006 -0.08334 L -7.5E-006 -7.77778E-006 E">
                                      <p:cBhvr>
                                        <p:cTn id="20" dur="6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7 -0.57777 L -2.77778E-007 5.18519E-006 L -2.77778E-007 -0.05555 L -2.77778E-007 5.18519E-006 E">
                                      <p:cBhvr>
                                        <p:cTn id="24" dur="6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00"/>
                            </p:stCondLst>
                            <p:childTnLst>
                              <p:par>
                                <p:cTn id="5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200"/>
                            </p:stCondLst>
                            <p:childTnLst>
                              <p:par>
                                <p:cTn id="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00"/>
                            </p:stCondLst>
                            <p:childTnLst>
                              <p:par>
                                <p:cTn id="7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00"/>
                            </p:stCondLst>
                            <p:childTnLst>
                              <p:par>
                                <p:cTn id="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4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4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6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200"/>
                            </p:stCondLst>
                            <p:childTnLst>
                              <p:par>
                                <p:cTn id="11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604-842D-4E84-BB34-5DAE73237D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1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03:31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