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F11-6DAA-4BFA-A696-F88D9B7A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9C7-5F08-48F2-A8A9-DEF293B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969-04C0-4265-98A4-789147C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3E6-8DC0-44DE-B83F-A5312272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556-95B2-4AFE-A196-8530E522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498-A111-4588-BB8A-A910B23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A22-3A9A-446F-968B-82AAED9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DD0-86F3-4F9F-990B-71DDFEC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222-10B3-4D94-9A92-36E9058C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2AE-8CE1-4670-970C-81512D3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B31-A458-4B8C-A025-F133756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D11-A1CE-4895-9A3F-3BF2E10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F04-1541-486E-8170-DB57B9B9A0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987-DC05-45CA-82AA-429BCFFB73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rcRect l="0" t="0" r="13688" b="0"/>
          <a:stretch/>
        </p:blipFill>
        <p:spPr>
          <a:xfrm>
            <a:off x="1440" y="-131760"/>
            <a:ext cx="9142560" cy="7126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42920" y="328608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0253f"/>
                </a:solidFill>
                <a:latin typeface="微软雅黑"/>
              </a:rPr>
              <a:t>金属花纹</a:t>
            </a:r>
            <a:r>
              <a:rPr b="1" lang="en-US" sz="4000" spc="-1" strike="noStrike">
                <a:solidFill>
                  <a:srgbClr val="10253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10253f"/>
                </a:solidFill>
                <a:latin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 rot="12271200">
            <a:off x="139320" y="5107680"/>
            <a:ext cx="3389400" cy="2248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"/>
          <p:cNvGrpSpPr/>
          <p:nvPr/>
        </p:nvGrpSpPr>
        <p:grpSpPr>
          <a:xfrm>
            <a:off x="2625840" y="1628640"/>
            <a:ext cx="4178160" cy="1211400"/>
            <a:chOff x="2625840" y="1628640"/>
            <a:chExt cx="4178160" cy="1211400"/>
          </a:xfrm>
        </p:grpSpPr>
        <p:sp>
          <p:nvSpPr>
            <p:cNvPr id="48" name="矩形 5"/>
            <p:cNvSpPr/>
            <p:nvPr/>
          </p:nvSpPr>
          <p:spPr>
            <a:xfrm>
              <a:off x="3349080" y="192852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3" descr=""/>
            <p:cNvPicPr/>
            <p:nvPr/>
          </p:nvPicPr>
          <p:blipFill>
            <a:blip r:embed="rId2"/>
            <a:stretch/>
          </p:blipFill>
          <p:spPr>
            <a:xfrm>
              <a:off x="2625840" y="162864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9"/>
            <p:cNvSpPr/>
            <p:nvPr/>
          </p:nvSpPr>
          <p:spPr>
            <a:xfrm>
              <a:off x="3992760" y="202608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2625840" y="2759040"/>
            <a:ext cx="4178160" cy="1211400"/>
            <a:chOff x="2625840" y="2759040"/>
            <a:chExt cx="4178160" cy="1211400"/>
          </a:xfrm>
        </p:grpSpPr>
        <p:sp>
          <p:nvSpPr>
            <p:cNvPr id="52" name="矩形 26"/>
            <p:cNvSpPr/>
            <p:nvPr/>
          </p:nvSpPr>
          <p:spPr>
            <a:xfrm>
              <a:off x="3349080" y="305892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3" descr=""/>
            <p:cNvPicPr/>
            <p:nvPr/>
          </p:nvPicPr>
          <p:blipFill>
            <a:blip r:embed="rId3"/>
            <a:stretch/>
          </p:blipFill>
          <p:spPr>
            <a:xfrm>
              <a:off x="2625840" y="275904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28"/>
            <p:cNvSpPr/>
            <p:nvPr/>
          </p:nvSpPr>
          <p:spPr>
            <a:xfrm>
              <a:off x="3992760" y="315648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2625840" y="3890880"/>
            <a:ext cx="4178160" cy="1211400"/>
            <a:chOff x="2625840" y="3890880"/>
            <a:chExt cx="4178160" cy="1211400"/>
          </a:xfrm>
        </p:grpSpPr>
        <p:sp>
          <p:nvSpPr>
            <p:cNvPr id="56" name="矩形 30"/>
            <p:cNvSpPr/>
            <p:nvPr/>
          </p:nvSpPr>
          <p:spPr>
            <a:xfrm>
              <a:off x="3349080" y="419076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3" descr=""/>
            <p:cNvPicPr/>
            <p:nvPr/>
          </p:nvPicPr>
          <p:blipFill>
            <a:blip r:embed="rId4"/>
            <a:stretch/>
          </p:blipFill>
          <p:spPr>
            <a:xfrm>
              <a:off x="2625840" y="389088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32"/>
            <p:cNvSpPr/>
            <p:nvPr/>
          </p:nvSpPr>
          <p:spPr>
            <a:xfrm>
              <a:off x="3992760" y="428832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5"/>
          <p:cNvGrpSpPr/>
          <p:nvPr/>
        </p:nvGrpSpPr>
        <p:grpSpPr>
          <a:xfrm>
            <a:off x="2625840" y="5021280"/>
            <a:ext cx="4178160" cy="1211400"/>
            <a:chOff x="2625840" y="5021280"/>
            <a:chExt cx="4178160" cy="1211400"/>
          </a:xfrm>
        </p:grpSpPr>
        <p:sp>
          <p:nvSpPr>
            <p:cNvPr id="60" name="矩形 34"/>
            <p:cNvSpPr/>
            <p:nvPr/>
          </p:nvSpPr>
          <p:spPr>
            <a:xfrm>
              <a:off x="3349080" y="532116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3" descr=""/>
            <p:cNvPicPr/>
            <p:nvPr/>
          </p:nvPicPr>
          <p:blipFill>
            <a:blip r:embed="rId5"/>
            <a:stretch/>
          </p:blipFill>
          <p:spPr>
            <a:xfrm>
              <a:off x="2625840" y="502128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36"/>
            <p:cNvSpPr/>
            <p:nvPr/>
          </p:nvSpPr>
          <p:spPr>
            <a:xfrm>
              <a:off x="3992760" y="541872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4" descr=""/>
          <p:cNvPicPr/>
          <p:nvPr/>
        </p:nvPicPr>
        <p:blipFill>
          <a:blip r:embed="rId6"/>
          <a:stretch/>
        </p:blipFill>
        <p:spPr>
          <a:xfrm>
            <a:off x="5754600" y="54000"/>
            <a:ext cx="3389400" cy="2249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 rot="18891600">
            <a:off x="-514800" y="568440"/>
            <a:ext cx="24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593720" cy="1582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970440" y="3171960"/>
            <a:ext cx="28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ed9b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2ed9b"/>
                </a:solidFill>
                <a:latin typeface="Calibri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1033560" y="2378160"/>
            <a:ext cx="1712520" cy="1196640"/>
            <a:chOff x="1033560" y="2378160"/>
            <a:chExt cx="1712520" cy="1196640"/>
          </a:xfrm>
        </p:grpSpPr>
        <p:sp>
          <p:nvSpPr>
            <p:cNvPr id="68" name="Rektangel 3"/>
            <p:cNvSpPr/>
            <p:nvPr/>
          </p:nvSpPr>
          <p:spPr>
            <a:xfrm>
              <a:off x="104472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3"/>
            <p:cNvSpPr/>
            <p:nvPr/>
          </p:nvSpPr>
          <p:spPr>
            <a:xfrm>
              <a:off x="103356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5"/>
          <p:cNvGrpSpPr/>
          <p:nvPr/>
        </p:nvGrpSpPr>
        <p:grpSpPr>
          <a:xfrm>
            <a:off x="2862360" y="2378160"/>
            <a:ext cx="1712520" cy="1196640"/>
            <a:chOff x="2862360" y="2378160"/>
            <a:chExt cx="1712520" cy="1196640"/>
          </a:xfrm>
        </p:grpSpPr>
        <p:sp>
          <p:nvSpPr>
            <p:cNvPr id="71" name="Rektangel 3"/>
            <p:cNvSpPr/>
            <p:nvPr/>
          </p:nvSpPr>
          <p:spPr>
            <a:xfrm>
              <a:off x="287352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2"/>
            <p:cNvSpPr/>
            <p:nvPr/>
          </p:nvSpPr>
          <p:spPr>
            <a:xfrm>
              <a:off x="286236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4692600" y="2378160"/>
            <a:ext cx="1712520" cy="1196640"/>
            <a:chOff x="4692600" y="2378160"/>
            <a:chExt cx="1712520" cy="1196640"/>
          </a:xfrm>
        </p:grpSpPr>
        <p:sp>
          <p:nvSpPr>
            <p:cNvPr id="74" name="Rektangel 3"/>
            <p:cNvSpPr/>
            <p:nvPr/>
          </p:nvSpPr>
          <p:spPr>
            <a:xfrm>
              <a:off x="470376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469260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ktangel 3"/>
          <p:cNvSpPr/>
          <p:nvPr/>
        </p:nvSpPr>
        <p:spPr>
          <a:xfrm>
            <a:off x="6534000" y="2441520"/>
            <a:ext cx="1700280" cy="113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2"/>
          <p:cNvSpPr/>
          <p:nvPr/>
        </p:nvSpPr>
        <p:spPr>
          <a:xfrm>
            <a:off x="6523200" y="2378160"/>
            <a:ext cx="1679400" cy="11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7"/>
          <p:cNvSpPr/>
          <p:nvPr/>
        </p:nvSpPr>
        <p:spPr>
          <a:xfrm>
            <a:off x="1865160" y="2973240"/>
            <a:ext cx="5580360" cy="1800"/>
          </a:xfrm>
          <a:prstGeom prst="line">
            <a:avLst/>
          </a:prstGeom>
          <a:ln cap="rnd" w="19080">
            <a:solidFill>
              <a:srgbClr val="90680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4"/>
          <p:cNvGrpSpPr/>
          <p:nvPr/>
        </p:nvGrpSpPr>
        <p:grpSpPr>
          <a:xfrm>
            <a:off x="1755720" y="2863800"/>
            <a:ext cx="230400" cy="250920"/>
            <a:chOff x="1755720" y="2863800"/>
            <a:chExt cx="230400" cy="250920"/>
          </a:xfrm>
        </p:grpSpPr>
        <p:sp>
          <p:nvSpPr>
            <p:cNvPr id="80" name="Ellipse 142"/>
            <p:cNvSpPr/>
            <p:nvPr/>
          </p:nvSpPr>
          <p:spPr>
            <a:xfrm>
              <a:off x="176616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43"/>
            <p:cNvSpPr/>
            <p:nvPr/>
          </p:nvSpPr>
          <p:spPr>
            <a:xfrm>
              <a:off x="175572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Ellipse 144"/>
            <p:cNvSpPr/>
            <p:nvPr/>
          </p:nvSpPr>
          <p:spPr>
            <a:xfrm>
              <a:off x="178380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8"/>
          <p:cNvGrpSpPr/>
          <p:nvPr/>
        </p:nvGrpSpPr>
        <p:grpSpPr>
          <a:xfrm>
            <a:off x="3600360" y="2863800"/>
            <a:ext cx="230400" cy="250920"/>
            <a:chOff x="3600360" y="2863800"/>
            <a:chExt cx="230400" cy="250920"/>
          </a:xfrm>
        </p:grpSpPr>
        <p:sp>
          <p:nvSpPr>
            <p:cNvPr id="84" name="Ellipse 142"/>
            <p:cNvSpPr/>
            <p:nvPr/>
          </p:nvSpPr>
          <p:spPr>
            <a:xfrm>
              <a:off x="361080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43"/>
            <p:cNvSpPr/>
            <p:nvPr/>
          </p:nvSpPr>
          <p:spPr>
            <a:xfrm>
              <a:off x="360036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Ellipse 144"/>
            <p:cNvSpPr/>
            <p:nvPr/>
          </p:nvSpPr>
          <p:spPr>
            <a:xfrm>
              <a:off x="362844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2"/>
          <p:cNvGrpSpPr/>
          <p:nvPr/>
        </p:nvGrpSpPr>
        <p:grpSpPr>
          <a:xfrm>
            <a:off x="5446800" y="2863800"/>
            <a:ext cx="230040" cy="250920"/>
            <a:chOff x="5446800" y="2863800"/>
            <a:chExt cx="230040" cy="250920"/>
          </a:xfrm>
        </p:grpSpPr>
        <p:sp>
          <p:nvSpPr>
            <p:cNvPr id="88" name="Ellipse 142"/>
            <p:cNvSpPr/>
            <p:nvPr/>
          </p:nvSpPr>
          <p:spPr>
            <a:xfrm>
              <a:off x="5457240" y="3070080"/>
              <a:ext cx="20448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43"/>
            <p:cNvSpPr/>
            <p:nvPr/>
          </p:nvSpPr>
          <p:spPr>
            <a:xfrm>
              <a:off x="5446800" y="2863800"/>
              <a:ext cx="23004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Ellipse 144"/>
            <p:cNvSpPr/>
            <p:nvPr/>
          </p:nvSpPr>
          <p:spPr>
            <a:xfrm>
              <a:off x="5474880" y="2869200"/>
              <a:ext cx="16848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7292880" y="2863800"/>
            <a:ext cx="230400" cy="250920"/>
            <a:chOff x="7292880" y="2863800"/>
            <a:chExt cx="230400" cy="250920"/>
          </a:xfrm>
        </p:grpSpPr>
        <p:sp>
          <p:nvSpPr>
            <p:cNvPr id="92" name="Ellipse 142"/>
            <p:cNvSpPr/>
            <p:nvPr/>
          </p:nvSpPr>
          <p:spPr>
            <a:xfrm>
              <a:off x="730332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43"/>
            <p:cNvSpPr/>
            <p:nvPr/>
          </p:nvSpPr>
          <p:spPr>
            <a:xfrm>
              <a:off x="729288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Ellipse 144"/>
            <p:cNvSpPr/>
            <p:nvPr/>
          </p:nvSpPr>
          <p:spPr>
            <a:xfrm>
              <a:off x="732096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78"/>
          <p:cNvSpPr/>
          <p:nvPr/>
        </p:nvSpPr>
        <p:spPr>
          <a:xfrm>
            <a:off x="152748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336744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0"/>
          <p:cNvSpPr/>
          <p:nvPr/>
        </p:nvSpPr>
        <p:spPr>
          <a:xfrm>
            <a:off x="518652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1"/>
          <p:cNvSpPr/>
          <p:nvPr/>
        </p:nvSpPr>
        <p:spPr>
          <a:xfrm>
            <a:off x="706284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2"/>
          <p:cNvSpPr/>
          <p:nvPr/>
        </p:nvSpPr>
        <p:spPr>
          <a:xfrm>
            <a:off x="1401120" y="3670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3"/>
          <p:cNvSpPr/>
          <p:nvPr/>
        </p:nvSpPr>
        <p:spPr>
          <a:xfrm>
            <a:off x="1401120" y="3956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4"/>
          <p:cNvSpPr/>
          <p:nvPr/>
        </p:nvSpPr>
        <p:spPr>
          <a:xfrm>
            <a:off x="1401120" y="4240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1401120" y="452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6"/>
          <p:cNvSpPr/>
          <p:nvPr/>
        </p:nvSpPr>
        <p:spPr>
          <a:xfrm>
            <a:off x="3249000" y="367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7"/>
          <p:cNvSpPr/>
          <p:nvPr/>
        </p:nvSpPr>
        <p:spPr>
          <a:xfrm>
            <a:off x="3249000" y="3963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3249000" y="4248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9"/>
          <p:cNvSpPr/>
          <p:nvPr/>
        </p:nvSpPr>
        <p:spPr>
          <a:xfrm>
            <a:off x="3249000" y="4532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0"/>
          <p:cNvSpPr/>
          <p:nvPr/>
        </p:nvSpPr>
        <p:spPr>
          <a:xfrm>
            <a:off x="5108040" y="3670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1"/>
          <p:cNvSpPr/>
          <p:nvPr/>
        </p:nvSpPr>
        <p:spPr>
          <a:xfrm>
            <a:off x="5108040" y="3956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2"/>
          <p:cNvSpPr/>
          <p:nvPr/>
        </p:nvSpPr>
        <p:spPr>
          <a:xfrm>
            <a:off x="5108040" y="4240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5108040" y="452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6898680" y="3662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5"/>
          <p:cNvSpPr/>
          <p:nvPr/>
        </p:nvSpPr>
        <p:spPr>
          <a:xfrm>
            <a:off x="6898680" y="394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6"/>
          <p:cNvSpPr/>
          <p:nvPr/>
        </p:nvSpPr>
        <p:spPr>
          <a:xfrm>
            <a:off x="6898680" y="4232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>
            <a:off x="6898680" y="4516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6"/>
          <p:cNvSpPr/>
          <p:nvPr/>
        </p:nvSpPr>
        <p:spPr>
          <a:xfrm>
            <a:off x="393840" y="47628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1</a:t>
            </a:r>
            <a:r>
              <a:rPr b="1" lang="zh-CN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、基本的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58"/>
          <p:cNvSpPr/>
          <p:nvPr/>
        </p:nvSpPr>
        <p:spPr>
          <a:xfrm>
            <a:off x="0" y="1000080"/>
            <a:ext cx="3492360" cy="0"/>
          </a:xfrm>
          <a:prstGeom prst="line">
            <a:avLst/>
          </a:prstGeom>
          <a:ln w="9360">
            <a:solidFill>
              <a:srgbClr val="f2ed9b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2438280" y="1484280"/>
            <a:ext cx="4205520" cy="4205160"/>
            <a:chOff x="2438280" y="1484280"/>
            <a:chExt cx="4205520" cy="4205160"/>
          </a:xfrm>
        </p:grpSpPr>
        <p:sp>
          <p:nvSpPr>
            <p:cNvPr id="119" name="막힌 원호 5"/>
            <p:cNvSpPr/>
            <p:nvPr/>
          </p:nvSpPr>
          <p:spPr>
            <a:xfrm>
              <a:off x="2438280" y="1484280"/>
              <a:ext cx="4205520" cy="4205160"/>
            </a:xfrm>
            <a:custGeom>
              <a:avLst/>
              <a:gdLst>
                <a:gd name="textAreaLeft" fmla="*/ 0 w 4205520"/>
                <a:gd name="textAreaRight" fmla="*/ 4205880 w 4205520"/>
                <a:gd name="textAreaTop" fmla="*/ 0 h 4205160"/>
                <a:gd name="textAreaBottom" fmla="*/ 223200 h 4205160"/>
              </a:gdLst>
              <a:ahLst/>
              <a:rect l="textAreaLeft" t="textAreaTop" r="textAreaRight" b="textAreaBottom"/>
              <a:pathLst>
                <a:path w="11101" h="3536">
                  <a:moveTo>
                    <a:pt x="11002" y="3535"/>
                  </a:moveTo>
                  <a:cubicBezTo>
                    <a:pt x="10935" y="3533"/>
                    <a:pt x="10867" y="3532"/>
                    <a:pt x="10799" y="3533"/>
                  </a:cubicBezTo>
                  <a:cubicBezTo>
                    <a:pt x="10732" y="3533"/>
                    <a:pt x="10664" y="3533"/>
                    <a:pt x="10597" y="3535"/>
                  </a:cubicBezTo>
                  <a:lnTo>
                    <a:pt x="10498" y="4"/>
                  </a:lnTo>
                  <a:cubicBezTo>
                    <a:pt x="10599" y="1"/>
                    <a:pt x="10699" y="-1"/>
                    <a:pt x="10800" y="0"/>
                  </a:cubicBezTo>
                  <a:cubicBezTo>
                    <a:pt x="10900" y="0"/>
                    <a:pt x="11000" y="1"/>
                    <a:pt x="11101" y="4"/>
                  </a:cubicBezTo>
                  <a:lnTo>
                    <a:pt x="11002" y="3535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막힌 원호 6"/>
            <p:cNvSpPr/>
            <p:nvPr/>
          </p:nvSpPr>
          <p:spPr>
            <a:xfrm>
              <a:off x="2438280" y="1484280"/>
              <a:ext cx="4205520" cy="4205160"/>
            </a:xfrm>
            <a:custGeom>
              <a:avLst/>
              <a:gdLst>
                <a:gd name="textAreaLeft" fmla="*/ 0 w 4205520"/>
                <a:gd name="textAreaRight" fmla="*/ 4205880 w 4205520"/>
                <a:gd name="textAreaTop" fmla="*/ 0 h 4205160"/>
                <a:gd name="textAreaBottom" fmla="*/ 2147040 h 4205160"/>
              </a:gdLst>
              <a:ahLst/>
              <a:rect l="textAreaLeft" t="textAreaTop" r="textAreaRight" b="textAreaBottom"/>
              <a:pathLst>
                <a:path w="21597" h="21600">
                  <a:moveTo>
                    <a:pt x="18115" y="10942"/>
                  </a:moveTo>
                  <a:cubicBezTo>
                    <a:pt x="18038" y="14927"/>
                    <a:pt x="14785" y="18116"/>
                    <a:pt x="10800" y="18117"/>
                  </a:cubicBezTo>
                  <a:cubicBezTo>
                    <a:pt x="6814" y="18117"/>
                    <a:pt x="3561" y="14927"/>
                    <a:pt x="3484" y="10942"/>
                  </a:cubicBezTo>
                  <a:lnTo>
                    <a:pt x="2" y="11009"/>
                  </a:lnTo>
                  <a:cubicBezTo>
                    <a:pt x="116" y="16891"/>
                    <a:pt x="4917" y="21600"/>
                    <a:pt x="10800" y="21600"/>
                  </a:cubicBezTo>
                  <a:cubicBezTo>
                    <a:pt x="16682" y="21599"/>
                    <a:pt x="21483" y="16891"/>
                    <a:pt x="21597" y="11009"/>
                  </a:cubicBezTo>
                  <a:lnTo>
                    <a:pt x="18115" y="10942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막힌 원호 7"/>
            <p:cNvSpPr/>
            <p:nvPr/>
          </p:nvSpPr>
          <p:spPr>
            <a:xfrm flipH="1">
              <a:off x="2438280" y="1484280"/>
              <a:ext cx="4205520" cy="4205160"/>
            </a:xfrm>
            <a:custGeom>
              <a:avLst/>
              <a:gdLst>
                <a:gd name="textAreaLeft" fmla="*/ 360 w 4205520"/>
                <a:gd name="textAreaRight" fmla="*/ 4206240 w 4205520"/>
                <a:gd name="textAreaTop" fmla="*/ 0 h 4205160"/>
                <a:gd name="textAreaBottom" fmla="*/ 223200 h 4205160"/>
              </a:gdLst>
              <a:ahLst/>
              <a:rect l="textAreaLeft" t="textAreaTop" r="textAreaRight" b="textAreaBottom"/>
              <a:pathLst>
                <a:path w="11101" h="3499">
                  <a:moveTo>
                    <a:pt x="11003" y="3498"/>
                  </a:moveTo>
                  <a:cubicBezTo>
                    <a:pt x="10935" y="3496"/>
                    <a:pt x="10867" y="3495"/>
                    <a:pt x="10799" y="3496"/>
                  </a:cubicBezTo>
                  <a:cubicBezTo>
                    <a:pt x="10732" y="3496"/>
                    <a:pt x="10664" y="3496"/>
                    <a:pt x="10596" y="3498"/>
                  </a:cubicBezTo>
                  <a:lnTo>
                    <a:pt x="10498" y="4"/>
                  </a:lnTo>
                  <a:cubicBezTo>
                    <a:pt x="10599" y="1"/>
                    <a:pt x="10699" y="-1"/>
                    <a:pt x="10800" y="0"/>
                  </a:cubicBezTo>
                  <a:cubicBezTo>
                    <a:pt x="10900" y="0"/>
                    <a:pt x="11000" y="1"/>
                    <a:pt x="11101" y="4"/>
                  </a:cubicBezTo>
                  <a:lnTo>
                    <a:pt x="11003" y="3498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막힌 원호 8"/>
            <p:cNvSpPr/>
            <p:nvPr/>
          </p:nvSpPr>
          <p:spPr>
            <a:xfrm flipH="1">
              <a:off x="2438280" y="1484280"/>
              <a:ext cx="4205520" cy="4205160"/>
            </a:xfrm>
            <a:custGeom>
              <a:avLst/>
              <a:gdLst>
                <a:gd name="textAreaLeft" fmla="*/ 360 w 4205520"/>
                <a:gd name="textAreaRight" fmla="*/ 4206240 w 4205520"/>
                <a:gd name="textAreaTop" fmla="*/ 0 h 4205160"/>
                <a:gd name="textAreaBottom" fmla="*/ 2147040 h 4205160"/>
              </a:gdLst>
              <a:ahLst/>
              <a:rect l="textAreaLeft" t="textAreaTop" r="textAreaRight" b="textAreaBottom"/>
              <a:pathLst>
                <a:path w="21597" h="21600">
                  <a:moveTo>
                    <a:pt x="18115" y="10942"/>
                  </a:moveTo>
                  <a:cubicBezTo>
                    <a:pt x="18038" y="14927"/>
                    <a:pt x="14785" y="18116"/>
                    <a:pt x="10800" y="18117"/>
                  </a:cubicBezTo>
                  <a:cubicBezTo>
                    <a:pt x="6814" y="18117"/>
                    <a:pt x="3561" y="14927"/>
                    <a:pt x="3484" y="10942"/>
                  </a:cubicBezTo>
                  <a:lnTo>
                    <a:pt x="2" y="11009"/>
                  </a:lnTo>
                  <a:cubicBezTo>
                    <a:pt x="116" y="16891"/>
                    <a:pt x="4917" y="21600"/>
                    <a:pt x="10800" y="21600"/>
                  </a:cubicBezTo>
                  <a:cubicBezTo>
                    <a:pt x="16682" y="21599"/>
                    <a:pt x="21483" y="16891"/>
                    <a:pt x="21597" y="11009"/>
                  </a:cubicBezTo>
                  <a:lnTo>
                    <a:pt x="18115" y="10942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"/>
          <p:cNvGrpSpPr/>
          <p:nvPr/>
        </p:nvGrpSpPr>
        <p:grpSpPr>
          <a:xfrm>
            <a:off x="5408640" y="1755720"/>
            <a:ext cx="2949480" cy="642960"/>
            <a:chOff x="5408640" y="1755720"/>
            <a:chExt cx="2949480" cy="642960"/>
          </a:xfrm>
        </p:grpSpPr>
        <p:sp>
          <p:nvSpPr>
            <p:cNvPr id="124" name="직선 연결선 19"/>
            <p:cNvSpPr/>
            <p:nvPr/>
          </p:nvSpPr>
          <p:spPr>
            <a:xfrm flipV="1">
              <a:off x="5408640" y="1765080"/>
              <a:ext cx="806040" cy="63360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직선 연결선 28"/>
            <p:cNvSpPr/>
            <p:nvPr/>
          </p:nvSpPr>
          <p:spPr>
            <a:xfrm flipH="1">
              <a:off x="6214680" y="1755720"/>
              <a:ext cx="214344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0"/>
          <p:cNvGrpSpPr/>
          <p:nvPr/>
        </p:nvGrpSpPr>
        <p:grpSpPr>
          <a:xfrm>
            <a:off x="500040" y="1765440"/>
            <a:ext cx="3071520" cy="642960"/>
            <a:chOff x="500040" y="1765440"/>
            <a:chExt cx="3071520" cy="642960"/>
          </a:xfrm>
        </p:grpSpPr>
        <p:sp>
          <p:nvSpPr>
            <p:cNvPr id="127" name="직선 연결선 36"/>
            <p:cNvSpPr/>
            <p:nvPr/>
          </p:nvSpPr>
          <p:spPr>
            <a:xfrm flipH="1" flipV="1">
              <a:off x="2642040" y="1765440"/>
              <a:ext cx="929520" cy="64296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직선 연결선 37"/>
            <p:cNvSpPr/>
            <p:nvPr/>
          </p:nvSpPr>
          <p:spPr>
            <a:xfrm>
              <a:off x="500040" y="1765440"/>
              <a:ext cx="214236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3"/>
          <p:cNvGrpSpPr/>
          <p:nvPr/>
        </p:nvGrpSpPr>
        <p:grpSpPr>
          <a:xfrm>
            <a:off x="571680" y="5000760"/>
            <a:ext cx="2856960" cy="1214280"/>
            <a:chOff x="571680" y="5000760"/>
            <a:chExt cx="2856960" cy="1214280"/>
          </a:xfrm>
        </p:grpSpPr>
        <p:sp>
          <p:nvSpPr>
            <p:cNvPr id="130" name="직선 연결선 39"/>
            <p:cNvSpPr/>
            <p:nvPr/>
          </p:nvSpPr>
          <p:spPr>
            <a:xfrm flipH="1">
              <a:off x="2714400" y="5000760"/>
              <a:ext cx="714240" cy="121428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직선 연결선 40"/>
            <p:cNvSpPr/>
            <p:nvPr/>
          </p:nvSpPr>
          <p:spPr>
            <a:xfrm>
              <a:off x="571680" y="6214680"/>
              <a:ext cx="214308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3"/>
          <p:cNvSpPr/>
          <p:nvPr/>
        </p:nvSpPr>
        <p:spPr>
          <a:xfrm>
            <a:off x="6215040" y="1415880"/>
            <a:ext cx="24289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214200" y="1415880"/>
            <a:ext cx="24289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262560" y="5099040"/>
            <a:ext cx="24289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214200" y="4797360"/>
            <a:ext cx="2428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</a:t>
            </a:r>
            <a:r>
              <a:rPr b="1" lang="en-US" sz="1200" spc="-1" strike="noStrike">
                <a:solidFill>
                  <a:srgbClr val="c19221"/>
                </a:solidFill>
                <a:latin typeface="Arial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a5a5"/>
                </a:solidFill>
                <a:latin typeface="Arial"/>
                <a:ea typeface="HY헤드라인M"/>
              </a:rPr>
              <a:t> </a:t>
            </a: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3264120" y="2286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5100840" y="2276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3254760" y="3776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5091480" y="3767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393840" y="47628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2</a:t>
            </a:r>
            <a:r>
              <a:rPr b="1" lang="zh-CN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、基本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32"/>
          <p:cNvSpPr/>
          <p:nvPr/>
        </p:nvSpPr>
        <p:spPr>
          <a:xfrm>
            <a:off x="0" y="1000080"/>
            <a:ext cx="3492360" cy="0"/>
          </a:xfrm>
          <a:prstGeom prst="line">
            <a:avLst/>
          </a:prstGeom>
          <a:ln w="9360">
            <a:solidFill>
              <a:srgbClr val="f2ed9b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5572080" y="5000760"/>
            <a:ext cx="2857680" cy="1214280"/>
            <a:chOff x="5572080" y="5000760"/>
            <a:chExt cx="2857680" cy="1214280"/>
          </a:xfrm>
        </p:grpSpPr>
        <p:sp>
          <p:nvSpPr>
            <p:cNvPr id="143" name="직선 연결선 31"/>
            <p:cNvSpPr/>
            <p:nvPr/>
          </p:nvSpPr>
          <p:spPr>
            <a:xfrm>
              <a:off x="5572080" y="5000760"/>
              <a:ext cx="714240" cy="121428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직선 연결선 32"/>
            <p:cNvSpPr/>
            <p:nvPr/>
          </p:nvSpPr>
          <p:spPr>
            <a:xfrm flipH="1">
              <a:off x="6286320" y="6214680"/>
              <a:ext cx="214344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椭圆 36"/>
          <p:cNvSpPr/>
          <p:nvPr/>
        </p:nvSpPr>
        <p:spPr>
          <a:xfrm>
            <a:off x="2514600" y="4721400"/>
            <a:ext cx="4226040" cy="947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4D7-E386-4697-B350-DC549FC28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"/>
          <p:cNvPicPr/>
          <p:nvPr/>
        </p:nvPicPr>
        <p:blipFill>
          <a:blip r:embed="rId1"/>
          <a:srcRect l="0" t="0" r="13688" b="0"/>
          <a:stretch/>
        </p:blipFill>
        <p:spPr>
          <a:xfrm>
            <a:off x="1440" y="-131760"/>
            <a:ext cx="9142560" cy="7126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539640" y="3284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谢谢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2:0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01:19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