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C33A-E713-4A5B-9037-156BCF6C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358-1546-4657-8F7F-53E39F6D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3587-B1FD-4D3F-B9CF-F84B3CD3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28B-93CC-4D26-AD5E-6FADE70A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5CCB-F914-421C-AE97-561361E0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49A0-00B9-4ADB-BFFA-46E881D7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CCAC-77A0-4AC7-B279-1C13C689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ED7-88EF-4E11-8EAF-CF91A4A4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40E-DC5F-4BBB-AA6E-76667D32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0E2-6CFB-4DE0-9AF3-71966916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320-47B0-4A47-9330-D49A878E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681-8273-475E-8FBA-745D3EB7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7D68-A8B9-4EF5-9B46-2F3DCFF5660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D515-B79A-4FE4-80D7-81C307E0D74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314440" y="3278160"/>
            <a:ext cx="3418200" cy="1501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 rot="10800000">
            <a:off x="3427560" y="2644200"/>
            <a:ext cx="3417840" cy="1501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1"/>
          <p:cNvSpPr/>
          <p:nvPr/>
        </p:nvSpPr>
        <p:spPr>
          <a:xfrm flipH="1">
            <a:off x="4869720" y="2855880"/>
            <a:ext cx="15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5"/>
          <p:cNvSpPr/>
          <p:nvPr/>
        </p:nvSpPr>
        <p:spPr>
          <a:xfrm flipH="1">
            <a:off x="2722680" y="418464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26"/>
          <p:cNvSpPr/>
          <p:nvPr/>
        </p:nvSpPr>
        <p:spPr>
          <a:xfrm>
            <a:off x="2789280" y="2054160"/>
            <a:ext cx="807840" cy="949320"/>
          </a:xfrm>
          <a:prstGeom prst="pie">
            <a:avLst/>
          </a:prstGeom>
          <a:noFill/>
          <a:ln w="19080">
            <a:solidFill>
              <a:srgbClr val="7f7f7f"/>
            </a:solidFill>
            <a:prstDash val="sysDot"/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27"/>
          <p:cNvSpPr/>
          <p:nvPr/>
        </p:nvSpPr>
        <p:spPr>
          <a:xfrm>
            <a:off x="2789280" y="1628640"/>
            <a:ext cx="1440" cy="1800360"/>
          </a:xfrm>
          <a:prstGeom prst="line">
            <a:avLst/>
          </a:prstGeom>
          <a:ln w="12600">
            <a:solidFill>
              <a:srgbClr val="7f7f7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 flipH="1">
            <a:off x="1643040" y="16430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9"/>
          <p:cNvSpPr/>
          <p:nvPr/>
        </p:nvSpPr>
        <p:spPr>
          <a:xfrm flipH="1">
            <a:off x="1643040" y="21286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30"/>
          <p:cNvSpPr/>
          <p:nvPr/>
        </p:nvSpPr>
        <p:spPr>
          <a:xfrm flipH="1" flipV="1">
            <a:off x="5544360" y="4503600"/>
            <a:ext cx="916200" cy="782640"/>
          </a:xfrm>
          <a:prstGeom prst="pie">
            <a:avLst/>
          </a:prstGeom>
          <a:noFill/>
          <a:ln w="19080">
            <a:solidFill>
              <a:srgbClr val="7f7f7f"/>
            </a:solidFill>
            <a:prstDash val="sysDot"/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31"/>
          <p:cNvSpPr/>
          <p:nvPr/>
        </p:nvSpPr>
        <p:spPr>
          <a:xfrm>
            <a:off x="6450120" y="3927600"/>
            <a:ext cx="1440" cy="1800000"/>
          </a:xfrm>
          <a:prstGeom prst="line">
            <a:avLst/>
          </a:prstGeom>
          <a:ln w="12600">
            <a:solidFill>
              <a:srgbClr val="7f7f7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 flipH="1">
            <a:off x="6450120" y="48196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 flipH="1">
            <a:off x="6450120" y="53053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34680" y="693720"/>
            <a:ext cx="61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箭头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图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EAD8-B95E-479C-B89F-26DB812BA0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4Z</dcterms:modified>
  <cp:revision>88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