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laser.wav" ContentType="audio/x-wav"/>
  <Override PartName="/ppt/media/image4.png" ContentType="image/png"/>
  <Override PartName="/ppt/media/image10.jpeg" ContentType="image/jpeg"/>
  <Override PartName="/ppt/media/image8.jpeg" ContentType="image/jpeg"/>
  <Override PartName="/ppt/media/whoosh.wav" ContentType="audio/x-wav"/>
  <Override PartName="/ppt/media/image5.jpeg" ContentType="image/jpeg"/>
  <Override PartName="/ppt/media/image7.jpeg" ContentType="image/jpeg"/>
  <Override PartName="/ppt/media/wind.wav" ContentType="audio/x-wav"/>
  <Override PartName="/ppt/media/chimes.wav" ContentType="audio/x-wav"/>
  <Override PartName="/ppt/media/image6.jpeg" ContentType="image/jpeg"/>
  <Override PartName="/ppt/media/image3.jpeg" ContentType="image/jpeg"/>
  <Override PartName="/ppt/media/image2.jpeg" ContentType="image/jpeg"/>
  <Override PartName="/ppt/media/image1.jpeg" ContentType="image/jpeg"/>
  <Override PartName="/ppt/media/image22.gif" ContentType="image/gif"/>
  <Override PartName="/ppt/media/projctor.wav" ContentType="audio/x-wav"/>
  <Override PartName="/ppt/media/image17.jpeg" ContentType="image/jpeg"/>
  <Override PartName="/ppt/media/image21.jpeg" ContentType="image/jpeg"/>
  <Override PartName="/ppt/media/image19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hammer.wav" ContentType="audio/x-wav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54E-388A-445D-B019-36650B7F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122-9E07-401B-8736-EAC45A0B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0C7-921A-41E8-B3B4-ED81C6A7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A61-217D-4281-9B4C-FCA23493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5F11-E635-45E5-8070-A218AD6D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41CE-AC57-413C-BCCD-CC14C648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1C6E-E02B-4ED7-A88D-10B01ADB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ECE9-A4EE-43B9-8BB7-D2A35EEE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6A60-93A4-4EDD-9F47-C144968B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0637-81AD-431D-AC61-A4136D3D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F588-7098-4ED5-8B79-54C737C2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FB5-F8BA-4B14-9C3C-054F4523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91D1-43C4-4784-941A-46227BCC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3DA1-AC93-4425-B23F-D106A912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B87F-B323-4987-9D55-E498BA0D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E0ED-220A-4837-859C-25F6516C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00D5-D00B-43B2-B16C-59058FFB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9F77-624B-45D8-9165-39902D2E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D312-3EE0-4291-9383-5464AD20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52C5-A508-4E54-808D-FB912DA2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6D3F-394F-4FF7-873C-B89B0E65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3269-CB2E-497D-9856-9B647C5D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5AA-4A1B-4BE1-8F38-7E8C9E5D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927C-90FA-4946-8E14-24F057A9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5A23-4DE5-44F1-BC4D-708FB506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2284-33DE-4B28-A0B0-CBAB8233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92C2-7934-4856-8219-059BCA8C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3C09-F472-4B98-8EC5-2EF841D7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0C20-F954-4AFE-8100-D886E4A2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B5F7-1CCB-4260-9D59-94E12D78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A71FD-FC4C-447B-84D5-3683216B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7558-FACD-4950-8E8D-42ADD9D1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384F2-BA5E-4D61-B255-F8D060A9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3BF-73E5-45A6-A08C-C1DE7113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AEDB9-656A-407B-A5C7-C7322A80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682B-1619-4C99-BF1D-770CFF50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7573A-0549-482A-B9E0-664C5603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D7E7-A2B8-43CD-BE14-7EC241DD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DF7FC-9671-4053-B1CD-3842C00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F1048-4712-4D59-9C34-6130C464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535E-2A9C-43EB-8391-780C8EEE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EE54-EF7A-4D41-AACF-D59C329D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827BD-DC39-412A-B137-3FB91A02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6A824-15DE-4354-837B-20718DCE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770-BEC9-42AE-843D-92CC5277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D75D-03FF-4C37-8462-71B37927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BFF6F-EA6B-498A-8D05-42A89322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6C16E-EE31-44D2-A7CA-66EF62F2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65C33-D304-46D7-906E-0D23DF0D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99F0A-2ED9-49EA-9676-19BD1E4D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47A06-B66B-4999-A87B-CB4025F8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979E-D8F4-4A8F-AA79-2BCBF61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88085-3697-4CE1-AD4F-DDC9692E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1EF4-101B-47FF-8750-8B527C26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FD93A-F2CC-4125-B37D-926ED612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D95-C2A3-419B-A65D-86A0B33A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40353-BDD7-4FB4-9FAE-ABD3C8F6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203BD-10F7-4AE6-A291-0EA42719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01B38-9369-4960-8774-4473AFCB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F9D78-8BA3-4B2A-ADBB-D55BA2AF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997EF-DA47-493E-B198-B5FE7DE5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661FB-54E3-4E3C-885F-12791B46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69C06-2FD6-489A-B09A-AB862F57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30B15-D1FE-4E62-9743-A3881B3F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8440E-B380-4FCE-BC92-856A86A1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87E3B-5F92-4703-A514-AE663C17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157-F9FD-4AE9-AF88-4C397C71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56D7F-7D5A-44C7-AC44-C5D2325F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57BFC-BA7E-4B1A-B6A6-6AD97712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5A3B0-7AB7-4FB4-A952-FF75D1F6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056-82D8-4844-8048-973C186D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DB9-A8C4-4423-9ADE-FE7A3A8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11CD-A1FE-41A5-ABFD-7B3130CB1F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990-8875-4B41-804C-0734821646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4302-0C6C-4AFB-A4E3-2AD9DA4D7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027D-A1D5-4E59-8D77-37DE8049014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8EDD-5549-4469-93C5-9B0995F4B8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5536-871A-4A43-9491-F041951609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powerpoint/" TargetMode="External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word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1ppt.com/excel/" TargetMode="External"/><Relationship Id="rId4" Type="http://schemas.openxmlformats.org/officeDocument/2006/relationships/image" Target="../media/image7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雪山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WordArt 3"/>
          <p:cNvSpPr txBox="1"/>
          <p:nvPr/>
        </p:nvSpPr>
        <p:spPr>
          <a:xfrm>
            <a:off x="1476360" y="1125360"/>
            <a:ext cx="604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宋体"/>
              </a:rPr>
              <a:t>敬畏自然</a:t>
            </a:r>
            <a:endParaRPr b="1" lang="en-US" sz="6000" spc="1" strike="noStrike">
              <a:ln w="1260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697200" y="465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严春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2124000" y="98100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8000"/>
                </a:solidFill>
                <a:latin typeface="Arial"/>
                <a:ea typeface="楷体_GB2312"/>
              </a:rPr>
              <a:t>敬畏自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"/>
          <p:cNvSpPr/>
          <p:nvPr/>
        </p:nvSpPr>
        <p:spPr>
          <a:xfrm flipH="1">
            <a:off x="1187280" y="2205000"/>
            <a:ext cx="115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6920" y="3357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Arial"/>
              </a:rPr>
              <a:t>敬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3780000" y="2205000"/>
            <a:ext cx="1079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4211640" y="342900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Arial"/>
              </a:rPr>
              <a:t>畏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971640" y="501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人类为什么要敬重畏惧自然呢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8"/>
          <p:cNvSpPr txBox="1"/>
          <p:nvPr/>
        </p:nvSpPr>
        <p:spPr>
          <a:xfrm>
            <a:off x="6877080" y="260280"/>
            <a:ext cx="182880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释题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2"/>
          <p:cNvSpPr txBox="1"/>
          <p:nvPr/>
        </p:nvSpPr>
        <p:spPr>
          <a:xfrm>
            <a:off x="395280" y="765000"/>
            <a:ext cx="2879640" cy="71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2844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整体感知</a:t>
            </a:r>
            <a:endParaRPr b="0" lang="en-US" sz="1600" spc="1" strike="noStrike">
              <a:ln w="2844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835280" y="1844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人类为什么要敬畏自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692360" y="350028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同学们，请你用自己喜欢的方式读文，边读边勾画能体现作者观点的语句来说明人类“敬畏自然”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5"/>
          <p:cNvSpPr txBox="1"/>
          <p:nvPr/>
        </p:nvSpPr>
        <p:spPr>
          <a:xfrm>
            <a:off x="250920" y="2781360"/>
            <a:ext cx="21985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99cc"/>
                  </a:solidFill>
                  <a:miter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 </a:t>
            </a:r>
            <a:endParaRPr b="0" lang="en-US" sz="1600" spc="1" strike="noStrike">
              <a:ln w="25560">
                <a:solidFill>
                  <a:srgbClr val="0099cc"/>
                </a:solidFill>
                <a:miter/>
              </a:ln>
              <a:solidFill>
                <a:srgbClr val="0099cc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25560">
                  <a:solidFill>
                    <a:srgbClr val="0099cc"/>
                  </a:solidFill>
                  <a:miter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小提示</a:t>
            </a:r>
            <a:endParaRPr b="0" lang="en-US" sz="1600" spc="1" strike="noStrike">
              <a:ln w="25560">
                <a:solidFill>
                  <a:srgbClr val="0099cc"/>
                </a:solidFill>
                <a:miter/>
              </a:ln>
              <a:solidFill>
                <a:srgbClr val="0099cc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08000" y="333360"/>
            <a:ext cx="84819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人类的智慧与大自然的智慧相比实在是相形见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大自然创造了一切人仅有智慧是大自然赋予的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大自然创造了人类有感情会思维的大脑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大自然使人体众多细胞分工合理并且相互协调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大自然创造了人体难以形容的美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971640" y="15573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作者为什么提出要“敬畏自然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F68CD-9BFD-4C4E-B12A-E01A31E38EF9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pic133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00" name="WordArt 3"/>
          <p:cNvSpPr txBox="1"/>
          <p:nvPr/>
        </p:nvSpPr>
        <p:spPr>
          <a:xfrm>
            <a:off x="1692360" y="692280"/>
            <a:ext cx="5689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敬畏自然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116000" y="1197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们再也不应该把宇宙的其他部分只是看作我们征服的对象，再也不应该把其他生物仅仅看作我们的美味佳肴，而首先应该把它们看作是与我们平等的生命，看作是宇宙智慧的创造物，看作是宇宙之美的展示者，首先应该敬畏它们，就像敬畏我们自己一样。敬畏它们，就是敬畏宇宙，敬畏自然，就是敬畏我们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900000" y="508464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为什么“敬畏自然，就是敬畏我们自己”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pic24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755640" y="765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敬畏自然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之所以就是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敬畏我们自己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，是因为人类与自然本来就是一体的，尽管存在形式不同，但都是平等的。敬畏自然，就是敬畏生命、爱护自然，就是爱护人类生存的家园，就是敬畏和爱护我们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7" name="Text Box 3"/>
          <p:cNvSpPr/>
          <p:nvPr/>
        </p:nvSpPr>
        <p:spPr>
          <a:xfrm>
            <a:off x="900000" y="1197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本文多处运用反问句来为文章增色，试从课文中找出几个反问句，并把它们变换成一般陈述句，比较一下两种句式的表达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4"/>
          <p:cNvSpPr txBox="1"/>
          <p:nvPr/>
        </p:nvSpPr>
        <p:spPr>
          <a:xfrm>
            <a:off x="250920" y="33336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写作特点</a:t>
            </a:r>
            <a:endParaRPr b="1" lang="en-US" sz="1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684360" y="3789360"/>
            <a:ext cx="8208720" cy="1937160"/>
          </a:xfrm>
          <a:prstGeom prst="rect">
            <a:avLst/>
          </a:prstGeom>
          <a:noFill/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华文新魏"/>
              </a:rPr>
              <a:t>反问句的作用是加强语气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华文新魏"/>
              </a:rPr>
              <a:t>激发读者的思考，发人深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311" name="WordArt 3"/>
          <p:cNvSpPr txBox="1"/>
          <p:nvPr/>
        </p:nvSpPr>
        <p:spPr>
          <a:xfrm>
            <a:off x="179280" y="4428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语言品味</a:t>
            </a:r>
            <a:endParaRPr b="1" lang="en-US" sz="1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684360" y="2421000"/>
            <a:ext cx="8245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人类为自己取得的这些成就而喜形于色，然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谁能断言那些狼藉斑斑的矿坑不会是人类自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的陷阱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宇宙之所以创造智慧生物是为了进行自我认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为了欣赏她自己壮丽无比的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人类并不孤独，在宇宙中处处是我们的弟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395280" y="1268280"/>
            <a:ext cx="8569440" cy="642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本文许多语句富有哲理性，请仔细体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6" descr="20036269521225784"/>
          <p:cNvPicPr/>
          <p:nvPr/>
        </p:nvPicPr>
        <p:blipFill>
          <a:blip r:embed="rId2"/>
          <a:stretch/>
        </p:blipFill>
        <p:spPr>
          <a:xfrm>
            <a:off x="179280" y="24210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20036269521225784"/>
          <p:cNvPicPr/>
          <p:nvPr/>
        </p:nvPicPr>
        <p:blipFill>
          <a:blip r:embed="rId3"/>
          <a:stretch/>
        </p:blipFill>
        <p:spPr>
          <a:xfrm>
            <a:off x="179280" y="5589720"/>
            <a:ext cx="433440" cy="433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20036269521225784"/>
          <p:cNvPicPr/>
          <p:nvPr/>
        </p:nvPicPr>
        <p:blipFill>
          <a:blip r:embed="rId4"/>
          <a:stretch/>
        </p:blipFill>
        <p:spPr>
          <a:xfrm>
            <a:off x="179280" y="429084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7"/>
          <p:cNvSpPr/>
          <p:nvPr/>
        </p:nvSpPr>
        <p:spPr>
          <a:xfrm>
            <a:off x="2354400" y="45086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1024x768_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6300720" y="587700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浩瀚的宇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227640" y="5877000"/>
            <a:ext cx="29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浩瀚宇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pic18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zao5"/>
          <p:cNvPicPr/>
          <p:nvPr/>
        </p:nvPicPr>
        <p:blipFill>
          <a:blip r:embed="rId2"/>
          <a:stretch/>
        </p:blipFill>
        <p:spPr>
          <a:xfrm>
            <a:off x="7956720" y="6237360"/>
            <a:ext cx="825480" cy="314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"/>
          <p:cNvSpPr/>
          <p:nvPr/>
        </p:nvSpPr>
        <p:spPr>
          <a:xfrm>
            <a:off x="468360" y="6922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华文中宋"/>
                <a:ea typeface="华文中宋"/>
              </a:rPr>
              <a:t>、掉入陷阱，就是危机。人类开采煤炭、石油、天然气以及其他各种矿物，留下了无数矿坑，也就破坏了地貌和地层结构，很可能酿成严重后果，危及人类自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396720" y="2637000"/>
            <a:ext cx="81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把宇宙拟人化，把人类的出现，说成是宇宙有目的的创造。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宇宙创造了人类这种智慧生物，等于宇宙长出了大脑，有了自我认识的工具，人类对宇宙的认识即是宇宙对自己的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468360" y="486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华文中宋"/>
                <a:ea typeface="华文中宋"/>
              </a:rPr>
              <a:t>、宇宙的一切，包括人类，都是宇宙生命的构成部分，人类之外的一切，也是生命的种种存在形式，所以它们与我们是平等的生命，是我们的弟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运用了哪几种论证方法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先明确论证方法有哪几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举例论证（摆事实论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道理论证（讲道理论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对比论证（正反对比论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比喻论证（喻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引证（引用论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举例论证（摆事实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无论是令人厌恶的苍蝇蚊子，还是美丽可人的鲜花绿草；无论是高深莫测的星空，还是不值一提的灰尘，都是大自然精巧绝伦的艺术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人体共有一万亿多个细胞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是人类的智慧所不能胜任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道理论证（讲事理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即使从人类．自身智慧发展史的角度看，人类也没有理由过分自傲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万年以后的人们也同样会嘲笑今天的我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因为我们的太阳系只有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多亿年的历史，就演化出了有智慧的生物，而宇宙至少已有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200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亿年的历史了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定早就演化出了更高级的生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对比论证（正反对比论证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大自然用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死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的物质创造了这样丰富多彩的生命，而人类却不能制造出一个哪怕是最简单的生物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比喻论证（喻证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在自然看来，人类上下翻飞的这片巨大空间，不过是咫尺之间而已，就如同鲲鹏看待斥鴳一般，只是蓬篙之间罢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我们的航天器在他们眼中不过是个非常简单的儿童玩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请试拟一句环保公益广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4" name="Picture 3" descr="20041211005255336"/>
          <p:cNvPicPr/>
          <p:nvPr/>
        </p:nvPicPr>
        <p:blipFill>
          <a:blip r:embed="rId1"/>
          <a:stretch/>
        </p:blipFill>
        <p:spPr>
          <a:xfrm>
            <a:off x="466560" y="1981080"/>
            <a:ext cx="8137800" cy="4616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gif001"/>
          <p:cNvPicPr/>
          <p:nvPr/>
        </p:nvPicPr>
        <p:blipFill>
          <a:blip r:embed="rId2"/>
          <a:stretch/>
        </p:blipFill>
        <p:spPr>
          <a:xfrm>
            <a:off x="684360" y="620640"/>
            <a:ext cx="618840" cy="1219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hamm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l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49580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环保寄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24000" y="1484280"/>
            <a:ext cx="87264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色是生命的源泉，植绿护绿就是保护我们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护绿化，人人有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色是青春的活动，让地球到处充满绿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色让我们快乐，让世界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净化空气，美好环境，从我做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您想创造美好的家园，请您从现在开始保护我们现在的家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诚可贵，绿色价更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保天天行，陪伴你我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西南北中，绿色在心中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gif0421"/>
          <p:cNvPicPr/>
          <p:nvPr/>
        </p:nvPicPr>
        <p:blipFill>
          <a:blip r:embed="rId2"/>
          <a:stretch/>
        </p:blipFill>
        <p:spPr>
          <a:xfrm>
            <a:off x="81000" y="477720"/>
            <a:ext cx="890640" cy="64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whoosh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762120" y="684360"/>
            <a:ext cx="7886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人类只有保护全部生物，才能保护自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人类不是大自然的主宰，是地球大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庭中的一员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人类应尊重自然、珍爱生命，要重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审视自己的行为方式，摆正人与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爱护一切生灵，保护我们共同的家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非但不能强制自然，还要顺从自然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　　　　　——［希腊］埃斯库罗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684360" y="53402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9a02869a9e460592c9eaf4b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6707880" y="5805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鱼翔浅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024609_8499_0">
            <a:hlinkClick r:id="rId1"/>
          </p:cNvPr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1992240"/>
            <a:ext cx="5976720" cy="3880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452490daxiang2_0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303120" y="-27000"/>
            <a:ext cx="9752040" cy="69134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6372360" y="57340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母子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5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1"/>
          <p:cNvPicPr/>
          <p:nvPr/>
        </p:nvPicPr>
        <p:blipFill>
          <a:blip r:embed="rId1"/>
          <a:stretch/>
        </p:blipFill>
        <p:spPr>
          <a:xfrm>
            <a:off x="236520" y="189000"/>
            <a:ext cx="867096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t0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3"/>
          <p:cNvSpPr/>
          <p:nvPr/>
        </p:nvSpPr>
        <p:spPr>
          <a:xfrm>
            <a:off x="1447920" y="914400"/>
            <a:ext cx="601956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面对美丽的大自然，我们应该征服她？还是改造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9900"/>
                </a:solidFill>
                <a:latin typeface="Times New Roman"/>
                <a:ea typeface="华文彩云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16000" y="1052640"/>
            <a:ext cx="892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读出下列词语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注意加线的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鲲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(      )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鹏       蓬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蒿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(     )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相形见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绌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(    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咫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(     )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尺       狼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藉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（    ）   美味佳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肴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3"/>
          <p:cNvSpPr txBox="1"/>
          <p:nvPr/>
        </p:nvSpPr>
        <p:spPr>
          <a:xfrm>
            <a:off x="250920" y="62064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2844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词语积累</a:t>
            </a:r>
            <a:endParaRPr b="0" lang="en-US" sz="1600" spc="1" strike="noStrike">
              <a:ln w="2844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972000" y="342900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kū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284720" y="342900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ā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7813800" y="3429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h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900000" y="45100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zh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435600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j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7813800" y="45100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á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900000" y="220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严春友，男，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1959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月生于山东省莒县。分别毕业于山东师范大学历史系、北京师范大学哲学系，获历史学学士学位、哲学硕士学位和哲学博士学位。现在北京师范大学哲学与社会学学院工作。主要论著有：《宇宙全息统一论》、《精神之谜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3"/>
          <p:cNvSpPr txBox="1"/>
          <p:nvPr/>
        </p:nvSpPr>
        <p:spPr>
          <a:xfrm>
            <a:off x="395280" y="0"/>
            <a:ext cx="273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作者简介</a:t>
            </a:r>
            <a:endParaRPr b="0" lang="en-US" sz="1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066680" y="1828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议论性散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议论性散文不同于抒情性散文，也不同于一般议论文。这种文体主要使用议论这种表达方式，内容是议论性的，在文章中有许多体现作者观点的语句。它有一个显著的特色就是富有文学色彩，讲究形象的语言、文学的语言，有浓郁的抒情成分和感情色彩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3"/>
          <p:cNvSpPr txBox="1"/>
          <p:nvPr/>
        </p:nvSpPr>
        <p:spPr>
          <a:xfrm>
            <a:off x="380880" y="228600"/>
            <a:ext cx="3353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316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文体简介</a:t>
            </a:r>
            <a:endParaRPr b="0" lang="en-US" sz="1600" spc="1" strike="noStrike">
              <a:ln w="3168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28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5:32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06:25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