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gif" ContentType="image/gif"/>
  <Override PartName="/ppt/media/projctor.wav" ContentType="audio/x-wav"/>
  <Override PartName="/ppt/media/image12.jpeg" ContentType="image/jpeg"/>
  <Override PartName="/ppt/media/image10.gif" ContentType="image/gif"/>
  <Override PartName="/ppt/media/image16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C07-ECAB-47B6-AE42-F0349DAF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DA7-04E3-4295-A732-6A67822D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FCB-F7DB-4F2A-8B43-98BA286B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88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420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88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420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918-3E6A-4929-AAB8-66431FFB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6A48-ADDC-481F-8BAA-C1A2FC27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5081-CEE0-48B3-97C6-68EA9D8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FFCF-518E-41F0-9539-29C3B727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D09A-531C-40FA-940A-1CF24006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78EE-ABFE-46A6-9D31-2B9A211F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EC9A-0466-4E4B-90E4-48974D56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C818-BC9E-482F-A8FF-B06020DD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C39-80AD-4317-95FC-275B267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4816-23D4-4F40-AD29-29F5A5B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A92-F9A8-47D3-8EF8-AD67D5E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AB7E-A3D8-44F2-AD8E-84F7791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C098-B3B3-4305-BF26-028B61D3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288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14200" y="13712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192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288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14200" y="407772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6995-0CBA-4F21-A9A8-ED9E50FE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EBC-C330-4226-9BB1-A83290BF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3DE-A655-4106-8C67-3A2B9E3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12D-E57D-488B-8250-0EF4006E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7391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AA4-3913-4E01-AD9B-FD391089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789-9D78-438C-A9CF-22496CD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1200" y="407772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968-CE29-45C7-BDF1-6E9D19F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149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1200" y="1371240"/>
            <a:ext cx="3941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77720"/>
            <a:ext cx="8077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2BF-DF54-48BF-8C89-F5B5E4F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</a:rPr>
              <a:t>Click to edit the title text format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C4CB-541E-40E0-B16C-D2A24E3C278B}" type="slidenum">
              <a:rPr b="0" lang="en-US" sz="12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Z:\newtek\_backgrounds_1.02\Tim\powerpoint templates\61-80\business_as_usual\elements\crop_circle_looking_thing.png"/>
          <p:cNvPicPr/>
          <p:nvPr/>
        </p:nvPicPr>
        <p:blipFill>
          <a:blip r:embed="rId3"/>
          <a:stretch/>
        </p:blipFill>
        <p:spPr>
          <a:xfrm>
            <a:off x="6858000" y="533520"/>
            <a:ext cx="2709720" cy="59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Z:\newtek\_backgrounds_1.02\Tim\powerpoint templates\61-80\business_as_usual\elements\crop_circle_looking_thing.png"/>
          <p:cNvPicPr/>
          <p:nvPr/>
        </p:nvPicPr>
        <p:blipFill>
          <a:blip r:embed="rId3"/>
          <a:stretch/>
        </p:blipFill>
        <p:spPr>
          <a:xfrm>
            <a:off x="609480" y="2514600"/>
            <a:ext cx="763560" cy="1676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</a:rPr>
              <a:t>Click to edit the title text format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Franklin Gothic Heavy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BE6F-DAC0-4A47-AE02-9C45AD42C0CA}" type="slidenum">
              <a:rPr b="0" lang="en-US" sz="12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gif"/><Relationship Id="rId6" Type="http://schemas.openxmlformats.org/officeDocument/2006/relationships/image" Target="../media/image10.gif"/><Relationship Id="rId7" Type="http://schemas.openxmlformats.org/officeDocument/2006/relationships/image" Target="../media/image5.gif"/><Relationship Id="rId8" Type="http://schemas.openxmlformats.org/officeDocument/2006/relationships/image" Target="../media/image8.gif"/><Relationship Id="rId9" Type="http://schemas.openxmlformats.org/officeDocument/2006/relationships/image" Target="../media/image16.gif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3440" y="206028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教学卡通课件</a:t>
            </a:r>
            <a:r>
              <a:rPr b="1" lang="en-US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模板下载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32763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6" name="Picture 12" descr="Z:\newtek\_backgrounds_1.02\Tim\powerpoint templates\61-80\business_as_usual\elements\man_desk_working_hg_clr.gif"/>
          <p:cNvPicPr/>
          <p:nvPr/>
        </p:nvPicPr>
        <p:blipFill>
          <a:blip r:embed="rId1"/>
          <a:stretch/>
        </p:blipFill>
        <p:spPr>
          <a:xfrm>
            <a:off x="3720960" y="3733920"/>
            <a:ext cx="1702080" cy="1885680"/>
          </a:xfrm>
          <a:prstGeom prst="rect">
            <a:avLst/>
          </a:prstGeom>
          <a:ln w="0">
            <a:noFill/>
          </a:ln>
        </p:spPr>
      </p:pic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0" name="Picture 12" descr="Z:\newtek\_backgrounds_1.02\Tim\powerpoint templates\61-80\business_as_usual\elements\man_bored_desk_hg_clr.gif"/>
          <p:cNvPicPr/>
          <p:nvPr/>
        </p:nvPicPr>
        <p:blipFill>
          <a:blip r:embed="rId1"/>
          <a:stretch/>
        </p:blipFill>
        <p:spPr>
          <a:xfrm>
            <a:off x="7356600" y="4038480"/>
            <a:ext cx="1736640" cy="1924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6668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anklin Gothic Heavy"/>
                <a:ea typeface="宋体"/>
              </a:rPr>
              <a:t>Transitional Page</a:t>
            </a:r>
            <a:endParaRPr b="1" lang="en-US" sz="6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32763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Heavy"/>
              <a:ea typeface="宋体"/>
            </a:endParaRPr>
          </a:p>
        </p:txBody>
      </p:sp>
      <p:pic>
        <p:nvPicPr>
          <p:cNvPr id="94" name="Picture 5" descr="Z:\newtek\_backgrounds_1.02\Tim\powerpoint templates\61-80\business_as_usual\elements\man_over_worked_hg_clr.gif"/>
          <p:cNvPicPr/>
          <p:nvPr/>
        </p:nvPicPr>
        <p:blipFill>
          <a:blip r:embed="rId2"/>
          <a:stretch/>
        </p:blipFill>
        <p:spPr>
          <a:xfrm>
            <a:off x="3652920" y="3581280"/>
            <a:ext cx="1838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7" name="Picture 5" descr="Z:\newtek\_backgrounds_1.02\Tim\powerpoint templates\61-80\business_as_usual\elements\man_desk_tired_hg_clr.gif"/>
          <p:cNvPicPr/>
          <p:nvPr/>
        </p:nvPicPr>
        <p:blipFill>
          <a:blip r:embed="rId2"/>
          <a:stretch/>
        </p:blipFill>
        <p:spPr>
          <a:xfrm>
            <a:off x="7286760" y="3981600"/>
            <a:ext cx="1838160" cy="2038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20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Franklin Gothic Heavy"/>
                <a:ea typeface="宋体"/>
              </a:rPr>
              <a:t>使用规范说明</a:t>
            </a:r>
            <a:endParaRPr b="1" lang="en-US" sz="4000" spc="-1" strike="noStrike">
              <a:solidFill>
                <a:srgbClr val="808080"/>
              </a:solidFill>
              <a:latin typeface="Franklin Gothic Heav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Heavy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Heavy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9" descr="Z:\newtek\_backgrounds_1.02\Tim\powerpoint templates\61-80\business_as_usual\business_as_usual_prt.jpg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0" descr="Z:\newtek\_backgrounds_1.02\Tim\powerpoint templates\61-80\business_as_usual\business_as_usual_qx.jpg"/>
          <p:cNvPicPr/>
          <p:nvPr/>
        </p:nvPicPr>
        <p:blipFill>
          <a:blip r:embed="rId2"/>
          <a:stretch/>
        </p:blipFill>
        <p:spPr>
          <a:xfrm>
            <a:off x="22860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1" descr="Z:\newtek\_backgrounds_1.02\Tim\powerpoint templates\61-80\business_as_usual\business_as_usual_sld.jpg"/>
          <p:cNvPicPr/>
          <p:nvPr/>
        </p:nvPicPr>
        <p:blipFill>
          <a:blip r:embed="rId3"/>
          <a:stretch/>
        </p:blipFill>
        <p:spPr>
          <a:xfrm>
            <a:off x="243828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2" descr="Z:\newtek\_backgrounds_1.02\Tim\powerpoint templates\61-80\business_as_usual\business_as_usual_trs.jpg"/>
          <p:cNvPicPr/>
          <p:nvPr/>
        </p:nvPicPr>
        <p:blipFill>
          <a:blip r:embed="rId4"/>
          <a:stretch/>
        </p:blipFill>
        <p:spPr>
          <a:xfrm>
            <a:off x="4648320" y="15228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3"/>
          <p:cNvSpPr/>
          <p:nvPr/>
        </p:nvSpPr>
        <p:spPr>
          <a:xfrm>
            <a:off x="5867280" y="3657600"/>
            <a:ext cx="3124440" cy="762120"/>
          </a:xfrm>
          <a:prstGeom prst="wedgeRectCallout">
            <a:avLst>
              <a:gd name="adj1" fmla="val -81148"/>
              <a:gd name="adj2" fmla="val 1737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5943600" y="3657600"/>
            <a:ext cx="29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re fun business graphics like these are available on the Platinum Site! Search fo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5" descr="Z:\newtek\_backgrounds_1.02\Tim\powerpoint templates\61-80\business_as_usual\elements\man_bored_desk_hg_clr.gif"/>
          <p:cNvPicPr/>
          <p:nvPr/>
        </p:nvPicPr>
        <p:blipFill>
          <a:blip r:embed="rId5"/>
          <a:stretch/>
        </p:blipFill>
        <p:spPr>
          <a:xfrm>
            <a:off x="15228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6" descr="Z:\newtek\_backgrounds_1.02\Tim\powerpoint templates\61-80\business_as_usual\elements\man_desk_tired_hg_clr.gif"/>
          <p:cNvPicPr/>
          <p:nvPr/>
        </p:nvPicPr>
        <p:blipFill>
          <a:blip r:embed="rId6"/>
          <a:stretch/>
        </p:blipFill>
        <p:spPr>
          <a:xfrm>
            <a:off x="575316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7" descr="Z:\newtek\_backgrounds_1.02\Tim\powerpoint templates\61-80\business_as_usual\elements\man_desk_working_hg_clr.gif"/>
          <p:cNvPicPr/>
          <p:nvPr/>
        </p:nvPicPr>
        <p:blipFill>
          <a:blip r:embed="rId7"/>
          <a:stretch/>
        </p:blipFill>
        <p:spPr>
          <a:xfrm>
            <a:off x="201924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8" descr="Z:\newtek\_backgrounds_1.02\Tim\powerpoint templates\61-80\business_as_usual\elements\man_over_worked_hg_clr.gif"/>
          <p:cNvPicPr/>
          <p:nvPr/>
        </p:nvPicPr>
        <p:blipFill>
          <a:blip r:embed="rId8"/>
          <a:stretch/>
        </p:blipFill>
        <p:spPr>
          <a:xfrm>
            <a:off x="3886200" y="5238720"/>
            <a:ext cx="1324080" cy="1467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9" descr="Z:\newtek\_backgrounds_1.02\Tim\powerpoint templates\61-80\business_as_usual\elements\man_woman_talking_desk_hg_clr.gif"/>
          <p:cNvPicPr/>
          <p:nvPr/>
        </p:nvPicPr>
        <p:blipFill>
          <a:blip r:embed="rId9"/>
          <a:stretch/>
        </p:blipFill>
        <p:spPr>
          <a:xfrm>
            <a:off x="7620120" y="5238720"/>
            <a:ext cx="13237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4:28Z</dcterms:modified>
  <cp:revision>2</cp:revision>
  <dc:subject>幻灯片之家 http://www.eeppt.com</dc:subject>
  <dc:title>幻灯片之家 http://www.eeppt.com</dc:title>
</cp:coreProperties>
</file>