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22D-50DB-4E25-8AD1-106480A0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886-269E-483B-9CA0-637659C3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586-1B43-41D6-BCCC-9F27AD92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60E-CCCD-4967-AE4D-D6787676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8E82-2827-4722-BAC1-16AB9645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728-A631-48F1-8AF6-F844EEA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90C-E8D6-4C94-807C-B3F264E4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AB3-DAFA-4A77-9442-B98A21F0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B98-462B-4B6D-8E2A-EFE1739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D374-766D-408A-AD65-BDAA832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E3CA-AF83-4546-9FFA-D269EE4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038-EA53-44BB-A8F7-1D85265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705E-F599-46B3-A7D2-ABF84BF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072-C8C1-4A86-A975-AFEFA2F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93A-BA23-4D78-BDFE-47B2153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8E01-5430-4470-8632-B9EA3B09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397E-6733-46B8-AFF2-884F7161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1B8-D423-4517-97A7-5E2DBDD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F7B-A504-4A54-B074-C106641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6C5-CE80-4F5B-A1C7-FF04322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88D-4123-4ACD-B74E-1EC0C44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49E-2534-4B68-8F61-C63F80B5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D75-6D37-431A-97AD-E6ACB86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691-3215-45D6-98B5-2FC95C2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830-5284-4AA4-BCB8-B800F79C291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49E-BA86-4425-8488-DEEFB5100DFF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0" descr=""/>
          <p:cNvPicPr/>
          <p:nvPr/>
        </p:nvPicPr>
        <p:blipFill>
          <a:blip r:embed="rId2"/>
          <a:stretch/>
        </p:blipFill>
        <p:spPr>
          <a:xfrm>
            <a:off x="682560" y="1878120"/>
            <a:ext cx="4108680" cy="511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c0c0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7451640" y="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5713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E1D-ABB4-41ED-AF95-A865F407E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44936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52:00Z</dcterms:modified>
  <cp:revision>14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