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524-0D55-4EE2-A935-40C4FF35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85A-0F7B-4DDA-A4AC-742A3D5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198-2F61-44A0-B25A-3AF1AFCD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C9C-1273-4E7E-B4CF-2CB658BE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AFD-200E-498C-9613-DC626BD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1A76-9FC8-465B-9FDD-481B56F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46E-52FE-4F70-A5A9-B58AD56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DCC6-A334-46C1-8D0C-5F3D629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471A-E2E3-457E-9950-2E7A689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ECBD-AD4C-439D-B73A-C4C45DC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0BED-C8CA-421E-8ACF-B14E152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723-331E-4EC0-BE06-22567C54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9AC3-94EF-462D-AE67-97FC1890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885-E029-4199-8312-672CB4B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7B39-48C1-4058-98AC-38127E4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6731-3BCD-43AF-AE8D-6C47A2C2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0F5-BCA2-4F38-8A28-442C4C73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F5A-9588-4C30-88D2-68FCEAF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DEF-21E1-43AE-A54C-0DD2FBF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09E-4B96-4556-836B-098C7F1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0E7-63ED-49F8-BAF4-021FBB32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F65-D1A3-469F-9000-987077E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E61-1685-408B-8ACE-76A2F0E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440-B837-46F3-837A-1D94A55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18B-899D-41FA-86CF-F333D31980B0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495-8E62-4F74-8E37-6CDFE158A3C5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0" descr=""/>
          <p:cNvPicPr/>
          <p:nvPr/>
        </p:nvPicPr>
        <p:blipFill>
          <a:blip r:embed="rId2"/>
          <a:stretch/>
        </p:blipFill>
        <p:spPr>
          <a:xfrm>
            <a:off x="682560" y="1878120"/>
            <a:ext cx="4108680" cy="511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c0c0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7451640" y="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D2C-077B-44D6-BA89-2E386850C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44936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52:00Z</dcterms:modified>
  <cp:revision>14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