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3D9-2A79-44BF-BDF7-A349639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9F9-62FC-468B-AC14-BCDB40E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0DC53-A0F3-4C0F-8C56-FD76657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B08A-AC50-43E6-A1B4-8F96ADF7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D3C97-09EA-4C79-BD16-A74F123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2937D-94BF-4CC0-ADCC-100AC51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6DFF-D2EA-4BB8-8E8F-A7F228B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F2934-6374-4F37-9CDF-D50B5BD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366A-7BF8-4456-81D8-4C4B5DA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D0509-1AAA-4F64-917F-CAD6B001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A8013-81C2-4A42-9A9D-3A9917A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856E4-D803-416E-9614-2A52A9F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6AB-40A1-4ADB-9D25-CF82BD42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4F04B-F711-437E-8C45-A79E438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36AF0-C416-47C4-B63E-4636D1A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302CD-497F-4CD5-B6B4-86FA1DE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875AF-1940-479A-98CF-AEA2564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3729B-3BC9-4830-967B-973F055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7270C-BE41-477D-A57F-0B226E8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F2407-829A-47A3-A1DA-5B130BB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6A892-5DEE-441B-8707-F238FA8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616B1-E66E-4698-85F4-50511BEF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39B4D-6002-4588-BD22-7B3FD711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05B-5765-44BD-96CF-33265D21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DF51D-F4B5-45E8-8C1F-D2B41170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A1C6-9004-491B-86FE-3BB47CF3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CC795-FAB5-49E8-BDF9-7C45232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4DF9-4E8B-4A1D-891D-02EF172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80035-11F0-423C-8BC9-30041E4E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EF67-EECF-49B7-BBCA-F2F7078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F528-811B-4408-9C79-6436904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21833-8EDC-4495-A630-6A06196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7CB76-D7D4-4721-A932-181752F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C0C41-356C-49F6-B348-ABFC034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F3AA-B4A3-4457-804D-E0B6E76F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2358-9322-4C32-8BDA-0B09215A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D027E-C933-4382-AB19-8E51C896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AA03F-615C-486E-95DA-0EB6B1DE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EA8E4-B7B7-464C-AE04-7FF7AACD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C1276-31AB-4012-8EA4-DB78B0B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2809A-0CCF-4D52-B873-10347C2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81514-4D7C-4056-B2D1-955A0FD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E332C-2643-4302-BA59-3161E78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2EBE-587F-4B17-8504-A1BAF520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CEC56-AEF5-43D0-9B75-2092801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970B-F05B-42EF-9CCC-B18FB59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B1D29-472A-449D-A4A5-77C62A8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5027A-D6AC-4A30-88F7-B332415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446B7-E2AF-4414-9B2D-8F5E5907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1456A-B4B5-4FA4-9324-F1C9B199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80DDD-C490-40BA-8FE7-9ED2EBA4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B80CA-6FE7-44E6-A70B-58F0CAF8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88F57-99FA-4FDC-9394-1CF4D47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9A2EF-AB71-4096-8B42-7CD3174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78D2D-AE67-4C9D-900B-CEAA5698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4F055-E40F-45F6-A428-D9B94A52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BC38-509C-40AC-B6BB-165D8BE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97DEA-4D2A-41AA-AA4B-9709B91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A489D-40AD-4046-B812-9AAB4B1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9710C-7B0B-45CB-A098-A26F193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1DEA1-9A24-48FB-892B-5EBD5C0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676C5-2605-4FA5-8EE2-6895AD7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05859-3E94-4856-9D40-807C5900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8E9F7-1147-43DF-BB59-D6198FE3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EF28-1421-4703-809D-4A9575F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8DF5-6A32-4D16-AD5A-841BE38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4F06-2507-4795-B90A-68173A0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496A-F059-47E6-858F-710C6B7B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4B8-CDA2-4DF1-9546-D36D7F2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8CB6-92ED-42C2-8F28-5BD2131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A29-2E0E-4CB5-991A-71D8EC8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92C-2951-4FBE-8635-A85C608D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69D-5784-4B29-8A49-DF70200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F64-0AE8-46A0-B5C0-84D53AB3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3DE0-56B6-48E2-9EA6-4B38C60F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BCA5-82BE-446E-B3F2-5898DBF0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8FF1-CDCF-4787-9629-2B018F2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67D0-19C4-432D-B8C6-CA2A977A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D27A-8FC7-4E29-AE2B-4EA4ADFC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841-7FE3-487D-9055-3DFF8E4F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16A5-69FE-4F85-AE3B-B4772D72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4987-603A-4FAC-BFDD-D63C3D2A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0E56-9A6D-4509-B252-A16B76D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D250-2EB9-42E4-8A78-7F9BAF0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350C-2501-433E-9A9F-CEBE1B0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8A87-6B2A-48A0-A113-79F348EC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CCFA-270D-493C-AF89-EC837C63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CB9D-6BCF-4CED-B961-42DE23FA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C70F-412C-4092-8884-AF70F986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FBB5-4E2B-4F78-A9B8-68392FD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36A-B929-4FD2-97D3-808C68D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A4CE-7653-4AF0-8611-1E32578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05ED-0DD8-45EF-91C3-1366015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7D92-453A-4EDD-813E-9A545C1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94E3-04BF-4AD8-BC6E-A34F674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1EB7-AE6D-402D-8743-B8078E8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79987-C60E-411C-BE0D-E2A2CE0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235B-993D-4ABC-9F20-E8F8766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FBBF-E3ED-46B1-90EB-FDAD5AE8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4365-8A98-4C5B-8BEA-23E1C66B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6872-F95F-4C66-8648-B6DDFA11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DEF-BBB0-4FE7-BF4D-C594BA5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EFFB5-A7D3-49B9-BE75-2A02A554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6C11-3452-4D42-A930-1102B1BF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A578-8827-4980-88FF-406A9FD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BF26-ACEF-4B00-9D2E-15F902E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8DF2-81E5-4280-BA58-1A081684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48B1-4B19-4967-B1E6-1757992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8BDE-0784-41EB-B69F-CADCCC9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53F9-2EAC-41B3-A395-FD7B140E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9D86-A250-4877-BC79-7C07A5E6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2059-A3E6-4BFB-AC38-84B1854E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0B2-C26F-4ED9-86E1-C10DB34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5EED-181F-4596-85BD-D7C8B5E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10C0-CC6C-4222-A721-0A7DD4BB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1D0E1-1607-4278-9C0E-648F995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D09C3-09F5-4D8A-9EC6-6612D958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2FE6-1F47-4DFA-8235-502F1C7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EBFF-6338-44CC-9E0B-778F84F9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CCFF-3928-4958-B505-85D1F57E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8500-8A3A-467C-97AD-CB49F70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FA44-6EED-485D-8015-A60EFCC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4E54-FBD2-4EFA-A22E-07DDFEF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1AB-9F97-40AE-8CDE-46DC865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582D-7006-4056-8E82-31A1390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46D8-9FDE-4A79-A56C-9961F3C2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ADFC-C753-4D2E-8616-E25B827D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1B58-05D3-487E-AD61-A0E04A8A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B147-B5C0-4F8E-AE36-49F32BF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7C6A-BB03-4CD1-86E7-D1A76E98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8496-3DE0-4C98-A133-3FE416E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64BC-C93B-4001-B572-210A2969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2882-1B28-4C09-BB21-2443E500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F073-71C7-44CC-9470-F26226E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E13-8CF4-4760-AD5F-E1DB8A4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590A-77D7-49F8-BF8B-40EA3D3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D108-B49F-48EC-B422-898924D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821E-6752-46C7-A905-685FDA30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F5AA-C5AD-446F-8905-07751BC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D2C76-67B9-4F8B-8F0D-DFB751BE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C39B-6AE2-4891-812D-C9217A1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3A60-7C67-4EBF-BBD8-6539FDD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B9023-9E44-46BB-8487-F865931A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BDB36-59F4-4C0C-ADC0-9000B30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AF5E6-6071-4825-BC84-2443A53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9E6-4CC0-4F91-88C2-78CD941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F2E40-97B2-40E7-9B3D-59C4BA6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BE7C3-4931-4781-9221-6682FCE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92971-B982-4BE1-9B69-066ACE1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D3FD-5CD8-4515-B877-D02A023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2112-E3C0-43CA-BDAC-D4A4EA5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3962-F5B8-4BC5-B52A-7F5A87D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7EA5D-0A7B-41E5-A84E-C54B826D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AE03C-CBB9-4745-912C-6CA1AC68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B05B3-ADCE-4EEA-93B8-F4C6772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BFFF6-7B8E-4567-8807-152BF1B3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7000"/>
            <a:chOff x="0" y="0"/>
            <a:chExt cx="9144000" cy="6867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"/>
                <a:ext cx="8139960" cy="68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0360" y="0"/>
                <a:ext cx="5993640" cy="52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3040" y="1041840"/>
                <a:ext cx="8850960" cy="581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" name="Rectangle 11"/>
            <p:cNvSpPr/>
            <p:nvPr/>
          </p:nvSpPr>
          <p:spPr>
            <a:xfrm flipV="1">
              <a:off x="685800" y="1151280"/>
              <a:ext cx="8458200" cy="571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Straight Connector 12"/>
            <p:cNvSpPr/>
            <p:nvPr/>
          </p:nvSpPr>
          <p:spPr>
            <a:xfrm>
              <a:off x="685800" y="1152360"/>
              <a:ext cx="84582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B4B-0649-4B9E-AFBD-835781278CA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5A9-C2BF-4C5E-BB2C-EE4D4AB8A5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4E3-CF0C-46FE-9D99-13B43D7AF3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A24-3A01-4D5E-A7AA-41A9978E34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BD4D-5906-4D63-ABE5-412315DEC7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ACD-AD06-4BCC-A164-0E7147E4F8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56B-91B4-4688-A653-701950C571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87A-7B79-4CE6-A652-A639795D9B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7E2-A50A-4B7F-AA54-7F06318933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D3F0-8146-4DEC-8695-DA040023A7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1FDE-8AE7-4F1F-AAAC-D3A105C2A8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551-E154-4D0D-92EC-6ED54CE120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084-B710-472A-8CDB-88CF8DD4B3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CF0-4E5E-4F2B-841B-52D22A9244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6D6-F543-4537-9409-B1A95F38AE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513C-B02A-4AF9-BBDE-0BD3C50970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2414-E16F-4E8A-9D2D-895A7AD237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76B2-2800-480C-96B1-B9CE075986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9117-A960-4530-ACB8-D484B7D119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CA37-9B46-4C32-BD42-F52865F507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EB2C-D0D4-4A49-8B7E-E8CE89D77F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F16-7FCD-4E1B-9856-BF5DFDC5C8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04E5-87F8-400C-82E5-58B29A0FB6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3DF-251D-4760-8D92-356E4D3B6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02CF-B41D-45FB-9C92-C5E197423D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1EB-8704-427B-BE33-BEA2384216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4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42" name="Rectangl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20"/>
                <a:ext cx="8139960" cy="68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150360" y="0"/>
                <a:ext cx="5993640" cy="52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040" y="1041840"/>
                <a:ext cx="8850960" cy="581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5" name="Rectangle 7"/>
            <p:cNvSpPr/>
            <p:nvPr/>
          </p:nvSpPr>
          <p:spPr>
            <a:xfrm>
              <a:off x="685800" y="0"/>
              <a:ext cx="8458200" cy="571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Rectangle 9" descr=""/>
            <p:cNvPicPr/>
            <p:nvPr/>
          </p:nvPicPr>
          <p:blipFill>
            <a:blip r:embed="rId4"/>
            <a:stretch/>
          </p:blipFill>
          <p:spPr>
            <a:xfrm>
              <a:off x="0" y="720"/>
              <a:ext cx="813996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Straight Connector 16"/>
            <p:cNvSpPr/>
            <p:nvPr/>
          </p:nvSpPr>
          <p:spPr>
            <a:xfrm>
              <a:off x="685800" y="5713560"/>
              <a:ext cx="84582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2120" y="581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项目标题</a:t>
            </a: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的姓名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|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教师的姓名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|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的学校</a:t>
            </a: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2543040" y="21495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博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5D3-9601-4FEF-8E13-8DF1348296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键入根据实验结果发现的内容的简短摘要。您需要指示数据是否支持假设并解释支持或不支持的原因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Tw Cen MT Condensed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979-FAA0-44E7-9902-41FBD03055F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引用的作品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确保包括了打印版和电子版资料来源，并将它们按字母顺序排列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13BB-0F63-48F0-9A5C-3FDDC64B456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问题陈述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键入您的问题。（这是您在实验中需要解决的问题。）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78A3-1972-4E70-9ADB-213F38019B3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项目概述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键入您的项目的简要概述或摘要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4F1-1FA0-4358-87D7-BD9A29D497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研究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用三到五个项目符号总结研究：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37E-2273-4C0E-AF93-753F86A9CE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变量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受控制的变量：这是在实验过程中保持不变的内容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独立变量：有意更改和测试的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w Cen MT Condensed"/>
                <a:ea typeface="宋体"/>
              </a:rPr>
              <a:t>one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变量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相关变量：因独立变量更改而观测到的更改度量。决定如何度量更改是很重要的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BC2-0043-43E2-87C3-EF9E19304D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假设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Based on the research you have done, you will be writing an answer or solution – your best educated guess – to your question. Make sure you write down your hypothesis before you begin your experiment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3E8-FACE-409E-ACED-F47F7FD605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资料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键入完成实验所需的详细项目列表。要明确使用的数量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A8A4-AE56-4306-97E8-5BE233BBA8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过程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列出完成实验所使用的所有步骤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切记要为步骤加编号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添加实验照片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DBA-D688-42AF-840F-4655F7AEF8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数据</a:t>
            </a: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观测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将数据放到表或图形中将更容易了解数据。在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Microsoft Excel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中创建一个图形，然后在此处导入它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确保清楚地标记了所有数据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18:0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1659569990</vt:lpwstr>
  </property>
</Properties>
</file>