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6.jpeg" ContentType="image/jpeg"/>
  <Override PartName="/ppt/media/image18.wmf" ContentType="image/x-wmf"/>
  <Override PartName="/ppt/media/image2.jpeg" ContentType="image/jpeg"/>
  <Override PartName="/ppt/media/image29.jpeg" ContentType="image/jpeg"/>
  <Override PartName="/ppt/media/image10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32.gif" ContentType="image/gif"/>
  <Override PartName="/ppt/media/image36.png" ContentType="image/png"/>
  <Override PartName="/ppt/media/image8.gif" ContentType="image/gif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3.gif" ContentType="image/gif"/>
  <Override PartName="/ppt/media/image3.gif" ContentType="image/gif"/>
  <Override PartName="/ppt/media/image35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DFD-394F-4193-9F49-4977AD89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B20-5233-4C63-B506-F80BE78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758-5EC0-4E56-9765-19B9CAD3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224-54FC-41FC-A2A1-ADFCB7F2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0350-82E6-4E03-9948-92CAB5B9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4B1-999A-4B60-96A9-3CFAECC0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925F-D134-4EED-8179-1E2EA3DF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B19-7369-440E-AB49-235C713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7A9C-E62E-40FA-B919-2B79B37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5F3-6E33-41CE-9C4F-CE518C0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CFC1-6ECB-4D52-958A-4F94DC2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A9B-09F4-4D8E-AD08-F38B0DC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0DF3-A6DA-4766-8454-4C45626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97DD-C621-41D4-B933-2357661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C48-6622-4FF6-B08B-E8D87B2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CFEB-8147-476F-BF1C-6B21714D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425-F4C3-4346-8CF1-021586F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12B9-EFE3-4970-8FA8-476D16FB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1BC8-20C4-4E57-9219-F1999C3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C399-EAEF-45B8-AF18-53C376BE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1A8D-E279-4D37-9143-0CA7D52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CEE1-776B-4862-9325-080B3676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C1E-5CCD-4326-ADEF-AEDDCCB3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8280-82B9-46DF-BD2B-74354A8C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AE6C-3A7C-4220-8DE7-9842C16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0555-B98E-42D0-A9D0-20CAA7E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92D1-E8F9-4E25-AA4A-D90FA80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F1D0-AD87-4DBF-89A1-780C038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6C67-6D84-499B-A681-DED7D255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F8B1-665B-452B-B5F5-207EBBD5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6FC-B136-49E0-B6BB-489ED72E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738-8D6F-44BB-BAE3-E0B9D23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28E-538E-45AE-B918-4753187A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ED5-F464-4F1F-89D4-B363349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E77-F6DD-4D47-86F6-FEA0973C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767-6CBA-411F-8B18-796A66C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590-E8DD-46C3-841E-8E42A2D73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F4C-98EB-406D-A276-D6BB3DD407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CB21-43D6-4C1A-8288-DE0E5023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288,9,&#24187;&#28783;&#29255; 9" TargetMode="External"/><Relationship Id="rId3" Type="http://schemas.openxmlformats.org/officeDocument/2006/relationships/hyperlink" Target="259,12,&#24187;&#28783;&#29255; 12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2"/>
          <p:cNvSpPr/>
          <p:nvPr/>
        </p:nvSpPr>
        <p:spPr>
          <a:xfrm>
            <a:off x="2657520" y="34066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chat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/>
          <p:cNvSpPr/>
          <p:nvPr/>
        </p:nvSpPr>
        <p:spPr>
          <a:xfrm>
            <a:off x="212400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98764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识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85128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要内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71636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558000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443640" y="6237360"/>
            <a:ext cx="1008000" cy="6206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0" y="5950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77320" y="260280"/>
            <a:ext cx="34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baseline="30000">
                <a:solidFill>
                  <a:srgbClr val="ffffff"/>
                </a:solidFill>
                <a:latin typeface="Times New Roman"/>
              </a:rPr>
              <a:t>科利亚的木匣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 baseline="30000">
                <a:solidFill>
                  <a:srgbClr val="ffffff"/>
                </a:solidFill>
                <a:latin typeface="Times New Roman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195640" y="1413000"/>
            <a:ext cx="439236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科利亚从家门口向前走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十步，就用铲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起坑来。坑（       ）好了，他把一个木匣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进坑里。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好了木匣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上土，用脚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实，还在上面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一层细沙，免得被人发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133720" y="1981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635280" y="19130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340000" y="393372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63528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5364000" y="378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3995640" y="4289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606840" y="234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3276720" y="486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WordArt 26"/>
          <p:cNvSpPr txBox="1"/>
          <p:nvPr/>
        </p:nvSpPr>
        <p:spPr>
          <a:xfrm>
            <a:off x="3419640" y="47628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会填吗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271116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28"/>
          <p:cNvSpPr/>
          <p:nvPr/>
        </p:nvSpPr>
        <p:spPr>
          <a:xfrm>
            <a:off x="6443640" y="476280"/>
            <a:ext cx="2700360" cy="2016000"/>
          </a:xfrm>
          <a:prstGeom prst="cloudCallout">
            <a:avLst>
              <a:gd name="adj1" fmla="val -45472"/>
              <a:gd name="adj2" fmla="val 443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这些动作词，你觉得科利亚是个怎样的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35164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木匣里盛着各种各样好玩的东西，有冰鞋、小斧头、小手锯和其他小玩意儿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20080305144902768"/>
          <p:cNvPicPr/>
          <p:nvPr/>
        </p:nvPicPr>
        <p:blipFill>
          <a:blip r:embed="rId2"/>
          <a:stretch/>
        </p:blipFill>
        <p:spPr>
          <a:xfrm>
            <a:off x="179280" y="3357720"/>
            <a:ext cx="3168720" cy="273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20080305144902664"/>
          <p:cNvPicPr/>
          <p:nvPr/>
        </p:nvPicPr>
        <p:blipFill>
          <a:blip r:embed="rId3"/>
          <a:stretch/>
        </p:blipFill>
        <p:spPr>
          <a:xfrm>
            <a:off x="3490920" y="3357720"/>
            <a:ext cx="2881440" cy="2735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20080305144902568"/>
          <p:cNvPicPr/>
          <p:nvPr/>
        </p:nvPicPr>
        <p:blipFill>
          <a:blip r:embed="rId4"/>
          <a:stretch/>
        </p:blipFill>
        <p:spPr>
          <a:xfrm>
            <a:off x="6516720" y="335772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010"/>
          <p:cNvPicPr/>
          <p:nvPr/>
        </p:nvPicPr>
        <p:blipFill>
          <a:blip r:embed="rId5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2195640" y="2133720"/>
            <a:ext cx="432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法西斯快打到他们的村子了。科利亚和妈妈、奶奶决定离开村子，到喀山城去躲避。家里的东西不能都带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4643280" y="549360"/>
            <a:ext cx="2519640" cy="1224000"/>
          </a:xfrm>
          <a:prstGeom prst="cloudCallout">
            <a:avLst>
              <a:gd name="adj1" fmla="val -43763"/>
              <a:gd name="adj2" fmla="val 79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德国侵略者的代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4211640" y="2563920"/>
            <a:ext cx="865080" cy="145440"/>
            <a:chOff x="4211640" y="2563920"/>
            <a:chExt cx="865080" cy="145440"/>
          </a:xfrm>
        </p:grpSpPr>
        <p:sp>
          <p:nvSpPr>
            <p:cNvPr id="257" name="AutoShape 6"/>
            <p:cNvSpPr/>
            <p:nvPr/>
          </p:nvSpPr>
          <p:spPr>
            <a:xfrm>
              <a:off x="4211640" y="2565000"/>
              <a:ext cx="144360" cy="14436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>
              <a:off x="4500720" y="2565000"/>
              <a:ext cx="144360" cy="14436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>
              <a:off x="4932360" y="2563920"/>
              <a:ext cx="144360" cy="144000"/>
            </a:xfrm>
            <a:prstGeom prst="flowChartConnector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Picture 10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：（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—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）科利亚刚学会数数的时候，把木匣埋到离门口十步远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457200" y="2421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华文新魏"/>
                <a:ea typeface="华文新魏"/>
              </a:rPr>
              <a:t>科利亚第一次怎么挖木匣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80880" y="42958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3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科利亚又是怎样思考、怎样挖出木匣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447920" y="380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思    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2096280" y="1413000"/>
            <a:ext cx="56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、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妈妈怎样挖箱子的？结果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371600" y="333360"/>
            <a:ext cx="65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妈妈从家门口朝前走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十步，挖出了她埋的箱子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3EA-31DB-432A-9988-43E85906ED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332000" y="1484280"/>
            <a:ext cx="67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时候，科利亚也拿来铲子，他从门口起量了十步，就动手挖起来。他挖呀，挖呀，坑已经挖得很深了，还没找到匣子。他朝左边挖了挖，又朝右边挖了挖，仍然没找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伙伴们，我知道怎么回事啦！木匣是我四年前埋的，那时候我年龄小，步子也小。我现在九岁啦，步子比那时候大了一倍，所以应该量的不是十步而是五步。你们看，我马上会找到我的木匣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利亚量了五步，又动手挖起来，不多一会儿，他果然找到了木匣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19280" y="1557360"/>
            <a:ext cx="59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读准字音，读通句子，遇到难读的字词多读几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小组交流识字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科利亚"/>
          <p:cNvPicPr/>
          <p:nvPr/>
        </p:nvPicPr>
        <p:blipFill>
          <a:blip r:embed="rId1"/>
          <a:srcRect l="4170" t="51115" r="26669" b="5560"/>
          <a:stretch/>
        </p:blipFill>
        <p:spPr>
          <a:xfrm>
            <a:off x="1371600" y="3505320"/>
            <a:ext cx="6324480" cy="2971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6095880" y="1828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60199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科利亚"/>
          <p:cNvPicPr/>
          <p:nvPr/>
        </p:nvPicPr>
        <p:blipFill>
          <a:blip r:embed="rId2"/>
          <a:srcRect l="5833" t="8891" r="25838" b="51115"/>
          <a:stretch/>
        </p:blipFill>
        <p:spPr>
          <a:xfrm>
            <a:off x="1447920" y="457200"/>
            <a:ext cx="624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744720" y="184464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段：（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—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段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一段主要写了四年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科利亚在离屋门口十步远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没找到木匣，经过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，在离屋门口五步远的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找到木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817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战争开始时，妈妈从家门口，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　　）步，埋下了箱子。四年后妈妈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门口朝菜园走了（　　　）步，很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                 　　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战争开始时，科利亚量了（　）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埋下木匣。四年后，科利亚从门口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　）步，却没有找到木匣子。后来科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亚从屋门口起量了（　 ）步，他一下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　 ）。这是因为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                             　              　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6"/>
          <p:cNvSpPr txBox="1"/>
          <p:nvPr/>
        </p:nvSpPr>
        <p:spPr>
          <a:xfrm rot="5400000">
            <a:off x="-576720" y="274464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 会 填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547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64328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1476360" y="21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出她的箱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877080" y="29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1332000" y="414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71636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33200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找到了木匣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9"/>
          <p:cNvGrpSpPr/>
          <p:nvPr/>
        </p:nvGrpSpPr>
        <p:grpSpPr>
          <a:xfrm>
            <a:off x="4066200" y="5340240"/>
            <a:ext cx="3999240" cy="1333800"/>
            <a:chOff x="4066200" y="5340240"/>
            <a:chExt cx="3999240" cy="1333800"/>
          </a:xfrm>
        </p:grpSpPr>
        <p:sp>
          <p:nvSpPr>
            <p:cNvPr id="293" name="Rectangle 17"/>
            <p:cNvSpPr/>
            <p:nvPr/>
          </p:nvSpPr>
          <p:spPr>
            <a:xfrm>
              <a:off x="4066200" y="6092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过去，人在一天天长大，步子也在渐渐变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7477920" y="5340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时间一天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496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战争开始的时候，科利亚刚学数数，只会数到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”。这是说科利亚在埋木匣时年龄还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在那儿住了差不多四个年头。”这里讲埋木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挖木匣之间经过了四年的时间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科利亚长大了，上了小学。数数能数到一百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。”这是讲随着时间的推移，科利亚长大了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子也变大了，算术也学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科利亚也拿来铲子，从家门口起量了十步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手挖起来，他挖呀，挖呀，坑已经挖得很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，还没找到匣子。他又朝左边挖，朝右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，仍然没找到。”“科利亚量了五步，又动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起来，不多一会儿，他果然找到了木匣子。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484360" y="184464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这件事里，科利亚能有这么大的收获，是因为他有一个特别好的品质，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" descr="EDUCH012"/>
          <p:cNvPicPr/>
          <p:nvPr/>
        </p:nvPicPr>
        <p:blipFill>
          <a:blip r:embed="rId2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5621400" y="4529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提示：爱动脑，勤于思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6" descr="010"/>
          <p:cNvPicPr/>
          <p:nvPr/>
        </p:nvPicPr>
        <p:blipFill>
          <a:blip r:embed="rId3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随着时间的推移，在我们周围所有的事物都在变化，你能举个例子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835280" y="2565360"/>
            <a:ext cx="69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围的一切都在起变化，告诉我们要怎样做事情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87640" y="422100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世界上的万物都在不断变化，我们应象科利亚一样多动脑筋，根据情况的变化而变化才能把事情做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2286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我们做事情，要随着情况的变化采取不同的做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报纸上说，今天晚上八点有月食。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八点钟，我站在阳台上向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空望去，月食（        ）出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抗洪前线，解放军战士与洪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搏斗了十几天。有的战士累得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次昏倒，（        ）不肯离开防洪大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堤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232000" y="90792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用“仍然”和“果然”填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4829400" y="240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82140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04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762120" y="2819520"/>
            <a:ext cx="80010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科利亚从挖木匣中明白了什么</a:t>
            </a:r>
            <a:r>
              <a:rPr b="0" lang="en-US" sz="5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f1"/>
          <p:cNvPicPr/>
          <p:nvPr/>
        </p:nvPicPr>
        <p:blipFill>
          <a:blip r:embed="rId2"/>
          <a:stretch/>
        </p:blipFill>
        <p:spPr>
          <a:xfrm>
            <a:off x="0" y="0"/>
            <a:ext cx="1449360" cy="20574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1295280" y="19051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思考  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228600" y="22860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一天天过去，人在一天天长大，周围的一切都在变化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1447920" y="990720"/>
            <a:ext cx="6553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挖 鞋 斧 锯 免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屋 抢 难 初 管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敌 阶 懂 匣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059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16765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请画出科利亚第一次和第二次挖木匣时怎样量步子</a:t>
            </a:r>
            <a:r>
              <a:rPr b="1" lang="en-US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怎样挖到木匣的示意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543320" y="25146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895480" y="1905120"/>
            <a:ext cx="381240" cy="30477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50532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581280" y="44197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86320" y="1066680"/>
            <a:ext cx="100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测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角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293080" y="365760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打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产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数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大图1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3"/>
          <p:cNvSpPr txBox="1"/>
          <p:nvPr/>
        </p:nvSpPr>
        <p:spPr>
          <a:xfrm>
            <a:off x="755640" y="549360"/>
            <a:ext cx="408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74560" y="1413000"/>
            <a:ext cx="8569440" cy="9144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1413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利亚    木匣    挖坑    冰鞋    一倍   躲避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喀山城    小手锯    冰鞋   斧头   玩意    免得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走       难过    算术    当初    随便    仍然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敌人  台阶       所以    懂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755640" y="0"/>
            <a:ext cx="3422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懂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140360" y="3500280"/>
          <a:ext cx="3673440" cy="3048120"/>
        </p:xfrm>
        <a:graphic>
          <a:graphicData uri="http://schemas.openxmlformats.org/drawingml/2006/table">
            <a:tbl>
              <a:tblPr/>
              <a:tblGrid>
                <a:gridCol w="1846440"/>
                <a:gridCol w="1827000"/>
              </a:tblGrid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14"/>
          <p:cNvSpPr/>
          <p:nvPr/>
        </p:nvSpPr>
        <p:spPr>
          <a:xfrm>
            <a:off x="4500720" y="3141720"/>
            <a:ext cx="3276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初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9640" y="333360"/>
          <a:ext cx="3673440" cy="3036960"/>
        </p:xfrm>
        <a:graphic>
          <a:graphicData uri="http://schemas.openxmlformats.org/drawingml/2006/table">
            <a:tbl>
              <a:tblPr/>
              <a:tblGrid>
                <a:gridCol w="1871640"/>
                <a:gridCol w="18018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0" name="Group 26"/>
          <p:cNvGrpSpPr/>
          <p:nvPr/>
        </p:nvGrpSpPr>
        <p:grpSpPr>
          <a:xfrm>
            <a:off x="5435640" y="907920"/>
            <a:ext cx="2233440" cy="1512720"/>
            <a:chOff x="5435640" y="907920"/>
            <a:chExt cx="2233440" cy="1512720"/>
          </a:xfrm>
        </p:grpSpPr>
        <p:sp>
          <p:nvSpPr>
            <p:cNvPr id="201" name="AutoShape 27"/>
            <p:cNvSpPr/>
            <p:nvPr/>
          </p:nvSpPr>
          <p:spPr>
            <a:xfrm>
              <a:off x="5435640" y="907920"/>
              <a:ext cx="2162160" cy="1512720"/>
            </a:xfrm>
            <a:prstGeom prst="cloudCallout">
              <a:avLst>
                <a:gd name="adj1" fmla="val 101541"/>
                <a:gd name="adj2" fmla="val 19569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8"/>
            <p:cNvSpPr/>
            <p:nvPr/>
          </p:nvSpPr>
          <p:spPr>
            <a:xfrm>
              <a:off x="5724720" y="134136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dff"/>
                  </a:solidFill>
                  <a:latin typeface="Times New Roman"/>
                </a:rPr>
                <a:t>我会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29" descr="010"/>
          <p:cNvPicPr/>
          <p:nvPr/>
        </p:nvPicPr>
        <p:blipFill>
          <a:blip r:embed="rId1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文主要讲的是科利亚（   ）岁的时候从（             ）向前（                ）埋下自己 的（             ），（    ）年后数了（   ）步挖出了木匣，从这件事中感悟到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094520" y="76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944160" y="134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家门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29400" y="1989000"/>
            <a:ext cx="18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走了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35180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小木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86160" y="256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0443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4"/>
          <p:cNvGrpSpPr/>
          <p:nvPr/>
        </p:nvGrpSpPr>
        <p:grpSpPr>
          <a:xfrm>
            <a:off x="890640" y="3789360"/>
            <a:ext cx="5524200" cy="2143440"/>
            <a:chOff x="890640" y="3789360"/>
            <a:chExt cx="5524200" cy="2143440"/>
          </a:xfrm>
        </p:grpSpPr>
        <p:sp>
          <p:nvSpPr>
            <p:cNvPr id="212" name="Rectangle 10"/>
            <p:cNvSpPr/>
            <p:nvPr/>
          </p:nvSpPr>
          <p:spPr>
            <a:xfrm>
              <a:off x="3161880" y="45813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在变化，周围的一切都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3795840" y="378936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时间在变化，自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890640" y="5229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变化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Text Box 13"/>
          <p:cNvSpPr/>
          <p:nvPr/>
        </p:nvSpPr>
        <p:spPr>
          <a:xfrm>
            <a:off x="7299000" y="907920"/>
            <a:ext cx="15210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我  会  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5" descr="010"/>
          <p:cNvPicPr/>
          <p:nvPr/>
        </p:nvPicPr>
        <p:blipFill>
          <a:blip r:embed="rId2"/>
          <a:stretch/>
        </p:blipFill>
        <p:spPr>
          <a:xfrm>
            <a:off x="5076720" y="5932440"/>
            <a:ext cx="11430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127640" cy="4114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科利亚什么时候埋下木匣？什么时候找到埋下的木匣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科利亚和妈妈是怎样把东西埋起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他们为什么要把东西埋起来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请用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划出相关的句子，再多读几遍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055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763640" y="5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科利亚从家门口向前走，数了十步，就用铲子挖起坑来。坑挖好了，他把一个木匣放进坑里。他放好了木匣，盖上土，用脚踩实，还在上面撒了一层细沙，免得被人发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050920" y="3860640"/>
            <a:ext cx="50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妈妈把有些东西放进箱子里，从家门口向前走了三十步，把箱子埋在地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847520" y="10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5519520" y="10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350316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6311520" y="249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264040" y="148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6310800" y="148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593604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3488040" y="249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06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4:22Z</dcterms:modified>
  <cp:revision>3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