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A68-68B2-4CA0-8737-58BCBCB1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45E-A898-445A-8F88-1F631D5E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177-CCEF-4151-B94A-CD1E69AE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BBB-F358-4F83-B0B3-E47AE5FF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482-6A9A-4304-A8FA-E078945E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F95-7D06-45AE-BC46-B7CBCBAA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5708-0B04-4CC2-B270-3730F72F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6FC-5562-421E-A9BD-0938996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BC33-A3BF-49E9-AA5C-C559213A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BB98-5A57-477C-82F6-D9CDD2B7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FFAD-8214-4C26-B51A-285ADE0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1A8-67CE-434F-9122-D296F166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F4CF-955B-4F03-85BD-A19BF16B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EB54-8A04-49B8-A90D-D0CA712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E6F-D2BE-4790-A881-21FEBD6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C8FA-D588-441E-9551-196CC082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3EE4-0379-4514-AB7B-D26273B3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F42-3F48-4839-9A5F-05A1B863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EBB-1CB4-4E69-AB65-4A7C94CA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CE7-AC52-4168-A268-636BFE74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631-AE09-4D12-B9BE-1D071A96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EBA-0CAA-463C-B380-966F377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EEF-2E85-4AED-9923-0E38F517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472-01C4-41FD-B9A3-E44B157C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61A9-2C25-48A5-9125-70D8F89E76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11280" y="5165640"/>
            <a:ext cx="8507160" cy="1479240"/>
            <a:chOff x="611280" y="5165640"/>
            <a:chExt cx="8507160" cy="1479240"/>
          </a:xfrm>
        </p:grpSpPr>
        <p:grpSp>
          <p:nvGrpSpPr>
            <p:cNvPr id="9" name="Group 11"/>
            <p:cNvGrpSpPr/>
            <p:nvPr/>
          </p:nvGrpSpPr>
          <p:grpSpPr>
            <a:xfrm>
              <a:off x="8094960" y="5165640"/>
              <a:ext cx="1023480" cy="1186920"/>
              <a:chOff x="8094960" y="5165640"/>
              <a:chExt cx="1023480" cy="1186920"/>
            </a:xfrm>
          </p:grpSpPr>
          <p:sp>
            <p:nvSpPr>
              <p:cNvPr id="10" name="未知"/>
              <p:cNvSpPr/>
              <p:nvPr/>
            </p:nvSpPr>
            <p:spPr>
              <a:xfrm rot="7320000">
                <a:off x="8104680" y="54882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rot="7320000">
                <a:off x="8245800" y="5452200"/>
                <a:ext cx="660960" cy="45540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094960" y="5165640"/>
                <a:ext cx="1023480" cy="1186920"/>
                <a:chOff x="8094960" y="5165640"/>
                <a:chExt cx="1023480" cy="1186920"/>
              </a:xfrm>
            </p:grpSpPr>
            <p:sp>
              <p:nvSpPr>
                <p:cNvPr id="14" name="未知"/>
                <p:cNvSpPr/>
                <p:nvPr/>
              </p:nvSpPr>
              <p:spPr>
                <a:xfrm rot="7320000">
                  <a:off x="8217720" y="590544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rot="7320000">
                  <a:off x="8076960" y="5486400"/>
                  <a:ext cx="1059120" cy="5450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rot="7320000">
                  <a:off x="8383320" y="5603760"/>
                  <a:ext cx="749520" cy="30852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rot="7320000">
                  <a:off x="8862480" y="5397840"/>
                  <a:ext cx="100080" cy="2066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7320000">
                  <a:off x="8474760" y="5599080"/>
                  <a:ext cx="306720" cy="18252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22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21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611280" y="5165640"/>
            <a:ext cx="8507160" cy="1479240"/>
            <a:chOff x="611280" y="5165640"/>
            <a:chExt cx="8507160" cy="1479240"/>
          </a:xfrm>
        </p:grpSpPr>
        <p:grpSp>
          <p:nvGrpSpPr>
            <p:cNvPr id="65" name="Group 11"/>
            <p:cNvGrpSpPr/>
            <p:nvPr/>
          </p:nvGrpSpPr>
          <p:grpSpPr>
            <a:xfrm>
              <a:off x="8094960" y="5165640"/>
              <a:ext cx="1023480" cy="1186920"/>
              <a:chOff x="8094960" y="5165640"/>
              <a:chExt cx="1023480" cy="1186920"/>
            </a:xfrm>
          </p:grpSpPr>
          <p:sp>
            <p:nvSpPr>
              <p:cNvPr id="66" name="未知"/>
              <p:cNvSpPr/>
              <p:nvPr/>
            </p:nvSpPr>
            <p:spPr>
              <a:xfrm rot="7320000">
                <a:off x="8104680" y="54882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 rot="7320000">
                <a:off x="8245800" y="5452200"/>
                <a:ext cx="660960" cy="45540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15"/>
              <p:cNvGrpSpPr/>
              <p:nvPr/>
            </p:nvGrpSpPr>
            <p:grpSpPr>
              <a:xfrm>
                <a:off x="8094960" y="5165640"/>
                <a:ext cx="1023480" cy="1186920"/>
                <a:chOff x="8094960" y="5165640"/>
                <a:chExt cx="1023480" cy="1186920"/>
              </a:xfrm>
            </p:grpSpPr>
            <p:sp>
              <p:nvSpPr>
                <p:cNvPr id="70" name="未知"/>
                <p:cNvSpPr/>
                <p:nvPr/>
              </p:nvSpPr>
              <p:spPr>
                <a:xfrm rot="7320000">
                  <a:off x="8217720" y="590544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 rot="7320000">
                  <a:off x="8076960" y="5486400"/>
                  <a:ext cx="1059120" cy="5450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 rot="7320000">
                  <a:off x="8383320" y="5603760"/>
                  <a:ext cx="749520" cy="30852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 rot="7320000">
                  <a:off x="8862480" y="5397840"/>
                  <a:ext cx="100080" cy="2066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 rot="7320000">
                  <a:off x="8474760" y="5599080"/>
                  <a:ext cx="306720" cy="18252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77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80" name="Group 27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81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1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85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C82E-4196-45B7-8713-7C6F2E147B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卡通彩笔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134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137" name="Group 8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138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12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142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8000" y="764640"/>
            <a:ext cx="6778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ank 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206" name="Group 4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207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WordArt 7"/>
            <p:cNvSpPr txBox="1"/>
            <p:nvPr/>
          </p:nvSpPr>
          <p:spPr>
            <a:xfrm rot="5400000">
              <a:off x="-721440" y="1232640"/>
              <a:ext cx="2733840" cy="936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结束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2411280" y="1413000"/>
            <a:ext cx="5043600" cy="720360"/>
            <a:chOff x="2411280" y="1413000"/>
            <a:chExt cx="5043600" cy="720360"/>
          </a:xfrm>
        </p:grpSpPr>
        <p:sp>
          <p:nvSpPr>
            <p:cNvPr id="150" name="未知"/>
            <p:cNvSpPr/>
            <p:nvPr/>
          </p:nvSpPr>
          <p:spPr>
            <a:xfrm>
              <a:off x="2411280" y="19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"/>
            <p:cNvSpPr/>
            <p:nvPr/>
          </p:nvSpPr>
          <p:spPr>
            <a:xfrm>
              <a:off x="2771280" y="1413000"/>
              <a:ext cx="4393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一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5"/>
          <p:cNvGrpSpPr/>
          <p:nvPr/>
        </p:nvGrpSpPr>
        <p:grpSpPr>
          <a:xfrm>
            <a:off x="2411280" y="2205000"/>
            <a:ext cx="5043600" cy="790200"/>
            <a:chOff x="2411280" y="2205000"/>
            <a:chExt cx="5043600" cy="790200"/>
          </a:xfrm>
        </p:grpSpPr>
        <p:sp>
          <p:nvSpPr>
            <p:cNvPr id="153" name="未知"/>
            <p:cNvSpPr/>
            <p:nvPr/>
          </p:nvSpPr>
          <p:spPr>
            <a:xfrm>
              <a:off x="2411280" y="2780280"/>
              <a:ext cx="5043600" cy="21492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2771280" y="220500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二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2411280" y="3070080"/>
            <a:ext cx="5043600" cy="863280"/>
            <a:chOff x="2411280" y="3070080"/>
            <a:chExt cx="5043600" cy="863280"/>
          </a:xfrm>
        </p:grpSpPr>
        <p:sp>
          <p:nvSpPr>
            <p:cNvPr id="156" name="未知"/>
            <p:cNvSpPr/>
            <p:nvPr/>
          </p:nvSpPr>
          <p:spPr>
            <a:xfrm>
              <a:off x="2411280" y="37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2771280" y="307008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三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2411280" y="3789360"/>
            <a:ext cx="5043600" cy="892080"/>
            <a:chOff x="2411280" y="3789360"/>
            <a:chExt cx="5043600" cy="892080"/>
          </a:xfrm>
        </p:grpSpPr>
        <p:sp>
          <p:nvSpPr>
            <p:cNvPr id="159" name="未知"/>
            <p:cNvSpPr/>
            <p:nvPr/>
          </p:nvSpPr>
          <p:spPr>
            <a:xfrm>
              <a:off x="2411280" y="4509360"/>
              <a:ext cx="5043600" cy="172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2771280" y="3789360"/>
              <a:ext cx="4393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4"/>
          <p:cNvGrpSpPr/>
          <p:nvPr/>
        </p:nvGrpSpPr>
        <p:grpSpPr>
          <a:xfrm>
            <a:off x="2411280" y="4581360"/>
            <a:ext cx="5043600" cy="1036440"/>
            <a:chOff x="2411280" y="4581360"/>
            <a:chExt cx="5043600" cy="1036440"/>
          </a:xfrm>
        </p:grpSpPr>
        <p:sp>
          <p:nvSpPr>
            <p:cNvPr id="162" name="未知"/>
            <p:cNvSpPr/>
            <p:nvPr/>
          </p:nvSpPr>
          <p:spPr>
            <a:xfrm>
              <a:off x="2411280" y="5301720"/>
              <a:ext cx="5043600" cy="316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2771280" y="4581360"/>
              <a:ext cx="439272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0" y="-15840"/>
            <a:ext cx="2211480" cy="6855120"/>
            <a:chOff x="0" y="-15840"/>
            <a:chExt cx="2211480" cy="6855120"/>
          </a:xfrm>
        </p:grpSpPr>
        <p:grpSp>
          <p:nvGrpSpPr>
            <p:cNvPr id="165" name="Group 18"/>
            <p:cNvGrpSpPr/>
            <p:nvPr/>
          </p:nvGrpSpPr>
          <p:grpSpPr>
            <a:xfrm>
              <a:off x="0" y="-15840"/>
              <a:ext cx="2211480" cy="6855120"/>
              <a:chOff x="0" y="-15840"/>
              <a:chExt cx="2211480" cy="6855120"/>
            </a:xfrm>
          </p:grpSpPr>
          <p:sp>
            <p:nvSpPr>
              <p:cNvPr id="166" name="未知"/>
              <p:cNvSpPr/>
              <p:nvPr/>
            </p:nvSpPr>
            <p:spPr>
              <a:xfrm>
                <a:off x="0" y="-108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2880" y="-1584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WordArt 21"/>
            <p:cNvSpPr txBox="1"/>
            <p:nvPr/>
          </p:nvSpPr>
          <p:spPr>
            <a:xfrm rot="5400000">
              <a:off x="-286200" y="944640"/>
              <a:ext cx="1867320" cy="937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目录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73" name="Group 6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74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WordArt 9"/>
            <p:cNvSpPr txBox="1"/>
            <p:nvPr/>
          </p:nvSpPr>
          <p:spPr>
            <a:xfrm rot="5400000">
              <a:off x="-1013040" y="151956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第一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84" name="Group 6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85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WordArt 9"/>
            <p:cNvSpPr txBox="1"/>
            <p:nvPr/>
          </p:nvSpPr>
          <p:spPr>
            <a:xfrm rot="5400000">
              <a:off x="-1013040" y="151956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第二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DAF-AC36-49E5-B4D0-B0C24F4DA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97" name="Group 6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98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WordArt 9"/>
            <p:cNvSpPr txBox="1"/>
            <p:nvPr/>
          </p:nvSpPr>
          <p:spPr>
            <a:xfrm rot="5400000">
              <a:off x="-1013040" y="151956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第三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47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26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