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ABC-0EBF-42C2-9517-DEF19DD5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AB4-AB50-4C80-8598-142849C3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CBD-1B25-4211-ACAA-3CC3E9F6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0D5-4670-47D9-8EC7-1A973F30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82A-BF19-4026-AEC4-153B893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F73-1586-4C7B-BDB0-A1533ACD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92E-9A64-4298-89BA-6F46D65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7C8-FF04-4957-97E9-24A01C9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2D9-3441-4AC1-B2B8-FC013B8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A6E-A117-453C-B4D7-272417F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65D-E5A9-4461-991B-8AC34B7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C4C-1F1E-4A4F-9523-CB8AA7C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317-79A2-4F93-A7E4-433EA2B79F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7C1-5DED-40D4-8C6A-C5AFB522F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22560" y="2225520"/>
            <a:ext cx="2973600" cy="230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2200" y="120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动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81240" y="1938240"/>
            <a:ext cx="30654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9160" y="776160"/>
            <a:ext cx="470376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87680" y="638496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400" y="534960"/>
            <a:ext cx="904536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AAF-BF40-42A9-8E7A-2B127E7330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87440" y="907920"/>
            <a:ext cx="6172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0:5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