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33A-C3C1-49B9-96C5-E82B4551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BB2-589E-47FF-B91E-DDB6848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32D-9CCD-405D-8F96-01D5D612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0FE-7500-4493-9C02-128982EC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1814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1814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181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DFA-6842-42D9-B770-38EBA86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30F-75B8-41DE-8DA7-E13DAC54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B2B-966B-478C-9615-45F3080D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1DE-9326-4388-B4B2-BD6E88B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18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631-F842-4DF3-A344-388685A4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AD4-41B5-40C0-A38F-EBD63E53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DB7-E63A-46DF-93AF-D1A003F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E55-3FEE-4269-9036-49024E2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9B63-5FB6-4E6C-90A7-F096FF068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96600" cy="41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91508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814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1814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8143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1814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50864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814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418143"/>
                </a:solidFill>
                <a:latin typeface="Arial"/>
              </a:rPr>
              <a:t>雷锋精神</a:t>
            </a:r>
            <a:r>
              <a:rPr b="1" lang="zh-CN" sz="4000" spc="-1" strike="noStrike">
                <a:solidFill>
                  <a:srgbClr val="418143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418143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418143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这天是我永远不能忘记的日子，这天是我最大的荣幸和光荣的日子。我走上了新的战斗岗位，穿上了黄军服，光荣的参加了中国人民解放军。我好几年来的愿望在今天已实现了，真感到万分的高兴和喜悦，这是我一生最大的幸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我在党的正确领导下，在革命的大家庭里，我一定要好好地锻炼自己，在入伍的这一天，我并提出如下保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听党的话，服从命令听指挥，党指向哪里，我就冲向哪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加强政治学习，多看报纸和政治书籍，按时参加部队各种会议和学习，积极宣传党的政策，密切靠近组织，及时向组织反映各种情况，不断提高自己的政治思想觉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三、尊敬领导，团结同志，互帮互爱互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四、严格遵守部队一切纪律，做到虚心向老战士学习，刻苦钻研，加强军事学习，随时准备打击敌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五、克服一切困难，发扬长辈优良的革命传统。我要坚决做到头可断，血可流，在敌人面前决不屈服、投降。我一定要向董存瑞，黄继光、安业民等英雄的战土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A6C-3524-4713-80C0-DB4275692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、我要努力学习政治、军事、文化，我要好好的锻炼身体，我一定要在部队争取立功当英雄，我一定要做一个毛泽东时代的好战士，我要把我可爱的青春献给祖国最壮丽的事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以上六条是我努力的方向和我的奋斗目标。今天我太高兴我太激动，千言万语一下要写完是办不到的，因此写到这里告一段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25:3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