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E7FF2-225C-497F-A72A-053206B71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1E145-5C4F-4D02-9CDF-9E59C2A1D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7A50F-FDC9-43E8-9084-D6BD3CC21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9EF7C-A184-42AD-BBC3-5242C48E0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2063C-667A-46C0-8B78-702DDC1C8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151F6-92BD-46FD-9C17-EF986738F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49B0C-1E21-4A1E-95DB-D91715C7E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E32FF-1251-419B-9058-EEB38B39D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EA075-8811-4D35-8238-2CB41BE77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50AD3-C78C-4BCE-AB26-6CC8D8D70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176DA-E8A9-4F37-A266-2F9A920F0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EDB71-3BC2-424C-8A6F-9754F42C2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C9562-D9CF-4F48-85ED-77F0EE6EF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29214-E53F-4EDA-BACD-882712B99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06560-054B-4881-87C1-2D514B41E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07568-CE0B-41E7-A2A2-001FCA829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6AF84-8E3A-481D-B68C-4DE1D3A9E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DF008-6066-4D1C-AA1D-71AFE3261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CFD9C-0168-419E-BB9D-5C8634AB1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55CCB-8077-4D72-BE94-70F76E26E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4E559-58FA-4AD0-9ED2-65297CA02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C9919-7670-4637-BE9C-72A8A526A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719C1-8BAE-402B-87C4-409E30C18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E32A6-0184-4C37-B809-CCBD33AEC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250D9-2A6F-4466-829B-9D59D9221B0A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548EA-001C-4E9C-AEBD-D9A6A6A2561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32D8F-341C-49C6-AD3E-8FC531F489A0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66803-DCAA-4DE1-940D-2F4402EA62B3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49320" y="896760"/>
            <a:ext cx="9070920" cy="508032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302200" y="196920"/>
            <a:ext cx="4671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龙卷风地震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图片素材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6320" y="647712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349AB-B4EB-4568-A3CC-22C318FCDC0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12:40:23Z</dcterms:modified>
  <cp:revision>4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