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C92-A749-4196-884E-904EBBC0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B96-2B58-43B9-9F6C-55A3126C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873-2397-4211-8FE0-A96D77E4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374-FB44-4AA7-8477-922EDA5F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8386-B121-4029-9A00-B4557534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3191-3D9C-4F8D-91BD-497B8AA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4C1A-2DB6-41C1-B23F-7E6D260B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3F36-C6EF-499A-AE46-56DF8CA1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0485-F0B3-40F7-9B66-685F1662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3587-8A60-473B-9FC1-864194FB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ECA8-D787-45B9-8D74-D5422F31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9BB-F4AE-435B-A6EA-6D38383D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CBCF-DF02-4966-A2F2-9A0FDDC8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27D6-BD0D-4B95-A2D3-8E724364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7B2F-B3A7-456E-AE3B-5315D94D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0B89-C46F-4767-8D8D-38C4289A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85AE-00A7-49E7-8588-C903994A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D1A-B221-4775-8140-3CAFAE8B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20D-2F74-4DBC-97EE-C3C920D5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7DF-BD6C-4A16-B351-E720F81E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43E-BC10-427C-B8C0-51F67F06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60F-4E20-44E2-9918-41E6385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421-64A1-4DEC-A31C-D1C8F6E0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AA7-914D-4245-B9BD-491C7515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725D-B47F-4EE1-BD5A-99FF5D9054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A9E3-BB12-469B-A40F-6122E8E22E9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5280" y="1413000"/>
            <a:ext cx="496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5198"/>
                </a:solidFill>
                <a:latin typeface="黑体"/>
                <a:ea typeface="黑体"/>
              </a:rPr>
              <a:t>蓝色简约</a:t>
            </a:r>
            <a:r>
              <a:rPr b="1" lang="en-US" sz="3600" spc="-1" strike="noStrike">
                <a:solidFill>
                  <a:srgbClr val="025198"/>
                </a:solidFill>
                <a:latin typeface="黑体"/>
                <a:ea typeface="黑体"/>
              </a:rPr>
              <a:t>PPT</a:t>
            </a:r>
            <a:r>
              <a:rPr b="1" lang="zh-CN" sz="3600" spc="-1" strike="noStrike">
                <a:solidFill>
                  <a:srgbClr val="025198"/>
                </a:solidFill>
                <a:latin typeface="黑体"/>
                <a:ea typeface="黑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30240" y="573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9:42Z</dcterms:modified>
  <cp:revision>62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