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5AEB-D885-43E4-A224-CD4E1240C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2C9E-2EE9-4B83-B53B-8E828B8E9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8E85-240F-43BC-A59C-063295977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9A51-C625-4502-AB09-BB4FB4996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11504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3FD5-DCD0-4EB0-805D-A3FA2D132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99972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77040"/>
            <a:ext cx="264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049F-DC72-4171-9DF1-9B1AD797B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9FB5-CE76-460C-A506-A28D94728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E290-6C33-40EE-9420-928E9DEC6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11504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60BC-3FD6-4682-B76D-3D7703912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4153-509B-4C3E-9A1F-2C767F280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7704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9E43-BE84-4E6C-AAA1-AA0E03BE0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71150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9720"/>
            <a:ext cx="40158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77040"/>
            <a:ext cx="8229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2A75-0B68-4BD9-AE9D-D01DDF4B4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Users\vivianting\Desktop\未标题8.png"/>
          <p:cNvPicPr/>
          <p:nvPr/>
        </p:nvPicPr>
        <p:blipFill>
          <a:blip r:embed="rId2"/>
          <a:srcRect l="4974" t="1717" r="74194" b="70436"/>
          <a:stretch/>
        </p:blipFill>
        <p:spPr>
          <a:xfrm>
            <a:off x="7786800" y="528624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15200" y="6420960"/>
            <a:ext cx="419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E172-3694-4C4E-86DF-187C6A92C36D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直接连接符 8"/>
          <p:cNvSpPr/>
          <p:nvPr/>
        </p:nvSpPr>
        <p:spPr>
          <a:xfrm>
            <a:off x="0" y="95580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3"/>
          <a:srcRect l="10509" t="10349" r="12416" b="6908"/>
          <a:stretch/>
        </p:blipFill>
        <p:spPr>
          <a:xfrm>
            <a:off x="7470720" y="52560"/>
            <a:ext cx="1379520" cy="100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:\Users\vivianting\Desktop\未标题8.png"/>
          <p:cNvPicPr/>
          <p:nvPr/>
        </p:nvPicPr>
        <p:blipFill>
          <a:blip r:embed="rId2"/>
          <a:srcRect l="4974" t="1717" r="74194" b="70436"/>
          <a:stretch/>
        </p:blipFill>
        <p:spPr>
          <a:xfrm>
            <a:off x="7786800" y="5286240"/>
            <a:ext cx="1357200" cy="1571760"/>
          </a:xfrm>
          <a:prstGeom prst="rect">
            <a:avLst/>
          </a:prstGeom>
          <a:ln w="0">
            <a:noFill/>
          </a:ln>
        </p:spPr>
      </p:pic>
      <p:sp>
        <p:nvSpPr>
          <p:cNvPr id="43" name="直接连接符 8"/>
          <p:cNvSpPr/>
          <p:nvPr/>
        </p:nvSpPr>
        <p:spPr>
          <a:xfrm>
            <a:off x="0" y="955800"/>
            <a:ext cx="914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"/>
          <p:cNvPicPr/>
          <p:nvPr/>
        </p:nvPicPr>
        <p:blipFill>
          <a:blip r:embed="rId3"/>
          <a:stretch/>
        </p:blipFill>
        <p:spPr>
          <a:xfrm>
            <a:off x="0" y="0"/>
            <a:ext cx="923760" cy="912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rcRect l="10509" t="10349" r="12416" b="6908"/>
          <a:stretch/>
        </p:blipFill>
        <p:spPr>
          <a:xfrm>
            <a:off x="7470720" y="52560"/>
            <a:ext cx="1379520" cy="1002960"/>
          </a:xfrm>
          <a:prstGeom prst="rect">
            <a:avLst/>
          </a:prstGeom>
          <a:ln w="0">
            <a:noFill/>
          </a:ln>
        </p:spPr>
      </p:pic>
      <p:sp>
        <p:nvSpPr>
          <p:cNvPr id="46" name="矩形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055" descr="色条 拷贝"/>
          <p:cNvPicPr/>
          <p:nvPr/>
        </p:nvPicPr>
        <p:blipFill>
          <a:blip r:embed="rId5"/>
          <a:stretch/>
        </p:blipFill>
        <p:spPr>
          <a:xfrm>
            <a:off x="0" y="1500120"/>
            <a:ext cx="9144000" cy="370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vivianting\Desktop\1234131.png"/>
          <p:cNvPicPr/>
          <p:nvPr/>
        </p:nvPicPr>
        <p:blipFill>
          <a:blip r:embed="rId6"/>
          <a:stretch/>
        </p:blipFill>
        <p:spPr>
          <a:xfrm>
            <a:off x="7286760" y="214200"/>
            <a:ext cx="1487520" cy="1030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5572080"/>
            <a:ext cx="914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标题 3"/>
          <p:cNvSpPr/>
          <p:nvPr/>
        </p:nvSpPr>
        <p:spPr>
          <a:xfrm>
            <a:off x="39528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5840" y="476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联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74920" y="1700280"/>
            <a:ext cx="7200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部分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目</a:t>
            </a:r>
            <a:r>
              <a:rPr b="0" lang="de-DE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部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目</a:t>
            </a:r>
            <a:r>
              <a:rPr b="0" lang="de-DE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部分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目</a:t>
            </a:r>
            <a:r>
              <a:rPr b="0" lang="de-DE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2060640"/>
            <a:ext cx="7417080" cy="457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ed1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857160" y="285840"/>
            <a:ext cx="1266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3"/>
          <p:cNvSpPr/>
          <p:nvPr/>
        </p:nvSpPr>
        <p:spPr>
          <a:xfrm>
            <a:off x="8215200" y="6421320"/>
            <a:ext cx="419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FD57-2EFB-466F-9FD8-E46160E31F8F}" type="slidenum"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624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部分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8215200" y="6421320"/>
            <a:ext cx="419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06AD-F27E-48C7-9E02-B841AEC6E4D9}" type="slidenum">
              <a:rPr b="1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624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5689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74920" y="1700280"/>
            <a:ext cx="7200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部分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号角响起  蓄势待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部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黑体"/>
                <a:ea typeface="黑体"/>
              </a:rPr>
              <a:t>3 G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助力  引来东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部分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众一心  共图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924280"/>
            <a:ext cx="7416720" cy="457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ed1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857160" y="285840"/>
            <a:ext cx="1266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673600" y="2492280"/>
            <a:ext cx="1965600" cy="289080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f45e5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8680" y="27478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8cd32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4680" y="2979720"/>
            <a:ext cx="1981080" cy="2465280"/>
          </a:xfrm>
          <a:custGeom>
            <a:avLst/>
            <a:gdLst/>
            <a:ahLst/>
            <a:rect l="l" t="t" r="r" b="b"/>
            <a:pathLst>
              <a:path w="1248" h="1553">
                <a:moveTo>
                  <a:pt x="1158" y="0"/>
                </a:moveTo>
                <a:lnTo>
                  <a:pt x="1248" y="351"/>
                </a:lnTo>
                <a:lnTo>
                  <a:pt x="1248" y="1553"/>
                </a:lnTo>
                <a:lnTo>
                  <a:pt x="0" y="1553"/>
                </a:lnTo>
                <a:lnTo>
                  <a:pt x="4" y="417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0280" y="2938320"/>
            <a:ext cx="180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11680" y="2938320"/>
            <a:ext cx="180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96080" y="2631960"/>
            <a:ext cx="180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20920" y="1711440"/>
            <a:ext cx="6939000" cy="169200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79680" y="3714840"/>
            <a:ext cx="18842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做准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内功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应未来发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9200" y="3583080"/>
            <a:ext cx="15112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多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拓眼界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快脚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75200" y="3367080"/>
            <a:ext cx="162108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抓住自身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势，充分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环境，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拓市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标题 1"/>
          <p:cNvSpPr/>
          <p:nvPr/>
        </p:nvSpPr>
        <p:spPr>
          <a:xfrm>
            <a:off x="395280" y="33336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545E-8F4F-44BE-9B8A-BCC9ED40B8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6000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8215200" y="6421320"/>
            <a:ext cx="419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2748-46D4-4C09-A8BF-6E066AA2CB0E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055" descr="色条 拷贝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3700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vivianting\Desktop\1234131.png"/>
          <p:cNvPicPr/>
          <p:nvPr/>
        </p:nvPicPr>
        <p:blipFill>
          <a:blip r:embed="rId2"/>
          <a:stretch/>
        </p:blipFill>
        <p:spPr>
          <a:xfrm>
            <a:off x="7286760" y="214200"/>
            <a:ext cx="1487520" cy="10303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3492360" y="270828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0:51:4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22:15Z</dcterms:modified>
  <cp:revision>6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