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9DDA-A142-42B0-885F-D09D9C03C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C1F6-620D-4701-8872-31D9409F4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61B7-BF56-48C8-B145-49205EE4F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261-E17B-4AC9-AF39-E37E6396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7CD9-CF74-4CC0-AC54-EB51941C2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93D9-01D8-4D01-B842-AD6303490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160-EBD9-48D1-A617-AFDD6AB6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6CB77-72E4-416B-A416-E717AD96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68B4-4461-46A0-81E9-812C2DD41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7029-BB0D-409E-B242-A6764888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D6A-3E85-4775-8E45-FEF9F3BE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7BBF-3E2C-40C0-A9EE-36E530044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6597-2652-4512-B3C7-BBED0B6E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925A-2668-428D-8172-871D37DD9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5009-AC68-4D7B-B21F-52571D46F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520-7315-4C52-B9F9-5D54F5193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19F0-25EE-48EB-9BE3-F164DB7FE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67C56-CAE2-4246-BA22-9A7AA9841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83380-86F2-4255-9522-9B73B5DC2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D340A-EBDD-45C0-9598-89514A81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BC647-6EC1-4A72-B596-C48B70DE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54E46-CC91-4193-835C-1F52061C8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C5E3-EE19-44E0-9147-02FA28195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89569-61DB-480E-8A08-F7C2C4D15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746B8-6A31-40CD-B103-12E3BBB9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DF269-AF0A-4905-A888-DAC42C7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027B9C-17F9-4750-8A90-5F1DB20A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76C92-53BC-44AF-B19E-0C8B94C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6F90FD-3807-4D6E-B735-9CB9A080B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67921-5E03-419B-9C77-64EED23BD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A072-4FCE-4676-A781-97C59E88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8AFA-28A7-4AD3-B656-9AF053E4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E1D5-7089-4DE1-A95C-19F96997E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B4C0-65EE-4F8F-9E09-8587AD5AD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F80E-997F-404A-B8E5-9F22E7A3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961-755B-4694-88C8-4F4342D39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71B9-40E6-4C13-B360-BD70418289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3520-768A-4D41-871A-50B2149D7E4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E654-E49C-4E1E-A087-B6CC213FB823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F2003072410411400000"/>
          <p:cNvPicPr/>
          <p:nvPr/>
        </p:nvPicPr>
        <p:blipFill>
          <a:blip r:embed="rId1"/>
          <a:stretch/>
        </p:blipFill>
        <p:spPr>
          <a:xfrm>
            <a:off x="3132000" y="0"/>
            <a:ext cx="6012000" cy="7101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2193840" y="838080"/>
            <a:ext cx="5493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4320" y="1447920"/>
            <a:ext cx="16434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老</a:t>
            </a:r>
            <a:r>
              <a:rPr b="0" lang="zh-CN" sz="9600" spc="-1" strike="noStrike">
                <a:solidFill>
                  <a:srgbClr val="000066"/>
                </a:solidFill>
                <a:latin typeface="Times New Roman"/>
                <a:ea typeface="华文隶书"/>
              </a:rPr>
              <a:t>　</a:t>
            </a:r>
            <a:r>
              <a:rPr b="0" lang="zh-CN" sz="9600" spc="-1" strike="noStrike">
                <a:solidFill>
                  <a:srgbClr val="3366ff"/>
                </a:solidFill>
                <a:latin typeface="Times New Roman"/>
                <a:ea typeface="华文隶书"/>
              </a:rPr>
              <a:t>王</a:t>
            </a:r>
            <a:endParaRPr b="0" lang="en-US" sz="9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181960" y="380880"/>
            <a:ext cx="789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  <a:ea typeface="隶书"/>
              </a:rPr>
              <a:t>这是谁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7" name="矩形 1"/>
          <p:cNvSpPr/>
          <p:nvPr/>
        </p:nvSpPr>
        <p:spPr>
          <a:xfrm>
            <a:off x="2469960" y="-2376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老王完整版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免费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8" name="矩形 9"/>
          <p:cNvSpPr/>
          <p:nvPr/>
        </p:nvSpPr>
        <p:spPr>
          <a:xfrm>
            <a:off x="208800" y="64533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395280" y="907920"/>
            <a:ext cx="82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这几件事又具体说明了老王是怎样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380880" y="1981080"/>
            <a:ext cx="5029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一件事：送冰　　　　　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二件事：送钱先生去医院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三件事：改装三轮　　　　　　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第四件事：送鸡蛋香油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410080" y="205740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老实巴交　不贪钱财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486400" y="32004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体贴顾客　无微不至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562720" y="37339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感谢关怀   知恩图报  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4419720" y="3809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8" name="AutoShape 8"/>
          <p:cNvSpPr/>
          <p:nvPr/>
        </p:nvSpPr>
        <p:spPr>
          <a:xfrm>
            <a:off x="4343400" y="2133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9" name="AutoShape 9"/>
          <p:cNvSpPr/>
          <p:nvPr/>
        </p:nvSpPr>
        <p:spPr>
          <a:xfrm>
            <a:off x="4419720" y="3276720"/>
            <a:ext cx="976320" cy="304560"/>
          </a:xfrm>
          <a:prstGeom prst="rightArrow">
            <a:avLst>
              <a:gd name="adj1" fmla="val 50000"/>
              <a:gd name="adj2" fmla="val 80142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4114800" y="251460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1" name="AutoShape 11"/>
          <p:cNvSpPr/>
          <p:nvPr/>
        </p:nvSpPr>
        <p:spPr>
          <a:xfrm>
            <a:off x="4343400" y="2666880"/>
            <a:ext cx="976320" cy="304920"/>
          </a:xfrm>
          <a:prstGeom prst="rightArrow">
            <a:avLst>
              <a:gd name="adj1" fmla="val 50000"/>
              <a:gd name="adj2" fmla="val 80047"/>
            </a:avLst>
          </a:pr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5410080" y="25909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帮助别人   不图回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143000" y="2209680"/>
            <a:ext cx="762012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练习：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老王是一个怎样的人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再比较祥子和老王，他们的顾客有何不同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27432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善良表现在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: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0" y="3733920"/>
            <a:ext cx="8893080" cy="2466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女儿送他鱼肝油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照顾老王的生意，他再客气也付给他应得的报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关切询问他能否维持生计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99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　不让他白送鸡蛋、香油，也给了钱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0" y="990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文中的“我”是怎样的人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3200400" y="167652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一个善良的有同情心的人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533520" y="121932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你怎么看待老王送鸡蛋香油的行动？为什么重病还坚持亲自送礼？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609480" y="320040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为什么老王说不收钱但又把钱收下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685800" y="47242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如何理解我的“愧怍”？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838080" y="20574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感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家平时对他的关心照顾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838080" y="37339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理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不愿意白接受礼物的想法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676520" y="5257800"/>
            <a:ext cx="579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000000"/>
                </a:solidFill>
                <a:uFillTx/>
                <a:latin typeface="Tahoma"/>
              </a:rPr>
              <a:t>后悔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自己对老王的关爱还不够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0" y="380880"/>
            <a:ext cx="8610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cba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作者一家对老王那样的不幸者那么关心、爱护是抱有一种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观念</a:t>
            </a:r>
            <a:r>
              <a:rPr b="1" lang="en-US" sz="3200" spc="-1" strike="noStrike">
                <a:solidFill>
                  <a:srgbClr val="990cba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社会地位、生活条件比较优越的人往往瞧不起卑微者，要有什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精神</a:t>
            </a:r>
            <a:r>
              <a:rPr b="1" lang="zh-CN" sz="3200" spc="-1" strike="noStrike">
                <a:solidFill>
                  <a:srgbClr val="990cba"/>
                </a:solidFill>
                <a:latin typeface="Arial"/>
              </a:rPr>
              <a:t>才能像作者那样尊重人、理解人、关心人</a:t>
            </a:r>
            <a:r>
              <a:rPr b="1" lang="en-US" sz="3200" spc="-1" strike="noStrike">
                <a:solidFill>
                  <a:srgbClr val="990cba"/>
                </a:solidFill>
                <a:latin typeface="Arial"/>
              </a:rPr>
              <a:t>? </a:t>
            </a:r>
            <a:br>
              <a:rPr sz="3200"/>
            </a:b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900000" y="38818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平等观念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971640" y="4941720"/>
            <a:ext cx="756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00"/>
                </a:solidFill>
                <a:latin typeface="Arial"/>
              </a:rPr>
              <a:t>人道主义精神互敬互爱精神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2"/>
          <p:cNvSpPr/>
          <p:nvPr/>
        </p:nvSpPr>
        <p:spPr>
          <a:xfrm>
            <a:off x="457200" y="609480"/>
            <a:ext cx="620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课文怎么安排组织材料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0" name="Text Box 3"/>
          <p:cNvSpPr/>
          <p:nvPr/>
        </p:nvSpPr>
        <p:spPr>
          <a:xfrm>
            <a:off x="304920" y="1447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buClr>
                <a:srgbClr val="ff33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按逻辑顺序介绍老王的基本情况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1" name="Text Box 4"/>
          <p:cNvSpPr/>
          <p:nvPr/>
        </p:nvSpPr>
        <p:spPr>
          <a:xfrm>
            <a:off x="457200" y="2286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按时间顺序介绍老王的工作与为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2" name="Text Box 5"/>
          <p:cNvSpPr/>
          <p:nvPr/>
        </p:nvSpPr>
        <p:spPr>
          <a:xfrm>
            <a:off x="468360" y="3573360"/>
            <a:ext cx="575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贯穿材料的线索是什么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3" name="Text Box 6"/>
          <p:cNvSpPr/>
          <p:nvPr/>
        </p:nvSpPr>
        <p:spPr>
          <a:xfrm>
            <a:off x="755640" y="4653000"/>
            <a:ext cx="41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ahoma"/>
                <a:ea typeface="楷体_GB2312"/>
              </a:rPr>
              <a:t>作者与老王的交往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457200" y="12193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本文对你的教育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5" name="Text Box 3"/>
          <p:cNvSpPr/>
          <p:nvPr/>
        </p:nvSpPr>
        <p:spPr>
          <a:xfrm>
            <a:off x="0" y="2743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要做一个善良的人，就有好报，自己活着也快乐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304920" y="4038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怎样做一个善良的人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762120" y="487692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爱心，关心别人、尊重别人、帮助别人。并知恩图报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0" y="0"/>
            <a:ext cx="1752480" cy="703440"/>
          </a:xfrm>
          <a:prstGeom prst="rect">
            <a:avLst/>
          </a:prstGeom>
          <a:solidFill>
            <a:srgbClr val="f5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中宋"/>
              </a:rPr>
              <a:t>升华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755640" y="1052640"/>
            <a:ext cx="77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你会同情和帮助那些不幸的人吗？你曾经这样做过吗？谈谈您的感受和经历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24000" y="119700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楷体_GB2312"/>
                <a:ea typeface="楷体_GB2312"/>
              </a:rPr>
              <a:t>作者简介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杨绛，原名杨季康，生于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1911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年，江苏无锡人。作家、评论家、文学翻译家。著有散文集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干校六记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 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洗澡》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将茶饮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。译作有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堂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吉诃德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等。其夫钱钟书，字默存，代表作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围城</a:t>
            </a:r>
            <a:r>
              <a:rPr b="1" lang="en-US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dc59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250920" y="126828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送的冰比他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前任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送的大一倍，冰价相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 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送的冰比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前一个三轮车工人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送的大一倍，冰价相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4" name="Text Box 3"/>
          <p:cNvSpPr/>
          <p:nvPr/>
        </p:nvSpPr>
        <p:spPr>
          <a:xfrm>
            <a:off x="250920" y="364500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在家听到打门，开门看见老王直僵僵地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镶嵌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在门框里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在家听到打门，开门看见老王直僵僵地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站立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在门口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0" y="24922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句“前任”一词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简炼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之至，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大词小用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又很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风趣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539640" y="5373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句说“镶嵌在门框里”，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夸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的手法，强调了老王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Times New Roman"/>
                <a:ea typeface="楷体_GB2312"/>
              </a:rPr>
              <a:t>步履维艰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，身体僵直的形态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0" y="260280"/>
            <a:ext cx="88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比较下边每组两个句子，联系上下文，说说①在表达上的好处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8" name="AutoShape 7"/>
          <p:cNvSpPr/>
          <p:nvPr/>
        </p:nvSpPr>
        <p:spPr>
          <a:xfrm>
            <a:off x="0" y="134136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9" name="AutoShape 8"/>
          <p:cNvSpPr/>
          <p:nvPr/>
        </p:nvSpPr>
        <p:spPr>
          <a:xfrm>
            <a:off x="0" y="386064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304920" y="114300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强笑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说：“老王，这么新鲜的大鸡蛋，都给我们吃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?”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笑着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说：“老王，这么新鲜的大鸡蛋，都给我们吃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?”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609480" y="22860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句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强笑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一词，不但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准确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而且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含蓄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透露自己见到老王病成那个样子，还拿东西来谢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们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心里有说不出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悲酸和感动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04920" y="426708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谢了他的好香油，</a:t>
            </a:r>
            <a:r>
              <a:rPr b="1" i="1" lang="zh-CN" sz="2400" spc="-1" strike="noStrike" u="sng">
                <a:solidFill>
                  <a:srgbClr val="0a0a0e"/>
                </a:solidFill>
                <a:uFillTx/>
                <a:latin typeface="Times New Roman"/>
              </a:rPr>
              <a:t>谢了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他的大鸡蛋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②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我谢了他的好香油和大鸡蛋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609480" y="5257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句重复两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谢了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表明作者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感激之情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更突出香油和鸡蛋的</a:t>
            </a:r>
            <a:r>
              <a:rPr b="1" i="1" lang="zh-CN" sz="2800" spc="-1" strike="noStrike" u="sng">
                <a:solidFill>
                  <a:srgbClr val="0000cc"/>
                </a:solidFill>
                <a:uFillTx/>
                <a:latin typeface="楷体_GB2312"/>
                <a:ea typeface="楷体_GB2312"/>
              </a:rPr>
              <a:t>贵重</a:t>
            </a:r>
            <a:r>
              <a:rPr b="1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4" name="AutoShape 6"/>
          <p:cNvSpPr/>
          <p:nvPr/>
        </p:nvSpPr>
        <p:spPr>
          <a:xfrm>
            <a:off x="250920" y="1268280"/>
            <a:ext cx="144360" cy="792360"/>
          </a:xfrm>
          <a:custGeom>
            <a:avLst/>
            <a:gdLst>
              <a:gd name="textAreaLeft" fmla="*/ 92160 w 144360"/>
              <a:gd name="textAreaRight" fmla="*/ 144360 w 144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5" name="AutoShape 7"/>
          <p:cNvSpPr/>
          <p:nvPr/>
        </p:nvSpPr>
        <p:spPr>
          <a:xfrm>
            <a:off x="250920" y="4292640"/>
            <a:ext cx="144360" cy="865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2320 h 865080"/>
              <a:gd name="textAreaBottom" fmla="*/ 842760 h 865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468360" y="1734120"/>
            <a:ext cx="7632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cba"/>
                </a:solidFill>
                <a:latin typeface="Arial"/>
              </a:rPr>
              <a:t>作业：针对这篇散文，如果你能采访杨绛，并提出三个问题，你打算问哪三个问题？把问题写在纸上；把问题交给同桌，再设想如果你是杨绛，拿到同桌提出的三个问题，将怎样回答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24000" y="2636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7979a5"/>
                </a:solidFill>
                <a:latin typeface="Arial"/>
                <a:ea typeface="华文彩云"/>
              </a:rPr>
              <a:t>同学们</a:t>
            </a:r>
            <a:br>
              <a:rPr sz="9600"/>
            </a:br>
            <a:r>
              <a:rPr b="1" lang="zh-CN" sz="9600" spc="-1" strike="noStrike">
                <a:solidFill>
                  <a:srgbClr val="7979a5"/>
                </a:solidFill>
                <a:latin typeface="Arial"/>
                <a:ea typeface="华文彩云"/>
              </a:rPr>
              <a:t>再见！</a:t>
            </a:r>
            <a:endParaRPr b="0" lang="en-US" sz="9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971640" y="6093000"/>
            <a:ext cx="676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826920" y="1430280"/>
            <a:ext cx="10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伛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0" y="40464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检查预习：</a:t>
            </a:r>
            <a:r>
              <a:rPr b="1" lang="zh-CN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0" lang="zh-CN" sz="24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903240" y="2192400"/>
            <a:ext cx="92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攥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3" name="Text Box 5"/>
          <p:cNvSpPr/>
          <p:nvPr/>
        </p:nvSpPr>
        <p:spPr>
          <a:xfrm>
            <a:off x="826920" y="2954160"/>
            <a:ext cx="24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惶  恐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826920" y="3716280"/>
            <a:ext cx="231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荒  僻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903240" y="4630680"/>
            <a:ext cx="200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塌  败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903240" y="5545080"/>
            <a:ext cx="21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骷  髅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7" name="Text Box 9"/>
          <p:cNvSpPr/>
          <p:nvPr/>
        </p:nvSpPr>
        <p:spPr>
          <a:xfrm>
            <a:off x="4838760" y="1413000"/>
            <a:ext cx="246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取  缔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718160" y="2174760"/>
            <a:ext cx="2624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滞   笨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4859280" y="2936880"/>
            <a:ext cx="247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a0a0e"/>
                </a:solidFill>
                <a:latin typeface="Times New Roman"/>
              </a:rPr>
              <a:t>愧   怍 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0" name="Picture 12" descr="BS00975_"/>
          <p:cNvPicPr/>
          <p:nvPr/>
        </p:nvPicPr>
        <p:blipFill>
          <a:blip r:embed="rId1"/>
          <a:stretch/>
        </p:blipFill>
        <p:spPr>
          <a:xfrm>
            <a:off x="5003640" y="4149720"/>
            <a:ext cx="2368800" cy="146196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3"/>
          <p:cNvSpPr/>
          <p:nvPr/>
        </p:nvSpPr>
        <p:spPr>
          <a:xfrm>
            <a:off x="1908000" y="162720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yǔ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2" name="Text Box 14"/>
          <p:cNvSpPr/>
          <p:nvPr/>
        </p:nvSpPr>
        <p:spPr>
          <a:xfrm>
            <a:off x="1835280" y="23479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à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2179800" y="309564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h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á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ng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4" name="Text Box 16"/>
          <p:cNvSpPr/>
          <p:nvPr/>
        </p:nvSpPr>
        <p:spPr>
          <a:xfrm>
            <a:off x="2484360" y="3859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2556000" y="47228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tā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2195640" y="5732640"/>
            <a:ext cx="24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Kū  l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ó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u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6659640" y="155592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d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6588000" y="22752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h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6227640" y="306720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Ku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zu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228600" y="609480"/>
            <a:ext cx="67816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Arial"/>
              </a:rPr>
              <a:t>再检查预习：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本文体裁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写什么？说明什么？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304920" y="358128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散文。没有完整的故事情节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28600" y="43434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写作者与一位三轮人力车夫的交往，表现底层劳动者在不幸的生活中的不变的淳朴善良的天性。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CHEFU"/>
          <p:cNvPicPr/>
          <p:nvPr/>
        </p:nvPicPr>
        <p:blipFill>
          <a:blip r:embed="rId1"/>
          <a:stretch/>
        </p:blipFill>
        <p:spPr>
          <a:xfrm>
            <a:off x="0" y="0"/>
            <a:ext cx="687708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7483680" y="0"/>
            <a:ext cx="1277640" cy="62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图片，让你想到了谁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tretch/>
        </p:blipFill>
        <p:spPr>
          <a:xfrm>
            <a:off x="3708360" y="3284640"/>
            <a:ext cx="5435640" cy="3573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5076720" cy="3338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0" y="3573360"/>
            <a:ext cx="41036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</a:rPr>
              <a:t>祥子和老王都是拉车的，你觉得他们有什么共同点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Verdana"/>
              </a:rPr>
              <a:t>用两个字概括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5410080" y="6094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都是生活在底层的为求生而疲于奔命的不幸的劳动者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6858000" y="28195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不幸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523880" y="1752480"/>
            <a:ext cx="381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职业――靠破旧三轮　身体――老而残　　　居住――塌败小屋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　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533520" y="6094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cba"/>
                </a:solidFill>
                <a:latin typeface="Times New Roman"/>
                <a:ea typeface="楷体_GB2312"/>
              </a:rPr>
              <a:t>老王的不幸表现在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2" name="AutoShape 4"/>
          <p:cNvSpPr/>
          <p:nvPr/>
        </p:nvSpPr>
        <p:spPr>
          <a:xfrm>
            <a:off x="1219320" y="1905120"/>
            <a:ext cx="152280" cy="1143000"/>
          </a:xfrm>
          <a:custGeom>
            <a:avLst/>
            <a:gdLst>
              <a:gd name="textAreaLeft" fmla="*/ 97200 w 152280"/>
              <a:gd name="textAreaRight" fmla="*/ 15264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34920" y="1523880"/>
            <a:ext cx="103356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生活的不幸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752480" y="4267080"/>
            <a:ext cx="46483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单干户” </a:t>
            </a:r>
            <a:r>
              <a:rPr b="1" lang="zh-CN" sz="1800" spc="-1" strike="noStrike">
                <a:solidFill>
                  <a:srgbClr val="0a0a0e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孤独、无亲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0a0e"/>
                </a:solidFill>
                <a:latin typeface="Times New Roman"/>
              </a:rPr>
              <a:t>受恶意攻击、被人瞧不起</a:t>
            </a:r>
            <a:r>
              <a:rPr b="1" lang="zh-CN" sz="2400" spc="-1" strike="noStrike">
                <a:solidFill>
                  <a:srgbClr val="0a0a0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1447920" y="4343400"/>
            <a:ext cx="152280" cy="1066680"/>
          </a:xfrm>
          <a:custGeom>
            <a:avLst/>
            <a:gdLst>
              <a:gd name="textAreaLeft" fmla="*/ 97200 w 152280"/>
              <a:gd name="textAreaRight" fmla="*/ 152640 w 1522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8960" y="4038480"/>
            <a:ext cx="103356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精神的不幸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990720" y="1447920"/>
            <a:ext cx="69339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赏析：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老王有什么美好的品质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他的美好的品质具体表现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1676520" y="45720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两字——善良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457200" y="68580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老王的善良表现在</a:t>
            </a:r>
            <a:r>
              <a:rPr b="1" lang="zh-CN" sz="4400" spc="-1" strike="noStrike">
                <a:solidFill>
                  <a:srgbClr val="990cba"/>
                </a:solidFill>
                <a:latin typeface="楷体_GB2312"/>
                <a:ea typeface="楷体_GB2312"/>
              </a:rPr>
              <a:t>: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533520" y="1981080"/>
            <a:ext cx="8381880" cy="3484080"/>
          </a:xfrm>
          <a:prstGeom prst="rect">
            <a:avLst/>
          </a:prstGeom>
          <a:solidFill>
            <a:srgbClr val="99cc00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愿意给我们带送冰块，车费减半冰又大。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送“我”丈夫看病，不要钱，拿了钱还不大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             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放心，担心人家看病钱不够。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给三轮车装护栏，为顾客着想。　　　　　　　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a0a0e"/>
                </a:solidFill>
                <a:latin typeface="Times New Roman"/>
              </a:rPr>
              <a:t>、临终前送鸡蛋、香油。　　　　　　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　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　　　 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3:01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4:18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